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EAE-B12B-47B7-BC74-488AD1E5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597-A547-4355-97C5-14E037F2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ED2-649D-42FE-88C6-0EED11BE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D43-CD94-4F29-A26B-FC5E4678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077-350C-4F97-ACD3-65746AC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96B-9BD4-4478-8B3F-7D8332E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C4D-B1D6-483B-8168-952EDD5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21D-1AB6-464D-8650-4D83FC37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609-4384-4006-82AA-78A937D4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427-50C8-4286-BD59-24A16B4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D2B-678B-4FF9-8A16-4BDE23F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1A9-5309-40B3-AA1F-E4E4E01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339-F282-432A-A785-14834376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737080" cy="540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376360" cy="532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87640" y="333360"/>
            <a:ext cx="2736720" cy="540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32000" y="3860640"/>
            <a:ext cx="70898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вырастить этот цветок?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НЕСКОЛЬКО СОВЕ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br>
              <a:rPr sz="4000"/>
            </a:br>
            <a:r>
              <a:rPr b="0" i="1" lang="en-US" sz="4000" spc="-1" strike="noStrike">
                <a:solidFill>
                  <a:srgbClr val="9900ff"/>
                </a:solidFill>
                <a:latin typeface="Arial"/>
              </a:rPr>
              <a:t> а Вашего огорч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205000"/>
            <a:ext cx="1297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казывайте ребенка только в том случае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гда без наказания нельзя обойтис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когда оно явно целес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тролируйте поведение ребёнка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райтесь предупредить возможные отрицательные поступк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жно подчеркнуть, что наказывается поступок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 не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 наказания проступок должен быть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предан забвению»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мейте мужеств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звиниться перед ребёнко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если наказали его незаслуж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ТЕРП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ОБЪЯСН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ОТВЛЕЧ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НЕТОРОПЛИВОСТ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НАГРАД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49360"/>
            <a:ext cx="74901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заменить наказание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формы поощрения вы использу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а ли мера в поощрении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ли в поощрении негативное влияние на ребё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63640" y="476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ОЩРЕНИ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а, чтобы мотивировать взрослую дочь учиться лучше, ставит ей условие: «Леночка, если закончишь полугодие на одни пятёрки, поедешь на новогодние каникулы отдыхать в Питер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граду за примерное поведение и хорошие оценки папа постоянно выдаёт Ване «зарплат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032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5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           «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88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00000" y="836640"/>
            <a:ext cx="755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нут"  или  "пряник"?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907920"/>
            <a:ext cx="8064360" cy="27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казание или поощрен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4797360"/>
            <a:ext cx="6985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КНУТ или ПРЯНИ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Вадим\Мои документы\Дети и родители 9.jpeg"/>
          <p:cNvPicPr/>
          <p:nvPr/>
        </p:nvPicPr>
        <p:blipFill>
          <a:blip r:embed="rId2"/>
          <a:stretch/>
        </p:blipFill>
        <p:spPr>
          <a:xfrm>
            <a:off x="826920" y="2205000"/>
            <a:ext cx="2376720" cy="194472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52" name="Picture 4" descr="C:\Documents and Settings\Вадим\Мои документы\Дети и родители2.jpeg"/>
          <p:cNvPicPr/>
          <p:nvPr/>
        </p:nvPicPr>
        <p:blipFill>
          <a:blip r:embed="rId3"/>
          <a:stretch/>
        </p:blipFill>
        <p:spPr>
          <a:xfrm>
            <a:off x="5940360" y="2133720"/>
            <a:ext cx="2403720" cy="201600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40000" y="1413000"/>
            <a:ext cx="4537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549360"/>
            <a:ext cx="51832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каз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103640" cy="16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987640" y="4508640"/>
            <a:ext cx="54720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наказывать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8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2205000"/>
          <a:ext cx="612000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120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395280" y="765000"/>
            <a:ext cx="820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казываете ли вы своего ребёнка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относитесь к наказанию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упреждает ли наказание нежелательные поступ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ли связь между наказанием и формированием нежелательных черт характера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можно наказывать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16000" y="476280"/>
            <a:ext cx="648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наказываете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77058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60872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00000" y="404640"/>
            <a:ext cx="748836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туация для обсуждения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670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изическое наказание ребёнка – это проявление бессилия и неуравновешенности взрослого или же законное право родителя, подкрепляющее его авторит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оказалось, большая часть россиян (73%) считает шлепки и подзатыльники вполне допустимой мерой воздействия на детей, однако 63% из них уточняют, что такое «внушение» возможно лишь в исключительных случаях, к примеру, «в случае серьёзных проступков» или «когда уговоры не действу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отметить, что за последние четыре года число россиян, полагающих, что шлёпать детей за плохое поведение хоть и редко, но стоит, увеличилось – с 58% в 2006 году до 63% в нынеш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50920" y="260280"/>
            <a:ext cx="53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ть или не бить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92360" y="836640"/>
            <a:ext cx="6264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физическое наказание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16081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ветский плакат, 1920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9360" y="2027160"/>
            <a:ext cx="444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8:20:32Z</dcterms:created>
  <dc:creator>Пользователь</dc:creator>
  <dc:description/>
  <dc:language>en-US</dc:language>
  <cp:lastModifiedBy>Пользователь</cp:lastModifiedBy>
  <dcterms:modified xsi:type="dcterms:W3CDTF">2010-12-16T22:09:14Z</dcterms:modified>
  <cp:revision>3</cp:revision>
  <dc:subject/>
  <dc:title>Слайд 1</dc:title>
</cp:coreProperties>
</file>