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A32-14BE-423C-BF1F-5BC571DF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693-99F5-49F7-BEEC-FE5F36D3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F7E-D718-4360-B0DD-B20470AC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6E1-3FBF-496B-A580-1D077D58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207-30B6-4748-9A63-04DC1D96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44E-88BF-488B-9CDC-D75CAD54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A0D-2EB7-43DC-A96C-2D11DAA6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CE5-21B0-4BC1-935A-1D57B78F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54B-E777-4A78-BFC4-795884A9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A6ED-ED1C-48F9-B1DB-F4E0921C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15F-94B1-43BF-AD0F-77A54D40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E9C0-AE0A-4244-A3A6-F7D1A1DE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E4EF-4C31-47AE-86A2-547A375DE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2737080" cy="540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376360" cy="532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87640" y="333360"/>
            <a:ext cx="2736720" cy="540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332000" y="3860640"/>
            <a:ext cx="70898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 вырастить этот цветок?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НЕСКОЛЬКО СОВЕ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и любом наказании ребенок должен быть уверен, что его по-прежнему любят, и даже будучи наказанным, он не остается без родительской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Наказание должно быть соразмерно проступ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Ребенок должен быть информирован о том, за какие проступки последует наказание и в какой форме,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чтобы у ребенка не было путаницы из-за непоследовательного поведения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При любом наказании детей они не должны быть лишены удовлетворения их биологических и физиологических потре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9900ff"/>
                </a:solidFill>
                <a:latin typeface="Arial"/>
              </a:rPr>
              <a:t>Не наказания должен бояться ребенок, не гнева,</a:t>
            </a:r>
            <a:br>
              <a:rPr sz="4000"/>
            </a:br>
            <a:r>
              <a:rPr b="0" i="1" lang="en-US" sz="4000" spc="-1" strike="noStrike">
                <a:solidFill>
                  <a:srgbClr val="9900ff"/>
                </a:solidFill>
                <a:latin typeface="Arial"/>
              </a:rPr>
              <a:t> а Вашего огорче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остарайтесь пробудить чувство совести, помогите осознать ошибку,  желание исправить е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08360" y="2205000"/>
            <a:ext cx="1297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одители, 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казывайте ребенка только в том случае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гда без наказания нельзя обойтис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когда оно явно целесообра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нтролируйте поведение ребёнка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арайтесь предупредить возможные отрицательные поступк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ажно подчеркнуть, что наказывается поступок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 не ли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сле наказания проступок должен быть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«предан забвению»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мейте мужество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звиниться перед ребёнко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если наказали его незаслуж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ТЕРПЕНИ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ОБЪЯСНЕНИ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ОТВЛЕЧЕНИ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НЕТОРОПЛИВОСТЬЮ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НАГРАДА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26920" y="549360"/>
            <a:ext cx="74901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заменить наказание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формы поощрения вы использу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жна ли мера в поощрении дет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ть ли в поощрении негативное влияние на ребё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63640" y="476280"/>
            <a:ext cx="5184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ОЩРЕНИЕ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ма, чтобы мотивировать взрослую дочь учиться лучше, ставит ей условие: «Леночка, если закончишь полугодие на одни пятёрки, поедешь на новогодние каникулы отдыхать в Питер!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аграду за примерное поведение и хорошие оценки папа постоянно выдаёт Ване «зарплат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40323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ff"/>
                </a:solidFill>
                <a:latin typeface="Arial"/>
              </a:rPr>
              <a:t>Несколько советов о поощрен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ощряйте ребенка улыбкой, словом, ласковым прикосновением руки, когда он старательно моет посуду, готовит уроки, с радостью играет с младшим бра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Дарите ребёнку подарки, но при этом учите его, как их принимать, быть благодарными за любые знаки внимания, проявленные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5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d0d"/>
                </a:solidFill>
                <a:latin typeface="Arial"/>
              </a:rPr>
              <a:t>Если ребёнок поощряется деньгами, вы должны знать, каким образом он ими распорядится,  обсудите это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»           «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ощрение дает более эффективный результат, чем наказание. Вызывая положительные эмоции, оно способствует формированию позитивных качеств личности, таких как: чувство собственного достоинства, доброжелательности, чуткости, дисциплинированности, ответственности,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месте с тем не следует слишком увлекаться поощрениями. Чрезмерное заласкивание, захваливание порождают самодовольство, тщеславие, эгоизм.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 частых необоснованных поощрениях дети привыкают к ним и не цен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384360" cy="3889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900000" y="836640"/>
            <a:ext cx="75596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кнут"  или  "пряник"?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907920"/>
            <a:ext cx="8064360" cy="273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казание или поощрени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87280" y="4797360"/>
            <a:ext cx="69850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КНУТ или ПРЯНИК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2232000" cy="208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Вадим\Мои документы\Дети и родители 9.jpeg"/>
          <p:cNvPicPr/>
          <p:nvPr/>
        </p:nvPicPr>
        <p:blipFill>
          <a:blip r:embed="rId2"/>
          <a:stretch/>
        </p:blipFill>
        <p:spPr>
          <a:xfrm>
            <a:off x="826920" y="2205000"/>
            <a:ext cx="2376720" cy="194472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52" name="Picture 4" descr="C:\Documents and Settings\Вадим\Мои документы\Дети и родители2.jpeg"/>
          <p:cNvPicPr/>
          <p:nvPr/>
        </p:nvPicPr>
        <p:blipFill>
          <a:blip r:embed="rId3"/>
          <a:stretch/>
        </p:blipFill>
        <p:spPr>
          <a:xfrm>
            <a:off x="5940360" y="2133720"/>
            <a:ext cx="2403720" cy="2016000"/>
          </a:xfrm>
          <a:prstGeom prst="rect">
            <a:avLst/>
          </a:prstGeom>
          <a:ln w="9360">
            <a:solidFill>
              <a:srgbClr val="ff5d0d">
                <a:alpha val="82000"/>
              </a:srgbClr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340000" y="1413000"/>
            <a:ext cx="453708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549360"/>
            <a:ext cx="5183280" cy="16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казат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627280" y="2492280"/>
            <a:ext cx="4103640" cy="165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987640" y="4508640"/>
            <a:ext cx="547200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наказывать??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8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47640" y="2205000"/>
          <a:ext cx="612000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12000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 txBox="1"/>
          <p:nvPr/>
        </p:nvSpPr>
        <p:spPr>
          <a:xfrm>
            <a:off x="395280" y="765000"/>
            <a:ext cx="820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казываете ли вы своего ребёнка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ы относитесь к наказанию де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упреждает ли наказание нежелательные поступ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ществует ли связь между наказанием и формированием нежелательных черт характера ребё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можно наказывать ребё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16000" y="476280"/>
            <a:ext cx="6480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наказываете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26920" y="5373720"/>
            <a:ext cx="77058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У Вас дома пропали деньги. Ребенок говорит, что он их не брал. А через пару дней Вы находите спрятанные у ребенка деньги. Ребёнок вас обманул. Как поступить и так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68360" y="4292640"/>
            <a:ext cx="4608720" cy="1469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900000" y="404640"/>
            <a:ext cx="748836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туация для обсуждения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12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670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изическое наказание ребёнка – это проявление бессилия и неуравновешенности взрослого или же законное право родителя, подкрепляющее его авторит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оказалось, большая часть россиян (73%) считает шлепки и подзатыльники вполне допустимой мерой воздействия на детей, однако 63% из них уточняют, что такое «внушение» возможно лишь в исключительных случаях, к примеру, «в случае серьёзных проступков» или «когда уговоры не действую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ит отметить, что за последние четыре года число россиян, полагающих, что шлёпать детей за плохое поведение хоть и редко, но стоит, увеличилось – с 58% в 2006 году до 63% в нынеш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050920" y="260280"/>
            <a:ext cx="53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ть или не бить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92360" y="836640"/>
            <a:ext cx="6264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физическое наказание де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236000" y="1700280"/>
            <a:ext cx="16081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оветский плакат, 1920 г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49360" y="2027160"/>
            <a:ext cx="44452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8:20:32Z</dcterms:created>
  <dc:creator>Пользователь</dc:creator>
  <dc:description/>
  <dc:language>en-US</dc:language>
  <cp:lastModifiedBy>Пользователь</cp:lastModifiedBy>
  <dcterms:modified xsi:type="dcterms:W3CDTF">2010-12-16T22:09:14Z</dcterms:modified>
  <cp:revision>3</cp:revision>
  <dc:subject/>
  <dc:title>Слайд 1</dc:title>
</cp:coreProperties>
</file>