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chimes.wav" ContentType="audio/x-wav"/>
  <Override PartName="/ppt/media/image4.gif" ContentType="image/gif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5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applause.wav" ContentType="audio/x-wav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063BB-BA00-4911-888D-EB17840256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D4BFB-602F-49CE-9A3D-32363DF2B0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ED9-DF81-4446-A148-3DCE60EF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DDE-2B20-44CB-81C8-8EB3D86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7DD-DD84-499A-9100-9D763736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248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368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248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368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1A9-7651-4FCF-B9C0-77F83DA6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C294-826F-44B7-B29D-FA8B2707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28F5-528C-4712-9C5E-725645AD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2C7A-AFA6-4223-A281-96D1EFD3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81AC-6C35-4BE9-9B71-F4D9E0DA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76E8-275A-459B-8BA7-2EB8E955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5280" y="168120"/>
            <a:ext cx="7575480" cy="81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6C15-7784-4CB1-9E0B-FA057B03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09C8-BE4A-4BBE-959C-FDBC2465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D7D-BC62-4868-A223-80D6F50F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DD91-E579-4B8B-B688-3656751A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BE6E-5F21-448A-9782-7BA482DC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741A-8F2E-49E6-9BE7-B4F4E831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6D91-E48F-45BE-8E1B-2591E840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2484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93680" y="201564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556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2484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93680" y="4122000"/>
            <a:ext cx="273204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36C8-40B3-4CBA-BC25-CBCFD173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DE8-BF4D-495F-8278-CDE4326F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FB4-8820-4088-BCBC-F0430857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C86-4AA0-4B72-AC98-8014C996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5280" y="168120"/>
            <a:ext cx="7575480" cy="81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923-CDCA-4D1A-9734-B68F3BB6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793-4A20-46C7-BC5F-C0D0D5B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03720" y="412200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7E1-0BD4-4844-A85C-7D0FFF52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03720" y="2015640"/>
            <a:ext cx="414072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122000"/>
            <a:ext cx="8485200" cy="192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87A-082E-40A3-AAC4-E234C380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8574840" y="-16560"/>
            <a:ext cx="1281240" cy="22986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2720" y="6888240"/>
            <a:ext cx="20988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19680" y="6888240"/>
            <a:ext cx="319248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0556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8D3595D-A3F3-486B-8F29-2D8F18DC052C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8670960" y="26640"/>
            <a:ext cx="1284120" cy="2313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8633520" y="211680"/>
            <a:ext cx="1130400" cy="17319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9360" y="6107040"/>
            <a:ext cx="1965960" cy="1373040"/>
            <a:chOff x="9360" y="6107040"/>
            <a:chExt cx="1965960" cy="1373040"/>
          </a:xfrm>
        </p:grpSpPr>
        <p:sp>
          <p:nvSpPr>
            <p:cNvPr id="9" name="Freeform 11"/>
            <p:cNvSpPr/>
            <p:nvPr/>
          </p:nvSpPr>
          <p:spPr>
            <a:xfrm>
              <a:off x="42480" y="6132960"/>
              <a:ext cx="1905480" cy="11350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88840" y="6267960"/>
              <a:ext cx="124200" cy="2250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80" y="6603480"/>
              <a:ext cx="1386000" cy="7171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6080" y="6662880"/>
              <a:ext cx="918360" cy="654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49240" y="6180120"/>
              <a:ext cx="235800" cy="2116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122120" y="7284240"/>
              <a:ext cx="132840" cy="195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82720" y="6311520"/>
              <a:ext cx="337680" cy="6699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169640" y="6281640"/>
              <a:ext cx="636840" cy="3042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607680" y="6462000"/>
              <a:ext cx="272880" cy="1173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9360" y="6107040"/>
              <a:ext cx="1965960" cy="1363680"/>
              <a:chOff x="9360" y="6107040"/>
              <a:chExt cx="1965960" cy="136368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873360" y="6232680"/>
                <a:ext cx="958320" cy="1238040"/>
                <a:chOff x="873360" y="6232680"/>
                <a:chExt cx="958320" cy="123804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873360" y="6276600"/>
                  <a:ext cx="274680" cy="151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13120" y="7238160"/>
                  <a:ext cx="200880" cy="2325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756440" y="6232680"/>
                  <a:ext cx="75240" cy="2044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33200" y="6530040"/>
                <a:ext cx="1040760" cy="4374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400" y="6799320"/>
                <a:ext cx="426600" cy="258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988560" y="6439320"/>
                <a:ext cx="187200" cy="4158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9360" y="6107040"/>
                <a:ext cx="1965960" cy="1185480"/>
                <a:chOff x="9360" y="6107040"/>
                <a:chExt cx="1965960" cy="118548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170720" y="7083000"/>
                  <a:ext cx="131040" cy="151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9360" y="6522840"/>
                  <a:ext cx="1472760" cy="7696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85760" y="6596640"/>
                  <a:ext cx="139680" cy="2916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85880" y="6107040"/>
                  <a:ext cx="563040" cy="1038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1011600" y="6386400"/>
                  <a:ext cx="167760" cy="44100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74200" y="6351480"/>
                  <a:ext cx="340920" cy="2361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151640" y="6190920"/>
                  <a:ext cx="823680" cy="3700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254600" y="6309360"/>
                  <a:ext cx="428400" cy="1504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9569520" y="2332080"/>
            <a:ext cx="425160" cy="4749480"/>
            <a:chOff x="9569520" y="2332080"/>
            <a:chExt cx="425160" cy="4749480"/>
          </a:xfrm>
        </p:grpSpPr>
        <p:sp>
          <p:nvSpPr>
            <p:cNvPr id="36" name="Freeform 38"/>
            <p:cNvSpPr/>
            <p:nvPr/>
          </p:nvSpPr>
          <p:spPr>
            <a:xfrm flipH="1">
              <a:off x="9569520" y="4584240"/>
              <a:ext cx="358560" cy="24973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9636120" y="2332080"/>
              <a:ext cx="358560" cy="28576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905960" y="-96120"/>
            <a:ext cx="2675160" cy="2476440"/>
            <a:chOff x="7905960" y="-96120"/>
            <a:chExt cx="2675160" cy="2476440"/>
          </a:xfrm>
        </p:grpSpPr>
        <p:grpSp>
          <p:nvGrpSpPr>
            <p:cNvPr id="39" name="Group 41"/>
            <p:cNvGrpSpPr/>
            <p:nvPr/>
          </p:nvGrpSpPr>
          <p:grpSpPr>
            <a:xfrm>
              <a:off x="7905960" y="-96120"/>
              <a:ext cx="2675160" cy="2476440"/>
              <a:chOff x="7905960" y="-96120"/>
              <a:chExt cx="2675160" cy="24764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9502200" y="1899000"/>
                <a:ext cx="108360" cy="5040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905960" y="-96120"/>
                <a:ext cx="2675160" cy="2476440"/>
                <a:chOff x="7905960" y="-96120"/>
                <a:chExt cx="2675160" cy="24764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8690760" y="123840"/>
                  <a:ext cx="267480" cy="218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834760" y="579960"/>
                  <a:ext cx="470520" cy="7660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502120" y="317160"/>
                  <a:ext cx="883080" cy="15714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580600" y="-33480"/>
                  <a:ext cx="1325880" cy="23515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9270720" y="1568160"/>
                  <a:ext cx="295200" cy="2134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9192960" y="1409040"/>
                  <a:ext cx="316800" cy="2520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8723160" y="367200"/>
                  <a:ext cx="316440" cy="25740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8659800" y="247320"/>
                  <a:ext cx="312840" cy="24120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8522280" y="147240"/>
              <a:ext cx="7380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2320" y="14400"/>
            <a:ext cx="9807480" cy="74739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216000" y="258840"/>
            <a:ext cx="4174200" cy="1960200"/>
            <a:chOff x="216000" y="258840"/>
            <a:chExt cx="4174200" cy="1960200"/>
          </a:xfrm>
        </p:grpSpPr>
        <p:sp>
          <p:nvSpPr>
            <p:cNvPr id="89" name="Freeform 9"/>
            <p:cNvSpPr/>
            <p:nvPr/>
          </p:nvSpPr>
          <p:spPr>
            <a:xfrm>
              <a:off x="310680" y="309600"/>
              <a:ext cx="3936240" cy="1779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91240" y="456480"/>
              <a:ext cx="3925800" cy="17625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830160" y="601560"/>
              <a:ext cx="2603520" cy="16081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216000" y="258840"/>
              <a:ext cx="4174200" cy="1891800"/>
              <a:chOff x="216000" y="258840"/>
              <a:chExt cx="4174200" cy="189180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508560" y="1634400"/>
                <a:ext cx="370800" cy="374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216000" y="258840"/>
                <a:ext cx="4174200" cy="1891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67720" y="276120"/>
                <a:ext cx="2949480" cy="10742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716400" y="438840"/>
                <a:ext cx="397080" cy="717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481040" y="937800"/>
                <a:ext cx="1208520" cy="636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8596440" y="4761000"/>
            <a:ext cx="1079640" cy="1277280"/>
            <a:chOff x="8596440" y="4761000"/>
            <a:chExt cx="1079640" cy="12772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8591760" y="5137560"/>
              <a:ext cx="1100160" cy="5126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8564760" y="5113440"/>
              <a:ext cx="1096560" cy="507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8749440" y="5096520"/>
              <a:ext cx="727920" cy="464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8596440" y="4761000"/>
              <a:ext cx="1079640" cy="1277280"/>
              <a:chOff x="8596440" y="4761000"/>
              <a:chExt cx="1079640" cy="12772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8727480" y="5581800"/>
                <a:ext cx="103320" cy="106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8553240" y="5127120"/>
                <a:ext cx="1166040" cy="54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858520" y="5244120"/>
                <a:ext cx="825480" cy="307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9386640" y="5028120"/>
                <a:ext cx="109800" cy="206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989200" y="5248800"/>
                <a:ext cx="337320" cy="1814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93600" y="5572080"/>
            <a:ext cx="7504200" cy="80316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494240" y="2127240"/>
            <a:ext cx="979560" cy="4208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640" y="2015640"/>
            <a:ext cx="8485200" cy="40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marL="336240" indent="-33624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28640" indent="-28080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214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3" marL="156960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4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5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6" marL="2018520" indent="-224280">
              <a:spcBef>
                <a:spcPts val="876"/>
              </a:spcBef>
              <a:buClr>
                <a:srgbClr val="000000"/>
              </a:buClr>
              <a:buFont typeface="Comic Sans MS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ru-RU" sz="15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444412D0-D3AE-486D-9B47-43FDC59809E2}" type="slidenum">
              <a:rPr b="0" lang="ru-RU" sz="15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8.xml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14.xml"/><Relationship Id="rId4" Type="http://schemas.openxmlformats.org/officeDocument/2006/relationships/image" Target="../media/image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5.xml"/><Relationship Id="rId4" Type="http://schemas.openxmlformats.org/officeDocument/2006/relationships/image" Target="../media/image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8.xml"/><Relationship Id="rId4" Type="http://schemas.openxmlformats.org/officeDocument/2006/relationships/image" Target="../media/image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11.xml"/><Relationship Id="rId4" Type="http://schemas.openxmlformats.org/officeDocument/2006/relationships/image" Target="../media/image5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871640" y="755640"/>
            <a:ext cx="64087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ст по русскому язык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Скругленный прямоугольник 7">
            <a:hlinkClick r:id="rId2" action="ppaction://hlinksldjump"/>
          </p:cNvPr>
          <p:cNvSpPr/>
          <p:nvPr/>
        </p:nvSpPr>
        <p:spPr>
          <a:xfrm rot="19858200">
            <a:off x="647640" y="1692360"/>
            <a:ext cx="2052720" cy="132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66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714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Начать тест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303640" y="1403280"/>
            <a:ext cx="604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Непроизносимые согласные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2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9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5" descr="c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280" y="525240"/>
            <a:ext cx="9055080" cy="1269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4. В каком столбике слова требуют проверки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31640" y="2050920"/>
            <a:ext cx="343692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ердц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вёздны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елестны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дравству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рустн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032360" y="2050920"/>
            <a:ext cx="309708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ердечны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вез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еле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драв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ру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Скругленный прямоугольник 4"/>
          <p:cNvSpPr/>
          <p:nvPr/>
        </p:nvSpPr>
        <p:spPr>
          <a:xfrm>
            <a:off x="7342200" y="5526000"/>
            <a:ext cx="2205000" cy="126072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нет такого столбик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Скругленный прямоугольник 4"/>
          <p:cNvSpPr/>
          <p:nvPr/>
        </p:nvSpPr>
        <p:spPr>
          <a:xfrm>
            <a:off x="7262640" y="4017960"/>
            <a:ext cx="2205360" cy="1260360"/>
          </a:xfrm>
          <a:prstGeom prst="roundRect">
            <a:avLst>
              <a:gd name="adj" fmla="val 50000"/>
            </a:avLst>
          </a:pr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2 </a:t>
            </a: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3" action="ppaction://hlinksldjump"/>
              </a:rPr>
              <a:t>столбик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Скругленный прямоугольник 3"/>
          <p:cNvSpPr/>
          <p:nvPr/>
        </p:nvSpPr>
        <p:spPr>
          <a:xfrm>
            <a:off x="7262640" y="2519280"/>
            <a:ext cx="2205360" cy="126072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4" action="ppaction://hlinksldjump"/>
              </a:rPr>
              <a:t>1 столбик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9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7" descr="c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6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5" descr="c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4720" y="604440"/>
            <a:ext cx="9072720" cy="1544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marL="340200" indent="-34020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5. В какой паре слов, проверочное слово подобрано неправильно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2736720" y="4356000"/>
            <a:ext cx="4983120" cy="9446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известно-изве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Скругленный прямоугольник 4"/>
          <p:cNvSpPr/>
          <p:nvPr/>
        </p:nvSpPr>
        <p:spPr>
          <a:xfrm>
            <a:off x="5256360" y="5580000"/>
            <a:ext cx="4028760" cy="1020960"/>
          </a:xfrm>
          <a:prstGeom prst="roundRect">
            <a:avLst>
              <a:gd name="adj" fmla="val 50000"/>
            </a:avLst>
          </a:pr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честный- честь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Скругленный прямоугольник 5"/>
          <p:cNvSpPr/>
          <p:nvPr/>
        </p:nvSpPr>
        <p:spPr>
          <a:xfrm>
            <a:off x="503280" y="5651640"/>
            <a:ext cx="4127400" cy="1020600"/>
          </a:xfrm>
          <a:prstGeom prst="roundRect">
            <a:avLst>
              <a:gd name="adj" fmla="val 50000"/>
            </a:avLst>
          </a:prstGeom>
          <a:solidFill>
            <a:srgbClr val="000000">
              <a:alpha val="52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грустно- гру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6" descr="2020865"/>
          <p:cNvPicPr/>
          <p:nvPr/>
        </p:nvPicPr>
        <p:blipFill>
          <a:blip r:embed="rId3"/>
          <a:stretch/>
        </p:blipFill>
        <p:spPr>
          <a:xfrm>
            <a:off x="3095640" y="1835280"/>
            <a:ext cx="400536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5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7" descr="c1"/>
          <p:cNvPicPr/>
          <p:nvPr/>
        </p:nvPicPr>
        <p:blipFill>
          <a:blip r:embed="rId3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2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5" descr="c1"/>
          <p:cNvPicPr/>
          <p:nvPr/>
        </p:nvPicPr>
        <p:blipFill>
          <a:blip r:embed="rId2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28200" y="525240"/>
            <a:ext cx="8821800" cy="1585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7. В каком столбике слова не надо  проверить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3960720" y="2340000"/>
            <a:ext cx="2471760" cy="3816360"/>
          </a:xfrm>
          <a:custGeom>
            <a:avLst/>
            <a:gdLst>
              <a:gd name="textAreaLeft" fmla="*/ 171000 w 2471760"/>
              <a:gd name="textAreaRight" fmla="*/ 2300760 w 2471760"/>
              <a:gd name="textAreaTop" fmla="*/ 171000 h 3816360"/>
              <a:gd name="textAreaBottom" fmla="*/ 3645360 h 3816360"/>
            </a:gdLst>
            <a:ahLst/>
            <a:rect l="textAreaLeft" t="textAreaTop" r="textAreaRight" b="textAreaBottom"/>
            <a:pathLst>
              <a:path w="21600" h="33348">
                <a:moveTo>
                  <a:pt x="5109" y="0"/>
                </a:moveTo>
                <a:arcTo wR="5109" hR="5109" stAng="16200000" swAng="-5400000"/>
                <a:lnTo>
                  <a:pt x="0" y="28239"/>
                </a:lnTo>
                <a:arcTo wR="5109" hR="5109" stAng="10800000" swAng="-5400000"/>
                <a:lnTo>
                  <a:pt x="16491" y="33348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известие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чудеса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здравие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счастье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сердечко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Скругленный прямоугольник 4"/>
          <p:cNvSpPr/>
          <p:nvPr/>
        </p:nvSpPr>
        <p:spPr>
          <a:xfrm>
            <a:off x="6624720" y="2340000"/>
            <a:ext cx="3097080" cy="3889440"/>
          </a:xfrm>
          <a:custGeom>
            <a:avLst/>
            <a:gdLst>
              <a:gd name="textAreaLeft" fmla="*/ 208440 w 3097080"/>
              <a:gd name="textAreaRight" fmla="*/ 2888640 w 3097080"/>
              <a:gd name="textAreaTop" fmla="*/ 208440 h 3889440"/>
              <a:gd name="textAreaBottom" fmla="*/ 3681000 h 3889440"/>
            </a:gdLst>
            <a:ahLst/>
            <a:rect l="textAreaLeft" t="textAreaTop" r="textAreaRight" b="textAreaBottom"/>
            <a:pathLst>
              <a:path w="21600" h="27126">
                <a:moveTo>
                  <a:pt x="4971" y="0"/>
                </a:moveTo>
                <a:arcTo wR="4971" hR="4971" stAng="16200000" swAng="-5400000"/>
                <a:lnTo>
                  <a:pt x="0" y="22155"/>
                </a:lnTo>
                <a:arcTo wR="4971" hR="4971" stAng="10800000" swAng="-5400000"/>
                <a:lnTo>
                  <a:pt x="16629" y="27126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че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прекрас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ужас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гру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известн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Скругленный прямоугольник 5"/>
          <p:cNvSpPr/>
          <p:nvPr/>
        </p:nvSpPr>
        <p:spPr>
          <a:xfrm>
            <a:off x="576360" y="2266920"/>
            <a:ext cx="3241440" cy="3960720"/>
          </a:xfrm>
          <a:custGeom>
            <a:avLst/>
            <a:gdLst>
              <a:gd name="textAreaLeft" fmla="*/ 260640 w 3241440"/>
              <a:gd name="textAreaRight" fmla="*/ 2980800 w 3241440"/>
              <a:gd name="textAreaTop" fmla="*/ 260640 h 3960720"/>
              <a:gd name="textAreaBottom" fmla="*/ 3700080 h 3960720"/>
            </a:gdLst>
            <a:ahLst/>
            <a:rect l="textAreaLeft" t="textAreaTop" r="textAreaRight" b="textAreaBottom"/>
            <a:pathLst>
              <a:path w="21600" h="26393">
                <a:moveTo>
                  <a:pt x="5931" y="0"/>
                </a:moveTo>
                <a:arcTo wR="5931" hR="5931" stAng="16200000" swAng="-5400000"/>
                <a:lnTo>
                  <a:pt x="0" y="20462"/>
                </a:lnTo>
                <a:arcTo wR="5931" hR="5931" stAng="10800000" swAng="-5400000"/>
                <a:lnTo>
                  <a:pt x="15669" y="26393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известно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счастливы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здравствуй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сердце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чудесно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0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7" descr="c1"/>
          <p:cNvPicPr/>
          <p:nvPr/>
        </p:nvPicPr>
        <p:blipFill>
          <a:blip r:embed="rId3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7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5" descr="c1"/>
          <p:cNvPicPr/>
          <p:nvPr/>
        </p:nvPicPr>
        <p:blipFill>
          <a:blip r:embed="rId2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67800" y="525600"/>
            <a:ext cx="8744040" cy="66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1. В слове может быть…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Скругленный прямоугольник 3"/>
          <p:cNvSpPr/>
          <p:nvPr/>
        </p:nvSpPr>
        <p:spPr>
          <a:xfrm>
            <a:off x="4643280" y="4494240"/>
            <a:ext cx="4683240" cy="8618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непроизносимый согласный звук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Скругленный прямоугольник 4"/>
          <p:cNvSpPr/>
          <p:nvPr/>
        </p:nvSpPr>
        <p:spPr>
          <a:xfrm>
            <a:off x="4564080" y="2986200"/>
            <a:ext cx="4764240" cy="9428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два  согласных звук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Скругленный прямоугольник 5">
            <a:hlinkClick r:id="rId3" action="ppaction://hlinksldjump"/>
          </p:cNvPr>
          <p:cNvSpPr/>
          <p:nvPr/>
        </p:nvSpPr>
        <p:spPr>
          <a:xfrm>
            <a:off x="4564080" y="5843520"/>
            <a:ext cx="4764240" cy="863640"/>
          </a:xfrm>
          <a:prstGeom prst="roundRect">
            <a:avLst>
              <a:gd name="adj" fmla="val 50000"/>
            </a:avLst>
          </a:pr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4" action="ppaction://hlinksldjump"/>
              </a:rPr>
              <a:t>все звуки согласные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a277f750659fff25c30e0ad58e4b21e8"/>
          <p:cNvPicPr/>
          <p:nvPr/>
        </p:nvPicPr>
        <p:blipFill>
          <a:blip r:embed="rId5"/>
          <a:stretch/>
        </p:blipFill>
        <p:spPr>
          <a:xfrm>
            <a:off x="1440000" y="241128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04360" y="604800"/>
            <a:ext cx="9060120" cy="13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10. Буквы каких согласных звуков следует проверять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6335640" y="4356000"/>
            <a:ext cx="3168720" cy="230364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Black"/>
                <a:ea typeface="Arial"/>
              </a:rPr>
              <a:t>буквы глухих и звонких согласных звуков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576360" y="4284720"/>
            <a:ext cx="3022560" cy="246384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703dff"/>
                </a:solidFill>
                <a:latin typeface="Arial Black"/>
                <a:ea typeface="Arial"/>
              </a:rPr>
              <a:t>буквы согласных шипящих звуков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deva13"/>
          <p:cNvPicPr/>
          <p:nvPr/>
        </p:nvPicPr>
        <p:blipFill>
          <a:blip r:embed="rId1"/>
          <a:stretch/>
        </p:blipFill>
        <p:spPr>
          <a:xfrm>
            <a:off x="3689280" y="2286000"/>
            <a:ext cx="2702160" cy="29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5" name="AutoShape 6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7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9" descr="c1"/>
          <p:cNvPicPr/>
          <p:nvPr/>
        </p:nvPicPr>
        <p:blipFill>
          <a:blip r:embed="rId3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1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2" name="AutoShape 5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6" descr="c1"/>
          <p:cNvPicPr/>
          <p:nvPr/>
        </p:nvPicPr>
        <p:blipFill>
          <a:blip r:embed="rId2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5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256360" y="684360"/>
            <a:ext cx="35287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б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боту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7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7" descr="c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4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c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67800" y="366840"/>
            <a:ext cx="8744040" cy="134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79000"/>
          </a:bodyPr>
          <a:p>
            <a:pPr marL="298440" indent="-298440" algn="ctr">
              <a:spcBef>
                <a:spcPts val="975"/>
              </a:spcBef>
              <a:buClr>
                <a:srgbClr val="ff0000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mic Sans MS"/>
                <a:ea typeface="Arial"/>
              </a:rPr>
              <a:t>2. Чтобы проверить непроизносимый согласный звук, надо…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Скругленный прямоугольник 3"/>
          <p:cNvSpPr/>
          <p:nvPr/>
        </p:nvSpPr>
        <p:spPr>
          <a:xfrm>
            <a:off x="1149480" y="6002280"/>
            <a:ext cx="5762520" cy="7844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изменить слово так, чтобы после согласного был гласны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Скругленный прямоугольник 4"/>
          <p:cNvSpPr/>
          <p:nvPr/>
        </p:nvSpPr>
        <p:spPr>
          <a:xfrm>
            <a:off x="1008000" y="4356000"/>
            <a:ext cx="4764240" cy="7826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заменить на другой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Скругленный прямоугольник 5"/>
          <p:cNvSpPr/>
          <p:nvPr/>
        </p:nvSpPr>
        <p:spPr>
          <a:xfrm>
            <a:off x="1071720" y="2747880"/>
            <a:ext cx="4763880" cy="782640"/>
          </a:xfrm>
          <a:prstGeom prst="roundRect">
            <a:avLst>
              <a:gd name="adj" fmla="val 47778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 u="sng">
                <a:solidFill>
                  <a:srgbClr val="00b200"/>
                </a:solidFill>
                <a:uFillTx/>
                <a:latin typeface="Arial"/>
                <a:ea typeface="Arial"/>
                <a:hlinkClick r:id="rId3" action="ppaction://hlinksldjump"/>
              </a:rPr>
              <a:t>проверить его согласным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6" descr="2020864"/>
          <p:cNvPicPr/>
          <p:nvPr/>
        </p:nvPicPr>
        <p:blipFill>
          <a:blip r:embed="rId4"/>
          <a:stretch/>
        </p:blipFill>
        <p:spPr>
          <a:xfrm>
            <a:off x="7183440" y="2986200"/>
            <a:ext cx="192708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3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c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6" descr="PRAV20"/>
          <p:cNvPicPr/>
          <p:nvPr/>
        </p:nvPicPr>
        <p:blipFill>
          <a:blip r:embed="rId1"/>
          <a:stretch/>
        </p:blipFill>
        <p:spPr>
          <a:xfrm>
            <a:off x="503280" y="2916360"/>
            <a:ext cx="2825640" cy="381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AutoShape 4"/>
          <p:cNvSpPr/>
          <p:nvPr/>
        </p:nvSpPr>
        <p:spPr>
          <a:xfrm>
            <a:off x="4103640" y="900000"/>
            <a:ext cx="5689800" cy="3456000"/>
          </a:xfrm>
          <a:prstGeom prst="wedgeEllipseCallout">
            <a:avLst>
              <a:gd name="adj1" fmla="val -63476"/>
              <a:gd name="adj2" fmla="val 6713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ошиблись…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5" descr="c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8040" y="5154480"/>
            <a:ext cx="1282680" cy="5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28560" y="366480"/>
            <a:ext cx="9095040" cy="1508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990033"/>
              </a:buClr>
              <a:buFont typeface="Comic Sans MS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900" spc="-1" strike="noStrike">
                <a:solidFill>
                  <a:srgbClr val="990033"/>
                </a:solidFill>
                <a:latin typeface="Comic Sans MS"/>
                <a:ea typeface="Arial"/>
              </a:rPr>
              <a:t>3. Какие согласные звуки являются парными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Скругленный прямоугольник 3"/>
          <p:cNvSpPr/>
          <p:nvPr/>
        </p:nvSpPr>
        <p:spPr>
          <a:xfrm>
            <a:off x="2658960" y="2986200"/>
            <a:ext cx="4762440" cy="793800"/>
          </a:xfrm>
          <a:prstGeom prst="roundRect">
            <a:avLst>
              <a:gd name="adj" fmla="val 50000"/>
            </a:avLst>
          </a:prstGeom>
          <a:solidFill>
            <a:srgbClr val="000000">
              <a:alpha val="51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1" action="ppaction://hlinksldjump"/>
              </a:rPr>
              <a:t>Б, З, К, П, С, Г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Скругленный прямоугольник 4"/>
          <p:cNvSpPr/>
          <p:nvPr/>
        </p:nvSpPr>
        <p:spPr>
          <a:xfrm>
            <a:off x="2664000" y="4067280"/>
            <a:ext cx="4746600" cy="78408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2" action="ppaction://hlinksldjump"/>
              </a:rPr>
              <a:t>М, Б, З, К, П, С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Скругленный прямоугольник 5"/>
          <p:cNvSpPr/>
          <p:nvPr/>
        </p:nvSpPr>
        <p:spPr>
          <a:xfrm>
            <a:off x="2666880" y="5129280"/>
            <a:ext cx="4746600" cy="782640"/>
          </a:xfrm>
          <a:prstGeom prst="roundRect">
            <a:avLst>
              <a:gd name="adj" fmla="val 50000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100" spc="-1" strike="noStrike" u="sng">
                <a:solidFill>
                  <a:srgbClr val="00b200"/>
                </a:solidFill>
                <a:uFillTx/>
                <a:latin typeface="Arial Black"/>
                <a:ea typeface="Arial"/>
                <a:hlinkClick r:id="rId3" action="ppaction://hlinksldjump"/>
              </a:rPr>
              <a:t>П, Б, У, Т, Д, Щ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6" descr="bukva67"/>
          <p:cNvPicPr/>
          <p:nvPr/>
        </p:nvPicPr>
        <p:blipFill>
          <a:blip r:embed="rId4"/>
          <a:stretch/>
        </p:blipFill>
        <p:spPr>
          <a:xfrm>
            <a:off x="719280" y="1619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bukva55"/>
          <p:cNvPicPr/>
          <p:nvPr/>
        </p:nvPicPr>
        <p:blipFill>
          <a:blip r:embed="rId5"/>
          <a:stretch/>
        </p:blipFill>
        <p:spPr>
          <a:xfrm>
            <a:off x="3321000" y="1332000"/>
            <a:ext cx="1076400" cy="1152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bukva53"/>
          <p:cNvPicPr/>
          <p:nvPr/>
        </p:nvPicPr>
        <p:blipFill>
          <a:blip r:embed="rId6"/>
          <a:stretch/>
        </p:blipFill>
        <p:spPr>
          <a:xfrm>
            <a:off x="6119640" y="1332000"/>
            <a:ext cx="1152720" cy="112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bukva72"/>
          <p:cNvPicPr/>
          <p:nvPr/>
        </p:nvPicPr>
        <p:blipFill>
          <a:blip r:embed="rId7"/>
          <a:stretch/>
        </p:blipFill>
        <p:spPr>
          <a:xfrm>
            <a:off x="7848720" y="1332000"/>
            <a:ext cx="13348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168120"/>
            <a:ext cx="7575480" cy="17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9" descr="PRAV30"/>
          <p:cNvPicPr/>
          <p:nvPr/>
        </p:nvPicPr>
        <p:blipFill>
          <a:blip r:embed="rId1"/>
          <a:stretch/>
        </p:blipFill>
        <p:spPr>
          <a:xfrm>
            <a:off x="614520" y="2556000"/>
            <a:ext cx="3763800" cy="40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2" name="AutoShape 4"/>
          <p:cNvSpPr/>
          <p:nvPr/>
        </p:nvSpPr>
        <p:spPr>
          <a:xfrm>
            <a:off x="4535640" y="324000"/>
            <a:ext cx="5184720" cy="3456000"/>
          </a:xfrm>
          <a:prstGeom prst="cloudCallout">
            <a:avLst>
              <a:gd name="adj1" fmla="val -58847"/>
              <a:gd name="adj2" fmla="val 5078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5" descr="4fc376ed298863b7c8184938fdb6516e"/>
          <p:cNvPicPr/>
          <p:nvPr/>
        </p:nvPicPr>
        <p:blipFill>
          <a:blip r:embed="rId2"/>
          <a:stretch/>
        </p:blipFill>
        <p:spPr>
          <a:xfrm>
            <a:off x="3527280" y="5435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6048360" y="971640"/>
            <a:ext cx="3529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 получаете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аллов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7" descr="c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91440" y="5388120"/>
            <a:ext cx="1282680" cy="555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5327640" y="2050920"/>
            <a:ext cx="12254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09:45:24Z</dcterms:created>
  <dc:creator>Ушакова Е.В.</dc:creator>
  <dc:description/>
  <dc:language>en-US</dc:language>
  <cp:lastModifiedBy>RAY4</cp:lastModifiedBy>
  <dcterms:modified xsi:type="dcterms:W3CDTF">2014-01-29T14:52:24Z</dcterms:modified>
  <cp:revision>6</cp:revision>
  <dc:subject>Непроизносимые согласные</dc:subject>
  <dc:title>Слайд 1</dc:title>
</cp:coreProperties>
</file>