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6593-C921-4FFC-A8C6-89732EE86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AC12-E1BD-41AE-9DFE-7AB3B2D70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8198-5D15-4149-9FBB-660985A4D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BF25-4DD5-4FAD-A190-E0E27421E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D8EAE-A791-484F-94E4-6B7563FF3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B615D-5210-428B-BEEA-3C6314D29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8B047-FC4C-4738-9DDE-7A5AE8B82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D93FC-8930-4C08-B2DA-15F527F05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69A1A-CD42-4BC5-8F79-9EB558407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F47C7-2AFF-448D-A719-0A237DCAC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F745A-F4A9-478D-A441-B5A79B96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75CF-2363-483E-B895-0EC855FD5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4BCA4-4BE6-41A9-8F63-B6199FA0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ACF30-D40F-4A1B-9D13-57CB82C4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55FA2-1ADC-4FB7-9AF3-490B67E9A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801B4-9D4E-47C6-9C5E-0C3D16FBE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B23D5-6897-4F9E-9EB2-D4CCE84DC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0104-507A-44EE-B557-CB3468690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140F-37AF-4857-B4A0-47D76FA4E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50AC-AA79-4731-AF31-0DBFF365E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F02C-5903-4D8C-9C41-058D9968F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8C0E-12C3-46B6-ADBB-E139A8FB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7206-3292-43F1-8A42-346CB515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3117-644D-407E-BC00-9829CADF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1223F-FBB8-47B0-99A7-8D1BF61BDAB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7EAE7-1188-4FDE-9C96-2D27F7DBE8E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Особенности общения детей дошкольного возраста с недоразвитием речи</a:t>
            </a:r>
            <a:br>
              <a:rPr sz="2400"/>
            </a:b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85800" y="475920"/>
            <a:ext cx="76960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 большинства детей с недоразвитием речи преобладает низкая техника рисования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процессе рисования отсутствует словесный комментарий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чти у всех детей в ходе деятельности наблюдается стойкое снижение интереса к созданию рисунка, что нередко свидетельствует о несформированности их изобразительных умений и навыков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следствие указанных причин выражение отношений между людьми с помощью рисунка крайне ограничено у подавляющего большинства дете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800" y="549360"/>
            <a:ext cx="769608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 ходе свободного общения дети с недоразвитием речи объединяются в устойчивые группы, но из-за двигательной расторможенности (или заторможенности), повышенной возбудимости, когнитивных трудностей и других причин их игровые объединения нестабильны и непродолжительны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роцесс общения детей с речевой патологией со взрослыми существенно отличается от нормы как по уровню развития, так и по основным качественным показателям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685800" y="549360"/>
            <a:ext cx="769608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 дошкольников с общим недоразвитием речи наряду с лексико-грамматическими и фонетико-фонематическими нарушениями имеются нарушения общения, проявляющиеся прежде всего в незрелости его мотивационно-потребностной сферы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меющиеся у  детей трудности в осуществлении речевого общения со взрослыми и сверстниками связаны с комплексом речевых и когнитивных нарушений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еобладающей формой общения со взрослыми у детей 4 — 5 лет с недоразвитием речи является ситуативно-деловая, что не соответствует возрастной норме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85800" y="620640"/>
            <a:ext cx="769608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и этом затрудняется процесс межличностного вза        имодействия детей и создаются серьезные проблемы на пути их развития и обучения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лученные данные убеждают нас в необходимости планомерного обучения, направленного на развитие коммуникативных умений и навыков детей дошкольного возраста с недоразвитием реч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ажно разработать соответствующие уровню их речевого и когнитивного развития методики коррекционно-педагогического воздействия, определить реальные возможности оптимизации игровой и учебной деятельности посредством усиления коммуникативной направленности каждой из них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(Ребенок: Раннее выявление отклонений в развитии речи и их преодоление / Под ред. Ю.Ф. Гаркуши — М; Воронеж, 2001. — С. 95 —99.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85800" y="764640"/>
            <a:ext cx="769608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редпочитаемым видом коммуникации для большинства общение со взрослым на фоне игровой деятельности, которая у детей данного возраста отличается не только содержательной бедностью, но и недостаточной структурированностью используемой в ней речевой продукции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5800" y="620640"/>
            <a:ext cx="769608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У небольшой части детей с речевой патологией явно преобладает внеситуативно - познавательная форма общения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ни с интересом откликаются на предложение педагога, взрослого почитать книги, достаточно внимательно слушают несложные занимательные тексты, но по окончании чтения книги организовать с ними беседу достаточно трудно: как правило, дети почти не задают вопросов по содержанию прочитанного, не могут сами пересказать услышанное в силу несформированности репродуцирующей фазы монологической реч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аже при наличии интереса к общению со взрослым ребенок в процессе беседы часто перескакивает с одной темы на другую, познавательный интерес у него кратковременен, и беседа не может длиться более 5 — 7 мин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55640" y="1196640"/>
            <a:ext cx="7696080" cy="43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ля детей-дошкольников, страдающих различными речевыми расстройствами, игровая деятельность сохраняет свое значение и роль как необходимое условие всестороннего развития их личности и интеллект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днако недостатки звукопроизношения, ограниченность словарного запаса, нарушения грамматического строя речи, а также изменения темпа речи, ее плавности — все это влияет на игровую деятельность детей, порождает определенные особенности поведения в игре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Так, например, дети со сложными формами функциональных дислалий, ринолалиями и дизартриями нередко теряют возможность совместной деятельности со сверстниками в игре из-за неправильного звукопроизношения, неумения выразить свою мысль, боязни показаться смешным, хотя правила и содержание игры им доступны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1476360" y="404640"/>
            <a:ext cx="584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Игровая 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685800" y="764640"/>
            <a:ext cx="769608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слабленность условно-рефлекторной деятельности, медленное образование дифференцировок, нестойкость памяти затрудняют включение этих детей в коллективные игры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рушение общей и речевой моторики, особенно у дизартриков, вызывает быстрое утомление ребенка в игре. У детей с речевыми нарушениями нередко возникают трудности при необходимости быстрой переделки динамического стереотипа, поэтому в играх они не могут сразу переключаться с одного вида деятельности на другой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755640" y="404640"/>
            <a:ext cx="74152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636480"/>
            <a:ext cx="457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Таким образом, комплекс нарушений речевого и когнитивного развития у детей с тяжелой речевой патологией препятствует становлению у них полноценных коммуникативных связей с окружающими, затрудняет контакты со взрослыми и может приводить к изоляции этих детей в коллективе сверст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В связи с этим требуется специальная работа по коррекции и развитию всех компонентов речевой, познавательной и коммуникативной деятельности в целях оптимальной и эффективной адаптации детей с выраженными нарушениями речи к условиям и требованиям социума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826560" y="333360"/>
            <a:ext cx="7696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/>
          <p:nvPr/>
        </p:nvSpPr>
        <p:spPr>
          <a:xfrm>
            <a:off x="3196080" y="3246480"/>
            <a:ext cx="27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Спасибо за внимание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Речь и общени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920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заимообусловленность речевых и коммуникативных умений у данной категории детей приводит к тому, что такие особенности речевого развития как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бедность и недифференцированность словарного запаса, явная недостаточность глагольного словаря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воеобразие связного высказывания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епятствуют осуществлению полноценного общения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Следствием этих трудностей являются снижение потребности в общении, несформированность форм коммуникации (диалогическая и монологическая речь), особенности поведения: незаинтересованность в контакте, неумение ориентироваться в ситуации общения, негативизм (Л.Г.Соловьева)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85800" y="475920"/>
            <a:ext cx="769608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 результате исследования О. С. Павловой (1997) речевой коммуникации старших дошкольников с общим недоразвитием речи были выявлены следующие особенности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 структуре групп данной категории детей действуют те же закономерности, что и в коллективе нормально говорящих дете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уровень благоприятности взаимоотношений является достаточно высоким, число «предпочитаемых» и «принятых» детей значительно превышает число «непринятых» и «изолированных»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Между тем дети, как правило, затрудняются дать ответ о мотивах своего выбора товарища («Не знаю», «Он хорошо себя ведет», «Я с ним дружу, играю», «Его хвалит воспитатель» и т. п.), т. е. достаточно часто они ориентируются не на собственное личностное отношение к партнеру по игре, а на выбор и оценку его педагогом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5800" y="620640"/>
            <a:ext cx="769608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реди «непринятых» и «изолированных» чаше всего оказываются дети, которые плохо владеют коммуникативными средствами, находятся в состоянии неуспеха во всех видах детской деятельности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х игровые умения, как правило, развиты слабо, игра носит манипулятивный характер; попытки общения этих детей со сверстниками не приводят к успеху и нередко заканчиваются вспышками агрессивности со стороны «непринятых»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84360" y="620640"/>
            <a:ext cx="769608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 целом коммуникативные возможности детей с выраженной речевой патологией отличаются заметной ограниченностью и по всем параметрам значительно ниже норм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Обращает на себя внимание невысокий уровень развития игровой деятельности дошкольников с общим недоразвитием речи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бедность сюжета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оцессуальный характер игры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изкая речевая активность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Для большинства таких детей характерна крайняя возбудимость, которая связана с различной неврологической симптоматикой, в связи с чем игры, не контролируемые воспитателем, обретают порой весьма неорганизованные формы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6584760" cy="24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Особенности общения детей дошкольного возраста с недоразвитием реч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7696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 дошкольников 4—5 лет с недоразвитием речи процесс общения со взрослыми отличается от нормы по всем основным параметрам, что вызывает значительную задержку становления соответствующих их возрасту форм общения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неситуативно-познавательной и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неситуативно-личностной.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6560" y="549360"/>
            <a:ext cx="6729480" cy="12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ыделяют детей в три основные группы (В.К.Котырло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группа — эмоционально восприимчивые дети Этих детей характеризует ярко выраженная (положительная направленность на взрослого, уверенность в любви родителей, воспитателей. Они адекватно оценивают отношение к себе взрослых, но очень чувствительны к изменениям в поведении взрослого, что; порой приводит к эмоциональным переживаниям.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85800" y="691920"/>
            <a:ext cx="769608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I группа — эмоционально невосприимчивые дети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ля этих детей характерна отрицательная установка на воздействие взрослого, в частности на педагогическое воздействие. Эти дошкольники часто нарушают порядок, дисциплину, не соблюдают установленные нормы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85800" y="549360"/>
            <a:ext cx="769608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/>
          <p:nvPr/>
        </p:nvSpPr>
        <p:spPr>
          <a:xfrm>
            <a:off x="684360" y="394920"/>
            <a:ext cx="770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II группа — дети с нейтральным отношением ко взрослым и их требованиям  Эти дети практически не проявляют активности и инициативы в общении со взрослыми, играют пассивную роль в жизни группы детского са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нешне они почти не выражают личных переживаний, что свидетельствует об отсутствии у них опыта внешнего выражения эмоций.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9T07:33:03Z</dcterms:created>
  <dc:creator>USER</dc:creator>
  <dc:description/>
  <dc:language>en-US</dc:language>
  <cp:lastModifiedBy>USER</cp:lastModifiedBy>
  <dcterms:modified xsi:type="dcterms:W3CDTF">2013-01-17T13:02:02Z</dcterms:modified>
  <cp:revision>3</cp:revision>
  <dc:subject/>
  <dc:title>Общая характеристика и особенности общения детей с речевыми нарушениями</dc:title>
</cp:coreProperties>
</file>