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B54-6602-4F9E-BCCA-A4710073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0D5-A28D-4D3B-9722-382B9056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BABE-6AE3-4A5A-8E0D-9349D1A7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538-A7FC-4890-9A02-18EEBD64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937B-E3B3-4845-A6E2-29499D53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12AB-85AA-4FEA-8D69-676DDAB5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AD9C-C424-4E8B-B46C-5414BE78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6A86-6F65-4482-AF60-FCEB4ADA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2AC0-6D94-4675-ACD7-35C1C41D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FE5E-B087-4D1A-98BC-23D02E50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294B-E6DF-46C5-9001-7FD49E56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5F7-3616-4757-A290-23143A19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8214-0CCD-48FA-898C-CF5503A9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8FB1-98E3-4DD6-B212-EAEEA0C3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9821-BC6E-4DC2-8C76-F11FDCB1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C180-5870-46F3-B0FC-3058E00A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46A5-7393-4E8C-8F85-DBC20B36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D0B-06C7-4503-97EE-8DE5422D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6EE-04C4-4049-AF70-1B72BD12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EE3-0FD5-4D25-9E37-7C4FCE61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A59-668B-4A9F-A247-EB487D21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6F7-9BCC-4972-A544-0A3F4F02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E4F-C6AA-4404-B55C-30373C0B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A60-1879-4C82-8447-B8A4A7CB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C323-CA70-4547-A001-CB30CD1827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908C-BFEF-4335-BA12-172BC18267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Особенности общения детей дошкольного возраста с недоразвитием речи</a:t>
            </a: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большинства детей с недоразвитием речи преобладает низкая техника рисования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процессе рисования отсутствует словесный комментарий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чти у всех детей в ходе деятельности наблюдается стойкое снижение интереса к созданию рисунка, что нередко свидетельствует о несформированности их изобразительных умений и навык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ледствие указанных причин выражение отношений между людьми с помощью рисунка крайне ограничено у подавляющего большинства де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ходе свободного общения дети с недоразвитием речи объединяются в устойчивые группы, но из-за двигательной расторможенности (или заторможенности), повышенной возбудимости, когнитивных трудностей и других причин их игровые объединения нестабильны и непродолжительны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цесс общения детей с речевой патологией со взрослыми существенно отличается от нормы как по уровню развития, так и по основным качественным показателя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дошкольников с общим недоразвитием речи наряду с лексико-грамматическими и фонетико-фонематическими нарушениями имеются нарушения общения, проявляющиеся прежде всего в незрелости его мотивационно-потребностной сфер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меющиеся у  детей трудности в осуществлении речевого общения со взрослыми и сверстниками связаны с комплексом речевых и когнитивных нарушен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обладающей формой общения со взрослыми у детей 4 — 5 лет с недоразвитием речи является ситуативно-деловая, что не соответствует возрастной норм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 этом затрудняется процесс межличностного вза        имодействия детей и создаются серьезные проблемы на пути их развития и обуч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ученные данные убеждают нас в необходимости планомерного обучения, направленного на развитие коммуникативных умений и навыков детей дошкольного возраста с недоразвитием реч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ажно разработать соответствующие уровню их речевого и когнитивного развития методики коррекционно-педагогического воздействия, определить реальные возможности оптимизации игровой и учебной деятельности посредством усиления коммуникативной направленности каждой из 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Ребенок: Раннее выявление отклонений в развитии речи и их преодоление / Под ред. Ю.Ф. Гаркуши — М; Воронеж, 2001. — С. 95 —99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дпочитаемым видом коммуникации для большинства общение со взрослым на фоне игровой деятельности, которая у детей данного возраста отличается не только содержательной бедностью, но и недостаточной структурированностью используемой в ней речевой продукции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небольшой части детей с речевой патологией явно преобладает внеситуативно - познавательная форма общ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ни с интересом откликаются на предложение педагога, взрослого почитать книги, достаточно внимательно слушают несложные занимательные тексты, но по окончании чтения книги организовать с ними беседу достаточно трудно: как правило, дети почти не задают вопросов по содержанию прочитанного, не могут сами пересказать услышанное в силу несформированности репродуцирующей фазы монологической реч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аже при наличии интереса к общению со взрослым ребенок в процессе беседы часто перескакивает с одной темы на другую, познавательный интерес у него кратковременен, и беседа не может длиться более 5 — 7 ми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196640"/>
            <a:ext cx="769608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детей-дошкольников, страдающих различными речевыми расстройствами, игровая деятельность сохраняет свое значение и роль как необходимое условие всестороннего развития их личности и интеллек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днако недостатки звукопроизношения, ограниченность словарного запаса, нарушения грамматического строя речи, а также изменения темпа речи, ее плавности — все это влияет на игровую деятельность детей, порождает определенные особенности поведения в игр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ак, например, дети со сложными формами функциональных дислалий, ринолалиями и дизартриями нередко теряют возможность совместной деятельности со сверстниками в игре из-за неправильного звукопроизношения, неумения выразить свою мысль, боязни показаться смешным, хотя правила и содержание игры им доступн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476360" y="404640"/>
            <a:ext cx="58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Игро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лабленность условно-рефлекторной деятельности, медленное образование дифференцировок, нестойкость памяти затрудняют включение этих детей в коллективные игр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ушение общей и речевой моторики, особенно у дизартриков, вызывает быстрое утомление ребенка в игре. У детей с речевыми нарушениями нередко возникают трудности при необходимости быстрой переделки динамического стереотипа, поэтому в играх они не могут сразу переключаться с одного вида деятельности на друг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55640" y="404640"/>
            <a:ext cx="7415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6364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аким образом, комплекс нарушений речевого и когнитивного развития у детей с тяжелой речевой патологией препятствует становлению у них полноценных коммуникативных связей с окружающими, затрудняет контакты со взрослыми и может приводить к изоляции этих детей в коллективе сверс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связи с этим требуется специальная работа по коррекции и развитию всех компонентов речевой, познавательной и коммуникативной деятельности в целях оптимальной и эффективной адаптации детей с выраженными нарушениями речи к условиям и требованиям социум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7696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3196080" y="324648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пасибо за внима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Речь и общ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920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аимообусловленность речевых и коммуникативных умений у данной категории детей приводит к тому, что такие особенности речевого развития как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едность и недифференцированность словарного запаса, явная недостаточность глагольного словар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оеобразие связного высказывани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пятствуют осуществлению полноценного общения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Следствием этих трудностей являются снижение потребности в общении, несформированность форм коммуникации (диалогическая и монологическая речь), особенности поведения: незаинтересованность в контакте, неумение ориентироваться в ситуации общения, негативизм (Л.Г.Соловьева)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езультате исследования О. С. Павловой (1997) речевой коммуникации старших дошкольников с общим недоразвитием речи были выявлены следующие особенност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структуре групп данной категории детей действуют те же закономерности, что и в коллективе нормально говорящих де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ровень благоприятности взаимоотношений является достаточно высоким, число «предпочитаемых» и «принятых» детей значительно превышает число «непринятых» и «изолированных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ежду тем дети, как правило, затрудняются дать ответ о мотивах своего выбора товарища («Не знаю», «Он хорошо себя ведет», «Я с ним дружу, играю», «Его хвалит воспитатель» и т. п.), т. е. достаточно часто они ориентируются не на собственное личностное отношение к партнеру по игре, а на выбор и оценку его педагогом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реди «непринятых» и «изолированных» чаше всего оказываются дети, которые плохо владеют коммуникативными средствами, находятся в состоянии неуспеха во всех видах детской деятельност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х игровые умения, как правило, развиты слабо, игра носит манипулятивный характер; попытки общения этих детей со сверстниками не приводят к успеху и нередко заканчиваются вспышками агрессивности со стороны «непринятых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целом коммуникативные возможности детей с выраженной речевой патологией отличаются заметной ограниченностью и по всем параметрам значительно ниже нор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ращает на себя внимание невысокий уровень развития игровой деятельности дошкольников с общим недоразвитием реч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едность сюжет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цессуальный характер иг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изкая речевая активность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ля большинства таких детей характерна крайняя возбудимость, которая связана с различной неврологической симптоматикой, в связи с чем игры, не контролируемые воспитателем, обретают порой весьма неорганизованные форм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58476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собенности общения детей дошкольного возраста с недоразвитием реч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96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дошкольников 4—5 лет с недоразвитием речи процесс общения со взрослыми отличается от нормы по всем основным параметрам, что вызывает значительную задержку становления соответствующих их возрасту форм общения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неситуативно-познавательной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неситуативно-личностной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672948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деляют детей в три основные группы (В.К.Котырл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группа — эмоционально восприимчивые дети Этих детей характеризует ярко выраженная (положительная направленность на взрослого, уверенность в любви родителей, воспитателей. Они адекватно оценивают отношение к себе взрослых, но очень чувствительны к изменениям в поведении взрослого, что; порой приводит к эмоциональным переживаниям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I группа — эмоционально невосприимчивые де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этих детей характерна отрицательная установка на воздействие взрослого, в частности на педагогическое воздействие. Эти дошкольники часто нарушают порядок, дисциплину, не соблюдают установленные норм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9492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 группа — дети с нейтральным отношением ко взрослым и их требованиям  Эти дети практически не проявляют активности и инициативы в общении со взрослыми, играют пассивную роль в жизни группы детского с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нешне они почти не выражают личных переживаний, что свидетельствует об отсутствии у них опыта внешнего выражения эмоций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07:33:03Z</dcterms:created>
  <dc:creator>USER</dc:creator>
  <dc:description/>
  <dc:language>en-US</dc:language>
  <cp:lastModifiedBy>USER</cp:lastModifiedBy>
  <dcterms:modified xsi:type="dcterms:W3CDTF">2013-01-17T13:02:02Z</dcterms:modified>
  <cp:revision>3</cp:revision>
  <dc:subject/>
  <dc:title>Общая характеристика и особенности общения детей с речевыми нарушениями</dc:title>
</cp:coreProperties>
</file>