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0E6-44FC-43E5-A357-D04FEC30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EF3-CD7D-466F-8F02-AD3C3C3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2F2-5DA0-4544-BA2D-305DFC50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4C0-642B-4183-9CEE-0CBD3932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FDB-A8CA-4778-8114-D086966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F43-3B51-4D4D-BA4B-F6E0DF95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5AF-6538-4599-9820-9B83BDBA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D9C-2320-49EF-B1FF-5952B1E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C73-7F66-4A73-9FDA-A541CB04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E92-B5D1-4797-A799-31D42F0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DCD-1BD0-4DA0-8645-8458A046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3DE-7804-4728-BD42-D0C70E1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F93-DE9F-4F37-9CEE-CBF34F2CF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0" y="0"/>
            <a:ext cx="4787640" cy="6857640"/>
            <a:chOff x="0" y="0"/>
            <a:chExt cx="4787640" cy="6857640"/>
          </a:xfrm>
        </p:grpSpPr>
        <p:pic>
          <p:nvPicPr>
            <p:cNvPr id="43" name="Picture 6" descr="Рисунок1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0" y="0"/>
              <a:ext cx="4787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7"/>
            <p:cNvSpPr/>
            <p:nvPr/>
          </p:nvSpPr>
          <p:spPr>
            <a:xfrm>
              <a:off x="40320" y="45360"/>
              <a:ext cx="4705200" cy="6760080"/>
            </a:xfrm>
            <a:prstGeom prst="rect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Рисунок1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вал 9" descr=""/>
          <p:cNvPicPr/>
          <p:nvPr/>
        </p:nvPicPr>
        <p:blipFill>
          <a:blip r:embed="rId1"/>
          <a:stretch/>
        </p:blipFill>
        <p:spPr>
          <a:xfrm>
            <a:off x="3554280" y="1481040"/>
            <a:ext cx="2395800" cy="2468520"/>
          </a:xfrm>
          <a:prstGeom prst="rect">
            <a:avLst/>
          </a:prstGeom>
          <a:ln w="0">
            <a:noFill/>
          </a:ln>
        </p:spPr>
      </p:pic>
      <p:sp>
        <p:nvSpPr>
          <p:cNvPr id="80" name="Овал 10"/>
          <p:cNvSpPr/>
          <p:nvPr/>
        </p:nvSpPr>
        <p:spPr>
          <a:xfrm>
            <a:off x="6786720" y="2143080"/>
            <a:ext cx="2143080" cy="107172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яще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2"/>
          <p:cNvSpPr/>
          <p:nvPr/>
        </p:nvSpPr>
        <p:spPr>
          <a:xfrm>
            <a:off x="6572160" y="4286160"/>
            <a:ext cx="2143080" cy="10717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3"/>
          <p:cNvSpPr/>
          <p:nvPr/>
        </p:nvSpPr>
        <p:spPr>
          <a:xfrm>
            <a:off x="3500280" y="4429080"/>
            <a:ext cx="264348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вал 14" descr=""/>
          <p:cNvPicPr/>
          <p:nvPr/>
        </p:nvPicPr>
        <p:blipFill>
          <a:blip r:embed="rId2"/>
          <a:stretch/>
        </p:blipFill>
        <p:spPr>
          <a:xfrm>
            <a:off x="695160" y="4127400"/>
            <a:ext cx="2395800" cy="1176480"/>
          </a:xfrm>
          <a:prstGeom prst="rect">
            <a:avLst/>
          </a:prstGeom>
          <a:ln w="0">
            <a:noFill/>
          </a:ln>
        </p:spPr>
      </p:pic>
      <p:pic>
        <p:nvPicPr>
          <p:cNvPr id="84" name="Овал 15" descr=""/>
          <p:cNvPicPr/>
          <p:nvPr/>
        </p:nvPicPr>
        <p:blipFill>
          <a:blip r:embed="rId3"/>
          <a:stretch/>
        </p:blipFill>
        <p:spPr>
          <a:xfrm>
            <a:off x="695160" y="2054160"/>
            <a:ext cx="2322720" cy="110988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бедренный треугольник 16"/>
          <p:cNvSpPr/>
          <p:nvPr/>
        </p:nvSpPr>
        <p:spPr>
          <a:xfrm rot="20919000">
            <a:off x="4286160" y="9997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17"/>
          <p:cNvSpPr/>
          <p:nvPr/>
        </p:nvSpPr>
        <p:spPr>
          <a:xfrm rot="1220400">
            <a:off x="5000760" y="10717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авнобедренный треугольник 18"/>
          <p:cNvSpPr/>
          <p:nvPr/>
        </p:nvSpPr>
        <p:spPr>
          <a:xfrm rot="4513800">
            <a:off x="5913000" y="212724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авнобедренный треугольник 19"/>
          <p:cNvSpPr/>
          <p:nvPr/>
        </p:nvSpPr>
        <p:spPr>
          <a:xfrm rot="7415400">
            <a:off x="5674680" y="32461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20"/>
          <p:cNvSpPr/>
          <p:nvPr/>
        </p:nvSpPr>
        <p:spPr>
          <a:xfrm rot="8919600">
            <a:off x="5227200" y="37270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21"/>
          <p:cNvSpPr/>
          <p:nvPr/>
        </p:nvSpPr>
        <p:spPr>
          <a:xfrm rot="19275600">
            <a:off x="3601800" y="131580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22"/>
          <p:cNvSpPr/>
          <p:nvPr/>
        </p:nvSpPr>
        <p:spPr>
          <a:xfrm rot="3406800">
            <a:off x="5596920" y="15253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23"/>
          <p:cNvSpPr/>
          <p:nvPr/>
        </p:nvSpPr>
        <p:spPr>
          <a:xfrm rot="6513000">
            <a:off x="5924160" y="270936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внобедренный треугольник 24"/>
          <p:cNvSpPr/>
          <p:nvPr/>
        </p:nvSpPr>
        <p:spPr>
          <a:xfrm rot="10519200">
            <a:off x="4661640" y="38761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25"/>
          <p:cNvSpPr/>
          <p:nvPr/>
        </p:nvSpPr>
        <p:spPr>
          <a:xfrm rot="11827200">
            <a:off x="4062240" y="3847680"/>
            <a:ext cx="50040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26"/>
          <p:cNvSpPr/>
          <p:nvPr/>
        </p:nvSpPr>
        <p:spPr>
          <a:xfrm rot="13233600">
            <a:off x="3596760" y="359676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27"/>
          <p:cNvSpPr/>
          <p:nvPr/>
        </p:nvSpPr>
        <p:spPr>
          <a:xfrm rot="14821200">
            <a:off x="3220560" y="3078000"/>
            <a:ext cx="50040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28"/>
          <p:cNvSpPr/>
          <p:nvPr/>
        </p:nvSpPr>
        <p:spPr>
          <a:xfrm rot="16035600">
            <a:off x="3083040" y="251064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29"/>
          <p:cNvSpPr/>
          <p:nvPr/>
        </p:nvSpPr>
        <p:spPr>
          <a:xfrm rot="17986800">
            <a:off x="3233880" y="18046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66ff"/>
                </a:solidFill>
                <a:latin typeface="Arial"/>
              </a:rPr>
              <a:t>«Древняя Индия и Древний Кита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равнение местоположения Древнего Китая и Древней И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Занятия 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Достижения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4787640" cy="6857640"/>
            <a:chOff x="0" y="0"/>
            <a:chExt cx="4787640" cy="6857640"/>
          </a:xfrm>
        </p:grpSpPr>
        <p:pic>
          <p:nvPicPr>
            <p:cNvPr id="50" name="Picture 5" descr="Рисунок1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0" y="0"/>
              <a:ext cx="4787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40320" y="45360"/>
              <a:ext cx="4705200" cy="6760080"/>
            </a:xfrm>
            <a:prstGeom prst="rect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7" descr="Рисунок1"/>
          <p:cNvPicPr/>
          <p:nvPr/>
        </p:nvPicPr>
        <p:blipFill>
          <a:blip r:embed="rId2"/>
          <a:stretch/>
        </p:blipFill>
        <p:spPr>
          <a:xfrm>
            <a:off x="4778280" y="0"/>
            <a:ext cx="4365720" cy="6858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стьянская работа делилась на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ужску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жен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86200" y="1916280"/>
            <a:ext cx="5257800" cy="180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ужчины обрабатывали по-ля, собирали урожай, зани-мались охотой и рыбной ловле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Рисунок3"/>
          <p:cNvPicPr/>
          <p:nvPr/>
        </p:nvPicPr>
        <p:blipFill>
          <a:blip r:embed="rId1"/>
          <a:stretch/>
        </p:blipFill>
        <p:spPr>
          <a:xfrm>
            <a:off x="3851280" y="3789360"/>
            <a:ext cx="5329080" cy="31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Рисунок2"/>
          <p:cNvPicPr/>
          <p:nvPr/>
        </p:nvPicPr>
        <p:blipFill>
          <a:blip r:embed="rId2"/>
          <a:stretch/>
        </p:blipFill>
        <p:spPr>
          <a:xfrm>
            <a:off x="0" y="2590920"/>
            <a:ext cx="38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6858000" cy="1108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щины разводили шелковичного червя ткали, изготавливали спирт из зерн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4"/>
          <p:cNvPicPr/>
          <p:nvPr/>
        </p:nvPicPr>
        <p:blipFill>
          <a:blip r:embed="rId1"/>
          <a:stretch/>
        </p:blipFill>
        <p:spPr>
          <a:xfrm>
            <a:off x="684360" y="2492280"/>
            <a:ext cx="782640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110120" cy="4786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карт.jpeg"/>
          <p:cNvPicPr/>
          <p:nvPr/>
        </p:nvPicPr>
        <p:blipFill>
          <a:blip r:embed="rId2"/>
          <a:stretch/>
        </p:blipFill>
        <p:spPr>
          <a:xfrm>
            <a:off x="4929120" y="1998720"/>
            <a:ext cx="4214880" cy="4859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589320" y="542916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Даты появления религ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 до н.э. – будд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 до н.э. – конфуци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фуций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д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лишай жизни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износи лжи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ери того, что тебе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потребляй бра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го себе не пожелаешь, того не делай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та ошибка, что не испра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удь легок на слова, не говори недозвол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слова без ответа, нет добра без благод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fefd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57280" y="907920"/>
            <a:ext cx="6694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IV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. Достижения и открытия китай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878200" y="1413000"/>
            <a:ext cx="54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Древние китайцы были очень талантл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Рисунок6"/>
          <p:cNvPicPr/>
          <p:nvPr/>
        </p:nvPicPr>
        <p:blipFill>
          <a:blip r:embed="rId1"/>
          <a:stretch/>
        </p:blipFill>
        <p:spPr>
          <a:xfrm>
            <a:off x="71280" y="770040"/>
            <a:ext cx="230040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74960" y="185904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Целый ряд изобретений и открытий они сдел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00 ле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ньш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чем в Евр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084720" y="2647800"/>
            <a:ext cx="223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90920" y="2647800"/>
            <a:ext cx="223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обр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603520" y="3127320"/>
            <a:ext cx="3306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е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ум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нигопеча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арф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ро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гнестрельное оруж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н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лобус небесных светил и звез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ибор, измеряющий колеб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емли и предсказыв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емлетря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6278-24"/>
          <p:cNvPicPr/>
          <p:nvPr/>
        </p:nvPicPr>
        <p:blipFill>
          <a:blip r:embed="rId2"/>
          <a:stretch/>
        </p:blipFill>
        <p:spPr>
          <a:xfrm>
            <a:off x="93600" y="3357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6083280" y="3213000"/>
            <a:ext cx="276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медицине (лекар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архитектуре (Вели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итайская ст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боевых искусств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2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4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9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0:57:51Z</dcterms:created>
  <dc:creator>Алик</dc:creator>
  <dc:description/>
  <dc:language>en-US</dc:language>
  <cp:lastModifiedBy>Win</cp:lastModifiedBy>
  <dcterms:modified xsi:type="dcterms:W3CDTF">2011-02-02T12:08:28Z</dcterms:modified>
  <cp:revision>7</cp:revision>
  <dc:subject/>
  <dc:title>Слайд 1</dc:title>
</cp:coreProperties>
</file>