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FAC-4E3B-47F5-979B-817AB467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32A-37FA-4D80-BA7B-821B3ED8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070-D907-47F5-B261-76F4D5BF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C90-5C81-402F-8704-F3D4AC23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DFD2-DD97-4D78-B177-BE393375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F55B-F080-4CAB-A219-1BDA07AA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E65E-94AD-4FAF-93E9-2A90BAEF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CDED-9CFB-4C51-882C-150DEE01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F274-4934-4188-8DE8-88D0F5BD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86AD-DD06-4ED0-8DB6-98CFCF4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EA9D-A6B0-4A91-9AE7-51095E0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88A-6B9C-4DE6-B9A3-A8B71FE5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BC53-A37E-49B0-AEF1-B775488F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65E4-BE47-4ABD-91D0-2C36FC1E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921F-8CBA-4AC0-982C-93616334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E09E-30AF-4B31-B40C-72DF9B0B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BE9E-E734-464D-A5C1-43FB71FE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EFA-AAA1-432C-9C7C-EEE93BFB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422-97AC-486F-944A-71B687F5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3D0-534C-4AEE-9E41-DB57C4C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82B-C1BD-4011-B3BA-DF6BBE28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E2A-4CC7-4ACE-97A0-0D2CBD76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A7C-F21E-4565-BDD2-CAE2AD7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FDC-4EF6-414D-ACC4-D49AA45E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1E94-4F4C-43F0-826D-4DDDB6F8DEB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F4E2-D585-4A57-9338-E2B4E05468B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Лат-лат-лат</a:t>
            </a:r>
            <a:r>
              <a:rPr b="0" lang="be-BY" sz="4800" spc="-1" strike="noStrike">
                <a:solidFill>
                  <a:srgbClr val="ffffcc"/>
                </a:solidFill>
                <a:latin typeface="Arial"/>
              </a:rPr>
              <a:t>  </a:t>
            </a:r>
            <a:br>
              <a:rPr sz="4800"/>
            </a:br>
            <a:r>
              <a:rPr b="0" lang="be-BY" sz="5400" spc="-1" strike="noStrike">
                <a:solidFill>
                  <a:srgbClr val="c6c937"/>
                </a:solidFill>
                <a:latin typeface="Arial"/>
              </a:rPr>
              <a:t>Өҫтәл артында Айбулат</a:t>
            </a: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400"/>
            </a:b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Ҡа- ҡа-ҡа</a:t>
            </a:r>
            <a:br>
              <a:rPr sz="4400"/>
            </a:br>
            <a:r>
              <a:rPr b="0" lang="be-BY" sz="5400" spc="-1" strike="noStrike">
                <a:solidFill>
                  <a:srgbClr val="c6c937"/>
                </a:solidFill>
                <a:latin typeface="Arial"/>
              </a:rPr>
              <a:t>Ашап ултыра бутҡа.</a:t>
            </a:r>
            <a:br>
              <a:rPr sz="5400"/>
            </a:b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Ты-ты-ты</a:t>
            </a:r>
            <a:br>
              <a:rPr sz="4800"/>
            </a:br>
            <a:r>
              <a:rPr b="0" lang="be-BY" sz="5400" spc="-1" strike="noStrike">
                <a:solidFill>
                  <a:srgbClr val="c6c937"/>
                </a:solidFill>
                <a:latin typeface="Arial"/>
              </a:rPr>
              <a:t>Сынаяҡты йә ҡалаҡты</a:t>
            </a:r>
            <a:br>
              <a:rPr sz="4800"/>
            </a:b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Та-та-та</a:t>
            </a:r>
            <a:br>
              <a:rPr sz="4400"/>
            </a:br>
            <a:r>
              <a:rPr b="0" lang="be-BY" sz="5400" spc="-1" strike="noStrike">
                <a:solidFill>
                  <a:srgbClr val="c6c937"/>
                </a:solidFill>
                <a:latin typeface="Arial"/>
              </a:rPr>
              <a:t>Һәр саҡ яңылыш тота.</a:t>
            </a: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458100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_Helver Bashkir"/>
              </a:rPr>
              <a:t>Айрат ҡоймаҡ</a:t>
            </a: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 яратмай. Айрат ҡоймаҡ ашамай.</a:t>
            </a:r>
            <a:br>
              <a:rPr sz="3600"/>
            </a:b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Айгөл ҡоймаҡ ярата. Айгөл ҡоймаҡ ашай</a:t>
            </a:r>
            <a:r>
              <a:rPr b="0" lang="be-BY" sz="3200" spc="-1" strike="noStrike">
                <a:solidFill>
                  <a:srgbClr val="ffffcc"/>
                </a:solidFill>
                <a:latin typeface="a_Helver Bashkir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200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4581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_Helver Bashkir"/>
              </a:rPr>
              <a:t>Айрат бутҡа </a:t>
            </a: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ярата. Айрат бутҡа ашай.</a:t>
            </a:r>
            <a:br>
              <a:rPr sz="3600"/>
            </a:b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Айгөл </a:t>
            </a:r>
            <a:r>
              <a:rPr b="0" lang="ru-RU" sz="3600" spc="-1" strike="noStrike">
                <a:solidFill>
                  <a:srgbClr val="ffffcc"/>
                </a:solidFill>
                <a:latin typeface="a_Helver Bashkir"/>
              </a:rPr>
              <a:t>бутҡа</a:t>
            </a: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 яратмай. Айгөл </a:t>
            </a:r>
            <a:r>
              <a:rPr b="0" lang="ru-RU" sz="3600" spc="-1" strike="noStrike">
                <a:solidFill>
                  <a:srgbClr val="ffffcc"/>
                </a:solidFill>
                <a:latin typeface="a_Helver Bashkir"/>
              </a:rPr>
              <a:t>бутҡа</a:t>
            </a: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 ашамай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Һүҙбәйләнештәр төҙ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600" cy="457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өтлө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алҡын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ҡайнар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тоҙло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тәмле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майлы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й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өт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ш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сәй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ҡыяр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бутҡа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100" spc="-1" strike="noStrike">
                <a:solidFill>
                  <a:srgbClr val="ffffcc"/>
                </a:solidFill>
                <a:latin typeface="Arial"/>
              </a:rPr>
              <a:t>Составьте предложения</a:t>
            </a:r>
            <a:br>
              <a:rPr sz="40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397160"/>
          <a:ext cx="9144000" cy="2887560"/>
        </p:xfrm>
        <a:graphic>
          <a:graphicData uri="http://schemas.openxmlformats.org/drawingml/2006/table">
            <a:tbl>
              <a:tblPr/>
              <a:tblGrid>
                <a:gridCol w="1692360"/>
                <a:gridCol w="2879640"/>
                <a:gridCol w="1655640"/>
                <a:gridCol w="2916360"/>
              </a:tblGrid>
              <a:tr h="29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ин 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өтлө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алҡын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ҡайнар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й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өт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ш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43200" indent="-1843200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1843200" indent="-1843200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яратам.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100" spc="-1" strike="noStrike">
                <a:solidFill>
                  <a:srgbClr val="ffffcc"/>
                </a:solidFill>
                <a:latin typeface="Arial"/>
              </a:rPr>
              <a:t>Составьте предложения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916280"/>
          <a:ext cx="9144000" cy="2592360"/>
        </p:xfrm>
        <a:graphic>
          <a:graphicData uri="http://schemas.openxmlformats.org/drawingml/2006/table">
            <a:tbl>
              <a:tblPr/>
              <a:tblGrid>
                <a:gridCol w="1332000"/>
                <a:gridCol w="1944720"/>
                <a:gridCol w="1655640"/>
                <a:gridCol w="2087640"/>
                <a:gridCol w="2124000"/>
              </a:tblGrid>
              <a:tr h="30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Мин 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тоҙло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тәмле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майлы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сәй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ҡыяр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бутҡа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ашарға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эсергә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яратам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км</a:t>
            </a: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ә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км</a:t>
            </a:r>
            <a:r>
              <a:rPr b="0" lang="be-BY" sz="3600" spc="-1" strike="noStrike">
                <a:solidFill>
                  <a:srgbClr val="eaeaea"/>
                </a:solidFill>
                <a:latin typeface="Verdana"/>
              </a:rPr>
              <a:t>әкте кем дә ярата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eaeaea"/>
                </a:solidFill>
                <a:latin typeface="Verdana"/>
              </a:rPr>
              <a:t>Минең әсәй, атай ҙа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eaeaea"/>
                </a:solidFill>
                <a:latin typeface="Verdana"/>
              </a:rPr>
              <a:t>Ағайым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а, апайым да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Өләсәй, олатай ҙ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әмләп-тәмләп ашай ун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Һеңлем дә, энекәш тә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уҫтарым да, әле миңә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аныш түгел иптәш тә.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eaeaea"/>
                </a:solidFill>
                <a:latin typeface="Verdana"/>
              </a:rPr>
              <a:t>Икмәк ил байлығы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eaeaea"/>
                </a:solidFill>
                <a:latin typeface="Verdana"/>
              </a:rPr>
              <a:t>Икмәктән оло булма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eaeaea"/>
                </a:solidFill>
                <a:latin typeface="Verdana"/>
              </a:rPr>
              <a:t>Икмәк аша атлама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eaeaea"/>
                </a:solidFill>
                <a:latin typeface="Verdana"/>
              </a:rPr>
              <a:t>Икмәктең валсығын да ергә ҡойма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Һүҙлек эш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Ярата – люби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Ашай – кушает, ес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Эсә - пь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Яратмай – не люби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Ашамай – не кушает, не ес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Эсмәй – не пь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941360"/>
            <a:ext cx="83516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йрат </a:t>
            </a:r>
            <a:r>
              <a:rPr b="0" lang="be-BY" sz="4000" spc="-1" strike="noStrike">
                <a:solidFill>
                  <a:srgbClr val="ffffcc"/>
                </a:solidFill>
                <a:latin typeface="Arial"/>
              </a:rPr>
              <a:t>һөт ярата. Айрат һөт эсә.</a:t>
            </a:r>
            <a:br>
              <a:rPr sz="4000"/>
            </a:br>
            <a:r>
              <a:rPr b="0" lang="be-BY" sz="4000" spc="-1" strike="noStrike">
                <a:solidFill>
                  <a:srgbClr val="ffffcc"/>
                </a:solidFill>
                <a:latin typeface="Arial"/>
              </a:rPr>
              <a:t>Айгөл һөт яратмай. Айгөл һөт эсмә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cc"/>
                </a:solidFill>
                <a:latin typeface="Arial"/>
              </a:rPr>
              <a:t>Айгөл аш ярата. Айгөл аш ашай. Айрат аш яратмай. Айрат аш ашамай</a:t>
            </a:r>
            <a:r>
              <a:rPr b="0" lang="be-BY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2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7:49:36Z</dcterms:created>
  <dc:creator>XTreme</dc:creator>
  <dc:description/>
  <dc:language>en-US</dc:language>
  <cp:lastModifiedBy>XTreme</cp:lastModifiedBy>
  <dcterms:modified xsi:type="dcterms:W3CDTF">2009-01-14T05:45:51Z</dcterms:modified>
  <cp:revision>9</cp:revision>
  <dc:subject/>
  <dc:title>Слайд 1</dc:title>
</cp:coreProperties>
</file>