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069-C25F-4912-AFEC-BC531237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E1B-046E-4786-9680-FD5DC6A9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2FE-FB4B-453B-8215-07F64802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789-C191-4B91-9D4D-8DE08194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D477-DFB1-46D8-A950-980006C1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476-4C0E-4013-A32D-FE42D2D4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9ECE-FD95-4668-BB3C-963BEB0A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B978-AA27-4BF9-B70B-C5BD5DC1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2F38-E6C0-41EC-A0BF-A9AD6105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090E-452E-466F-B3E3-6F9A0FF3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549D-AA43-489A-9E16-2182FE5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05E-EF12-49D4-900F-D3A9EA0A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F21C-CA5E-4EF1-B387-DABF3C37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D54A-EB0F-4EA5-86E6-D7601AA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42DE-AD78-4584-BD4B-508B4F5B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EB6E-B7C7-4CBB-B76F-1F76FA75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C628-441A-436D-BC0F-1148E08B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1AC-BB05-47D2-A65B-C6768316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AD3-AE0D-4E75-8A9C-27C78CFD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CCB-D844-4B85-8723-CC5BFB0C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330-45FD-447B-BF32-2112D8A5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1A6-63C9-4A0D-BA48-D0B08706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D7B-F5F2-4AAD-8495-892104B7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2DC-57C0-41C5-AA90-8BA77DC7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72FD-59C0-473F-9B8C-796AC0EF7E7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5A3-529E-48AE-980F-380210848AB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Лат-лат-лат</a:t>
            </a:r>
            <a:r>
              <a:rPr b="0" lang="be-BY" sz="4800" spc="-1" strike="noStrike">
                <a:solidFill>
                  <a:srgbClr val="ffffcc"/>
                </a:solidFill>
                <a:latin typeface="Arial"/>
              </a:rPr>
              <a:t>  </a:t>
            </a:r>
            <a:br>
              <a:rPr sz="4800"/>
            </a:br>
            <a:r>
              <a:rPr b="0" lang="be-BY" sz="5400" spc="-1" strike="noStrike">
                <a:solidFill>
                  <a:srgbClr val="c6c937"/>
                </a:solidFill>
                <a:latin typeface="Arial"/>
              </a:rPr>
              <a:t>Өҫтәл артында Айбулат</a:t>
            </a: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400"/>
            </a:b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Ҡа- ҡа-ҡа</a:t>
            </a:r>
            <a:br>
              <a:rPr sz="4400"/>
            </a:br>
            <a:r>
              <a:rPr b="0" lang="be-BY" sz="5400" spc="-1" strike="noStrike">
                <a:solidFill>
                  <a:srgbClr val="c6c937"/>
                </a:solidFill>
                <a:latin typeface="Arial"/>
              </a:rPr>
              <a:t>Ашап ултыра бутҡа.</a:t>
            </a:r>
            <a:br>
              <a:rPr sz="5400"/>
            </a:b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Ты-ты-ты</a:t>
            </a:r>
            <a:br>
              <a:rPr sz="4800"/>
            </a:br>
            <a:r>
              <a:rPr b="0" lang="be-BY" sz="5400" spc="-1" strike="noStrike">
                <a:solidFill>
                  <a:srgbClr val="c6c937"/>
                </a:solidFill>
                <a:latin typeface="Arial"/>
              </a:rPr>
              <a:t>Сынаяҡты йә ҡалаҡты</a:t>
            </a:r>
            <a:br>
              <a:rPr sz="4800"/>
            </a:b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Та-та-та</a:t>
            </a:r>
            <a:br>
              <a:rPr sz="4400"/>
            </a:br>
            <a:r>
              <a:rPr b="0" lang="be-BY" sz="5400" spc="-1" strike="noStrike">
                <a:solidFill>
                  <a:srgbClr val="c6c937"/>
                </a:solidFill>
                <a:latin typeface="Arial"/>
              </a:rPr>
              <a:t>Һәр саҡ яңылыш тота.</a:t>
            </a: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458100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_Helver Bashkir"/>
              </a:rPr>
              <a:t>Айрат ҡоймаҡ</a:t>
            </a: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 яратмай. Айрат ҡоймаҡ ашамай.</a:t>
            </a:r>
            <a:br>
              <a:rPr sz="3600"/>
            </a:b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Айгөл ҡоймаҡ ярата. Айгөл ҡоймаҡ ашай</a:t>
            </a:r>
            <a:r>
              <a:rPr b="0" lang="be-BY" sz="3200" spc="-1" strike="noStrike">
                <a:solidFill>
                  <a:srgbClr val="ffffcc"/>
                </a:solidFill>
                <a:latin typeface="a_Helver Bashkir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200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45810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_Helver Bashkir"/>
              </a:rPr>
              <a:t>Айрат бутҡа </a:t>
            </a: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ярата. Айрат бутҡа ашай.</a:t>
            </a:r>
            <a:br>
              <a:rPr sz="3600"/>
            </a:b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Айгөл </a:t>
            </a:r>
            <a:r>
              <a:rPr b="0" lang="ru-RU" sz="3600" spc="-1" strike="noStrike">
                <a:solidFill>
                  <a:srgbClr val="ffffcc"/>
                </a:solidFill>
                <a:latin typeface="a_Helver Bashkir"/>
              </a:rPr>
              <a:t>бутҡа</a:t>
            </a: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 яратмай. Айгөл </a:t>
            </a:r>
            <a:r>
              <a:rPr b="0" lang="ru-RU" sz="3600" spc="-1" strike="noStrike">
                <a:solidFill>
                  <a:srgbClr val="ffffcc"/>
                </a:solidFill>
                <a:latin typeface="a_Helver Bashkir"/>
              </a:rPr>
              <a:t>бутҡа</a:t>
            </a:r>
            <a:r>
              <a:rPr b="0" lang="be-BY" sz="3600" spc="-1" strike="noStrike">
                <a:solidFill>
                  <a:srgbClr val="ffffcc"/>
                </a:solidFill>
                <a:latin typeface="a_Helver Bashkir"/>
              </a:rPr>
              <a:t> ашамай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Һүҙбәйләнештәр төҙ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600" cy="457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өтлө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алҡын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ҡайнар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тоҙло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тәмле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майлы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й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өт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ш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сәй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ҡыяр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бутҡа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100" spc="-1" strike="noStrike">
                <a:solidFill>
                  <a:srgbClr val="ffffcc"/>
                </a:solidFill>
                <a:latin typeface="Arial"/>
              </a:rPr>
              <a:t>Составьте предложения</a:t>
            </a:r>
            <a:br>
              <a:rPr sz="40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397160"/>
          <a:ext cx="9144000" cy="2887560"/>
        </p:xfrm>
        <a:graphic>
          <a:graphicData uri="http://schemas.openxmlformats.org/drawingml/2006/table">
            <a:tbl>
              <a:tblPr/>
              <a:tblGrid>
                <a:gridCol w="1692360"/>
                <a:gridCol w="2879640"/>
                <a:gridCol w="1655640"/>
                <a:gridCol w="2916360"/>
              </a:tblGrid>
              <a:tr h="290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ин 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өтлө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алҡын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ҡайнар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әй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һөт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ш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43200" indent="-1843200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1843200" indent="-1843200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5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яратам.</a:t>
                      </a:r>
                      <a:endParaRPr b="0" lang="en-US" sz="5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100" spc="-1" strike="noStrike">
                <a:solidFill>
                  <a:srgbClr val="ffffcc"/>
                </a:solidFill>
                <a:latin typeface="Arial"/>
              </a:rPr>
              <a:t>Составьте предложения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916280"/>
          <a:ext cx="9144000" cy="2592360"/>
        </p:xfrm>
        <a:graphic>
          <a:graphicData uri="http://schemas.openxmlformats.org/drawingml/2006/table">
            <a:tbl>
              <a:tblPr/>
              <a:tblGrid>
                <a:gridCol w="1332000"/>
                <a:gridCol w="1944720"/>
                <a:gridCol w="1655640"/>
                <a:gridCol w="2087640"/>
                <a:gridCol w="2124000"/>
              </a:tblGrid>
              <a:tr h="30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Мин 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тоҙло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тәмле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майлы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сәй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ҡыяр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бутҡа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ашарға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эсергә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4400" spc="-1" strike="noStrike">
                          <a:solidFill>
                            <a:srgbClr val="eaeaea"/>
                          </a:solidFill>
                          <a:latin typeface="a_Helver Bashkir"/>
                        </a:rPr>
                        <a:t>яратам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км</a:t>
            </a: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ә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км</a:t>
            </a:r>
            <a:r>
              <a:rPr b="0" lang="be-BY" sz="3600" spc="-1" strike="noStrike">
                <a:solidFill>
                  <a:srgbClr val="eaeaea"/>
                </a:solidFill>
                <a:latin typeface="Verdana"/>
              </a:rPr>
              <a:t>әкте кем дә ярата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eaeaea"/>
                </a:solidFill>
                <a:latin typeface="Verdana"/>
              </a:rPr>
              <a:t>Минең әсәй, атай ҙа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eaeaea"/>
                </a:solidFill>
                <a:latin typeface="Verdana"/>
              </a:rPr>
              <a:t>Ағайым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а, апайым да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Өләсәй, олатай ҙ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әмләп-тәмләп ашай ун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Һеңлем дә, энекәш тә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уҫтарым да, әле миңә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аныш түгел иптәш тә.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eaeaea"/>
                </a:solidFill>
                <a:latin typeface="Verdana"/>
              </a:rPr>
              <a:t>Икмәк ил байлығы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eaeaea"/>
                </a:solidFill>
                <a:latin typeface="Verdana"/>
              </a:rPr>
              <a:t>Икмәктән оло булма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eaeaea"/>
                </a:solidFill>
                <a:latin typeface="Verdana"/>
              </a:rPr>
              <a:t>Икмәк аша атлама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eaeaea"/>
                </a:solidFill>
                <a:latin typeface="Verdana"/>
              </a:rPr>
              <a:t>Икмәктең валсығын да ергә ҡойма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cc"/>
                </a:solidFill>
                <a:latin typeface="Arial"/>
              </a:rPr>
              <a:t>Һүҙлек эш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Ярата – люби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Ашай – кушает, ес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Эсә - пь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Яратмай – не люби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Ашамай – не кушает, не ес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eaeaea"/>
                </a:solidFill>
                <a:latin typeface="Verdana"/>
              </a:rPr>
              <a:t>Эсмәй – не пь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941360"/>
            <a:ext cx="83516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йрат </a:t>
            </a:r>
            <a:r>
              <a:rPr b="0" lang="be-BY" sz="4000" spc="-1" strike="noStrike">
                <a:solidFill>
                  <a:srgbClr val="ffffcc"/>
                </a:solidFill>
                <a:latin typeface="Arial"/>
              </a:rPr>
              <a:t>һөт ярата. Айрат һөт эсә.</a:t>
            </a:r>
            <a:br>
              <a:rPr sz="4000"/>
            </a:br>
            <a:r>
              <a:rPr b="0" lang="be-BY" sz="4000" spc="-1" strike="noStrike">
                <a:solidFill>
                  <a:srgbClr val="ffffcc"/>
                </a:solidFill>
                <a:latin typeface="Arial"/>
              </a:rPr>
              <a:t>Айгөл һөт яратмай. Айгөл һөт эсмә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cc"/>
                </a:solidFill>
                <a:latin typeface="Arial"/>
              </a:rPr>
              <a:t>Айгөл аш ярата. Айгөл аш ашай. Айрат аш яратмай. Айрат аш ашамай</a:t>
            </a:r>
            <a:r>
              <a:rPr b="0" lang="be-BY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2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7:49:36Z</dcterms:created>
  <dc:creator>XTreme</dc:creator>
  <dc:description/>
  <dc:language>en-US</dc:language>
  <cp:lastModifiedBy>XTreme</cp:lastModifiedBy>
  <dcterms:modified xsi:type="dcterms:W3CDTF">2009-01-14T05:45:51Z</dcterms:modified>
  <cp:revision>9</cp:revision>
  <dc:subject/>
  <dc:title>Слайд 1</dc:title>
</cp:coreProperties>
</file>