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F70-A4B6-452A-B567-9C96B032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425-6453-40CE-95A7-F0A67BB4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00D-F781-4460-855D-ADD41C75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85E-C495-454E-8534-40E94BC9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281-5B25-42FD-BEAD-38BB8D58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D5A-61B5-4AFE-AA56-AD6665C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C2D-5A8C-4088-8E55-C77DFE1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18B-16EE-49AB-A736-0B16BABD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7EB-01BE-40CF-A875-34B22A91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43E-5B11-4A73-87CF-F756AE2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114-D6DE-49C5-8105-C6EE10E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5C3-1043-4B98-A5FE-24B8D40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D08D-A6A1-4353-B5BF-A3330D1E2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Monotype Corsiva"/>
              </a:rPr>
              <a:t>МУНИЦИПАЛЬНОЕ БЮДЖЕТНОЕ ОБЩЕОБРАЗОВАТЕЛЬНОЕ УЧРЕЖДЕНИЕ  </a:t>
            </a:r>
            <a:br>
              <a:rPr sz="1600"/>
            </a:br>
            <a:r>
              <a:rPr b="1" lang="ru-RU" sz="1600" spc="-1" strike="noStrike">
                <a:solidFill>
                  <a:srgbClr val="006699"/>
                </a:solidFill>
                <a:latin typeface="Monotype Corsiva"/>
              </a:rPr>
              <a:t>«СРЕДНЯЯ ОБЩЕОБРАЗОВАТЕЛЬНАЯ ШКОЛА  №6» </a:t>
            </a:r>
            <a:br>
              <a:rPr sz="1600"/>
            </a:br>
            <a:r>
              <a:rPr b="1" lang="ru-RU" sz="1600" spc="-1" strike="noStrike">
                <a:solidFill>
                  <a:srgbClr val="006699"/>
                </a:solidFill>
                <a:latin typeface="Monotype Corsiva"/>
              </a:rPr>
              <a:t>НИЖНЕКАМСКОГО МУНИЦИПАЛЬНОГО РАЙОНА РЕСПУБЛИКИ  ТАТАР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Monotype Corsiva"/>
              </a:rPr>
              <a:t>Педагогическая мастер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Monotype Corsiva"/>
              </a:rPr>
              <a:t>Анализ стихотворения Ф.И.Тютчева «Неохотно и несмело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Подготовила 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Сергеева Ирин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Monotype Corsiva"/>
              </a:rPr>
              <a:t>Нижнекамск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&amp;Zcy;&amp;vcy;&amp;ucy;&amp;kcy;&amp;icy; &amp;Gcy;&amp;rcy;&amp;ocy;&amp;zcy;&amp;ycy;, &amp;Gcy;&amp;rcy;&amp;ocy;&amp;mcy;"/>
          <p:cNvPicPr/>
          <p:nvPr/>
        </p:nvPicPr>
        <p:blipFill>
          <a:blip r:embed="rId2"/>
          <a:stretch/>
        </p:blipFill>
        <p:spPr>
          <a:xfrm>
            <a:off x="0" y="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ecocollaps.ru/wp-content/uploads/2011/07/lightning452.jpg"/>
          <p:cNvPicPr/>
          <p:nvPr/>
        </p:nvPicPr>
        <p:blipFill>
          <a:blip r:embed="rId3"/>
          <a:stretch/>
        </p:blipFill>
        <p:spPr>
          <a:xfrm>
            <a:off x="4248000" y="0"/>
            <a:ext cx="4896000" cy="378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www.allfons.ru/large/201212/18762.jpg"/>
          <p:cNvPicPr/>
          <p:nvPr/>
        </p:nvPicPr>
        <p:blipFill>
          <a:blip r:embed="rId4"/>
          <a:stretch/>
        </p:blipFill>
        <p:spPr>
          <a:xfrm>
            <a:off x="0" y="3618000"/>
            <a:ext cx="914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1.Картинная 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unity.stroyinf.ru/cgi-bin/unity/gallery.cgi?a=15\u0026i=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ArtNow.ru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artnow.ru/ru/gallery/3/4624/picture/0/74258.html?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artnow.ru/ru/gallery/3/24711/picture/0/58577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artnow.ru/ru/gallery/2/16474/picture/0/40159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олнии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go.mail.ru/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Эпиграф к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Monotype Corsiva"/>
              </a:rPr>
              <a:t>В ней есть душа, в ней есть свобода, </a:t>
            </a:r>
            <a:br>
              <a:rPr sz="4000"/>
            </a:br>
            <a:r>
              <a:rPr b="1" lang="ru-RU" sz="4000" spc="-1" strike="noStrike">
                <a:solidFill>
                  <a:srgbClr val="6b6bcf"/>
                </a:solidFill>
                <a:latin typeface="Monotype Corsiva"/>
              </a:rPr>
              <a:t>В ней есть любовь, в ней есть язык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Monotype Corsiva"/>
              </a:rPr>
              <a:t>Ф.И.Тют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://loveorigami.info/uploads/images/foto/russian/tyutchev.jpg"/>
          <p:cNvPicPr/>
          <p:nvPr/>
        </p:nvPicPr>
        <p:blipFill>
          <a:blip r:embed="rId2"/>
          <a:stretch/>
        </p:blipFill>
        <p:spPr>
          <a:xfrm>
            <a:off x="395280" y="0"/>
            <a:ext cx="24480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Гроза глазами русских художников</a:t>
            </a:r>
            <a:br>
              <a:rPr sz="4800"/>
            </a:b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. Яковлев «Перед гроз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466958"/>
          <p:cNvPicPr/>
          <p:nvPr/>
        </p:nvPicPr>
        <p:blipFill>
          <a:blip r:embed="rId2"/>
          <a:stretch/>
        </p:blipFill>
        <p:spPr>
          <a:xfrm>
            <a:off x="1332000" y="1773360"/>
            <a:ext cx="7561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.Васильев «Перед грозо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00063"/>
          <p:cNvPicPr/>
          <p:nvPr/>
        </p:nvPicPr>
        <p:blipFill>
          <a:blip r:embed="rId2"/>
          <a:stretch/>
        </p:blipFill>
        <p:spPr>
          <a:xfrm>
            <a:off x="324000" y="1628640"/>
            <a:ext cx="712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.Левитан «Бурный де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user\Desktop\img278.jpg"/>
          <p:cNvPicPr/>
          <p:nvPr/>
        </p:nvPicPr>
        <p:blipFill>
          <a:blip r:embed="rId2"/>
          <a:stretch/>
        </p:blipFill>
        <p:spPr>
          <a:xfrm>
            <a:off x="1116000" y="1484280"/>
            <a:ext cx="7805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.Немирович «День гро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artnow.ru/img/87000/87594.jpg"/>
          <p:cNvPicPr/>
          <p:nvPr/>
        </p:nvPicPr>
        <p:blipFill>
          <a:blip r:embed="rId2"/>
          <a:stretch/>
        </p:blipFill>
        <p:spPr>
          <a:xfrm>
            <a:off x="250920" y="1484280"/>
            <a:ext cx="7993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.Исаев «После гро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695142"/>
          <p:cNvPicPr/>
          <p:nvPr/>
        </p:nvPicPr>
        <p:blipFill>
          <a:blip r:embed="rId2"/>
          <a:stretch/>
        </p:blipFill>
        <p:spPr>
          <a:xfrm>
            <a:off x="1042920" y="1413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.Малярчук «После гро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&amp;Pcy;&amp;ocy;&amp;scy;&amp;lcy;&amp;iecy; &amp;gcy;&amp;rcy;&amp;ocy;&amp;zcy;&amp;ycy; - &amp;Mcy;&amp;acy;&amp;lcy;&amp;yacy;&amp;rcy;&amp;chcy;&amp;ucy;&amp;kcy; &amp;Scy;&amp;tcy;&amp;acy;&amp;ncy;&amp;icy;&amp;scy;&amp;lcy;&amp;acy;&amp;vcy;"/>
          <p:cNvPicPr/>
          <p:nvPr/>
        </p:nvPicPr>
        <p:blipFill>
          <a:blip r:embed="rId2"/>
          <a:stretch/>
        </p:blipFill>
        <p:spPr>
          <a:xfrm>
            <a:off x="324000" y="1341360"/>
            <a:ext cx="8351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user\Desktop\Рисунок1.jpg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олнии во время г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protofoto.ru/wp-content/uploads/2012/09/lightning-mega_protofoto_color.jpg"/>
          <p:cNvPicPr/>
          <p:nvPr/>
        </p:nvPicPr>
        <p:blipFill>
          <a:blip r:embed="rId2"/>
          <a:stretch/>
        </p:blipFill>
        <p:spPr>
          <a:xfrm>
            <a:off x="324000" y="1341360"/>
            <a:ext cx="82803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5:13:47Z</dcterms:created>
  <dc:creator>user</dc:creator>
  <dc:description/>
  <dc:language>en-US</dc:language>
  <cp:lastModifiedBy>user</cp:lastModifiedBy>
  <dcterms:modified xsi:type="dcterms:W3CDTF">2014-01-08T14:10:18Z</dcterms:modified>
  <cp:revision>10</cp:revision>
  <dc:subject/>
  <dc:title>Слайд 1</dc:title>
</cp:coreProperties>
</file>