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D45-DA62-4809-977C-CF9C932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3FD-D369-4C3D-9C83-2D88FF8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1FF-220B-4F79-AFC0-54BEB9C9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3DE-A3D9-4A1E-99B1-B2BA5A7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3A4-BD67-4653-AF07-E3C08964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D71-E6D8-4960-A2EA-7237300D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CB7-4182-41BF-BD2E-768672C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743-723C-4959-88EA-B825C2C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A93-4315-4C15-81B8-4303E4D1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1CC-A4BB-44CD-8A81-25162D6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7C3-ECC7-455E-A0BC-FC16694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7BA-169D-42D4-BBF3-A237CCA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6B7F-B794-48CD-97C5-5C2E27080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МУНИЦИПАЛЬНОЕ БЮДЖЕТНОЕ ОБЩЕОБРАЗОВАТЕЛЬНОЕ УЧРЕЖДЕНИЕ  </a:t>
            </a:r>
            <a:br>
              <a:rPr sz="1600"/>
            </a:b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«СРЕДНЯЯ ОБЩЕОБРАЗОВАТЕЛЬНАЯ ШКОЛА  №6» </a:t>
            </a:r>
            <a:br>
              <a:rPr sz="1600"/>
            </a:b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НИЖНЕКАМСКОГО МУНИЦИПАЛЬНОГО РАЙОНА РЕСПУБЛИКИ  ТАТАР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Monotype Corsiva"/>
              </a:rPr>
              <a:t>Педагогическая мастер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Monotype Corsiva"/>
              </a:rPr>
              <a:t>Анализ стихотворения Ф.И.Тютчева «Неохотно и несмело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Подготовила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Сергеева Ирин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Monotype Corsiva"/>
              </a:rPr>
              <a:t>Нижнекамск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&amp;Zcy;&amp;vcy;&amp;ucy;&amp;kcy;&amp;icy; &amp;Gcy;&amp;rcy;&amp;ocy;&amp;zcy;&amp;ycy;, &amp;Gcy;&amp;rcy;&amp;ocy;&amp;mcy;"/>
          <p:cNvPicPr/>
          <p:nvPr/>
        </p:nvPicPr>
        <p:blipFill>
          <a:blip r:embed="rId2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ecocollaps.ru/wp-content/uploads/2011/07/lightning452.jpg"/>
          <p:cNvPicPr/>
          <p:nvPr/>
        </p:nvPicPr>
        <p:blipFill>
          <a:blip r:embed="rId3"/>
          <a:stretch/>
        </p:blipFill>
        <p:spPr>
          <a:xfrm>
            <a:off x="4248000" y="0"/>
            <a:ext cx="4896000" cy="378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.allfons.ru/large/201212/18762.jpg"/>
          <p:cNvPicPr/>
          <p:nvPr/>
        </p:nvPicPr>
        <p:blipFill>
          <a:blip r:embed="rId4"/>
          <a:stretch/>
        </p:blipFill>
        <p:spPr>
          <a:xfrm>
            <a:off x="0" y="3618000"/>
            <a:ext cx="91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1.Картинная 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unity.stroyinf.ru/cgi-bin/unity/gallery.cgi?a=15\u0026i=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ArtNow.ru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3/4624/picture/0/74258.html?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3/24711/picture/0/58577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2/16474/picture/0/40159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олнии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go.mail.ru/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Эпиграф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В ней есть душа, в ней есть свобода, </a:t>
            </a:r>
            <a:br>
              <a:rPr sz="4000"/>
            </a:b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В ней есть любовь, в ней есть язык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Ф.И.Тют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loveorigami.info/uploads/images/foto/russian/tyutchev.jpg"/>
          <p:cNvPicPr/>
          <p:nvPr/>
        </p:nvPicPr>
        <p:blipFill>
          <a:blip r:embed="rId2"/>
          <a:stretch/>
        </p:blipFill>
        <p:spPr>
          <a:xfrm>
            <a:off x="395280" y="0"/>
            <a:ext cx="24480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Гроза глазами русских художников</a:t>
            </a:r>
            <a:br>
              <a:rPr sz="4800"/>
            </a:b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. Яковлев «Перед гроз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466958"/>
          <p:cNvPicPr/>
          <p:nvPr/>
        </p:nvPicPr>
        <p:blipFill>
          <a:blip r:embed="rId2"/>
          <a:stretch/>
        </p:blipFill>
        <p:spPr>
          <a:xfrm>
            <a:off x="1332000" y="1773360"/>
            <a:ext cx="7561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.Васильев «Перед гроз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00063"/>
          <p:cNvPicPr/>
          <p:nvPr/>
        </p:nvPicPr>
        <p:blipFill>
          <a:blip r:embed="rId2"/>
          <a:stretch/>
        </p:blipFill>
        <p:spPr>
          <a:xfrm>
            <a:off x="324000" y="1628640"/>
            <a:ext cx="71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.Левитан «Бурный де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user\Desktop\img278.jpg"/>
          <p:cNvPicPr/>
          <p:nvPr/>
        </p:nvPicPr>
        <p:blipFill>
          <a:blip r:embed="rId2"/>
          <a:stretch/>
        </p:blipFill>
        <p:spPr>
          <a:xfrm>
            <a:off x="1116000" y="1484280"/>
            <a:ext cx="7805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.Немирович «День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artnow.ru/img/87000/87594.jpg"/>
          <p:cNvPicPr/>
          <p:nvPr/>
        </p:nvPicPr>
        <p:blipFill>
          <a:blip r:embed="rId2"/>
          <a:stretch/>
        </p:blipFill>
        <p:spPr>
          <a:xfrm>
            <a:off x="250920" y="1484280"/>
            <a:ext cx="7993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.Исаев «После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695142"/>
          <p:cNvPicPr/>
          <p:nvPr/>
        </p:nvPicPr>
        <p:blipFill>
          <a:blip r:embed="rId2"/>
          <a:stretch/>
        </p:blipFill>
        <p:spPr>
          <a:xfrm>
            <a:off x="1042920" y="1413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.Малярчук «После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&amp;Pcy;&amp;ocy;&amp;scy;&amp;lcy;&amp;iecy; &amp;gcy;&amp;rcy;&amp;ocy;&amp;zcy;&amp;ycy; - &amp;Mcy;&amp;acy;&amp;lcy;&amp;yacy;&amp;rcy;&amp;chcy;&amp;ucy;&amp;kcy; &amp;Scy;&amp;tcy;&amp;acy;&amp;ncy;&amp;icy;&amp;scy;&amp;lcy;&amp;acy;&amp;vcy;"/>
          <p:cNvPicPr/>
          <p:nvPr/>
        </p:nvPicPr>
        <p:blipFill>
          <a:blip r:embed="rId2"/>
          <a:stretch/>
        </p:blipFill>
        <p:spPr>
          <a:xfrm>
            <a:off x="324000" y="1341360"/>
            <a:ext cx="8351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олнии во время г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rotofoto.ru/wp-content/uploads/2012/09/lightning-mega_protofoto_color.jpg"/>
          <p:cNvPicPr/>
          <p:nvPr/>
        </p:nvPicPr>
        <p:blipFill>
          <a:blip r:embed="rId2"/>
          <a:stretch/>
        </p:blipFill>
        <p:spPr>
          <a:xfrm>
            <a:off x="324000" y="1341360"/>
            <a:ext cx="82803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5:13:47Z</dcterms:created>
  <dc:creator>user</dc:creator>
  <dc:description/>
  <dc:language>en-US</dc:language>
  <cp:lastModifiedBy>user</cp:lastModifiedBy>
  <dcterms:modified xsi:type="dcterms:W3CDTF">2014-01-08T14:10:18Z</dcterms:modified>
  <cp:revision>10</cp:revision>
  <dc:subject/>
  <dc:title>Слайд 1</dc:title>
</cp:coreProperties>
</file>