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983F-950C-487D-8489-9554F4C7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2F1-98A7-4736-A4F0-90142600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58A-BCF8-44B9-B0F6-F9AF2774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1716-FAF8-4DF7-9294-07964B59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5082-EF74-4147-8791-4EB5B594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CFC-09DA-4517-8CFD-04E343C8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324-3682-4FA4-BBD3-591B1090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B771-CD05-497B-9B12-E415BFFB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FF1F-2334-4BB0-BE70-631F6C7F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5313-B9E4-4010-B28D-4CCCB55A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DCB-528D-4CE8-B211-C62416E2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370-E500-49EF-8160-E79EAD29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8A13-2419-414C-8F71-896A153C3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потребуется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ожн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цветная бума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фломаст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л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04000" y="1413000"/>
            <a:ext cx="2087640" cy="1447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4724280"/>
            <a:ext cx="1778040" cy="1778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2268360" cy="22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012000" y="4365720"/>
            <a:ext cx="278604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7" descr="http://www.millionpodarkov.ru/podelki/wp-content/uploads/2011/10/%D0%B7%D0%B0%D0%B3%D0%BB%D0%B0%D0%BD%D0%B0%D1%8F.jpg"/>
          <p:cNvPicPr/>
          <p:nvPr/>
        </p:nvPicPr>
        <p:blipFill>
          <a:blip r:embed="rId1"/>
          <a:stretch/>
        </p:blipFill>
        <p:spPr>
          <a:xfrm>
            <a:off x="1476360" y="0"/>
            <a:ext cx="7128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езаем из белой бумаги прямоугольник. делаем надрезы и заворачивая края как показано на фото. Из черной бумаги вырезаем галсту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3" descr="http://www.millionpodarkov.ru/podelki/wp-content/uploads/2011/10/%D1%84%D0%BE%D1%82%D0%BE-226.jpg"/>
          <p:cNvPicPr/>
          <p:nvPr/>
        </p:nvPicPr>
        <p:blipFill>
          <a:blip r:embed="rId1"/>
          <a:stretch/>
        </p:blipFill>
        <p:spPr>
          <a:xfrm>
            <a:off x="1476360" y="184464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24000" y="580536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580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335772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243320" y="4188960"/>
            <a:ext cx="10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башку и галстук склеиваем кле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5" descr="http://www.millionpodarkov.ru/podelki/wp-content/uploads/2011/10/%D1%84%D0%BE%D1%82%D0%BE-325.jpg"/>
          <p:cNvPicPr/>
          <p:nvPr/>
        </p:nvPicPr>
        <p:blipFill>
          <a:blip r:embed="rId1"/>
          <a:stretch/>
        </p:blipFill>
        <p:spPr>
          <a:xfrm>
            <a:off x="1763640" y="175572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ямоугольник зеленого цвета складываем в три раза и отгибаем края. Вырезаем и приклеиваем погоны, нарисовав на них звезды. Приклеиваем пугов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7" descr="http://www.millionpodarkov.ru/podelki/wp-content/uploads/2011/10/%D1%84%D0%BE%D1%82%D0%BE-418.jpg"/>
          <p:cNvPicPr/>
          <p:nvPr/>
        </p:nvPicPr>
        <p:blipFill>
          <a:blip r:embed="rId1"/>
          <a:stretch/>
        </p:blipFill>
        <p:spPr>
          <a:xfrm>
            <a:off x="1979640" y="2349360"/>
            <a:ext cx="5391000" cy="4043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227640" y="3213000"/>
            <a:ext cx="73080" cy="252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045200">
            <a:off x="5730840" y="392724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3640" y="2565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263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башку приклеить к мундиру. Внутри открытки написать пожел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9" descr="http://www.millionpodarkov.ru/podelki/wp-content/uploads/2011/10/%D1%84%D0%BE%D1%82%D0%BE-58.jpg"/>
          <p:cNvPicPr/>
          <p:nvPr/>
        </p:nvPicPr>
        <p:blipFill>
          <a:blip r:embed="rId1"/>
          <a:stretch/>
        </p:blipFill>
        <p:spPr>
          <a:xfrm>
            <a:off x="1692360" y="1916280"/>
            <a:ext cx="582300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9:41:57Z</dcterms:created>
  <dc:creator>Admin</dc:creator>
  <dc:description/>
  <dc:language>en-US</dc:language>
  <cp:lastModifiedBy>Admin</cp:lastModifiedBy>
  <dcterms:modified xsi:type="dcterms:W3CDTF">2013-02-17T21:41:09Z</dcterms:modified>
  <cp:revision>3</cp:revision>
  <dc:subject/>
  <dc:title>Слайд 1</dc:title>
</cp:coreProperties>
</file>