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C3C-83DA-44B3-83DC-D9CF5F0D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FCD-4F30-452E-9BF5-29591858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47E-A430-4458-AB08-7CAFC7E2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5B5-ECEA-4C99-AA3E-A51C21EA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E2C-9CD8-4C2E-A07C-5DC44D48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595-8A07-45BE-8EB1-2D21BBE8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F90-C2BD-4759-9E19-691CD21E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F0F-8728-49A9-ACEC-BB0845A7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8B8-4F3D-4629-B62A-73574C83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27D-8AC9-40FD-AF86-5FCF8D2F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416-224D-417D-8884-10BD8690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62D-5F93-45E2-B72B-C5C93704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40D4-FD42-4B9D-9B6A-53FE69416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потребуется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цветная бума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ломас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1413000"/>
            <a:ext cx="2087640" cy="144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2000" y="4365720"/>
            <a:ext cx="27860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http://www.millionpodarkov.ru/podelki/wp-content/uploads/2011/10/%D0%B7%D0%B0%D0%B3%D0%BB%D0%B0%D0%BD%D0%B0%D1%8F.jpg"/>
          <p:cNvPicPr/>
          <p:nvPr/>
        </p:nvPicPr>
        <p:blipFill>
          <a:blip r:embed="rId1"/>
          <a:stretch/>
        </p:blipFill>
        <p:spPr>
          <a:xfrm>
            <a:off x="1476360" y="0"/>
            <a:ext cx="7128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езаем из белой бумаги прямоугольник. делаем надрезы и заворачивая края как показано на фото. Из черной бумаги вырезаем галсту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3" descr="http://www.millionpodarkov.ru/podelki/wp-content/uploads/2011/10/%D1%84%D0%BE%D1%82%D0%BE-226.jpg"/>
          <p:cNvPicPr/>
          <p:nvPr/>
        </p:nvPicPr>
        <p:blipFill>
          <a:blip r:embed="rId1"/>
          <a:stretch/>
        </p:blipFill>
        <p:spPr>
          <a:xfrm>
            <a:off x="1476360" y="184464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4000" y="5805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335772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243320" y="418896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башку и галстук склеиваем кле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5" descr="http://www.millionpodarkov.ru/podelki/wp-content/uploads/2011/10/%D1%84%D0%BE%D1%82%D0%BE-325.jpg"/>
          <p:cNvPicPr/>
          <p:nvPr/>
        </p:nvPicPr>
        <p:blipFill>
          <a:blip r:embed="rId1"/>
          <a:stretch/>
        </p:blipFill>
        <p:spPr>
          <a:xfrm>
            <a:off x="1763640" y="175572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угольник зеленого цвета складываем в три раза и отгибаем края. Вырезаем и приклеиваем погоны, нарисовав на них звезды. Приклеиваем пугов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7" descr="http://www.millionpodarkov.ru/podelki/wp-content/uploads/2011/10/%D1%84%D0%BE%D1%82%D0%BE-418.jpg"/>
          <p:cNvPicPr/>
          <p:nvPr/>
        </p:nvPicPr>
        <p:blipFill>
          <a:blip r:embed="rId1"/>
          <a:stretch/>
        </p:blipFill>
        <p:spPr>
          <a:xfrm>
            <a:off x="1979640" y="2349360"/>
            <a:ext cx="5391000" cy="404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27640" y="3213000"/>
            <a:ext cx="73080" cy="252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045200">
            <a:off x="5730840" y="39272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2565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26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башку приклеить к мундиру. Внутри открытки написать пожел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9" descr="http://www.millionpodarkov.ru/podelki/wp-content/uploads/2011/10/%D1%84%D0%BE%D1%82%D0%BE-58.jpg"/>
          <p:cNvPicPr/>
          <p:nvPr/>
        </p:nvPicPr>
        <p:blipFill>
          <a:blip r:embed="rId1"/>
          <a:stretch/>
        </p:blipFill>
        <p:spPr>
          <a:xfrm>
            <a:off x="1692360" y="1916280"/>
            <a:ext cx="58230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9:41:57Z</dcterms:created>
  <dc:creator>Admin</dc:creator>
  <dc:description/>
  <dc:language>en-US</dc:language>
  <cp:lastModifiedBy>Admin</cp:lastModifiedBy>
  <dcterms:modified xsi:type="dcterms:W3CDTF">2013-02-17T21:41:09Z</dcterms:modified>
  <cp:revision>3</cp:revision>
  <dc:subject/>
  <dc:title>Слайд 1</dc:title>
</cp:coreProperties>
</file>