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9E9-80F7-4AAB-B0A7-F75DC0A2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163-1029-4904-9D29-A8CDE910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FE6-897C-4E18-8088-0C5B03BF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598-4790-476B-A650-5A9F04B1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07D-B2CE-4FE2-923C-C53F7B03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0E3-166B-4437-9E11-56FFDB3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BE4-885B-4C47-A82D-2E406F51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374-B7B2-4F70-8DB0-E7786CFA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56E-C3A7-401D-9CBA-6F97BDB4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592-561F-4AD7-97CF-18A05F19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DA2-D064-4477-989B-0012C867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EB7-5035-4C96-B3B9-E952533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992831-881C-4E45-B089-7CCE822E5B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leo.com/large/201108/613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estock.com/uploads/blog/wallpapers/set2/crestock-281777-1152x86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in/&#1050;&#1040;&#1050;&#1040;&#1071;%20&#1041;&#1067;&#1042;&#1040;&#1045;&#1058;%20&#1042;&#1054;&#1044;&#1040;.notebook" TargetMode="External"/><Relationship Id="rId3" Type="http://schemas.openxmlformats.org/officeDocument/2006/relationships/hyperlink" Target="http://migranov.ru/photoalbum/winter/3.php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migranov.ru/photoalbum/winter/26.php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bugaga.ru/uploads/posts/2011-10/1318264619_rain-3.jpg" TargetMode="External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hyperlink" Target="http://foto.mail.ru/mail/jeck.nn/2001/4359.html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hyperlink" Target="file:///tmp/in/&#1047;&#1040;&#1063;&#1045;&#1052;%20&#1053;&#1059;&#1046;&#1053;&#1040;%20&#1042;&#1054;&#1044;&#1040;.notebook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571320" y="857160"/>
            <a:ext cx="7929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</a:rPr>
              <a:t>Презентация к уроку </a:t>
            </a:r>
            <a:br>
              <a:rPr sz="5400"/>
            </a:br>
            <a:r>
              <a:rPr b="0" lang="ru-RU" sz="5400" spc="-1" strike="noStrike">
                <a:solidFill>
                  <a:srgbClr val="00b050"/>
                </a:solidFill>
                <a:latin typeface="Times New Roman"/>
              </a:rPr>
              <a:t>по окружающему мир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7030a0"/>
                </a:solidFill>
                <a:latin typeface="Times New Roman"/>
              </a:rPr>
              <a:t>Какой бывает вода?           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программе «Начальная школа 21 ве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4" name="Picture 2" descr="C:\Documents and Settings\User\Мои документы\Даниил\Мои документы\Мои рисунки\Рисунки\Снеговик.bmp"/>
          <p:cNvPicPr/>
          <p:nvPr/>
        </p:nvPicPr>
        <p:blipFill>
          <a:blip r:embed="rId2"/>
          <a:stretch/>
        </p:blipFill>
        <p:spPr>
          <a:xfrm>
            <a:off x="821520" y="428760"/>
            <a:ext cx="7464960" cy="5971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артинка 12 из 96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8280" y="285840"/>
            <a:ext cx="8859600" cy="600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7" name="Picture 2" descr="Картинка 9 из 141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61280"/>
            <a:ext cx="8357760" cy="6256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0" y="428760"/>
            <a:ext cx="4571640" cy="691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rgbClr val="0070c0"/>
                </a:solidFill>
                <a:latin typeface="Times New Roman"/>
              </a:rPr>
              <a:t>Мы на 70 % состоим из вод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Без воды человек может прожить только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3 - 4 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дн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6286680" y="1143000"/>
            <a:ext cx="2209320" cy="4733640"/>
          </a:xfrm>
          <a:prstGeom prst="rect">
            <a:avLst/>
          </a:prstGeom>
          <a:ln w="9525">
            <a:noFill/>
          </a:ln>
        </p:spPr>
      </p:pic>
    </p:spTree>
  </p:cSld>
  <p:transition spd="med">
    <p:wheel spokes="2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9"/>
          <p:cNvSpPr/>
          <p:nvPr/>
        </p:nvSpPr>
        <p:spPr>
          <a:xfrm>
            <a:off x="1123920" y="285840"/>
            <a:ext cx="6557760" cy="92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Какая бывает вод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3429000" y="3429000"/>
            <a:ext cx="171432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в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сугроб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3880" y="1285920"/>
            <a:ext cx="2343240" cy="157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самоле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15040" y="3214800"/>
            <a:ext cx="2212920" cy="148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Фото дожд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00040" y="3071880"/>
            <a:ext cx="2393280" cy="1593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1"/>
          <p:cNvSpPr/>
          <p:nvPr/>
        </p:nvSpPr>
        <p:spPr>
          <a:xfrm>
            <a:off x="1285920" y="4645080"/>
            <a:ext cx="99972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http://im5-tub-ru.yandex.net/i?id=370715888-46-72"/>
          <p:cNvPicPr/>
          <p:nvPr/>
        </p:nvPicPr>
        <p:blipFill>
          <a:blip r:embed="rId9"/>
          <a:stretch/>
        </p:blipFill>
        <p:spPr>
          <a:xfrm>
            <a:off x="4750560" y="4857840"/>
            <a:ext cx="1892880" cy="1514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3644280" y="6288480"/>
            <a:ext cx="65808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5931360" y="6359760"/>
            <a:ext cx="53136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7645680" y="4788000"/>
            <a:ext cx="5832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930680" y="2787840"/>
            <a:ext cx="55116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http://im8-tub-ru.yandex.net/i?id=352474533-38-72&amp;n=17"/>
          <p:cNvPicPr/>
          <p:nvPr/>
        </p:nvPicPr>
        <p:blipFill>
          <a:blip r:embed="rId10"/>
          <a:stretch/>
        </p:blipFill>
        <p:spPr>
          <a:xfrm>
            <a:off x="5429160" y="1143000"/>
            <a:ext cx="1999800" cy="1685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>
            <a:off x="6930360" y="2787840"/>
            <a:ext cx="4752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2" descr="... в Туман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14720" y="4786200"/>
            <a:ext cx="2087280" cy="1515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0"/>
            <a:ext cx="914364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85840" y="0"/>
            <a:ext cx="8572320" cy="7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2"/>
          <a:srcRect l="0" t="15724" r="13792" b="16068"/>
          <a:stretch/>
        </p:blipFill>
        <p:spPr>
          <a:xfrm>
            <a:off x="357120" y="1785960"/>
            <a:ext cx="2247120" cy="1460880"/>
          </a:xfrm>
          <a:prstGeom prst="rect">
            <a:avLst/>
          </a:prstGeom>
          <a:ln w="9525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3"/>
          <a:srcRect l="4454" t="25165" r="10709" b="14434"/>
          <a:stretch/>
        </p:blipFill>
        <p:spPr>
          <a:xfrm>
            <a:off x="3214800" y="1357200"/>
            <a:ext cx="2571480" cy="1623960"/>
          </a:xfrm>
          <a:prstGeom prst="rect">
            <a:avLst/>
          </a:prstGeom>
          <a:ln w="9525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4"/>
          <a:srcRect l="4535" t="16537" r="9093" b="17287"/>
          <a:stretch/>
        </p:blipFill>
        <p:spPr>
          <a:xfrm>
            <a:off x="6357960" y="1785960"/>
            <a:ext cx="2458440" cy="1552320"/>
          </a:xfrm>
          <a:prstGeom prst="rect">
            <a:avLst/>
          </a:prstGeom>
          <a:ln w="9525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5"/>
          <a:srcRect l="4045" t="5987" r="10807" b="15996"/>
          <a:stretch/>
        </p:blipFill>
        <p:spPr>
          <a:xfrm>
            <a:off x="357120" y="3571920"/>
            <a:ext cx="2642760" cy="1636200"/>
          </a:xfrm>
          <a:prstGeom prst="rect">
            <a:avLst/>
          </a:prstGeom>
          <a:ln w="9525">
            <a:noFill/>
          </a:ln>
        </p:spPr>
      </p:pic>
      <p:pic>
        <p:nvPicPr>
          <p:cNvPr id="73" name="Рисунок 8" descr=""/>
          <p:cNvPicPr/>
          <p:nvPr/>
        </p:nvPicPr>
        <p:blipFill>
          <a:blip r:embed="rId6"/>
          <a:srcRect l="4326" t="10874" r="8958" b="13038"/>
          <a:stretch/>
        </p:blipFill>
        <p:spPr>
          <a:xfrm>
            <a:off x="6429240" y="3929040"/>
            <a:ext cx="2346840" cy="1642680"/>
          </a:xfrm>
          <a:prstGeom prst="rect">
            <a:avLst/>
          </a:prstGeom>
          <a:ln w="9525">
            <a:noFill/>
          </a:ln>
        </p:spPr>
      </p:pic>
      <p:pic>
        <p:nvPicPr>
          <p:cNvPr id="74" name="Рисунок 9" descr=""/>
          <p:cNvPicPr/>
          <p:nvPr/>
        </p:nvPicPr>
        <p:blipFill>
          <a:blip r:embed="rId7"/>
          <a:srcRect l="0" t="22731" r="6253" b="9075"/>
          <a:stretch/>
        </p:blipFill>
        <p:spPr>
          <a:xfrm>
            <a:off x="3571920" y="4929120"/>
            <a:ext cx="2285640" cy="1613520"/>
          </a:xfrm>
          <a:prstGeom prst="rect">
            <a:avLst/>
          </a:prstGeom>
          <a:ln w="9525">
            <a:noFill/>
          </a:ln>
        </p:spPr>
      </p:pic>
      <p:sp>
        <p:nvSpPr>
          <p:cNvPr id="75" name="Прямоугольник 11"/>
          <p:cNvSpPr/>
          <p:nvPr/>
        </p:nvSpPr>
        <p:spPr>
          <a:xfrm>
            <a:off x="1313280" y="357120"/>
            <a:ext cx="539172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Зачем нужна вод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://im0-tub-ru.yandex.net/i?id=27444807-61-72"/>
          <p:cNvPicPr/>
          <p:nvPr/>
        </p:nvPicPr>
        <p:blipFill>
          <a:blip r:embed="rId9"/>
          <a:stretch/>
        </p:blipFill>
        <p:spPr>
          <a:xfrm>
            <a:off x="3643200" y="3286080"/>
            <a:ext cx="1856880" cy="1428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28017" t="43471" r="28230" b="19032"/>
          <a:stretch/>
        </p:blipFill>
        <p:spPr>
          <a:xfrm>
            <a:off x="357120" y="642960"/>
            <a:ext cx="8395920" cy="5571720"/>
          </a:xfrm>
          <a:prstGeom prst="rect">
            <a:avLst/>
          </a:prstGeom>
          <a:ln w="9525">
            <a:noFill/>
          </a:ln>
        </p:spPr>
      </p:pic>
    </p:spTree>
  </p:cSld>
  <p:transition spd="med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Администратор\Мои документы\АНИМИРОВАННЫЕ ФОНЫ\Новая папка\blue1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80" name="Рисунок 3" descr="ngcute20.gif"/>
          <p:cNvPicPr/>
          <p:nvPr/>
        </p:nvPicPr>
        <p:blipFill>
          <a:blip r:embed="rId2"/>
          <a:stretch/>
        </p:blipFill>
        <p:spPr>
          <a:xfrm>
            <a:off x="1071360" y="357120"/>
            <a:ext cx="6954480" cy="4992480"/>
          </a:xfrm>
          <a:prstGeom prst="rect">
            <a:avLst/>
          </a:prstGeom>
          <a:ln w="9525">
            <a:noFill/>
          </a:ln>
        </p:spPr>
      </p:pic>
      <p:sp>
        <p:nvSpPr>
          <p:cNvPr id="81" name="Прямоугольник 7"/>
          <p:cNvSpPr/>
          <p:nvPr/>
        </p:nvSpPr>
        <p:spPr>
          <a:xfrm>
            <a:off x="1609560" y="5643720"/>
            <a:ext cx="6720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002060"/>
                </a:solidFill>
                <a:latin typeface="Times New Roman"/>
              </a:rPr>
              <a:t>ЖЕЛАем ВСЕМ УСПЕХА</a:t>
            </a:r>
            <a:r>
              <a:rPr b="1" lang="ru-RU" sz="4000" spc="-1" strike="noStrike" cap="all">
                <a:solidFill>
                  <a:srgbClr val="00206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  <Words>41</Words>
  <Paragraphs>16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7:48:06Z</dcterms:created>
  <dc:creator>XTreme</dc:creator>
  <dc:description/>
  <dc:language>en-US</dc:language>
  <cp:lastModifiedBy>User</cp:lastModifiedBy>
  <dcterms:modified xsi:type="dcterms:W3CDTF">2012-02-04T09:42:30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