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72D8-5FE7-4EBF-9A82-CCD9F6F4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886F1-D57C-406F-A0D9-8F621AF6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0FEC-05CE-4A95-83E1-1609360A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94B87-9A0C-42B5-A39A-BB1344DC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2D6C-BE9C-41DC-A955-C8658D0C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C16D-E4B6-412D-A47E-6C195F08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F7FB-9223-40AD-BAF9-7988300F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76E6-15D0-4306-A7FB-710AB809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221E-9951-477B-89E8-EC6114E6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17EE-B17D-4B74-ACF8-785A54C2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61E0-69E2-42ED-9B98-8E0B36E7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9EC4-30F2-4C41-87B0-9086320E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77C9-A1B9-4A22-AD5E-A543B9F7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2150-65A4-4F5E-AAE7-AA332CBE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1357-1EAB-44ED-8312-21F6CFEF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D2C7-85B3-4BA6-B5C6-65B4CF6C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E4FE-E555-4962-B0B9-E37DB7A6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D3AB-375A-45CC-9309-6F7EB137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5F07E-823F-4C7F-A32C-816D40B8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1C186-7BCE-467F-A6B6-6080896C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2FE0-DDBD-4DAE-B8E1-BF1A11EB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75B1-8416-47A9-8353-030E5370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7CD9-F600-4033-8A42-9ACE8133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886B-DA6F-4C71-8DB4-C2868BDF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6B0A-075A-4005-A724-5EFDBE86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401B-DD46-4805-8F00-045D9B51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F0BA-A66B-4906-A43F-10516EEC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D61D-03FE-42A5-8B2C-D05D6347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35A4-BB90-4B14-9583-3D095CA1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EAC6-CD91-4C9B-A2C6-6707B576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FCBCF-98EF-4C60-9C92-896123EC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48EF3-B72D-4672-8468-C830B69E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030F2-E2B7-464F-AE45-8D03C2AB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1943-67EE-4891-9D5C-7597520A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B9A6B-DCC0-42DA-8665-131E5BB0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7542-3F01-41EA-8634-80C35F40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3264E-B89B-4C6A-945C-7B0F26F4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0CBA-851A-48F3-AF74-68CDBE6B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53FA2-123A-4858-953A-F3767716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B751-3554-4154-B817-384E7C68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B179C-8FBC-458E-804D-8518184A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D98B3-FFDA-4882-B673-269E1EF6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27F5-1F52-484D-ABC8-AC0DAF5F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3618-949D-4969-B308-B6D5CCFC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E5A77-C852-4985-A73F-1B60B0C5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680AE-3677-4067-ABAD-0675D2B3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803D-5BDE-45D5-BB66-9D193A7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00B7-A35D-4B3E-AB37-AA670508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8C07-70F0-42AA-BD20-421A1A93B47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BFFE-CEE4-4D46-8A01-00400321E15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3CAA-17E3-4CB5-AAAD-11E38525A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83C3-76EF-4418-AB49-0BA939D1A2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Есть книга правды и свободы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ся наша жизнь - её сло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Запечатлели в ней нар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вои священные пр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212" name="Rectangle 13" descr=""/>
          <p:cNvPicPr/>
          <p:nvPr/>
        </p:nvPicPr>
        <p:blipFill>
          <a:blip r:embed="rId1"/>
          <a:stretch/>
        </p:blipFill>
        <p:spPr>
          <a:xfrm>
            <a:off x="895320" y="2249640"/>
            <a:ext cx="7900920" cy="22986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konstitucia_234.jpg"/>
          <p:cNvPicPr/>
          <p:nvPr/>
        </p:nvPicPr>
        <p:blipFill>
          <a:blip r:embed="rId2"/>
          <a:stretch/>
        </p:blipFill>
        <p:spPr>
          <a:xfrm>
            <a:off x="189000" y="208080"/>
            <a:ext cx="2334960" cy="5754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Arial"/>
              </a:rPr>
              <a:t>Россия - демократическое, федеративное, правовое государство с республиканской формой правления.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Группа 13"/>
          <p:cNvGrpSpPr/>
          <p:nvPr/>
        </p:nvGrpSpPr>
        <p:grpSpPr>
          <a:xfrm>
            <a:off x="285840" y="2537640"/>
            <a:ext cx="8569080" cy="3848040"/>
            <a:chOff x="285840" y="2537640"/>
            <a:chExt cx="8569080" cy="3848040"/>
          </a:xfrm>
        </p:grpSpPr>
        <p:grpSp>
          <p:nvGrpSpPr>
            <p:cNvPr id="264" name="Группа 12"/>
            <p:cNvGrpSpPr/>
            <p:nvPr/>
          </p:nvGrpSpPr>
          <p:grpSpPr>
            <a:xfrm>
              <a:off x="285840" y="2537640"/>
              <a:ext cx="8569080" cy="3345480"/>
              <a:chOff x="285840" y="2537640"/>
              <a:chExt cx="8569080" cy="334548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285840" y="2786040"/>
                <a:ext cx="647640" cy="3095640"/>
              </a:xfrm>
              <a:prstGeom prst="rect">
                <a:avLst/>
              </a:pr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04617b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dbf5f9"/>
                    </a:solidFill>
                    <a:latin typeface="Arial"/>
                  </a:rPr>
                  <a:t>Н</a:t>
                </a:r>
                <a:br>
                  <a:rPr sz="4000"/>
                </a:br>
                <a:r>
                  <a:rPr b="1" lang="ru-RU" sz="4000" spc="-1" strike="noStrike">
                    <a:solidFill>
                      <a:srgbClr val="dbf5f9"/>
                    </a:solidFill>
                    <a:latin typeface="Arial"/>
                  </a:rPr>
                  <a:t>А</a:t>
                </a:r>
                <a:br>
                  <a:rPr sz="4000"/>
                </a:br>
                <a:r>
                  <a:rPr b="1" lang="ru-RU" sz="4000" spc="-1" strike="noStrike">
                    <a:solidFill>
                      <a:srgbClr val="dbf5f9"/>
                    </a:solidFill>
                    <a:latin typeface="Arial"/>
                  </a:rPr>
                  <a:t>Р</a:t>
                </a:r>
                <a:br>
                  <a:rPr sz="4000"/>
                </a:br>
                <a:r>
                  <a:rPr b="1" lang="ru-RU" sz="4000" spc="-1" strike="noStrike">
                    <a:solidFill>
                      <a:srgbClr val="dbf5f9"/>
                    </a:solidFill>
                    <a:latin typeface="Arial"/>
                  </a:rPr>
                  <a:t>О</a:t>
                </a:r>
                <a:br>
                  <a:rPr sz="4000"/>
                </a:br>
                <a:r>
                  <a:rPr b="1" lang="ru-RU" sz="4000" spc="-1" strike="noStrike">
                    <a:solidFill>
                      <a:srgbClr val="dbf5f9"/>
                    </a:solidFill>
                    <a:latin typeface="Arial"/>
                  </a:rPr>
                  <a:t>Д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8">
                <a:hlinkClick r:id="rId1" action="ppaction://hlinksldjump"/>
              </p:cNvPr>
              <p:cNvSpPr/>
              <p:nvPr/>
            </p:nvSpPr>
            <p:spPr>
              <a:xfrm>
                <a:off x="4102200" y="2714760"/>
                <a:ext cx="4752720" cy="7920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04617b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Arial"/>
                  </a:rPr>
                  <a:t>выборы, референдумы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4102200" y="5091120"/>
                <a:ext cx="4752720" cy="7920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04617b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Arial"/>
                  </a:rPr>
                  <a:t>местное самоуправление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4102200" y="3794040"/>
                <a:ext cx="4752720" cy="1081080"/>
              </a:xfrm>
              <a:prstGeom prst="rect">
                <a:avLst/>
              </a:pr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04617b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ffffff"/>
                    </a:solidFill>
                    <a:latin typeface="Arial"/>
                  </a:rPr>
                  <a:t>органы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2800" spc="-1" strike="noStrike">
                    <a:solidFill>
                      <a:srgbClr val="ffffff"/>
                    </a:solidFill>
                    <a:latin typeface="Arial"/>
                  </a:rPr>
                  <a:t>государственной власти</a:t>
                </a:r>
                <a:r>
                  <a:rPr b="1" lang="ru-RU" sz="3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2"/>
              <p:cNvSpPr/>
              <p:nvPr/>
            </p:nvSpPr>
            <p:spPr>
              <a:xfrm flipV="1">
                <a:off x="933480" y="3146040"/>
                <a:ext cx="3168360" cy="1223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3"/>
              <p:cNvSpPr/>
              <p:nvPr/>
            </p:nvSpPr>
            <p:spPr>
              <a:xfrm>
                <a:off x="933480" y="4370400"/>
                <a:ext cx="3168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"/>
              <p:cNvSpPr/>
              <p:nvPr/>
            </p:nvSpPr>
            <p:spPr>
              <a:xfrm>
                <a:off x="933480" y="4370400"/>
                <a:ext cx="3168360" cy="1152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16"/>
              <p:cNvSpPr/>
              <p:nvPr/>
            </p:nvSpPr>
            <p:spPr>
              <a:xfrm rot="20301000">
                <a:off x="1247040" y="3001680"/>
                <a:ext cx="2651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</a:rPr>
                  <a:t>непосредственно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</a:rPr>
                  <a:t>участ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17"/>
              <p:cNvSpPr/>
              <p:nvPr/>
            </p:nvSpPr>
            <p:spPr>
              <a:xfrm>
                <a:off x="1654200" y="4010040"/>
                <a:ext cx="2447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</a:rPr>
                  <a:t>участие через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</a:rPr>
                  <a:t>представителе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Text Box 18"/>
            <p:cNvSpPr/>
            <p:nvPr/>
          </p:nvSpPr>
          <p:spPr>
            <a:xfrm rot="1170600">
              <a:off x="1018080" y="5126760"/>
              <a:ext cx="3443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непосредственн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и через представител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6868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Принцип социального государства</a:t>
            </a: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76" name="Группа 14"/>
          <p:cNvGrpSpPr/>
          <p:nvPr/>
        </p:nvGrpSpPr>
        <p:grpSpPr>
          <a:xfrm>
            <a:off x="357120" y="2000160"/>
            <a:ext cx="8497800" cy="3635640"/>
            <a:chOff x="357120" y="2000160"/>
            <a:chExt cx="8497800" cy="3635640"/>
          </a:xfrm>
        </p:grpSpPr>
        <p:sp>
          <p:nvSpPr>
            <p:cNvPr id="277" name="Rectangle 8"/>
            <p:cNvSpPr/>
            <p:nvPr/>
          </p:nvSpPr>
          <p:spPr>
            <a:xfrm>
              <a:off x="8278920" y="2288880"/>
              <a:ext cx="576000" cy="3097440"/>
            </a:xfrm>
            <a:prstGeom prst="rect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461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Ж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br>
                <a:rPr sz="2400"/>
              </a:b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9"/>
            <p:cNvSpPr/>
            <p:nvPr/>
          </p:nvSpPr>
          <p:spPr>
            <a:xfrm>
              <a:off x="357120" y="3368520"/>
              <a:ext cx="2952720" cy="863640"/>
            </a:xfrm>
            <a:prstGeom prst="rect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461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dbf5f9"/>
                  </a:solidFill>
                  <a:latin typeface="Arial"/>
                </a:rPr>
                <a:t>ГОСУДАРСТВ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9" name="AutoShape 10"/>
            <p:cNvCxnSpPr>
              <a:stCxn id="278" idx="2"/>
              <a:endCxn id="277" idx="2"/>
            </p:cNvCxnSpPr>
            <p:nvPr/>
          </p:nvCxnSpPr>
          <p:spPr>
            <a:xfrm flipH="1" rot="16200000">
              <a:off x="4623480" y="1442160"/>
              <a:ext cx="1154880" cy="6734880"/>
            </a:xfrm>
            <a:prstGeom prst="bentConnector3">
              <a:avLst>
                <a:gd name="adj1" fmla="val 119644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AutoShape 11"/>
            <p:cNvCxnSpPr>
              <a:stCxn id="278" idx="0"/>
              <a:endCxn id="277" idx="0"/>
            </p:cNvCxnSpPr>
            <p:nvPr/>
          </p:nvCxnSpPr>
          <p:spPr>
            <a:xfrm flipH="1" flipV="1" rot="5400000">
              <a:off x="4660560" y="-538920"/>
              <a:ext cx="1080360" cy="6734880"/>
            </a:xfrm>
            <a:prstGeom prst="bentConnector3">
              <a:avLst>
                <a:gd name="adj1" fmla="val 121166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Text Box 12"/>
            <p:cNvSpPr/>
            <p:nvPr/>
          </p:nvSpPr>
          <p:spPr>
            <a:xfrm>
              <a:off x="3238560" y="2000160"/>
              <a:ext cx="411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охрана труда и здоровь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3"/>
            <p:cNvSpPr/>
            <p:nvPr/>
          </p:nvSpPr>
          <p:spPr>
            <a:xfrm>
              <a:off x="3309840" y="3513240"/>
              <a:ext cx="496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3309840" y="2720880"/>
              <a:ext cx="496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поддержка семьи,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инвалидов, пожилых гражда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15"/>
            <p:cNvSpPr/>
            <p:nvPr/>
          </p:nvSpPr>
          <p:spPr>
            <a:xfrm>
              <a:off x="1936440" y="4810320"/>
              <a:ext cx="655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гарантия минимального размер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оплаты труда, пенсий, пособий и т.д.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7"/>
            <p:cNvSpPr/>
            <p:nvPr/>
          </p:nvSpPr>
          <p:spPr>
            <a:xfrm>
              <a:off x="3309840" y="4089600"/>
              <a:ext cx="496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18"/>
            <p:cNvSpPr/>
            <p:nvPr/>
          </p:nvSpPr>
          <p:spPr>
            <a:xfrm>
              <a:off x="3457080" y="4089600"/>
              <a:ext cx="454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система социальных служ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ринцип светского государства.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971640" y="141300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мировые религии исповедуются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итории РФ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8" descr="православие"/>
          <p:cNvPicPr/>
          <p:nvPr/>
        </p:nvPicPr>
        <p:blipFill>
          <a:blip r:embed="rId1"/>
          <a:stretch/>
        </p:blipFill>
        <p:spPr>
          <a:xfrm>
            <a:off x="468360" y="2637000"/>
            <a:ext cx="4065480" cy="3047760"/>
          </a:xfrm>
          <a:prstGeom prst="rect">
            <a:avLst/>
          </a:prstGeom>
          <a:ln w="76320">
            <a:solidFill>
              <a:srgbClr val="04617b"/>
            </a:solidFill>
            <a:miter/>
          </a:ln>
        </p:spPr>
      </p:pic>
      <p:pic>
        <p:nvPicPr>
          <p:cNvPr id="290" name="Picture 9" descr="католичество"/>
          <p:cNvPicPr/>
          <p:nvPr/>
        </p:nvPicPr>
        <p:blipFill>
          <a:blip r:embed="rId2"/>
          <a:stretch/>
        </p:blipFill>
        <p:spPr>
          <a:xfrm>
            <a:off x="4788000" y="2637000"/>
            <a:ext cx="4065480" cy="3047760"/>
          </a:xfrm>
          <a:prstGeom prst="rect">
            <a:avLst/>
          </a:prstGeom>
          <a:ln w="76320">
            <a:solidFill>
              <a:srgbClr val="04617b"/>
            </a:solidFill>
            <a:miter/>
          </a:ln>
        </p:spPr>
      </p:pic>
      <p:sp>
        <p:nvSpPr>
          <p:cNvPr id="291" name="Text Box 10"/>
          <p:cNvSpPr/>
          <p:nvPr/>
        </p:nvSpPr>
        <p:spPr>
          <a:xfrm>
            <a:off x="3282120" y="573408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Христианств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1" descr="ислам"/>
          <p:cNvPicPr/>
          <p:nvPr/>
        </p:nvPicPr>
        <p:blipFill>
          <a:blip r:embed="rId3"/>
          <a:srcRect l="0" t="0" r="0" b="30314"/>
          <a:stretch/>
        </p:blipFill>
        <p:spPr>
          <a:xfrm>
            <a:off x="2484360" y="2276640"/>
            <a:ext cx="3924360" cy="42480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293" name="Text Box 12"/>
          <p:cNvSpPr/>
          <p:nvPr/>
        </p:nvSpPr>
        <p:spPr>
          <a:xfrm>
            <a:off x="6517080" y="5589720"/>
            <a:ext cx="15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Исла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4" descr="буддизм2"/>
          <p:cNvPicPr/>
          <p:nvPr/>
        </p:nvPicPr>
        <p:blipFill>
          <a:blip r:embed="rId4"/>
          <a:stretch/>
        </p:blipFill>
        <p:spPr>
          <a:xfrm>
            <a:off x="4788000" y="2565360"/>
            <a:ext cx="4065480" cy="3048120"/>
          </a:xfrm>
          <a:prstGeom prst="rect">
            <a:avLst/>
          </a:prstGeom>
          <a:ln w="76320">
            <a:solidFill>
              <a:srgbClr val="e2d700"/>
            </a:solidFill>
            <a:miter/>
          </a:ln>
        </p:spPr>
      </p:pic>
      <p:sp>
        <p:nvSpPr>
          <p:cNvPr id="295" name="Text Box 15"/>
          <p:cNvSpPr/>
          <p:nvPr/>
        </p:nvSpPr>
        <p:spPr>
          <a:xfrm>
            <a:off x="3566880" y="58770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d700"/>
                </a:solidFill>
                <a:latin typeface="Arial"/>
              </a:rPr>
              <a:t>Буддиз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3" descr="буддизм"/>
          <p:cNvPicPr/>
          <p:nvPr/>
        </p:nvPicPr>
        <p:blipFill>
          <a:blip r:embed="rId5"/>
          <a:stretch/>
        </p:blipFill>
        <p:spPr>
          <a:xfrm>
            <a:off x="395280" y="2565360"/>
            <a:ext cx="4032360" cy="3292560"/>
          </a:xfrm>
          <a:prstGeom prst="rect">
            <a:avLst/>
          </a:prstGeom>
          <a:ln w="76320">
            <a:solidFill>
              <a:srgbClr val="e2d700"/>
            </a:solidFill>
            <a:miter/>
          </a:ln>
        </p:spPr>
      </p:pic>
      <p:pic>
        <p:nvPicPr>
          <p:cNvPr id="297" name="Picture 16" descr="религии"/>
          <p:cNvPicPr/>
          <p:nvPr/>
        </p:nvPicPr>
        <p:blipFill>
          <a:blip r:embed="rId6"/>
          <a:stretch/>
        </p:blipFill>
        <p:spPr>
          <a:xfrm>
            <a:off x="2124000" y="2492280"/>
            <a:ext cx="4753080" cy="3564000"/>
          </a:xfrm>
          <a:prstGeom prst="rect">
            <a:avLst/>
          </a:prstGeom>
          <a:ln w="76320">
            <a:solidFill>
              <a:srgbClr val="04617b"/>
            </a:solidFill>
            <a:miter/>
          </a:ln>
        </p:spPr>
      </p:pic>
      <p:sp>
        <p:nvSpPr>
          <p:cNvPr id="298" name="Text Box 20"/>
          <p:cNvSpPr/>
          <p:nvPr/>
        </p:nvSpPr>
        <p:spPr>
          <a:xfrm>
            <a:off x="1116720" y="6035760"/>
            <a:ext cx="76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вы понимаете выражение: «церковь – отдел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 государства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0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0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6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ринцип  федерализма.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00" name="Группа 15"/>
          <p:cNvGrpSpPr/>
          <p:nvPr/>
        </p:nvGrpSpPr>
        <p:grpSpPr>
          <a:xfrm>
            <a:off x="357120" y="1785960"/>
            <a:ext cx="8304120" cy="4224240"/>
            <a:chOff x="357120" y="1785960"/>
            <a:chExt cx="8304120" cy="4224240"/>
          </a:xfrm>
        </p:grpSpPr>
        <p:sp>
          <p:nvSpPr>
            <p:cNvPr id="301" name="AutoShape 5"/>
            <p:cNvSpPr/>
            <p:nvPr/>
          </p:nvSpPr>
          <p:spPr>
            <a:xfrm>
              <a:off x="3071520" y="3143160"/>
              <a:ext cx="2449440" cy="100800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f5f9"/>
                  </a:solidFill>
                  <a:latin typeface="Arial"/>
                </a:rPr>
                <a:t>Российска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f5f9"/>
                  </a:solidFill>
                  <a:latin typeface="Arial"/>
                </a:rPr>
                <a:t>Федераци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6"/>
            <p:cNvSpPr/>
            <p:nvPr/>
          </p:nvSpPr>
          <p:spPr>
            <a:xfrm>
              <a:off x="6286320" y="2500200"/>
              <a:ext cx="2303280" cy="79056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бласт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7"/>
            <p:cNvSpPr/>
            <p:nvPr/>
          </p:nvSpPr>
          <p:spPr>
            <a:xfrm>
              <a:off x="3143160" y="4786200"/>
              <a:ext cx="2808360" cy="12240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горо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едеральног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знач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AutoShape 8"/>
            <p:cNvSpPr/>
            <p:nvPr/>
          </p:nvSpPr>
          <p:spPr>
            <a:xfrm>
              <a:off x="357120" y="4143240"/>
              <a:ext cx="2376360" cy="86364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автономна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бла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AutoShape 9"/>
            <p:cNvSpPr/>
            <p:nvPr/>
          </p:nvSpPr>
          <p:spPr>
            <a:xfrm>
              <a:off x="3071520" y="1785960"/>
              <a:ext cx="2303280" cy="7920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ра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AutoShape 10"/>
            <p:cNvSpPr/>
            <p:nvPr/>
          </p:nvSpPr>
          <p:spPr>
            <a:xfrm>
              <a:off x="357120" y="2428920"/>
              <a:ext cx="2303280" cy="79200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республик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11"/>
            <p:cNvSpPr/>
            <p:nvPr/>
          </p:nvSpPr>
          <p:spPr>
            <a:xfrm>
              <a:off x="6357960" y="4214880"/>
              <a:ext cx="2303280" cy="863640"/>
            </a:xfrm>
            <a:prstGeom prst="roundRect">
              <a:avLst>
                <a:gd name="adj" fmla="val 16667"/>
              </a:avLst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66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автоном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круг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>
              <a:off x="4357440" y="428616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V="1">
              <a:off x="4286160" y="264276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 flipV="1">
              <a:off x="2571480" y="2856960"/>
              <a:ext cx="428400" cy="57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2714400" y="3929040"/>
              <a:ext cx="357120" cy="72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 flipV="1">
              <a:off x="5572080" y="2714040"/>
              <a:ext cx="79200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5500440" y="3929040"/>
              <a:ext cx="857160" cy="78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онституция - главное право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Для того, кто на свет нарожден.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И крепка, и могуча держава,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Свято чтящая этот Закон.</a:t>
            </a:r>
            <a:br>
              <a:rPr sz="4400"/>
            </a:b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5" name="Picture 6" descr="Росси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2286000"/>
            <a:ext cx="6983640" cy="4365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16" name="Picture 5" descr="конституцияРФ"/>
          <p:cNvPicPr/>
          <p:nvPr/>
        </p:nvPicPr>
        <p:blipFill>
          <a:blip r:embed="rId3"/>
          <a:srcRect l="0" t="0" r="0" b="1627"/>
          <a:stretch/>
        </p:blipFill>
        <p:spPr>
          <a:xfrm>
            <a:off x="3348000" y="2924280"/>
            <a:ext cx="2217600" cy="29527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7487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Arial"/>
              </a:rPr>
              <a:t>1. </a:t>
            </a:r>
            <a:r>
              <a:rPr b="0" lang="ru-RU" sz="3000" spc="-1" strike="noStrike">
                <a:solidFill>
                  <a:srgbClr val="04617b"/>
                </a:solidFill>
                <a:latin typeface="Arial"/>
              </a:rPr>
              <a:t>В какой главе Конституции определены основы конституционного строя РФ?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638880" y="692280"/>
            <a:ext cx="152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Arial"/>
              </a:rPr>
              <a:t>Те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24000" y="3860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2. Принцип разделения властей характеризует Россию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42520" y="4724280"/>
            <a:ext cx="450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ое государ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тивное государ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овое государ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ское государ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540720" y="2349360"/>
            <a:ext cx="206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 гла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2 гла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3 гла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4 гла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3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7921800" cy="17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Arial"/>
              </a:rPr>
              <a:t>3.Основополагающим принципом федеративного устройства Российского государства является: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рантии местного самоуправ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ноправие субъектов федер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литическое и идеологическое многообраз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72600" indent="-37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системы социальных служ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9840" y="443700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тие народа в выборах и референдум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ормировании органов местного самоуправл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тие в государственной власти через своих представител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-40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вышеперечислен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250920" y="400536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4.Народовластие предусматрива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0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0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29840" y="4221000"/>
            <a:ext cx="871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ладает высшей юридической сило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ет прямое действ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ределяет основные права человека и гражданина РФ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0400" indent="-4104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рно все вышеперечислен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698328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е государ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етское государ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едеративное государ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-406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спубли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06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25440" y="371628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6.Конституция Р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24000" y="90792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5. Отделение церкви от государ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характеризует Россию ка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3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93560" y="-21924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0" y="1646280"/>
            <a:ext cx="32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онституц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бязанно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Закон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рав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Демократ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Федерац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5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4214880" y="1357200"/>
            <a:ext cx="4929120" cy="64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рмативный акт, регулирующий важные стороны общественных отношений и обладающий высшей юридической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предоставленные личности возможности что-то делать, осуществл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уг действий или задач, возложенных на кого-либо и безусловных для выпол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 государство,  составными частями которого являются относительно самостоятельные государственные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ой закон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итический режим, при котором власть принадлежит нар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Прямая со стрелкой 5"/>
          <p:cNvCxnSpPr/>
          <p:nvPr/>
        </p:nvCxnSpPr>
        <p:spPr>
          <a:xfrm>
            <a:off x="3143160" y="2143080"/>
            <a:ext cx="1286640" cy="364392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18" name="Прямая со стрелкой 7"/>
          <p:cNvCxnSpPr/>
          <p:nvPr/>
        </p:nvCxnSpPr>
        <p:spPr>
          <a:xfrm>
            <a:off x="3143160" y="2857680"/>
            <a:ext cx="1215360" cy="7862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19" name="Прямая со стрелкой 11"/>
          <p:cNvCxnSpPr/>
          <p:nvPr/>
        </p:nvCxnSpPr>
        <p:spPr>
          <a:xfrm flipV="1">
            <a:off x="1785960" y="1642680"/>
            <a:ext cx="2572560" cy="200088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20" name="Прямая со стрелкой 13"/>
          <p:cNvCxnSpPr/>
          <p:nvPr/>
        </p:nvCxnSpPr>
        <p:spPr>
          <a:xfrm flipV="1">
            <a:off x="1785960" y="2856960"/>
            <a:ext cx="2643840" cy="15008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21" name="Прямая со стрелкой 15"/>
          <p:cNvCxnSpPr/>
          <p:nvPr/>
        </p:nvCxnSpPr>
        <p:spPr>
          <a:xfrm>
            <a:off x="2857320" y="5214960"/>
            <a:ext cx="1572120" cy="92952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22" name="Прямая со стрелкой 18"/>
          <p:cNvCxnSpPr/>
          <p:nvPr/>
        </p:nvCxnSpPr>
        <p:spPr>
          <a:xfrm flipV="1">
            <a:off x="2714400" y="4714560"/>
            <a:ext cx="1857960" cy="107208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182160" cy="68644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357120" y="107172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     е      к      а     б     р      и     с      т     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428760" y="200016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  с      т      р     о     й     с      т      в     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3214800" y="52149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     у     м    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1285920" y="142920"/>
            <a:ext cx="642960" cy="88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8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3146400" y="2500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3071880" y="2928960"/>
            <a:ext cx="5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3146400" y="33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3146040" y="37861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3146400" y="4286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3146760" y="4714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3217680" y="564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3145680" y="607212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5643720" y="2857680"/>
            <a:ext cx="56016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8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385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38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38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92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192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192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192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92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192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192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192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92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92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192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192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92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192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192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192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92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192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192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192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92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192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192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192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92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92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192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192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92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192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192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192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Устный опрос: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13840" y="1213920"/>
            <a:ext cx="87138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и кем была принята современная Конституц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олько  разделов, глав, статей содержится в ней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чему Конституцию называют законом высшей юридической сил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означает выражение «Конституция имеет прямое действие»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каких ценностях базируется наша Конституц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о Конституция провозглашает высшей ценностью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 главная цель основного закон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400" y="1785600"/>
            <a:ext cx="5786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лавные задачи Конституции-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 Закрепить и гарантировать фундаментальные права челове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 Упорядочить государственную влас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 Утвердить правосуд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5" descr="конституцияРФ"/>
          <p:cNvPicPr/>
          <p:nvPr/>
        </p:nvPicPr>
        <p:blipFill>
          <a:blip r:embed="rId1"/>
          <a:srcRect l="0" t="0" r="0" b="1627"/>
          <a:stretch/>
        </p:blipFill>
        <p:spPr>
          <a:xfrm>
            <a:off x="6215040" y="3214800"/>
            <a:ext cx="2217600" cy="29527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Arial"/>
              </a:rPr>
              <a:t>Что такое конституционный строй?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  правления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 государственно-территориального устройств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ий режим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овое положение личност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политической жизни обществ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нципы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заимоотношения государства и религи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бота в группах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79725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 группа – Права и свободы человека и граждани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 группа – Обязанности человека и граждани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 группа – Основы конституционного стро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 группа – Федеративное устройство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04617b"/>
                </a:solidFill>
                <a:latin typeface="Arial"/>
              </a:rPr>
              <a:t>Человек и гражданин, его права и свободы – высшая ценность.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48" name="Группа 13"/>
          <p:cNvGrpSpPr/>
          <p:nvPr/>
        </p:nvGrpSpPr>
        <p:grpSpPr>
          <a:xfrm>
            <a:off x="357120" y="2143080"/>
            <a:ext cx="8448840" cy="2792520"/>
            <a:chOff x="357120" y="2143080"/>
            <a:chExt cx="8448840" cy="2792520"/>
          </a:xfrm>
        </p:grpSpPr>
        <p:sp>
          <p:nvSpPr>
            <p:cNvPr id="249" name="Oval 6"/>
            <p:cNvSpPr/>
            <p:nvPr/>
          </p:nvSpPr>
          <p:spPr>
            <a:xfrm>
              <a:off x="3571920" y="2143080"/>
              <a:ext cx="2087640" cy="11304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f5f9"/>
                  </a:solidFill>
                  <a:latin typeface="Arial"/>
                </a:rPr>
                <a:t>ПРАВ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7"/>
            <p:cNvSpPr/>
            <p:nvPr/>
          </p:nvSpPr>
          <p:spPr>
            <a:xfrm>
              <a:off x="428400" y="2357280"/>
              <a:ext cx="2376360" cy="792000"/>
            </a:xfrm>
            <a:prstGeom prst="rect">
              <a:avLst/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8"/>
            <p:cNvSpPr/>
            <p:nvPr/>
          </p:nvSpPr>
          <p:spPr>
            <a:xfrm>
              <a:off x="6357960" y="4143600"/>
              <a:ext cx="2448000" cy="792000"/>
            </a:xfrm>
            <a:prstGeom prst="rect">
              <a:avLst/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ЭКОНОМИЧЕСК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0"/>
            <p:cNvSpPr/>
            <p:nvPr/>
          </p:nvSpPr>
          <p:spPr>
            <a:xfrm>
              <a:off x="6429600" y="2285640"/>
              <a:ext cx="2376360" cy="792000"/>
            </a:xfrm>
            <a:prstGeom prst="rect">
              <a:avLst/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ЛИТИЧЕСК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3"/>
            <p:cNvSpPr/>
            <p:nvPr/>
          </p:nvSpPr>
          <p:spPr>
            <a:xfrm>
              <a:off x="357120" y="4000680"/>
              <a:ext cx="2376360" cy="792000"/>
            </a:xfrm>
            <a:prstGeom prst="rect">
              <a:avLst/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УЛЬТУР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4"/>
            <p:cNvSpPr/>
            <p:nvPr/>
          </p:nvSpPr>
          <p:spPr>
            <a:xfrm>
              <a:off x="3429000" y="4071960"/>
              <a:ext cx="2376360" cy="792000"/>
            </a:xfrm>
            <a:prstGeom prst="rect">
              <a:avLst/>
            </a:prstGeom>
            <a:solidFill>
              <a:srgbClr val="009dd9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СОЦИАЛЬ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 flipH="1">
              <a:off x="2714040" y="2714400"/>
              <a:ext cx="863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>
              <a:off x="5715000" y="27144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 flipH="1">
              <a:off x="2786040" y="3286080"/>
              <a:ext cx="1224000" cy="71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4643280" y="3429000"/>
              <a:ext cx="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>
              <a:off x="5286600" y="3357720"/>
              <a:ext cx="1079280" cy="718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Нет прав без обязанностей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Рисунок 3" descr="76.jpe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1571760"/>
            <a:ext cx="9144000" cy="4062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7:52:33Z</dcterms:created>
  <dc:creator>Зевс</dc:creator>
  <dc:description/>
  <dc:language>en-US</dc:language>
  <cp:lastModifiedBy>WiZaRd</cp:lastModifiedBy>
  <dcterms:modified xsi:type="dcterms:W3CDTF">2013-11-05T17:32:02Z</dcterms:modified>
  <cp:revision>92</cp:revision>
  <dc:subject/>
  <dc:title>Основы конституционного строя России.</dc:title>
</cp:coreProperties>
</file>