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4EF9-EAC1-49FF-BE2E-FF150811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9CB1-76EB-442E-83DA-D2E1457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DF27-5F37-42C8-9106-8937E288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8631-49DE-42DA-A856-B6EC31F5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B52F-76BE-49A5-B50B-6AB2432A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B36-0F94-49AC-B226-7F962B99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0AA3-9A51-45B3-A6C1-E0BC098B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5EC7-2EB3-4464-9D06-6389B5DD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9424-CA3B-481C-8BC4-F779A181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AF7A-504A-4831-B261-6FE02694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9F96-09B8-4BA3-AE3E-416DA40D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123E-2A6A-461D-BCBB-22962210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DDAD-0DF4-42CA-B880-D238B24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E500-5082-4682-B04F-DB24D96F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7156-F748-4A08-A5A9-07CA633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0AD5-6BF8-49A4-8933-10EAC5DA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9C81-02C6-408F-AEFC-D28AD840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B1DA-22EA-45C1-8DCC-A7883FDD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5C60-0242-4F82-BA8B-161B706F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3E20-518D-415B-8C88-3CC4DD2C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0D61-3466-4D90-8451-46B4E472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F7FB8-A5F5-476B-AD5F-EAD97AC3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6B08-B9FA-4887-A33C-38CA9B30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FFD0-35AA-486B-B8CC-884D5783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3BAC-7992-4B41-BC20-643AB77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8741-AB81-420D-9A6D-4C3DD350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63C4-765B-47AA-945B-D495F54A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DD615-1C6B-46DA-B784-2AC22B62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615A-45EC-4F02-8723-3DC5206A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705C-7806-4E99-8420-F78AECC3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D57C-7D6A-4372-9945-1871CC84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98992-82A9-4983-99D1-9AB63E3E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D653-8878-40FC-9063-6C9A274B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4031-01F9-4786-AA3E-F1C9CEEC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9859A-80CB-4AA0-AB83-1D73B270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3874-400D-4FAD-B38F-0DC2A63D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97BC-AD7A-46EF-85C0-90B06079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7125-659B-4C37-97C6-CBA2B23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7F44-91C5-4928-BA0D-E3F9081E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86CF-B5AF-4C4D-A084-3420426C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629E-4C99-4236-A753-F18C97C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32E8-7A9C-48C7-B0FB-B75792B9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307B-D36F-4AB1-BF7B-49C61540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3AAE-0E98-425F-89D0-C728A29C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6450-94D9-4948-867A-A9C7F5AB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3E9F-DD90-4080-A6F5-22DAFD2A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0EA3-CA0B-4163-A716-AD054E55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744F-5135-4E50-9F12-D9CC7111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F7A4-7591-4FAB-91E9-8D45A9A6014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B9FD-6435-4F27-B52D-E21F613C111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6A01-A6B3-40CC-A914-D58BA65B1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E401-C873-4613-B7F1-0D8D1AB829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Есть книга правды и свободы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ся наша жизнь - её сл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апечатлели в ней на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вои священные пр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212" name="Rectangle 13" descr=""/>
          <p:cNvPicPr/>
          <p:nvPr/>
        </p:nvPicPr>
        <p:blipFill>
          <a:blip r:embed="rId1"/>
          <a:stretch/>
        </p:blipFill>
        <p:spPr>
          <a:xfrm>
            <a:off x="895320" y="2249640"/>
            <a:ext cx="7900920" cy="22986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konstitucia_234.jpg"/>
          <p:cNvPicPr/>
          <p:nvPr/>
        </p:nvPicPr>
        <p:blipFill>
          <a:blip r:embed="rId2"/>
          <a:stretch/>
        </p:blipFill>
        <p:spPr>
          <a:xfrm>
            <a:off x="189000" y="208080"/>
            <a:ext cx="2334960" cy="5754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Россия - демократическое, федеративное, правовое государство с республиканской формой правления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Группа 13"/>
          <p:cNvGrpSpPr/>
          <p:nvPr/>
        </p:nvGrpSpPr>
        <p:grpSpPr>
          <a:xfrm>
            <a:off x="285840" y="2537640"/>
            <a:ext cx="8569080" cy="3848040"/>
            <a:chOff x="285840" y="2537640"/>
            <a:chExt cx="8569080" cy="3848040"/>
          </a:xfrm>
        </p:grpSpPr>
        <p:grpSp>
          <p:nvGrpSpPr>
            <p:cNvPr id="264" name="Группа 12"/>
            <p:cNvGrpSpPr/>
            <p:nvPr/>
          </p:nvGrpSpPr>
          <p:grpSpPr>
            <a:xfrm>
              <a:off x="285840" y="2537640"/>
              <a:ext cx="8569080" cy="3345480"/>
              <a:chOff x="285840" y="2537640"/>
              <a:chExt cx="8569080" cy="334548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285840" y="2786040"/>
                <a:ext cx="647640" cy="3095640"/>
              </a:xfrm>
              <a:prstGeom prst="rect">
                <a:avLst/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04617b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Н</a:t>
                </a:r>
                <a:br>
                  <a:rPr sz="4000"/>
                </a:b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А</a:t>
                </a:r>
                <a:br>
                  <a:rPr sz="4000"/>
                </a:b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Р</a:t>
                </a:r>
                <a:br>
                  <a:rPr sz="4000"/>
                </a:b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О</a:t>
                </a:r>
                <a:br>
                  <a:rPr sz="4000"/>
                </a:b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Д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8">
                <a:hlinkClick r:id="rId1" action="ppaction://hlinksldjump"/>
              </p:cNvPr>
              <p:cNvSpPr/>
              <p:nvPr/>
            </p:nvSpPr>
            <p:spPr>
              <a:xfrm>
                <a:off x="4102200" y="2714760"/>
                <a:ext cx="4752720" cy="7920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04617b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выборы, референдумы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4102200" y="5091120"/>
                <a:ext cx="4752720" cy="7920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04617b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местное самоуправление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4102200" y="3794040"/>
                <a:ext cx="4752720" cy="1081080"/>
              </a:xfrm>
              <a:prstGeom prst="rect">
                <a:avLst/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04617b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органы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государственной власти</a:t>
                </a:r>
                <a:r>
                  <a:rPr b="1" lang="ru-RU" sz="3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2"/>
              <p:cNvSpPr/>
              <p:nvPr/>
            </p:nvSpPr>
            <p:spPr>
              <a:xfrm flipV="1">
                <a:off x="933480" y="3146040"/>
                <a:ext cx="3168360" cy="1223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3"/>
              <p:cNvSpPr/>
              <p:nvPr/>
            </p:nvSpPr>
            <p:spPr>
              <a:xfrm>
                <a:off x="933480" y="4370400"/>
                <a:ext cx="3168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"/>
              <p:cNvSpPr/>
              <p:nvPr/>
            </p:nvSpPr>
            <p:spPr>
              <a:xfrm>
                <a:off x="933480" y="4370400"/>
                <a:ext cx="3168360" cy="1152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16"/>
              <p:cNvSpPr/>
              <p:nvPr/>
            </p:nvSpPr>
            <p:spPr>
              <a:xfrm rot="20301000">
                <a:off x="1247040" y="3001680"/>
                <a:ext cx="2651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</a:rPr>
                  <a:t>непосредственно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</a:rPr>
                  <a:t>участ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17"/>
              <p:cNvSpPr/>
              <p:nvPr/>
            </p:nvSpPr>
            <p:spPr>
              <a:xfrm>
                <a:off x="1654200" y="4010040"/>
                <a:ext cx="2447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</a:rPr>
                  <a:t>участие через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</a:rPr>
                  <a:t>представителе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Text Box 18"/>
            <p:cNvSpPr/>
            <p:nvPr/>
          </p:nvSpPr>
          <p:spPr>
            <a:xfrm rot="1170600">
              <a:off x="1018080" y="5126760"/>
              <a:ext cx="344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непосредственн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и через представител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868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Принцип социального государства</a:t>
            </a: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76" name="Группа 14"/>
          <p:cNvGrpSpPr/>
          <p:nvPr/>
        </p:nvGrpSpPr>
        <p:grpSpPr>
          <a:xfrm>
            <a:off x="357120" y="2000160"/>
            <a:ext cx="8497800" cy="3635640"/>
            <a:chOff x="357120" y="2000160"/>
            <a:chExt cx="8497800" cy="3635640"/>
          </a:xfrm>
        </p:grpSpPr>
        <p:sp>
          <p:nvSpPr>
            <p:cNvPr id="277" name="Rectangle 8"/>
            <p:cNvSpPr/>
            <p:nvPr/>
          </p:nvSpPr>
          <p:spPr>
            <a:xfrm>
              <a:off x="8278920" y="2288880"/>
              <a:ext cx="576000" cy="309744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461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Ж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357120" y="3368520"/>
              <a:ext cx="2952720" cy="86364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461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dbf5f9"/>
                  </a:solidFill>
                  <a:latin typeface="Arial"/>
                </a:rPr>
                <a:t>ГОСУДАРСТВ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9" name="AutoShape 10"/>
            <p:cNvCxnSpPr>
              <a:stCxn id="278" idx="2"/>
              <a:endCxn id="277" idx="2"/>
            </p:cNvCxnSpPr>
            <p:nvPr/>
          </p:nvCxnSpPr>
          <p:spPr>
            <a:xfrm flipH="1" rot="16200000">
              <a:off x="4623480" y="1442160"/>
              <a:ext cx="1154880" cy="6734880"/>
            </a:xfrm>
            <a:prstGeom prst="bentConnector3">
              <a:avLst>
                <a:gd name="adj1" fmla="val 119644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AutoShape 11"/>
            <p:cNvCxnSpPr>
              <a:stCxn id="278" idx="0"/>
              <a:endCxn id="277" idx="0"/>
            </p:cNvCxnSpPr>
            <p:nvPr/>
          </p:nvCxnSpPr>
          <p:spPr>
            <a:xfrm flipH="1" flipV="1" rot="5400000">
              <a:off x="4660560" y="-538920"/>
              <a:ext cx="1080360" cy="6734880"/>
            </a:xfrm>
            <a:prstGeom prst="bentConnector3">
              <a:avLst>
                <a:gd name="adj1" fmla="val 121166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Text Box 12"/>
            <p:cNvSpPr/>
            <p:nvPr/>
          </p:nvSpPr>
          <p:spPr>
            <a:xfrm>
              <a:off x="3238560" y="2000160"/>
              <a:ext cx="411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храна труда и здоровь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3"/>
            <p:cNvSpPr/>
            <p:nvPr/>
          </p:nvSpPr>
          <p:spPr>
            <a:xfrm>
              <a:off x="3309840" y="3513240"/>
              <a:ext cx="496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3309840" y="2720880"/>
              <a:ext cx="49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поддержка семьи,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инвалидов, пожилых гражда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5"/>
            <p:cNvSpPr/>
            <p:nvPr/>
          </p:nvSpPr>
          <p:spPr>
            <a:xfrm>
              <a:off x="1936440" y="4810320"/>
              <a:ext cx="655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арантия минимального размер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платы труда, пенсий, пособий и т.д.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7"/>
            <p:cNvSpPr/>
            <p:nvPr/>
          </p:nvSpPr>
          <p:spPr>
            <a:xfrm>
              <a:off x="3309840" y="4089600"/>
              <a:ext cx="496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8"/>
            <p:cNvSpPr/>
            <p:nvPr/>
          </p:nvSpPr>
          <p:spPr>
            <a:xfrm>
              <a:off x="3457080" y="4089600"/>
              <a:ext cx="45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система социальных служ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светского государства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971640" y="141300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мировые религии исповедуются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и РФ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8" descr="православие"/>
          <p:cNvPicPr/>
          <p:nvPr/>
        </p:nvPicPr>
        <p:blipFill>
          <a:blip r:embed="rId1"/>
          <a:stretch/>
        </p:blipFill>
        <p:spPr>
          <a:xfrm>
            <a:off x="468360" y="2637000"/>
            <a:ext cx="4065480" cy="304776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pic>
        <p:nvPicPr>
          <p:cNvPr id="290" name="Picture 9" descr="католичество"/>
          <p:cNvPicPr/>
          <p:nvPr/>
        </p:nvPicPr>
        <p:blipFill>
          <a:blip r:embed="rId2"/>
          <a:stretch/>
        </p:blipFill>
        <p:spPr>
          <a:xfrm>
            <a:off x="4788000" y="2637000"/>
            <a:ext cx="4065480" cy="304776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sp>
        <p:nvSpPr>
          <p:cNvPr id="291" name="Text Box 10"/>
          <p:cNvSpPr/>
          <p:nvPr/>
        </p:nvSpPr>
        <p:spPr>
          <a:xfrm>
            <a:off x="3282120" y="573408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Христианств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1" descr="ислам"/>
          <p:cNvPicPr/>
          <p:nvPr/>
        </p:nvPicPr>
        <p:blipFill>
          <a:blip r:embed="rId3"/>
          <a:srcRect l="0" t="0" r="0" b="30314"/>
          <a:stretch/>
        </p:blipFill>
        <p:spPr>
          <a:xfrm>
            <a:off x="2484360" y="2276640"/>
            <a:ext cx="3924360" cy="42480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293" name="Text Box 12"/>
          <p:cNvSpPr/>
          <p:nvPr/>
        </p:nvSpPr>
        <p:spPr>
          <a:xfrm>
            <a:off x="6517080" y="5589720"/>
            <a:ext cx="15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сла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4" descr="буддизм2"/>
          <p:cNvPicPr/>
          <p:nvPr/>
        </p:nvPicPr>
        <p:blipFill>
          <a:blip r:embed="rId4"/>
          <a:stretch/>
        </p:blipFill>
        <p:spPr>
          <a:xfrm>
            <a:off x="4788000" y="2565360"/>
            <a:ext cx="4065480" cy="3048120"/>
          </a:xfrm>
          <a:prstGeom prst="rect">
            <a:avLst/>
          </a:prstGeom>
          <a:ln w="76320">
            <a:solidFill>
              <a:srgbClr val="e2d700"/>
            </a:solidFill>
            <a:miter/>
          </a:ln>
        </p:spPr>
      </p:pic>
      <p:sp>
        <p:nvSpPr>
          <p:cNvPr id="295" name="Text Box 15"/>
          <p:cNvSpPr/>
          <p:nvPr/>
        </p:nvSpPr>
        <p:spPr>
          <a:xfrm>
            <a:off x="3566880" y="58770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d700"/>
                </a:solidFill>
                <a:latin typeface="Arial"/>
              </a:rPr>
              <a:t>Буддиз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3" descr="буддизм"/>
          <p:cNvPicPr/>
          <p:nvPr/>
        </p:nvPicPr>
        <p:blipFill>
          <a:blip r:embed="rId5"/>
          <a:stretch/>
        </p:blipFill>
        <p:spPr>
          <a:xfrm>
            <a:off x="395280" y="2565360"/>
            <a:ext cx="4032360" cy="3292560"/>
          </a:xfrm>
          <a:prstGeom prst="rect">
            <a:avLst/>
          </a:prstGeom>
          <a:ln w="76320">
            <a:solidFill>
              <a:srgbClr val="e2d700"/>
            </a:solidFill>
            <a:miter/>
          </a:ln>
        </p:spPr>
      </p:pic>
      <p:pic>
        <p:nvPicPr>
          <p:cNvPr id="297" name="Picture 16" descr="религии"/>
          <p:cNvPicPr/>
          <p:nvPr/>
        </p:nvPicPr>
        <p:blipFill>
          <a:blip r:embed="rId6"/>
          <a:stretch/>
        </p:blipFill>
        <p:spPr>
          <a:xfrm>
            <a:off x="2124000" y="2492280"/>
            <a:ext cx="4753080" cy="356400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sp>
        <p:nvSpPr>
          <p:cNvPr id="298" name="Text Box 20"/>
          <p:cNvSpPr/>
          <p:nvPr/>
        </p:nvSpPr>
        <p:spPr>
          <a:xfrm>
            <a:off x="1116720" y="6035760"/>
            <a:ext cx="76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вы понимаете выражение: «церковь – отдел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государства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0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 федерализма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00" name="Группа 15"/>
          <p:cNvGrpSpPr/>
          <p:nvPr/>
        </p:nvGrpSpPr>
        <p:grpSpPr>
          <a:xfrm>
            <a:off x="357120" y="1785960"/>
            <a:ext cx="8304120" cy="4224240"/>
            <a:chOff x="357120" y="1785960"/>
            <a:chExt cx="8304120" cy="4224240"/>
          </a:xfrm>
        </p:grpSpPr>
        <p:sp>
          <p:nvSpPr>
            <p:cNvPr id="301" name="AutoShape 5"/>
            <p:cNvSpPr/>
            <p:nvPr/>
          </p:nvSpPr>
          <p:spPr>
            <a:xfrm>
              <a:off x="3071520" y="3143160"/>
              <a:ext cx="2449440" cy="1008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f5f9"/>
                  </a:solidFill>
                  <a:latin typeface="Arial"/>
                </a:rPr>
                <a:t>Российска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f5f9"/>
                  </a:solidFill>
                  <a:latin typeface="Arial"/>
                </a:rPr>
                <a:t>Федерац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6"/>
            <p:cNvSpPr/>
            <p:nvPr/>
          </p:nvSpPr>
          <p:spPr>
            <a:xfrm>
              <a:off x="6286320" y="2500200"/>
              <a:ext cx="2303280" cy="79056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бласт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7"/>
            <p:cNvSpPr/>
            <p:nvPr/>
          </p:nvSpPr>
          <p:spPr>
            <a:xfrm>
              <a:off x="3143160" y="4786200"/>
              <a:ext cx="2808360" cy="12240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горо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едеральног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знач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8"/>
            <p:cNvSpPr/>
            <p:nvPr/>
          </p:nvSpPr>
          <p:spPr>
            <a:xfrm>
              <a:off x="357120" y="4143240"/>
              <a:ext cx="2376360" cy="86364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автономна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бла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9"/>
            <p:cNvSpPr/>
            <p:nvPr/>
          </p:nvSpPr>
          <p:spPr>
            <a:xfrm>
              <a:off x="3071520" y="1785960"/>
              <a:ext cx="2303280" cy="7920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ра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10"/>
            <p:cNvSpPr/>
            <p:nvPr/>
          </p:nvSpPr>
          <p:spPr>
            <a:xfrm>
              <a:off x="357120" y="2428920"/>
              <a:ext cx="2303280" cy="7920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республи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11"/>
            <p:cNvSpPr/>
            <p:nvPr/>
          </p:nvSpPr>
          <p:spPr>
            <a:xfrm>
              <a:off x="6357960" y="4214880"/>
              <a:ext cx="2303280" cy="86364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автоном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круг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>
              <a:off x="4357440" y="428616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V="1">
              <a:off x="4286160" y="264276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 flipV="1">
              <a:off x="2571480" y="2856960"/>
              <a:ext cx="428400" cy="57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2714400" y="3929040"/>
              <a:ext cx="357120" cy="72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V="1">
              <a:off x="5572080" y="2714040"/>
              <a:ext cx="79200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5500440" y="3929040"/>
              <a:ext cx="857160" cy="78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нституция - главное право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Для того, кто на свет нарожден.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И крепка, и могуча держава,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Свято чтящая этот Закон.</a:t>
            </a: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Picture 6" descr="Росси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2286000"/>
            <a:ext cx="6983640" cy="4365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16" name="Picture 5" descr="конституцияРФ"/>
          <p:cNvPicPr/>
          <p:nvPr/>
        </p:nvPicPr>
        <p:blipFill>
          <a:blip r:embed="rId3"/>
          <a:srcRect l="0" t="0" r="0" b="1627"/>
          <a:stretch/>
        </p:blipFill>
        <p:spPr>
          <a:xfrm>
            <a:off x="3348000" y="2924280"/>
            <a:ext cx="2217600" cy="29527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7487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1. </a:t>
            </a:r>
            <a:r>
              <a:rPr b="0" lang="ru-RU" sz="3000" spc="-1" strike="noStrike">
                <a:solidFill>
                  <a:srgbClr val="04617b"/>
                </a:solidFill>
                <a:latin typeface="Arial"/>
              </a:rPr>
              <a:t>В какой главе Конституции определены основы конституционного строя РФ?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638880" y="692280"/>
            <a:ext cx="152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Arial"/>
              </a:rPr>
              <a:t>Те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24000" y="3860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2. Принцип разделения властей характеризует Россию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42520" y="4724280"/>
            <a:ext cx="450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тивн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ов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ское госуда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40720" y="2349360"/>
            <a:ext cx="206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2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3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4 гла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1800" cy="17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Arial"/>
              </a:rPr>
              <a:t>3.Основополагающим принципом федеративного устройства Российского государства является: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рантии местного самоупра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ноправие субъектов федер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итическое и идеологическое многообраз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системы социальных служ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9840" y="443700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народа в выборах и референдум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ировании органов местного самоупра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в государственной власти через своих представител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вышеперечислен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50920" y="400536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4.Народовластие предусматрива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29840" y="4221000"/>
            <a:ext cx="871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ладает высшей юридической сил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ет прямое действ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еделяет основные права человека и гражданина РФ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рно все вышеперечислен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698328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етск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деративн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спубли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25440" y="371628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6.Конституция Р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24000" y="9079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5. Отделение церкви от государ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характеризует Россию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93560" y="-21924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0" y="1646280"/>
            <a:ext cx="32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онституц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бязанн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Закон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рав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Демократ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Федерац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4214880" y="1357200"/>
            <a:ext cx="492912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рмативный акт, регулирующий важные стороны общественных отношений и обладающий высшей юридической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предоставленные личности возможности что-то делать, осуществл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 действий или задач, возложенных на кого-либо и безусловных для выпол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 государство,  составными частями которого являются относительно самостоятельные государственные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закон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итический режим, при котором власть принадлежит нар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Прямая со стрелкой 5"/>
          <p:cNvCxnSpPr/>
          <p:nvPr/>
        </p:nvCxnSpPr>
        <p:spPr>
          <a:xfrm>
            <a:off x="3143160" y="2143080"/>
            <a:ext cx="1286640" cy="36439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18" name="Прямая со стрелкой 7"/>
          <p:cNvCxnSpPr/>
          <p:nvPr/>
        </p:nvCxnSpPr>
        <p:spPr>
          <a:xfrm>
            <a:off x="3143160" y="2857680"/>
            <a:ext cx="1215360" cy="7862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19" name="Прямая со стрелкой 11"/>
          <p:cNvCxnSpPr/>
          <p:nvPr/>
        </p:nvCxnSpPr>
        <p:spPr>
          <a:xfrm flipV="1">
            <a:off x="1785960" y="1642680"/>
            <a:ext cx="2572560" cy="20008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20" name="Прямая со стрелкой 13"/>
          <p:cNvCxnSpPr/>
          <p:nvPr/>
        </p:nvCxnSpPr>
        <p:spPr>
          <a:xfrm flipV="1">
            <a:off x="1785960" y="2856960"/>
            <a:ext cx="2643840" cy="15008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21" name="Прямая со стрелкой 15"/>
          <p:cNvCxnSpPr/>
          <p:nvPr/>
        </p:nvCxnSpPr>
        <p:spPr>
          <a:xfrm>
            <a:off x="2857320" y="5214960"/>
            <a:ext cx="1572120" cy="9295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22" name="Прямая со стрелкой 18"/>
          <p:cNvCxnSpPr/>
          <p:nvPr/>
        </p:nvCxnSpPr>
        <p:spPr>
          <a:xfrm flipV="1">
            <a:off x="2714400" y="4714560"/>
            <a:ext cx="1857960" cy="10720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182160" cy="68644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357120" y="107172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    е      к      а     б     р      и     с      т     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428760" y="200016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 с      т      р     о     й     с      т      в     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3214800" y="52149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    у     м    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1285920" y="142920"/>
            <a:ext cx="642960" cy="88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3146400" y="2500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3071880" y="2928960"/>
            <a:ext cx="5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3146400" y="33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3146040" y="3786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3146400" y="4286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3146760" y="4714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3217680" y="564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3145680" y="607212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5643720" y="2857680"/>
            <a:ext cx="5601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8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385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38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92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192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192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192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92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92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192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192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92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92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192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192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92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192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192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192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92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192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192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192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92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192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192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192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92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92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92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92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92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192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192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192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Устный опрос: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7138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и кем была принята современная Конституц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лько  разделов, глав, статей содержится в ней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Конституцию называют законом высшей юридической сил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означает выражение «Конституция имеет прямое действие»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каких ценностях базируется наша Конституц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о Конституция провозглашает высшей ценностью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главная цель основного закон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400" y="1785600"/>
            <a:ext cx="5786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авные задачи Конституции-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Закрепить и гарантировать фундаментальные права челове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Упорядочить государственную влас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 Утвердить правосуд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5" descr="конституцияРФ"/>
          <p:cNvPicPr/>
          <p:nvPr/>
        </p:nvPicPr>
        <p:blipFill>
          <a:blip r:embed="rId1"/>
          <a:srcRect l="0" t="0" r="0" b="1627"/>
          <a:stretch/>
        </p:blipFill>
        <p:spPr>
          <a:xfrm>
            <a:off x="6215040" y="3214800"/>
            <a:ext cx="2217600" cy="29527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Что такое конституционный строй?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государственно-территориального устройст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режим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овое положение личност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политической жизни общест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нципы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аимоотношения государства и религи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 в группах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79725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 группа – Права и свободы человека и граждани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 группа – Обязанности человека и граждани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 группа – Основы конституционного стро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 группа – Федеративное устройств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Человек и гражданин, его права и свободы – высшая ценность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8" name="Группа 13"/>
          <p:cNvGrpSpPr/>
          <p:nvPr/>
        </p:nvGrpSpPr>
        <p:grpSpPr>
          <a:xfrm>
            <a:off x="357120" y="2143080"/>
            <a:ext cx="8448840" cy="2792520"/>
            <a:chOff x="357120" y="2143080"/>
            <a:chExt cx="8448840" cy="2792520"/>
          </a:xfrm>
        </p:grpSpPr>
        <p:sp>
          <p:nvSpPr>
            <p:cNvPr id="249" name="Oval 6"/>
            <p:cNvSpPr/>
            <p:nvPr/>
          </p:nvSpPr>
          <p:spPr>
            <a:xfrm>
              <a:off x="3571920" y="2143080"/>
              <a:ext cx="2087640" cy="11304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f5f9"/>
                  </a:solidFill>
                  <a:latin typeface="Arial"/>
                </a:rPr>
                <a:t>ПРАВ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7"/>
            <p:cNvSpPr/>
            <p:nvPr/>
          </p:nvSpPr>
          <p:spPr>
            <a:xfrm>
              <a:off x="428400" y="2357280"/>
              <a:ext cx="237636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8"/>
            <p:cNvSpPr/>
            <p:nvPr/>
          </p:nvSpPr>
          <p:spPr>
            <a:xfrm>
              <a:off x="6357960" y="4143600"/>
              <a:ext cx="244800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ЭКОНОМ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6429600" y="2285640"/>
              <a:ext cx="237636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357120" y="4000680"/>
              <a:ext cx="237636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УЛЬТУР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4"/>
            <p:cNvSpPr/>
            <p:nvPr/>
          </p:nvSpPr>
          <p:spPr>
            <a:xfrm>
              <a:off x="3429000" y="4071960"/>
              <a:ext cx="237636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ОЦИ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 flipH="1">
              <a:off x="2714040" y="271440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>
              <a:off x="5715000" y="27144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H="1">
              <a:off x="2786040" y="3286080"/>
              <a:ext cx="1224000" cy="71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4643280" y="3429000"/>
              <a:ext cx="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>
              <a:off x="5286600" y="3357720"/>
              <a:ext cx="1079280" cy="71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Нет прав без обязанностей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Рисунок 3" descr="76.jpe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1571760"/>
            <a:ext cx="9144000" cy="4062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7:52:33Z</dcterms:created>
  <dc:creator>Зевс</dc:creator>
  <dc:description/>
  <dc:language>en-US</dc:language>
  <cp:lastModifiedBy>WiZaRd</cp:lastModifiedBy>
  <dcterms:modified xsi:type="dcterms:W3CDTF">2013-11-05T17:32:02Z</dcterms:modified>
  <cp:revision>92</cp:revision>
  <dc:subject/>
  <dc:title>Основы конституционного строя России.</dc:title>
</cp:coreProperties>
</file>