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7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4.png" ContentType="image/png"/>
  <Override PartName="/ppt/media/image12.jpeg" ContentType="image/jpeg"/>
  <Override PartName="/ppt/media/explode.wav" ContentType="audio/x-wav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72A-8FA2-4541-89C1-B0FDE808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639-CAB0-4479-A60B-E2EF7DB8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39D-0296-41FF-9B8C-AF68994B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9D4-FBC0-47AE-BC2D-DFE3EB90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CED8-4BB5-4D7D-BB9F-49829CE9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00CC-1BBB-47B2-A8B9-5CADDD0D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EDD0-A408-4E23-94F1-91E50BCD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9404-CF4A-4A48-9609-F37CFA95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9890-983B-4970-AF6A-6BE94020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589F-BC2A-4733-8D7D-7450F84C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CC69-9EF9-43F7-BDFC-7F4743E4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4C1-FE40-4530-A58E-BEF5CE36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B680-30CD-4B59-BBE3-BACAF8D6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9891-A09A-4542-9E92-23177F78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E15E-1AA2-4C96-9142-29D4FC95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B1A8-E029-4603-A87F-BA1EF251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CAC2-2C77-4CEC-8662-1CB24E97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7AA54-575F-437C-B678-51633078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2E20-65A3-4229-9F17-F2814AA6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6120-791F-4A42-A2F5-1DF9F48A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73857-F53A-430B-A72D-F4BC17D2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4CC8-6D90-48FC-9887-F57AF0C3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DC6-CB69-479D-A5DC-A0EA414C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49188-1289-4DEA-91A9-7358A9B1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226A3-02D8-43FF-A786-C1C3AA6B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20CA0-0865-41B5-A965-AB9B628C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CB556-ED70-4BB9-9418-962BD1E2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C2A66-758E-48EF-9032-9D93D47A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3EF1D-B8B0-4A4B-A22F-5B96AA7E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0C701-B66B-42DD-ADE4-67C81AAB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11D7D-D285-4499-976D-EFC2B1D4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CFEA0-3C43-4A96-8A73-17A4EE41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05C28-FDCF-49D1-939F-9B62436E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2F6-DE37-4F9F-B5C2-581D7412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4F4AA-89DC-41D1-81A4-A969014B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EE89B-A6D2-4C38-BCA8-D2962270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25621-DBBD-4D54-9354-630FB856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DEE30-1020-4F30-8761-04F425BC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C6E04-7DC7-4629-BD6C-1F23BB19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98746-1626-4FC2-9EC3-011C6A80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EB9BA-C374-4E8C-8612-AD9C41B5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98F61-3C29-4AC4-99F3-EBBB0082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E4A7B-E489-49DA-BA78-0276A5F2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F6A-36CB-43CD-A70A-0BD5F00C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957-7178-4360-9FF8-D82BBE08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6CE-E62F-4CF3-AEF8-FC664249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8FC-EFF1-45B9-A9E5-BA60A24A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0C7-C546-4E27-9905-2965AE2B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EA58-774B-40F5-85F0-25189ABB16C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E9B2-8F0F-4DCC-B44A-6A854C140AB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BD47-DFF7-4ABB-BABB-2069EB884AE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A3E4-0C33-4338-B305-58BCFE60B0B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80880" y="99036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33cc"/>
                </a:solidFill>
                <a:latin typeface="Tahoma"/>
              </a:rPr>
              <a:t>Жизнь и творчество                                                   Ф.И.Тютчева</a:t>
            </a:r>
            <a:br>
              <a:rPr sz="4900"/>
            </a:br>
            <a:r>
              <a:rPr b="1" lang="ru-RU" sz="4900" spc="-1" strike="noStrike">
                <a:solidFill>
                  <a:srgbClr val="0033cc"/>
                </a:solidFill>
                <a:latin typeface="Tahoma"/>
              </a:rPr>
              <a:t>(1803-1873)</a:t>
            </a:r>
            <a:r>
              <a:rPr b="0" lang="ru-RU" sz="4300" spc="-1" strike="noStrike">
                <a:solidFill>
                  <a:srgbClr val="333300"/>
                </a:solidFill>
                <a:latin typeface="Calibri"/>
              </a:rPr>
              <a:t> </a:t>
            </a:r>
            <a:br>
              <a:rPr sz="4900"/>
            </a:b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8" descr="11"/>
          <p:cNvPicPr/>
          <p:nvPr/>
        </p:nvPicPr>
        <p:blipFill>
          <a:blip r:embed="rId2"/>
          <a:stretch/>
        </p:blipFill>
        <p:spPr>
          <a:xfrm>
            <a:off x="5327640" y="1060560"/>
            <a:ext cx="313992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3366"/>
                </a:solidFill>
                <a:latin typeface="Calibri"/>
              </a:rPr>
              <a:t>«Я встретил Вас и все – былое…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4" descr="Амалия"/>
          <p:cNvPicPr/>
          <p:nvPr/>
        </p:nvPicPr>
        <p:blipFill>
          <a:blip r:embed="rId1"/>
          <a:stretch/>
        </p:blipFill>
        <p:spPr>
          <a:xfrm>
            <a:off x="1609560" y="2819520"/>
            <a:ext cx="1733760" cy="20955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nstantia"/>
              </a:rPr>
              <a:t>Он пережил  пылкое увлечение  Амалией  Лерхенфельд, которой и посвятил стихотворен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nstantia"/>
              </a:rPr>
              <a:t>«Я помню время золотое…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nstantia"/>
              </a:rPr>
              <a:t>«Я встретил Вас и все - -былое…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«Любила ты, и так, как ты любить –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Нет никому еще не удавалось»…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Picture 4" descr="Денисьева"/>
          <p:cNvPicPr/>
          <p:nvPr/>
        </p:nvPicPr>
        <p:blipFill>
          <a:blip r:embed="rId1"/>
          <a:stretch/>
        </p:blipFill>
        <p:spPr>
          <a:xfrm>
            <a:off x="1762200" y="2948040"/>
            <a:ext cx="1428840" cy="1838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380880" y="6095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Е.А.Денисьева – последняя любовь  Тютч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tuti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1979640" y="5851440"/>
            <a:ext cx="5688000" cy="7038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ad77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Ф.И.Тютчев с семьёй на народном празднике в Овстуге 15 августа 1857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3399"/>
                </a:solidFill>
                <a:latin typeface="Calibri"/>
              </a:rPr>
              <a:t>«На бесконечном на вольном просторе…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Constantia"/>
              </a:rPr>
              <a:t>Преобладание пейзажей – одна из примет лирики Тютче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4" descr="пейзаж усадьбы ТютчеваФ"/>
          <p:cNvPicPr/>
          <p:nvPr/>
        </p:nvPicPr>
        <p:blipFill>
          <a:blip r:embed="rId1"/>
          <a:stretch/>
        </p:blipFill>
        <p:spPr>
          <a:xfrm>
            <a:off x="4888080" y="2644920"/>
            <a:ext cx="3558960" cy="2444760"/>
          </a:xfrm>
          <a:prstGeom prst="rect">
            <a:avLst/>
          </a:prstGeom>
          <a:ln w="0">
            <a:noFill/>
          </a:ln>
        </p:spPr>
      </p:pic>
      <p:sp>
        <p:nvSpPr>
          <p:cNvPr id="249" name="Oval 5"/>
          <p:cNvSpPr/>
          <p:nvPr/>
        </p:nvSpPr>
        <p:spPr>
          <a:xfrm>
            <a:off x="1143000" y="3352680"/>
            <a:ext cx="2286000" cy="6858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Природа у Тютч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213840" y="453240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изменчи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динамич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304920" y="5867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очеловечена,одухотвор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2743200" y="46483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насыщена звуками, красками, запа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 flipH="1">
            <a:off x="1523880" y="4038480"/>
            <a:ext cx="914400" cy="17528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 flipH="1">
            <a:off x="990720" y="4038480"/>
            <a:ext cx="1371600" cy="4572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1"/>
          <p:cNvSpPr/>
          <p:nvPr/>
        </p:nvSpPr>
        <p:spPr>
          <a:xfrm>
            <a:off x="2514600" y="4038480"/>
            <a:ext cx="914400" cy="5335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spr02_04f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4859280" y="0"/>
            <a:ext cx="428472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эзию Тютчева нельзя представить без лирики природы. И в сознание читателей поэт вошёл прежде всего как певец природы. Некрасов отметил его необыкновенную способность улавливать «именно те черты, по которым в воображении читателя может возникнуть и дорисоваться сама собою данная карт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артины природы в лирике Тютчева воплощают глубокие, напряжённые трагические раздумья поэта о жизни и смерти, о человечестве и миро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900000" y="4221000"/>
            <a:ext cx="1656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6"/>
          <p:cNvSpPr txBox="1"/>
          <p:nvPr/>
        </p:nvSpPr>
        <p:spPr>
          <a:xfrm>
            <a:off x="611280" y="912960"/>
            <a:ext cx="266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WordArt 7"/>
          <p:cNvSpPr txBox="1"/>
          <p:nvPr/>
        </p:nvSpPr>
        <p:spPr>
          <a:xfrm>
            <a:off x="684360" y="2276640"/>
            <a:ext cx="237492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2d7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то</a:t>
            </a:r>
            <a:endParaRPr b="0" lang="en-US" sz="1800" spc="1" strike="noStrike">
              <a:ln w="9360">
                <a:solidFill>
                  <a:srgbClr val="e2d7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8"/>
          <p:cNvSpPr txBox="1"/>
          <p:nvPr/>
        </p:nvSpPr>
        <p:spPr>
          <a:xfrm>
            <a:off x="684360" y="3716280"/>
            <a:ext cx="23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Ос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62" name="WordArt 9"/>
          <p:cNvSpPr txBox="1"/>
          <p:nvPr/>
        </p:nvSpPr>
        <p:spPr>
          <a:xfrm>
            <a:off x="684360" y="5373720"/>
            <a:ext cx="2519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6666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има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6666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wint00_01f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0" y="4149720"/>
            <a:ext cx="33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ы видим и слышим звуки природы от апрельского бурного таяния снегов до тёплых, майских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635280" y="3284640"/>
            <a:ext cx="50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7290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0" y="1557360"/>
            <a:ext cx="32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800"/>
                </a:solidFill>
                <a:latin typeface="Arial"/>
              </a:rPr>
              <a:t>Тютчев неповторимо запечатлел в своих стихотворениях все четыре времени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7"/>
          <p:cNvSpPr txBox="1"/>
          <p:nvPr/>
        </p:nvSpPr>
        <p:spPr>
          <a:xfrm>
            <a:off x="755640" y="333360"/>
            <a:ext cx="5041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с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mart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595440"/>
            <a:ext cx="5833800" cy="543852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269" name="Text Box 3"/>
          <p:cNvSpPr/>
          <p:nvPr/>
        </p:nvSpPr>
        <p:spPr>
          <a:xfrm>
            <a:off x="0" y="692280"/>
            <a:ext cx="32767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Ещё в полях белеет сне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А воды уж весной шумя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Бегут и будят сонный бре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Бегут и блещут и глася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ни гласят во все конц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«Весна идёт, весна идё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ы молодой весны гонц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на нас выслала вперёд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R8140021cf01d0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4140360" y="2496960"/>
            <a:ext cx="453528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7000"/>
                </a:solidFill>
                <a:latin typeface="Arial"/>
              </a:rPr>
              <a:t>Ветры тёплого порыв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7000"/>
                </a:solidFill>
                <a:latin typeface="Arial"/>
              </a:rPr>
              <a:t>Дальний гром и дождь пор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Зеленеющие н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Зеленее под гроз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Вот пробилось из-за ту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Синей молнии стру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Пламень белый и лету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Окаймил её 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0" y="3645000"/>
            <a:ext cx="3456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Неохотно и несм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Солнце всходит на 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Чу, за тучей прогреме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Принахмурилась зем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0" y="692280"/>
            <a:ext cx="50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Тютчевское лето часто грозовое. Место действия – земля и небо, они же – главные персонажи, гроза – это их сложные и противоречив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7"/>
          <p:cNvSpPr txBox="1"/>
          <p:nvPr/>
        </p:nvSpPr>
        <p:spPr>
          <a:xfrm>
            <a:off x="5334120" y="260280"/>
            <a:ext cx="3198600" cy="15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5e00"/>
                    </a:gs>
                  </a:gsLst>
                  <a:lin ang="5400000"/>
                </a:gradFill>
                <a:latin typeface="Impact"/>
              </a:rPr>
              <a:t>Ле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5e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69388d7a2db2ca792e74b9fa07b8a7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WordArt 3"/>
          <p:cNvSpPr txBox="1"/>
          <p:nvPr/>
        </p:nvSpPr>
        <p:spPr>
          <a:xfrm>
            <a:off x="2050920" y="333360"/>
            <a:ext cx="417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ен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533520" y="3429000"/>
            <a:ext cx="6933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entury Schoolbook"/>
              </a:rPr>
              <a:t>Есть в осени первонача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entury Schoolbook"/>
              </a:rPr>
              <a:t>Короткая, но дивная пор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entury Schoolbook"/>
              </a:rPr>
              <a:t>Весь день стоит как бы хрусталь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entury Schoolbook"/>
              </a:rPr>
              <a:t>И лучезарны вече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7467480" y="380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385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385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38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38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seg99_08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WordArt 3"/>
          <p:cNvSpPr txBox="1"/>
          <p:nvPr/>
        </p:nvSpPr>
        <p:spPr>
          <a:xfrm>
            <a:off x="2340000" y="620640"/>
            <a:ext cx="381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66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им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6666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0" y="4292640"/>
            <a:ext cx="4140360" cy="2253600"/>
          </a:xfrm>
          <a:prstGeom prst="rect">
            <a:avLst/>
          </a:prstGeom>
          <a:blipFill rotWithShape="0">
            <a:blip r:embed="rId2">
              <a:alphaModFix amt="5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родейкою Зим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олдован, лес стои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д снежной бахромо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движною, немо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удной  жизнью он блест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292720" y="4292640"/>
            <a:ext cx="3851280" cy="2253600"/>
          </a:xfrm>
          <a:prstGeom prst="rect">
            <a:avLst/>
          </a:prstGeom>
          <a:gradFill rotWithShape="0">
            <a:gsLst>
              <a:gs pos="0">
                <a:srgbClr val="6666ff">
                  <a:alpha val="47058"/>
                </a:srgbClr>
              </a:gs>
              <a:gs pos="100000">
                <a:srgbClr val="6666ff">
                  <a:alpha val="4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тоит он, околдован,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мертвец и не живой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м волшебным очаров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ь опутан, весь оков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ёгкой цепью пухов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04_03"/>
          <p:cNvPicPr/>
          <p:nvPr/>
        </p:nvPicPr>
        <p:blipFill>
          <a:blip r:embed="rId1"/>
          <a:stretch/>
        </p:blipFill>
        <p:spPr>
          <a:xfrm>
            <a:off x="5076720" y="1557360"/>
            <a:ext cx="3780000" cy="4968720"/>
          </a:xfrm>
          <a:prstGeom prst="rect">
            <a:avLst/>
          </a:prstGeom>
          <a:ln w="0">
            <a:noFill/>
          </a:ln>
        </p:spPr>
      </p:pic>
      <p:sp>
        <p:nvSpPr>
          <p:cNvPr id="198" name="WordArt 3"/>
          <p:cNvSpPr txBox="1"/>
          <p:nvPr/>
        </p:nvSpPr>
        <p:spPr>
          <a:xfrm>
            <a:off x="4572000" y="0"/>
            <a:ext cx="457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dbf5f9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тств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dbf5f9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Picture 4" descr="pix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50920" y="260280"/>
            <a:ext cx="4752720" cy="65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Недалеко от города Брянска, в селе Овстуг, расположенном у реки Десны, 23 ноября 1803 года родился Фёдор Иванович Тютчев в родовитой дворянской семье. Ко дню рождения отца,13 ноября, будущий поэт написал стихотворение, и называлось оно «Любезному папеньке». Юному стихотворцу тогда ещё не исполнилось одиннадцати лет, и чтение стихотворения всегда вызывало слёзы восто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  сей день счастливый                                                                                     нежность   сы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Какой бы дар принесть смогла!     Букет цветов? – но флора отцве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 луг поблёкнул  и долина</a:t>
            </a:r>
            <a:r>
              <a:rPr b="1" i="1" lang="ru-RU" sz="1800" spc="-1" strike="noStrike">
                <a:solidFill>
                  <a:srgbClr val="003300"/>
                </a:solidFill>
                <a:latin typeface="Monotype Corsiv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403280" y="692280"/>
            <a:ext cx="691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 1858 года и до конца своих дней Тютчев занимал должность председателя Комитета цензуры иностранной. Он часто выступал в роли заступника изданий и влиял на органы печати в духе своих убеждений. Чувство одиночества было особенно ощутимо в последние годы жизни поэта. Ушли из жизни многие близкие люди. Тяжело больной, прикованный к постели, Тютчев поражал окружающих остротой и живостью ума, интересом к событиям политической и литератур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900000" y="4005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Умер Тютчев 15/27 июля 1873 года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50920" y="4724280"/>
            <a:ext cx="341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осле смерти поэта вышло издание его стихотворений. А.А.Фет приветствовал его стихотворным посвящением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3995640" y="4941720"/>
            <a:ext cx="4032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72909"/>
                </a:solidFill>
                <a:latin typeface="Arial"/>
              </a:rPr>
              <a:t>Но муза, правду соблюдая, Глядит – а на весах у ней     Вот эта книжка небольшая, Томов премногих </a:t>
            </a:r>
            <a:r>
              <a:rPr b="1" lang="ru-RU" sz="2400" spc="-1" strike="noStrike">
                <a:solidFill>
                  <a:srgbClr val="c72909"/>
                </a:solidFill>
                <a:latin typeface="Arial"/>
              </a:rPr>
              <a:t>тяж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6"/>
          <p:cNvSpPr txBox="1"/>
          <p:nvPr/>
        </p:nvSpPr>
        <p:spPr>
          <a:xfrm>
            <a:off x="611280" y="120600"/>
            <a:ext cx="48546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45000"/>
                  </a:srgbClr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Последние годы жиз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45000"/>
                </a:srgbClr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pam_tutchev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228600"/>
            <a:ext cx="4496040" cy="60562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289" name="Text Box 3"/>
          <p:cNvSpPr/>
          <p:nvPr/>
        </p:nvSpPr>
        <p:spPr>
          <a:xfrm>
            <a:off x="5029200" y="236232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Памятник Ф.И.Тютчеву в селе Овстуг на Брянщ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908000" y="260280"/>
            <a:ext cx="5905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Юност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Picture 3" descr="9a"/>
          <p:cNvPicPr/>
          <p:nvPr/>
        </p:nvPicPr>
        <p:blipFill>
          <a:blip r:embed="rId1"/>
          <a:stretch/>
        </p:blipFill>
        <p:spPr>
          <a:xfrm>
            <a:off x="5219640" y="1341360"/>
            <a:ext cx="3382920" cy="4680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250920" y="981000"/>
            <a:ext cx="460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Тютчев рано обнаружил необыкновенные дарования  и способности к учению. Получил хорошее домашнее образование, которым с десяти лет руководил Раич, поэт-переводчик, знаток классической древности и итальянской литературы. Уже в двенадцать лет Тютчев поступает на словесное отделение Московского университета. После окончания университета (1821) Тютчев едет в Петербург, поступает на службу в Коллегию иностранных дел, получает место сверхштатного чиновника русской дипломатической миссии в Баварии и в девятнадцать лет отправляется в Мюнхен. За границей Тютчеву предстоит провести двадцать два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Родители поэ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lit03-03[1]"/>
          <p:cNvPicPr/>
          <p:nvPr/>
        </p:nvPicPr>
        <p:blipFill>
          <a:blip r:embed="rId1"/>
          <a:stretch/>
        </p:blipFill>
        <p:spPr>
          <a:xfrm>
            <a:off x="250920" y="76500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отец Тютчева"/>
          <p:cNvPicPr/>
          <p:nvPr/>
        </p:nvPicPr>
        <p:blipFill>
          <a:blip r:embed="rId1"/>
          <a:stretch/>
        </p:blipFill>
        <p:spPr>
          <a:xfrm>
            <a:off x="838080" y="609480"/>
            <a:ext cx="2470320" cy="2895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мать   Тютчева"/>
          <p:cNvPicPr/>
          <p:nvPr/>
        </p:nvPicPr>
        <p:blipFill>
          <a:blip r:embed="rId2"/>
          <a:stretch/>
        </p:blipFill>
        <p:spPr>
          <a:xfrm>
            <a:off x="5486400" y="609480"/>
            <a:ext cx="2451240" cy="28958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 rot="558600">
            <a:off x="336960" y="4117680"/>
            <a:ext cx="4114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Отец Тютчева, Иван  Николаеви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радушный,гостеприимный и доб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сердечный хозяин-помещик,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стремившийся к служебной карь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 flipV="1" rot="20473800">
            <a:off x="5103000" y="3794760"/>
            <a:ext cx="35049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Мать Тютче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Екатерина Льв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урожденная Толстая</a:t>
            </a:r>
            <a:r>
              <a:rPr b="0" i="1" lang="en-US" sz="1800" spc="-1" strike="noStrike">
                <a:solidFill>
                  <a:srgbClr val="003300"/>
                </a:solidFill>
                <a:latin typeface="Arial"/>
              </a:rPr>
              <a:t>&gt;</a:t>
            </a: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Женщина умная,но нервная и впечатлитель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2"/>
          <p:cNvSpPr txBox="1"/>
          <p:nvPr/>
        </p:nvSpPr>
        <p:spPr>
          <a:xfrm>
            <a:off x="971640" y="0"/>
            <a:ext cx="69850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Любовная лирика Ф.И.Тютчева.</a:t>
            </a:r>
            <a:endParaRPr b="0" lang="en-US" sz="1800" spc="1" strike="noStrike">
              <a:ln w="9360">
                <a:solidFill>
                  <a:srgbClr val="333300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  <p:pic>
        <p:nvPicPr>
          <p:cNvPr id="212" name="Picture 3" descr="04_06"/>
          <p:cNvPicPr/>
          <p:nvPr/>
        </p:nvPicPr>
        <p:blipFill>
          <a:blip r:embed="rId1"/>
          <a:stretch/>
        </p:blipFill>
        <p:spPr>
          <a:xfrm>
            <a:off x="0" y="4149720"/>
            <a:ext cx="2556000" cy="2708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04_04"/>
          <p:cNvPicPr/>
          <p:nvPr/>
        </p:nvPicPr>
        <p:blipFill>
          <a:blip r:embed="rId2"/>
          <a:stretch/>
        </p:blipFill>
        <p:spPr>
          <a:xfrm>
            <a:off x="6588000" y="1052640"/>
            <a:ext cx="2556000" cy="2879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04_08"/>
          <p:cNvPicPr/>
          <p:nvPr/>
        </p:nvPicPr>
        <p:blipFill>
          <a:blip r:embed="rId3"/>
          <a:stretch/>
        </p:blipFill>
        <p:spPr>
          <a:xfrm>
            <a:off x="0" y="1197000"/>
            <a:ext cx="2556000" cy="2951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04_09"/>
          <p:cNvPicPr/>
          <p:nvPr/>
        </p:nvPicPr>
        <p:blipFill>
          <a:blip r:embed="rId4"/>
          <a:stretch/>
        </p:blipFill>
        <p:spPr>
          <a:xfrm>
            <a:off x="6608880" y="3933720"/>
            <a:ext cx="2535120" cy="29242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7"/>
          <p:cNvSpPr/>
          <p:nvPr/>
        </p:nvSpPr>
        <p:spPr>
          <a:xfrm>
            <a:off x="2484360" y="90792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Одной из центральных в зрелой лирике Тютчева стала тема любви. Любовная лирика отразила его личную жизнь, полную страстей и стр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0" y="3573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Амалия Лерхенфель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7236000" y="29973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Элеонора Петер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0" y="621648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5dfd0"/>
                </a:solidFill>
                <a:latin typeface="Arial"/>
              </a:rPr>
              <a:t>Эрнестина Дер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948360" y="649116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лена Денис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2514600" y="4294080"/>
            <a:ext cx="403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Любовь для поэта – и «блаженство», и «безнадёжность», и напряжённое чувство, несущее человеку страдание и счастье, «поединок роковой» двух сердец. С особым драматизмом тема любви раскрылась в стихах, посвящённых Е.А.Денисье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4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1481040" cy="2016360"/>
          </a:xfrm>
          <a:prstGeom prst="rect">
            <a:avLst/>
          </a:prstGeom>
          <a:ln w="28440">
            <a:solidFill>
              <a:srgbClr val="c729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«Еще томлюсь тоской желаний…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4" descr="леонора Петерсон"/>
          <p:cNvPicPr/>
          <p:nvPr/>
        </p:nvPicPr>
        <p:blipFill>
          <a:blip r:embed="rId1"/>
          <a:stretch/>
        </p:blipFill>
        <p:spPr>
          <a:xfrm>
            <a:off x="990720" y="1676520"/>
            <a:ext cx="2219040" cy="2519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Эрнестина"/>
          <p:cNvPicPr/>
          <p:nvPr/>
        </p:nvPicPr>
        <p:blipFill>
          <a:blip r:embed="rId2"/>
          <a:stretch/>
        </p:blipFill>
        <p:spPr>
          <a:xfrm>
            <a:off x="5791320" y="1676520"/>
            <a:ext cx="2068560" cy="25146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136440" y="48006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6 году Тютчев вступает в брак с Элеонорой Петерсон, урожденной графиней Бот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4267080" y="4724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38 г., после смерти первой жены, Тютчев заключает брак с красавицей Эрнестиной Дернберг,урожденной баронессой  Пфефф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04_08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50920" y="1484280"/>
            <a:ext cx="4248000" cy="51577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5219640" y="1844640"/>
            <a:ext cx="36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4643280" y="1700280"/>
            <a:ext cx="428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Они познакомились во второй половине 1823 года, когда двадцатилетний Фёдор Тютчев уже освоил свои немногочисленные служебные обязанности и стал чаще появляться в свете. Пятью годами моложе его была Амалия Лерхенфельд. Пятнадцатилетняя красавица взяла под своё покровительство превосходно воспитанного, чуть застенчивого  русского диплом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10"/>
          <p:cNvSpPr txBox="1"/>
          <p:nvPr/>
        </p:nvSpPr>
        <p:spPr>
          <a:xfrm>
            <a:off x="1523880" y="-228600"/>
            <a:ext cx="482436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a1c0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вая любовь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a1c0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826920" y="907920"/>
            <a:ext cx="691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passau7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sp>
        <p:nvSpPr>
          <p:cNvPr id="235" name="Text Box 4"/>
          <p:cNvSpPr/>
          <p:nvPr/>
        </p:nvSpPr>
        <p:spPr>
          <a:xfrm>
            <a:off x="468360" y="333360"/>
            <a:ext cx="8064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помню время золот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помню сердцу милый кр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нь вечерел; мы были дв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изу, в тени, шумел Дун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971640" y="4365720"/>
            <a:ext cx="705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611280" y="4365720"/>
            <a:ext cx="755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год их знакомства, того самого «времени золотого», Тютчев был настолько очарован своей юной избранницей, что стал всерьёз подумывать о женитьбе. Фёдор Иванович решился просить руки Амалии. Но русский дворянин показался её родителям не такой уж выгодной партией для их дочери, и они предпочли ему барона Крюден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1-13T15:51:0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