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501-1B7D-4309-82FB-1247CA82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5C3-8406-4BA3-AF23-46BEB61C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772-CD04-43A3-8C13-7977FFE2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5B8-19DA-4754-B283-878D1263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9845-9BF6-49C5-9E20-00005B8F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E3F8-B5E9-4CFE-8C2B-FF93E26F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1EA8-E5E7-408C-BE36-BE5A87CB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692B-AF3A-4A38-97B5-0A40AB2F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BCFF-1349-4998-81FB-6371F36F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935A-ABF7-48FD-B221-0E95CDC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73B1-5007-4A8B-96E3-47CBEF64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926-C628-450F-BBBA-757ED50E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9B1F-8D81-4A0E-9116-A7E6EEB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C874-483C-4CBF-ABDB-8F56FC43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707B-9BB4-46E0-8580-5B35D147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FE6A-EA3F-407F-9D6A-F2C1EDC7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EA11-E27F-4E9E-9790-D04B1FC2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C42-092C-4D45-8BC7-5818A1C2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043-209A-4C57-9A2F-298D748F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424-472D-4CEF-A4BA-B00E50BA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11D-B51C-4A61-8604-323967A7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86B-81BB-452B-8126-345CA50E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909-BB73-4A63-A0F1-BFA0E69C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9B2-50A6-4CE7-B20F-9A17D11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BC3E-E39D-4EDE-9AE8-413FFF6018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5FDC-C6C3-4FB7-8C70-3B93D6D287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ru/imgres?imgurl=http://igrushka.kz/vip50/mach.jpg&amp;imgrefurl=http://igrushka.kz/vip50/uvmach.php&amp;usg=__HSt7rN527_QoVVlu_hc-6ghnVEk=&amp;h=260&amp;w=300&amp;sz=24&amp;hl=ru&amp;start=2&amp;zoom=1&amp;itbs=1&amp;tbnid=cJ16-DJNU3FqWM:&amp;tbnh=101&amp;tbnw=116&amp;prev=/images%3Fq%3D%25D0%25BC%25D1%258F%25D1%2587%26hl%3Dru%26newwindow%3D1%26sa%3DG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411280" y="907920"/>
            <a:ext cx="4321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42920" y="2205000"/>
            <a:ext cx="6985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деальный ребёнок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024000" cy="345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68360" y="1773360"/>
            <a:ext cx="3384360" cy="345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6360" cy="345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403280" y="476280"/>
            <a:ext cx="6408720" cy="597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71640" y="2060640"/>
            <a:ext cx="331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дачи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М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340000" y="5661000"/>
            <a:ext cx="43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внимание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920" y="623736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тельское собрание подготовила Калошкина О.В. МОУ «СОШ № 3 с. Алакурт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836640"/>
            <a:ext cx="7305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чему ребёнок становится чужим?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35280" y="3573360"/>
            <a:ext cx="5724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уть к взаимопониманию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4000" y="5084640"/>
            <a:ext cx="64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тельское собрание подготовила Калошкина О.В, МОУ «СОШ № 3 с. Алакурт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66640" y="1752480"/>
          <a:ext cx="8001000" cy="44467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ожительные качества ребён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ицательные качества ребён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 txBox="1"/>
          <p:nvPr/>
        </p:nvSpPr>
        <p:spPr>
          <a:xfrm>
            <a:off x="1547640" y="1916280"/>
            <a:ext cx="1771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рошие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12000" y="1916280"/>
            <a:ext cx="1438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хие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63640" y="692280"/>
            <a:ext cx="583272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АШ РЕБЁНОК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ех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16360" y="549360"/>
            <a:ext cx="4824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Я - высказывания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6640" y="1752480"/>
          <a:ext cx="8001000" cy="39848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чему всё должна делать 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чувствую себя такой уставшей, мне нужна твоя помощь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 выполнил свои домашние зада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я беспокоит твоя алгебра. Может ты устал в школе и я могла бы тебе чем-нибудь помоч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е трудно было прийти домой пораньш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так волновалась пока тебя не было, и мне было обидно, что ты мне не позвонил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 никогда меня не слушаешь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гда я слышу, что ты меня не слушаешь, мне неприятно, ведь я говорю достаточно важные вещ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 txBox="1"/>
          <p:nvPr/>
        </p:nvSpPr>
        <p:spPr>
          <a:xfrm>
            <a:off x="4643280" y="1773360"/>
            <a:ext cx="381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я-высказывание"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773360"/>
            <a:ext cx="410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ы-высказывание"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конфликт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360" y="692280"/>
            <a:ext cx="33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а в мяч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916280"/>
            <a:ext cx="44658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облемных ситуац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аша дочь просит отпустить её на вечеринку. Вечеринка проходит за городом на даче. В ней участвуют не только сверстники- подруги вашей дочери, но и ребята более старшего возраста. Как вы поступит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404640"/>
            <a:ext cx="25336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суждение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51280" y="4724280"/>
            <a:ext cx="14414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ам сообщили, что ваш ребёнок пойман в школе на мелком воровстве. От вас требуют немедленно прибыть в школу для выяснения ситуации. Как вы поступите в такой ситу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35280" y="4437000"/>
            <a:ext cx="2232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аш ребёнок несколько дней прогуливал уроки. Каждое утро вы с полным доверием провожали его в школу. Теперь же выяснилось, что он вас жестоко обманывал и вместо уроков гулял по городу. Предполагаемое решение проблем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380360" y="476280"/>
            <a:ext cx="1152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 много работаете, часто очень заняты, поэтому просите своего ребёнка сделать необходимую работу по дому. Ребёнок находит тысячу отговорок, но при этом успевает поболтать с друзьями, посмотреть телевизор. Как только вы начинаете его ругать, уходит к себе в комнату, а на просьбы не реагирует. Ваши действ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29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22:34:52Z</dcterms:created>
  <dc:creator>Пользователь</dc:creator>
  <dc:description/>
  <dc:language>en-US</dc:language>
  <cp:lastModifiedBy>Пользователь</cp:lastModifiedBy>
  <dcterms:modified xsi:type="dcterms:W3CDTF">2011-01-24T19:27:44Z</dcterms:modified>
  <cp:revision>3</cp:revision>
  <dc:subject/>
  <dc:title>Слайд 1</dc:title>
</cp:coreProperties>
</file>