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3B1-4D2F-4089-91AA-1D90ACA2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58D-8382-4397-AA49-97F21721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5E66-B71A-4B01-A8ED-D31D3066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A17-CA92-40F8-AE9D-F8F472AF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6C61-93FD-4158-8F25-620B4D7D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AAE4-E74B-48F3-BAA9-FB4C262B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E4B1-4594-413C-87B5-7C344EAD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FBE0-59D0-4A4F-8D44-C41E1D3F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2833-B149-4639-BDAB-7765B4D6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5232-BFC7-46B7-8FFF-A1E02CA1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C54E-2303-462B-85B7-87A91DC4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0CC4-307F-42A6-9F84-DB4D9A6F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E8F3-2068-4FA6-8FF1-C450A9A7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8661-7915-48EA-96A5-DACE38BC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842E-0533-4DE6-A682-31A93B18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912E-E84F-43E9-A458-696F6DF7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833D-20F3-438F-94E5-592786CD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A5A-9E17-41C2-8A12-FE2C7D87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A05-0949-4992-AA35-9AA8B7FB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6A0A-6F33-4FF5-B997-7782147E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EF4-B7CA-4070-AE5F-F1CA3001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5D64-66F6-435E-A69B-60E60378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160-2D98-41FB-9D52-6BDF2D18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A3E-831A-44C4-A277-9FE93383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3471-AC47-492F-9375-8DF39E6450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063C-3ECB-46B2-BE3A-23478AC074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ru/imgres?imgurl=http://igrushka.kz/vip50/mach.jpg&amp;imgrefurl=http://igrushka.kz/vip50/uvmach.php&amp;usg=__HSt7rN527_QoVVlu_hc-6ghnVEk=&amp;h=260&amp;w=300&amp;sz=24&amp;hl=ru&amp;start=2&amp;zoom=1&amp;itbs=1&amp;tbnid=cJ16-DJNU3FqWM:&amp;tbnh=101&amp;tbnw=116&amp;prev=/images%3Fq%3D%25D0%25BC%25D1%258F%25D1%2587%26hl%3Dru%26newwindow%3D1%26sa%3DG%26gbv%3D2%26tbs%3Disch: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411280" y="907920"/>
            <a:ext cx="43214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42920" y="2205000"/>
            <a:ext cx="698508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деальный ребёнок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3024000" cy="3456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68360" y="1773360"/>
            <a:ext cx="3384360" cy="345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187280" y="1557360"/>
            <a:ext cx="6696360" cy="3456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403280" y="476280"/>
            <a:ext cx="6408720" cy="5977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771640" y="2060640"/>
            <a:ext cx="3313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дачи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АМ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340000" y="5661000"/>
            <a:ext cx="439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за внимание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920" y="6237360"/>
            <a:ext cx="64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дительское собрание подготовила Калошкина О.В. МОУ «СОШ № 3 с. Алакурт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9640" y="836640"/>
            <a:ext cx="7305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чему ребёнок становится чужим?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835280" y="3573360"/>
            <a:ext cx="57243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уть к взаимопониманию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4000" y="5084640"/>
            <a:ext cx="64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дительское собрание подготовила Калошкина О.В, МОУ «СОШ № 3 с. Алакурт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66640" y="1752480"/>
          <a:ext cx="8001000" cy="44467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3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ложительные качества ребён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рицательные качества ребён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 txBox="1"/>
          <p:nvPr/>
        </p:nvSpPr>
        <p:spPr>
          <a:xfrm>
            <a:off x="1547640" y="1916280"/>
            <a:ext cx="1771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орошие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12000" y="1916280"/>
            <a:ext cx="1438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охие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63640" y="692280"/>
            <a:ext cx="583272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ВАШ РЕБЁНОК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тех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916360" y="549360"/>
            <a:ext cx="482436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Я - высказывания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66640" y="1752480"/>
          <a:ext cx="8001000" cy="398484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чему всё должна делать 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чувствую себя такой уставшей, мне нужна твоя помощь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ы выполнил свои домашние задани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я беспокоит твоя алгебра. Может ты устал в школе и я могла бы тебе чем-нибудь помочь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ве трудно было прийти домой пораньш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так волновалась пока тебя не было, и мне было обидно, что ты мне не позвонил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ы никогда меня не слушаешь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гда я слышу, что ты меня не слушаешь, мне неприятно, ведь я говорю достаточно важные вещи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 txBox="1"/>
          <p:nvPr/>
        </p:nvSpPr>
        <p:spPr>
          <a:xfrm>
            <a:off x="4643280" y="1773360"/>
            <a:ext cx="3810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я-высказывание"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1773360"/>
            <a:ext cx="410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ты-высказывание"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конфликт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76360" y="692280"/>
            <a:ext cx="33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ра в мяч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11280" y="1916280"/>
            <a:ext cx="44658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роблемных ситуац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аша дочь просит отпустить её на вечеринку. Вечеринка проходит за городом на даче. В ней участвуют не только сверстники- подруги вашей дочери, но и ребята более старшего возраста. Как вы поступит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4360" y="404640"/>
            <a:ext cx="25336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суждение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851280" y="4724280"/>
            <a:ext cx="14414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ам сообщили, что ваш ребёнок пойман в школе на мелком воровстве. От вас требуют немедленно прибыть в школу для выяснения ситуации. Как вы поступите в такой ситуац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635280" y="4437000"/>
            <a:ext cx="22320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аш ребёнок несколько дней прогуливал уроки. Каждое утро вы с полным доверием провожали его в школу. Теперь же выяснилось, что он вас жестоко обманывал и вместо уроков гулял по городу. Предполагаемое решение проблем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380360" y="476280"/>
            <a:ext cx="1152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ы много работаете, часто очень заняты, поэтому просите своего ребёнка сделать необходимую работу по дому. Ребёнок находит тысячу отговорок, но при этом успевает поболтать с друзьями, посмотреть телевизор. Как только вы начинаете его ругать, уходит к себе в комнату, а на просьбы не реагирует. Ваши действи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308720" y="404640"/>
            <a:ext cx="1295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22:34:52Z</dcterms:created>
  <dc:creator>Пользователь</dc:creator>
  <dc:description/>
  <dc:language>en-US</dc:language>
  <cp:lastModifiedBy>Пользователь</cp:lastModifiedBy>
  <dcterms:modified xsi:type="dcterms:W3CDTF">2011-01-24T19:27:44Z</dcterms:modified>
  <cp:revision>3</cp:revision>
  <dc:subject/>
  <dc:title>Слайд 1</dc:title>
</cp:coreProperties>
</file>