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384-82BD-40B6-B14A-80C1FF76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776-430C-467D-8AC7-B55987D1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16CC-38C6-466B-9C6B-CE612BA5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A83-3B59-4389-BF21-26433E5F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2139-6E11-44F7-AAF4-991EC75B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6173-7AAE-47ED-9621-638EAA36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1AAE-0C08-48F3-8128-47004E60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6AA1-9643-4C2E-B55A-8FB7B39D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1DAE-86B9-4518-A182-6D57E942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6FB3-0430-4369-BDC1-8AD44E3D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D3F5-C94F-4526-A128-87DC3BE5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99B-6BAC-487D-ADC9-90D3E5DB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3FE0-DBAA-4B37-A371-2DA9AD41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DFF2-04BC-4BA5-9DBD-7CBB7739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D975-28D1-4E9B-A62D-1B946E76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E7EA-004A-4F6E-ABE4-B314E5EE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B75A-385B-4764-9393-87FAB5B8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3EE-64C0-4E26-9493-7D75C6D3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68E-B59F-4F18-B863-2FA9B8FE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059-C799-4B22-89EF-A385C683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FFE-A57D-4157-9305-633B3600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A86-0541-4B66-8EED-82BD61B8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5C0-91B6-48B5-A882-796756BE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B6F-5E9C-43DB-8E0E-B99B6A8B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FB25-BFC4-4459-9110-04D2FAA7509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D7B7-E92D-436F-A39C-4B642E8D291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игра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втор: Яненко Ксени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конец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од каким номером планета Сатурн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14920" cy="41148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643280" y="1981080"/>
            <a:ext cx="3814920" cy="41148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399680" y="53341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gency FB"/>
              </a:rPr>
              <a:t>1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258160" y="52214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gency FB"/>
              </a:rPr>
              <a:t>2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ак называется эта планета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4495680" cy="36576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360" y="1981080"/>
            <a:ext cx="374184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Венер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ак называется эта планета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95680" cy="3733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Марс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ак называется эта планета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4525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Нептун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1" lang="en-US" sz="8000" spc="-1" strike="noStrike">
                <a:solidFill>
                  <a:srgbClr val="ffffff"/>
                </a:solidFill>
                <a:latin typeface="Arial Black"/>
              </a:rPr>
              <a:t>загадки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6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мый первый в космос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Летел с огромной скоростью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тважный русский парень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аш космонавт 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(Гагарин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ланета голубая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Любимая, родная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на твоя, она моя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А называется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(Земля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свещает ночью путь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Звездам не дает заснут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усть все спят, ей не до сна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 небе светит нам 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(Луна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пециальный космический есть аппарат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игналы на Землю он шлет всем подряд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Как одинокий таинственный путник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Летит по орбите искусственный 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(спутник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А галактики летя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 рассыпную как хотя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Очень здоровенна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Эта вс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селенна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Из какого ковш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е пьют, не едят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А только на него глядят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(Большая Медведица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9-23T16:37:1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