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C527-4234-4392-9C64-1528ACC7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8A1A-B468-4CD0-B4A0-D8A97771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8925-3214-4642-9B9B-B1C85642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53FF-9AF0-4388-B68A-381796A9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DFE5-0854-4AF0-861D-C40B92796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18EB-EB75-4760-9150-D4D2CE5C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A363-5AD4-469B-B40E-AB0A3E9A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49EA-4FA3-4A70-AB8E-69D12F6A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145B-2E0C-4D9C-9039-FEC46CEE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5626-EF00-4B42-9F5C-2920D3B7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9C3A-4755-4FB5-9EE5-2671E43F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BC54-00D4-4075-A131-EAF08ACB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A461-1AF3-436B-B178-3BC4498A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E8D1-17CB-4CD3-B2ED-0FBFCCD9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C10E-EF67-4F76-B883-37E68255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4415-C58A-4C6A-90B5-8161BC99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C53F-B299-49AB-AE12-3F0448A9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E1A0-FA87-4DD5-92C6-2BECF77B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B3AB-BA5F-4F96-AAFD-436DBA03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3DDC-6226-421C-9E5C-40BAF2E2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3064-BD0D-41CE-A865-9D822FE0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6DB9-DFA7-4FD9-B27D-0EAFAAB5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BBDA-FC0B-47CF-9902-1E77CF24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B972-11F4-4EBA-AA2A-07CF1E2A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245A-30DF-4C83-A35F-19122FD14B3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DA4C-AD4C-461A-A844-040F3877D9C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</a:rPr>
              <a:t>игра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Автор: Яненко Ксени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680" y="2514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</a:rPr>
              <a:t>             </a:t>
            </a:r>
            <a:r>
              <a:rPr b="1" lang="en-US" sz="6000" spc="-1" strike="noStrike">
                <a:solidFill>
                  <a:srgbClr val="ffffff"/>
                </a:solidFill>
                <a:latin typeface="Arial Black"/>
              </a:rPr>
              <a:t>конец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-685800"/>
            <a:ext cx="914400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од каким номером планета Сатурн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14920" cy="41148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643280" y="1981080"/>
            <a:ext cx="3814920" cy="41148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399680" y="53341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gency FB"/>
              </a:rPr>
              <a:t>1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258160" y="52214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gency FB"/>
              </a:rPr>
              <a:t>2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Как называется эта планета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4495680" cy="36576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716360" y="1981080"/>
            <a:ext cx="374184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Венер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Как называется эта планета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95680" cy="37339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Марс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Как называется эта планета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495680" cy="4525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Нептун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1" lang="en-US" sz="8000" spc="-1" strike="noStrike">
                <a:solidFill>
                  <a:srgbClr val="ffffff"/>
                </a:solidFill>
                <a:latin typeface="Arial Black"/>
              </a:rPr>
              <a:t>загадки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strips dir="r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06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амый первый в космосе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Летел с огромной скоростью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Отважный русский парень,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Наш космонавт …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(Гагарин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ланета голубая,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Любимая, родная,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Она твоя, она моя,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А называется…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(Земля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Освещает ночью путь,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Звездам не дает заснуть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Пусть все спят, ей не до сна,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В небе светит нам …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(Луна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пециальный космический есть аппарат,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игналы на Землю он шлет всем подряд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Как одинокий таинственный путник,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Летит по орбите искусственный …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(спутник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А галактики летя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В рассыпную как хотят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Очень здоровенна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Эта вс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вселенна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Из какого ковш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Не пьют, не едят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А только на него глядят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(Большая Медведица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9-23T16:37:1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