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0439D-955E-4388-BBFD-147FDB783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3A646-A6FE-4ACA-9341-30A0DA6F4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1DEDA-64AB-4393-B125-0E53E11B3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30CA8-893A-42C9-AC08-2A45407CF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5018F-3CDF-48F1-A8DA-F2E5EB4CA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964B2-0BF9-443B-9BAC-70AFCFA71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C373D-C41F-4771-8093-ED62ADBD4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DD071-CF93-45FB-A98B-3E25D0072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62879-C3F5-486D-8C25-59A018CA8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1E97A-5FDB-47C6-851D-80C78E0E1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AB288-E92F-4DAA-98D6-0F720F31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CB24-C8D2-44C9-9C5B-460BBB07C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805D-BED1-4ED0-A35F-9F92D68B764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308680" y="1643040"/>
            <a:ext cx="4310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Times New Roman"/>
                <a:ea typeface="Times New Roman"/>
              </a:rPr>
              <a:t>Проект</a:t>
            </a:r>
            <a:r>
              <a:rPr b="0" lang="ru-RU"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42" name="TextBox 2"/>
          <p:cNvSpPr/>
          <p:nvPr/>
        </p:nvSpPr>
        <p:spPr>
          <a:xfrm>
            <a:off x="2417040" y="3214800"/>
            <a:ext cx="35244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Monotype Corsiva"/>
                <a:ea typeface="Arial"/>
              </a:rPr>
              <a:t>Шашки</a:t>
            </a:r>
            <a:endParaRPr b="0" lang="en-US" sz="6600" spc="-1" strike="noStrike">
              <a:solidFill>
                <a:srgbClr val="000000"/>
              </a:solidFill>
              <a:latin typeface="Calibri"/>
            </a:endParaRPr>
          </a:p>
        </p:txBody>
      </p:sp>
      <p:sp>
        <p:nvSpPr>
          <p:cNvPr id="43" name="TextBox 4"/>
          <p:cNvSpPr/>
          <p:nvPr/>
        </p:nvSpPr>
        <p:spPr>
          <a:xfrm>
            <a:off x="-16200" y="214200"/>
            <a:ext cx="3405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ea typeface="Arial"/>
              </a:rPr>
              <a:t>МБОУ «СОШ» №28</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ea typeface="Arial"/>
              </a:rPr>
              <a:t>Г. Ульяновска</a:t>
            </a:r>
            <a:endParaRPr b="0" lang="en-US" sz="2800" spc="-1" strike="noStrike">
              <a:solidFill>
                <a:srgbClr val="000000"/>
              </a:solidFill>
              <a:latin typeface="Calibri"/>
            </a:endParaRPr>
          </a:p>
        </p:txBody>
      </p:sp>
      <p:sp>
        <p:nvSpPr>
          <p:cNvPr id="44" name="TextBox 5"/>
          <p:cNvSpPr/>
          <p:nvPr/>
        </p:nvSpPr>
        <p:spPr>
          <a:xfrm>
            <a:off x="5219640" y="4714920"/>
            <a:ext cx="41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ыполнил: Курносов Кирил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ченик 2 «в» класс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уководитель: Ванюшкина И.Г.</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42920" y="227880"/>
            <a:ext cx="8715240" cy="298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Известные  шашисты города  Ульяновска сегодня</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Вот уже второй год подряд в шахматном клубе «Дебют», проводится  Чемпионат Ульяновска по интеллектуальному двоеборью.  За  победу в турнире сражались 16 игроков, представлявшие Ульяновск, Чердаклы, Старую Майну, Новоульяновск и Цильну.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3"/>
          <p:cNvSpPr/>
          <p:nvPr/>
        </p:nvSpPr>
        <p:spPr>
          <a:xfrm>
            <a:off x="142920" y="785880"/>
            <a:ext cx="8715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2400" spc="-1" strike="noStrike">
                <a:solidFill>
                  <a:srgbClr val="000000"/>
                </a:solidFill>
                <a:latin typeface="Times New Roman"/>
                <a:ea typeface="Calibri"/>
              </a:rPr>
              <a:t>В итоге, после двух дней борьбы  чемпионом Ульяновска стал </a:t>
            </a:r>
            <a:r>
              <a:rPr b="0" lang="ru-RU" sz="2400" spc="-1" strike="noStrike">
                <a:solidFill>
                  <a:srgbClr val="0070c0"/>
                </a:solidFill>
                <a:latin typeface="Times New Roman"/>
                <a:ea typeface="Calibri"/>
              </a:rPr>
              <a:t>Вячеслав Чугунов</a:t>
            </a:r>
            <a:r>
              <a:rPr b="0" lang="ru-RU" sz="2400" spc="-1" strike="noStrike">
                <a:solidFill>
                  <a:srgbClr val="000000"/>
                </a:solidFill>
                <a:latin typeface="Times New Roman"/>
                <a:ea typeface="Calibri"/>
              </a:rPr>
              <a:t>, набравший 15,5 очка из 18 возможных.                                             Этот спортсмен, представлявший Заволжский район города Ульяновска, является представителем региональной школы шашек.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  </a:t>
            </a:r>
            <a:endParaRPr b="0" lang="en-US" sz="3200" spc="-1" strike="noStrike">
              <a:solidFill>
                <a:srgbClr val="000000"/>
              </a:solidFill>
              <a:latin typeface="Calibri"/>
            </a:endParaRPr>
          </a:p>
        </p:txBody>
      </p:sp>
      <p:sp>
        <p:nvSpPr>
          <p:cNvPr id="64" name="Прямоугольник 3"/>
          <p:cNvSpPr/>
          <p:nvPr/>
        </p:nvSpPr>
        <p:spPr>
          <a:xfrm>
            <a:off x="285840" y="714240"/>
            <a:ext cx="8215200" cy="277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еребряным призером чемпионата Ульяновска-2011 стал шахматист </a:t>
            </a:r>
            <a:r>
              <a:rPr b="1" lang="ru-RU" sz="2800" spc="-1" strike="noStrike">
                <a:solidFill>
                  <a:srgbClr val="0070c0"/>
                </a:solidFill>
                <a:latin typeface="Monotype Corsiva"/>
                <a:ea typeface="Calibri"/>
              </a:rPr>
              <a:t>Эдуард Жданов</a:t>
            </a:r>
            <a:r>
              <a:rPr b="0" lang="ru-RU" sz="2400" spc="-1" strike="noStrike">
                <a:solidFill>
                  <a:srgbClr val="000000"/>
                </a:solidFill>
                <a:latin typeface="Times New Roman"/>
                <a:ea typeface="Calibri"/>
              </a:rPr>
              <a:t>, отставший от победителя на два с половиной очка.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Третье место занял еще один шашист, житель Нового города </a:t>
            </a:r>
            <a:r>
              <a:rPr b="1" lang="ru-RU" sz="2800" spc="-1" strike="noStrike">
                <a:solidFill>
                  <a:srgbClr val="0070c0"/>
                </a:solidFill>
                <a:latin typeface="Monotype Corsiva"/>
                <a:ea typeface="Calibri"/>
              </a:rPr>
              <a:t>Александр Никифоров</a:t>
            </a:r>
            <a:r>
              <a:rPr b="0" lang="ru-RU" sz="2400" spc="-1" strike="noStrike">
                <a:solidFill>
                  <a:srgbClr val="000000"/>
                </a:solidFill>
                <a:latin typeface="Times New Roman"/>
                <a:ea typeface="Calibri"/>
              </a:rPr>
              <a:t>, набравший 12 очко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642960" y="-373680"/>
            <a:ext cx="7858080" cy="6005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Вывод</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Играя в шашки, я заметил, что у меня улучшились успеваемость по математике, ведь игра в шашки развивает логическое мышление, память, внимание, наблюдательность, ориентировку в пространстве, воспитывает настойчивость и терпение.</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А эти наблюдения дают  мне право  сделать </a:t>
            </a:r>
            <a:r>
              <a:rPr b="1" lang="ru-RU" sz="2400" spc="-1" strike="noStrike">
                <a:solidFill>
                  <a:srgbClr val="000000"/>
                </a:solidFill>
                <a:latin typeface="Times New Roman"/>
                <a:ea typeface="Calibri"/>
              </a:rPr>
              <a:t>вывод: </a:t>
            </a:r>
            <a:r>
              <a:rPr b="1" lang="ru-RU" sz="6600" spc="-1" strike="noStrike">
                <a:solidFill>
                  <a:srgbClr val="000000"/>
                </a:solidFill>
                <a:latin typeface="Monotype Corsiva"/>
                <a:ea typeface="Calibri"/>
              </a:rPr>
              <a:t>шашки учат думать</a:t>
            </a:r>
            <a:r>
              <a:rPr b="0" lang="ru-RU" sz="6600" spc="-1" strike="noStrike">
                <a:solidFill>
                  <a:srgbClr val="000000"/>
                </a:solidFill>
                <a:latin typeface="Monotype Corsiva"/>
                <a:ea typeface="Calibri"/>
              </a:rPr>
              <a:t>.</a:t>
            </a:r>
            <a:endParaRPr b="0" lang="en-US" sz="6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pic>
        <p:nvPicPr>
          <p:cNvPr id="66" name="Picture 2" descr="user posted image"/>
          <p:cNvPicPr/>
          <p:nvPr/>
        </p:nvPicPr>
        <p:blipFill>
          <a:blip r:embed="rId1"/>
          <a:stretch/>
        </p:blipFill>
        <p:spPr>
          <a:xfrm>
            <a:off x="3286080" y="4359240"/>
            <a:ext cx="2071800" cy="23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285840" y="303480"/>
            <a:ext cx="8501040" cy="6129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Monotype Corsiva"/>
                <a:ea typeface="Calibri"/>
              </a:rPr>
              <a:t>Актуальность проекта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 наше  время настольные игры перестают быть популярными, все больше детей   сидят  в интернете, играют в различные компьютерные игры.</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гра шашки пришло в наши дни с древних времен. На сегодняшний день эта игра стала одним из видов спорта. Игра  развивает логическое мышление, смекалку, сообразительность; вырабатывает умение мыслить абстрактно; воспитывает усидчивость, пространственное воображение; развивает способность действовать в уме; самое главное – развивает память.</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Шашки – это средство для умственного развития детей. Ребенок, обучающийся этой игре, становиться собраннее, самокритичнее, привыкает самостоятельно думать, принимать решения, бороться до конца, не унывать при неудачах.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Calibri"/>
              </a:rPr>
              <a:t>Проблем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Поверхностный интерес родителей к шашечной игре и неумение детей играть в данную настольную игру.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1357200" y="590400"/>
            <a:ext cx="6786720" cy="3655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34332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Monotype Corsiva"/>
                <a:ea typeface="Calibri"/>
              </a:rPr>
              <a:t>Цель проекта</a:t>
            </a:r>
            <a:endParaRPr b="0" lang="en-US" sz="2400" spc="-1" strike="noStrike">
              <a:solidFill>
                <a:srgbClr val="000000"/>
              </a:solidFill>
              <a:latin typeface="Calibri"/>
            </a:endParaRPr>
          </a:p>
          <a:p>
            <a:pPr>
              <a:lnSpc>
                <a:spcPct val="100000"/>
              </a:lnSpc>
              <a:tabLst>
                <a:tab algn="l" pos="0"/>
                <a:tab algn="l" pos="33433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Довести до сверстников  </a:t>
            </a:r>
            <a:r>
              <a:rPr b="0" lang="en-US" sz="1600" spc="-1" strike="noStrike">
                <a:solidFill>
                  <a:srgbClr val="000000"/>
                </a:solidFill>
                <a:latin typeface="Times New Roman"/>
                <a:ea typeface="Calibri"/>
              </a:rPr>
              <a:t>o</a:t>
            </a:r>
            <a:r>
              <a:rPr b="0" lang="ru-RU" sz="1600" spc="-1" strike="noStrike">
                <a:solidFill>
                  <a:srgbClr val="000000"/>
                </a:solidFill>
                <a:latin typeface="Times New Roman"/>
                <a:ea typeface="Calibri"/>
              </a:rPr>
              <a:t> положительной  роли шашечных игр на умственное развитие школьника.</a:t>
            </a: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33433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334332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Monotype Corsiva"/>
                <a:ea typeface="Calibri"/>
              </a:rPr>
              <a:t>Задачи проекта</a:t>
            </a:r>
            <a:endParaRPr b="0" lang="en-US" sz="2400" spc="-1" strike="noStrike">
              <a:solidFill>
                <a:srgbClr val="000000"/>
              </a:solidFill>
              <a:latin typeface="Calibri"/>
            </a:endParaRPr>
          </a:p>
          <a:p>
            <a:pPr>
              <a:lnSpc>
                <a:spcPct val="100000"/>
              </a:lnSpc>
              <a:tabLst>
                <a:tab algn="l" pos="0"/>
                <a:tab algn="l" pos="33433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зучить историю появления игры шашки   в России;</a:t>
            </a: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аучить детей правилам игры.</a:t>
            </a: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Заинтересовать учащихся игрой шашки через формирования семейных команд</a:t>
            </a: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ассказать об известных  шашистах города  Ульяновска</a:t>
            </a:r>
            <a:endParaRPr b="0" lang="en-US" sz="1600" spc="-1" strike="noStrike">
              <a:solidFill>
                <a:srgbClr val="000000"/>
              </a:solidFill>
              <a:latin typeface="Calibri"/>
            </a:endParaRPr>
          </a:p>
        </p:txBody>
      </p:sp>
      <p:pic>
        <p:nvPicPr>
          <p:cNvPr id="47" name="Picture 2" descr="Уроки, парта, домашнее задание, клипарты скачать бесплатно"/>
          <p:cNvPicPr/>
          <p:nvPr/>
        </p:nvPicPr>
        <p:blipFill>
          <a:blip r:embed="rId1"/>
          <a:stretch/>
        </p:blipFill>
        <p:spPr>
          <a:xfrm>
            <a:off x="0" y="4346640"/>
            <a:ext cx="2266920" cy="251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214200" y="228240"/>
            <a:ext cx="8643960" cy="3233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История  появления игры шашки   в России</a:t>
            </a:r>
            <a:endParaRPr b="0" lang="en-US" sz="24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На Руси шашки появились в 10 веке. Шашки были найдены на территории Киевской Руси. Найденные шашки были сделаны из глины, дерева, камня и янтаря, этот факт говорит о том, что в эту игру любили играть люди всех слоев населения.</a:t>
            </a:r>
            <a:endParaRPr b="0" lang="en-US" sz="20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Шашки имеют почти пятидесятивековую историю. Игра проникла в разные страны, и правила ее не изменились. И поныне существует много различных систем: русская, англо – американская, итальянская, канадская и  другие( Приложение 1)</a:t>
            </a:r>
            <a:endParaRPr b="0" lang="en-US" sz="2000" spc="-1" strike="noStrike">
              <a:solidFill>
                <a:srgbClr val="000000"/>
              </a:solidFill>
              <a:latin typeface="Calibri"/>
            </a:endParaRPr>
          </a:p>
        </p:txBody>
      </p:sp>
      <p:pic>
        <p:nvPicPr>
          <p:cNvPr id="49" name="Picture 3" descr="http://img-fotki.yandex.ru/get/3109/achekmarev.2b/0_2314b_a0aa8bcf_XL.jpg"/>
          <p:cNvPicPr/>
          <p:nvPr/>
        </p:nvPicPr>
        <p:blipFill>
          <a:blip r:embed="rId1"/>
          <a:stretch/>
        </p:blipFill>
        <p:spPr>
          <a:xfrm>
            <a:off x="2000160" y="3500280"/>
            <a:ext cx="587556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14200" y="440280"/>
            <a:ext cx="8643960" cy="2655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Правила игры в Русские шашки</a:t>
            </a:r>
            <a:endParaRPr b="0" lang="en-US" sz="2400" spc="-1" strike="noStrike">
              <a:solidFill>
                <a:srgbClr val="000000"/>
              </a:solidFill>
              <a:latin typeface="Calibri"/>
            </a:endParaRPr>
          </a:p>
          <a:p>
            <a:pPr algn="ctr">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спользуется доска 8х8 клеток. У каждого игрока в начальной позиции по 12 фишек — так называемых простых шашек, которые занимают первые три ряда с каждой стороны. </a:t>
            </a:r>
            <a:endParaRPr b="0" lang="en-US" sz="20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 ходе игры шашки движутся по чёрным полям, они могут вставать только на незанятые поля. Простая шашка может ходить по диагонали вперёд на одну клетку и бить вперед и назад. </a:t>
            </a:r>
            <a:endParaRPr b="0" lang="en-US" sz="2000" spc="-1" strike="noStrike">
              <a:solidFill>
                <a:srgbClr val="000000"/>
              </a:solidFill>
              <a:latin typeface="Calibri"/>
            </a:endParaRPr>
          </a:p>
        </p:txBody>
      </p:sp>
      <p:pic>
        <p:nvPicPr>
          <p:cNvPr id="51" name="Picture 4" descr="http://www.grafamania.net/uploads/posts/2008-06/1214322160_00.jpg"/>
          <p:cNvPicPr/>
          <p:nvPr/>
        </p:nvPicPr>
        <p:blipFill>
          <a:blip r:embed="rId1"/>
          <a:srcRect l="49505" t="5557" r="998" b="68057"/>
          <a:stretch/>
        </p:blipFill>
        <p:spPr>
          <a:xfrm>
            <a:off x="571680" y="3571920"/>
            <a:ext cx="3786120" cy="2179440"/>
          </a:xfrm>
          <a:prstGeom prst="rect">
            <a:avLst/>
          </a:prstGeom>
          <a:ln w="0">
            <a:noFill/>
          </a:ln>
        </p:spPr>
      </p:pic>
      <p:pic>
        <p:nvPicPr>
          <p:cNvPr id="52" name="Picture 7" descr="http://t3.gstatic.com/images?q=tbn:ANd9GcQsp1q8jqO0pmvfsPIRBdBAExUsQnxuhNUGseuyLkKnXO3ttup2Ug"/>
          <p:cNvPicPr/>
          <p:nvPr/>
        </p:nvPicPr>
        <p:blipFill>
          <a:blip r:embed="rId2"/>
          <a:stretch/>
        </p:blipFill>
        <p:spPr>
          <a:xfrm>
            <a:off x="5500800" y="3714840"/>
            <a:ext cx="2857320" cy="287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285840" y="578160"/>
            <a:ext cx="857232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При достижении дамочного поля  или при бое через дамочное поле простая шашка превращается в дамку и продолжает бой по правилам дамки (теперь она может ходить на любое число полей по диагонали в любом направлении). </a:t>
            </a:r>
            <a:endParaRPr b="0" lang="en-US" sz="2400" spc="-1" strike="noStrike">
              <a:solidFill>
                <a:srgbClr val="000000"/>
              </a:solidFill>
              <a:latin typeface="Calibri"/>
            </a:endParaRPr>
          </a:p>
        </p:txBody>
      </p:sp>
      <p:pic>
        <p:nvPicPr>
          <p:cNvPr id="54" name="Picture 2" descr="D:\Documents\SAM_2738.JPG"/>
          <p:cNvPicPr/>
          <p:nvPr/>
        </p:nvPicPr>
        <p:blipFill>
          <a:blip r:embed="rId1"/>
          <a:stretch/>
        </p:blipFill>
        <p:spPr>
          <a:xfrm>
            <a:off x="2359080" y="2859120"/>
            <a:ext cx="4022640" cy="301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357120" y="285840"/>
            <a:ext cx="84297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а один ход шашку противника можно побить только один раз  Согласно этому правилу если при бое нескольких шашек противника шашка или дамка повторно выходит на уже побитую шашку, то ход останавливается. Побитые шашки противника снимаются только после завершения хода.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Игрок на своём ходу обязан побить шашку противника, если у него есть такая возможность, но при нескольких вариантах боя игрок волен выбрать любой. Пропуск хода не допускается.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Цель игры — съесть или «запереть»  шашки противника.</a:t>
            </a:r>
            <a:endParaRPr b="0" lang="en-US" sz="2400" spc="-1" strike="noStrike">
              <a:solidFill>
                <a:srgbClr val="000000"/>
              </a:solidFill>
              <a:latin typeface="Calibri"/>
            </a:endParaRPr>
          </a:p>
        </p:txBody>
      </p:sp>
      <p:pic>
        <p:nvPicPr>
          <p:cNvPr id="56" name="Picture 2" descr="D:\Documents\SAM_2734.JPG"/>
          <p:cNvPicPr/>
          <p:nvPr/>
        </p:nvPicPr>
        <p:blipFill>
          <a:blip r:embed="rId1"/>
          <a:stretch/>
        </p:blipFill>
        <p:spPr>
          <a:xfrm>
            <a:off x="2646360" y="3870360"/>
            <a:ext cx="3510000" cy="298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285840" y="313920"/>
            <a:ext cx="8572320" cy="609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Формирование семейных команд</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Для изучения отношения семьи к шашечным играм, я провел среди родителей анкетный опрос и оказалось, что все родители знают и играли в детстве в шашки.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5% родителей научились играть в возрасте 6-8 лет,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3% в возрасте 2-5 лет.</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2% в более старшем школьном возрасте.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8% родителей  играют семьей.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86,7% родителей считают, что нужно играть с самого младшего возраста,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3% думают, что в школьном возрасте. Правда, остальные О 94,6% знают о том, что шашки оказывают огромное   влияние 45,6% моих одноклассников умеют играть, по мнению родителей.</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54% родителей не интересовало умеют их дети играть в шашки или не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85840" y="581400"/>
            <a:ext cx="828684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Это исследование натолкнуло меня на мысль создать в классе семейный шашечный турнир. Я хочу первую игру провести в классе, а потом можно вызывать на игру другие классы.</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Я планирую провести шашечный турнир в группе продленного дня,  выявить лучших игроков. </a:t>
            </a:r>
            <a:endParaRPr b="0" lang="en-US" sz="2400" spc="-1" strike="noStrike">
              <a:solidFill>
                <a:srgbClr val="000000"/>
              </a:solidFill>
              <a:latin typeface="Calibri"/>
            </a:endParaRPr>
          </a:p>
        </p:txBody>
      </p:sp>
      <p:pic>
        <p:nvPicPr>
          <p:cNvPr id="59" name="Picture 2" descr="D:\Documents\SAM_2748.JPG"/>
          <p:cNvPicPr/>
          <p:nvPr/>
        </p:nvPicPr>
        <p:blipFill>
          <a:blip r:embed="rId1"/>
          <a:stretch/>
        </p:blipFill>
        <p:spPr>
          <a:xfrm>
            <a:off x="642960" y="3643200"/>
            <a:ext cx="2747880" cy="206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1T16:04:54Z</dcterms:created>
  <dc:creator>Nade</dc:creator>
  <dc:description/>
  <dc:language>en-US</dc:language>
  <cp:lastModifiedBy>Алексей</cp:lastModifiedBy>
  <dcterms:modified xsi:type="dcterms:W3CDTF">2014-01-29T14:18:31Z</dcterms:modified>
  <cp:revision>17</cp:revision>
  <dc:subject/>
  <dc:title>Слайд 1</dc:title>
</cp:coreProperties>
</file>