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D5EC-7854-497B-BC99-6678C24A3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0166-97CD-4286-BCFB-D22F2D80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A04CE-0142-489F-8BFB-033C61FF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73AD4-5081-45FF-BEA9-49BEFF3C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2F18F3-E7A8-42DC-AB67-13999E43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B0F7F-8630-46FF-9E30-43E6B39D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5E4A2-5523-486A-A229-7F0F8415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14045A-C05A-4EAF-9227-D5D1ACD9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73893-EBA8-4371-A1B0-CAE919F0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3107D-5605-4DDE-B70F-D874D9FDC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CD8A3-0E5F-4A23-902A-F09441FB3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370F70-68FF-4F22-A416-85106825A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8FE8-A8FC-40CC-9A69-E2FB84A47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863C30-8C15-429A-88F6-42AA92E8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52988A-9217-47E1-818B-63510DAC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603ACE-6267-4124-98A7-D7A121BF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A189E1-11EB-4D59-A682-AEDE0609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7ACEA9-92EF-43B9-9C5B-F656C636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13F8E5-A32C-4682-A715-E180C57D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391467-A0A5-4E02-AF7B-83637605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378510-3CB5-4344-AAEF-599E6223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5F2A37-9E52-4E8B-AC12-63923105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A7A3F5-347E-4CAA-BE2C-20EA8D06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1305-CE5E-4227-95C3-4B9975382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7B1154-155B-42F2-93BC-DF03829F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CA399-D323-4F9B-A00E-27949B9A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163BA-794C-4727-838C-089A255D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AB729-9748-46E7-A24C-B07074ED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0F20A-DA59-48F6-AE13-401E4180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2DFCA-8904-4A82-BDA8-19DCA3DD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936C1-CD53-4B63-8632-8F8E63B7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6294D-9984-42C2-95D1-B444CA0F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58A4E-DFE2-49CE-A2AA-076B6EE3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DBDA0-0A2A-46CC-80BB-28CCD7DD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5FE9-9213-4F60-8456-AD9F96ED3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47128-1CEF-466D-8A20-73312F40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F4B9A-5EAA-40A8-A9AB-1D1A788E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796F0-1C85-4E18-9494-BBDB435A9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00EBCF-6B5B-48F7-8F2A-9CA448CAB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25C4FD-31D5-4980-96F3-222AAD26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965227-0021-4ABC-B417-381F3621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FDBE72-6EB9-4FE9-8BB3-A9E30F8E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C2656D-0146-4C17-B8F2-53C7AC11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7E6423-A7E4-4F2B-ABBE-01CFD924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3068DE-6CB9-478B-AC5F-EEF8A1C6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C80D-117F-40A6-9DE9-18E2AD5A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CBDB45-BFF8-4158-957D-6B0CAFFB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9073BA-22CA-49AF-BDE9-7961BC21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5A95F7-0513-4795-9080-AF900FEB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46AA4-D48E-4CB1-86FA-7C0D0791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7F0B9C-40C4-4A85-AF0F-FB8B8DB26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183A-DDE1-4C70-91AC-F4F18D70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D3B51-5F78-4FA8-B50F-2FD06B86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788C-EB85-4CB2-8B7B-3272E2F7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52EC-B253-4826-AF9E-217FCCD6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B364-D86D-4179-810C-43E5877F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F99C-0018-44B0-98AA-1D92D459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C101-681A-4ECD-95A7-DD1BA1AD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4F49-453F-4B47-9C80-FF4BFB77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8036-E165-42E9-810B-A2EBB120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19AB-DD5A-4168-897C-A99FEC81B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339E-C244-467B-A34C-A92381A99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39C78-7CF9-4EE6-8E88-681032F2D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BF85B-B9ED-4CAC-B66A-0E4059C6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B18DB-3F02-4B12-94C1-1BB5C9A9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6AF8B-C5DD-4FF5-A8EA-41F4871E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9193F-C4E8-4ABB-B214-50EBC46C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FEE9-97B0-4DBF-BCA7-F92B1316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CC374-3D52-4687-8C9A-62A33B84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29094-8054-4C29-A8DF-CC36C855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66987-B518-48EB-80D6-7BA0707B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44BAA-E517-4E92-BFDA-16AFAA3C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AFD1F-E7A5-44ED-9A1D-2237C9CE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9A9A5-0D67-42FD-BE6C-B04F6E4A3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1113D-3069-4CA4-8987-0B5070D37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4E3B56-2E86-4734-A9F9-93635C41D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01466D-B159-4AB9-B0E2-AB5E851E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E773FB-E437-4C97-B81E-72AF57AA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C7BB-0C7C-4AA0-A612-358ECC4C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70AB2E-0C52-4CC0-A1E0-BA4ECF51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36B105-6D8F-4933-AE8F-B26C8C54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931A07-DCD7-4F75-BEF4-95C8F2CA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6C1884-5FB9-49CE-8E6A-387D7F82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E816A9-5ED4-4C47-BD47-F807114C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06EB3B-9E26-4FEE-9E91-77D4D5A8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D1698A-42CA-4BF9-AEE7-7FA01F66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62E892-A2D7-4B3E-B9A1-70C74E3BB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D225A3-034F-4E79-8410-45A0D7CB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79FF40-FE8D-4690-AA08-C0EEFCF05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5EEE-01E3-4694-825D-4446816A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363479-0E0A-4FDC-9ABF-34DE5406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66BCC1-FFFD-4F92-8FB3-043D613A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ED02C7-F718-4728-9FD8-CF8C86A2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2B7456-5D56-45F5-B814-777EF940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3546B9-C24F-4458-9FBA-FB6A7D51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07FA16-141B-4CFD-BB57-35518C6D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99F868-750E-442F-9328-2FCE1AEE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6FB6C0-AA95-4C7E-A87B-AE860083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FAA079-EEF4-4DCE-877B-3A37693D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0CD1C2-9D8B-463C-928F-F5DA3159E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BCB8-DDBC-4143-85DD-E4341431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39701A-4C84-412F-A799-D6AEE2884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46EE95-B6DD-448B-AEB6-8A7E1739C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F7031E-2B68-4EFD-AA62-8156122B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F08774-3B0F-464E-8904-115CFFE3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5335E1-E414-47AF-9F9A-A9975690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08298F-529B-4DAC-B4E9-7537CC9C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1E81DD-3CC1-44A9-828D-5017DEB6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6BAD16-E4E8-4967-AECB-19560212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540CE8-E0AF-4FC7-95A5-48217A44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DD13A8-8798-44BB-927A-7E35C265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9696-3578-43D7-A7A0-49048B23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52BE93-483E-48DE-B434-F9C847E7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F91A35-8BCC-4B88-9BC0-FAAA537A4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EEA520-EFE2-4015-8F97-97D75AB9C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78910-7848-41CB-93E8-745246026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4B2E3-5670-4D4D-A893-E6A3914D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BE206-DD93-4F35-988F-11A30E2A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C5134-9FFE-4E75-92D1-90E90C3F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50F02-0C07-4F01-B16C-ECF7DB26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0607B-A844-4BFD-A1CE-6FC70F81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874BC-FA0D-4498-86B5-DE3883A0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5112-185A-4230-8B47-D7B73D94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16791-9720-4E93-BE48-8D579B77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208F8-0DE7-473B-9631-8AD760F1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418DE-BA44-4047-8B20-EB9AB7F2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40001-A961-4C73-8F28-271634CC3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D2858-EE42-4BF4-8DF8-B12BABDD0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700A2-1208-48F3-ABEB-1E4E45E18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A55DF-398E-43D2-AF9E-3BD40208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86D3C-9118-412B-958F-2454CFAD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9EA9B-916A-4CA5-B3DD-63F7EDA4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7FCFB-52B8-4ED1-8FA3-84F2184B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9BA5-AC64-4DFA-A4F5-131515BA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E5880-F870-42DC-9DDC-02E5AD70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63911-786A-4080-BD08-E5DBD7F7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B08D5-5E13-4C97-ADB1-B63D8593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E2386-0C5A-419F-8B53-D374A535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70F33-71BE-4869-8A99-6498DEEA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526A8-096B-4FEA-B0B7-D0719B609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99CEB-56DC-49BC-BC08-69BAED500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F9A27-C668-48F8-8D24-A4E52998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FDC89-62A0-4961-9D1D-FED0D5E0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49DAA-7C39-417C-8F53-BA3D7AEA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c6ee"/>
            </a:gs>
            <a:gs pos="100000">
              <a:srgbClr val="dee6f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88BB-6C42-4DA2-8124-89F74E508D2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c6ee"/>
            </a:gs>
            <a:gs pos="100000">
              <a:srgbClr val="dee6f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F864-51E6-47D3-A5D0-F67E0E7C6947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c6ee"/>
            </a:gs>
            <a:gs pos="100000">
              <a:srgbClr val="dee6f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8925-9C62-4A00-BCB9-208F7C69903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c6ee"/>
            </a:gs>
            <a:gs pos="100000">
              <a:srgbClr val="dee6f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1AE8-BD01-45C1-ADC3-3866B5F1216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dee6f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dbf4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70dbf4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dbf4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70dbf4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dbf4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70dbf4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dbf4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70dbf4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dbf4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70dbf4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70dbf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dbf4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70dbf4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70dbf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dbf4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70dbf4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64BD-3A8F-48D1-8212-FF0999818670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c6ee"/>
            </a:gs>
            <a:gs pos="100000">
              <a:srgbClr val="dee6f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9B8B-57D4-4B00-9039-B0A1B58D99F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c6ee"/>
            </a:gs>
            <a:gs pos="100000">
              <a:srgbClr val="dee6f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28B5-5F7A-48E9-94D1-621FEEF62FFB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c6ee"/>
            </a:gs>
            <a:gs pos="100000">
              <a:srgbClr val="dee6f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7449-A2D4-4F98-B42D-D35277F30E4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c6ee"/>
            </a:gs>
            <a:gs pos="100000">
              <a:srgbClr val="dee6f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3A4C-F41F-46E4-8E22-09FDB75F6B3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c6ee"/>
            </a:gs>
            <a:gs pos="100000">
              <a:srgbClr val="dee6f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3C21-E730-480C-AF88-F6BF4122395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c6ee"/>
            </a:gs>
            <a:gs pos="100000">
              <a:srgbClr val="dee6f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1A3A-CA0B-4CB1-93D5-566809E7AEBE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c6ee"/>
            </a:gs>
            <a:gs pos="100000">
              <a:srgbClr val="dee6f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7656-AA53-418B-A1B9-81F5608E346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Box 19"/>
          <p:cNvSpPr/>
          <p:nvPr/>
        </p:nvSpPr>
        <p:spPr>
          <a:xfrm>
            <a:off x="1403280" y="1700280"/>
            <a:ext cx="612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Урок русского язы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dc6ee"/>
            </a:gs>
            <a:gs pos="100000">
              <a:srgbClr val="dee6f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4" descr="MCj04281130000[1]"/>
          <p:cNvPicPr/>
          <p:nvPr/>
        </p:nvPicPr>
        <p:blipFill>
          <a:blip r:embed="rId1"/>
          <a:stretch/>
        </p:blipFill>
        <p:spPr>
          <a:xfrm flipH="1">
            <a:off x="6372360" y="4221000"/>
            <a:ext cx="2395440" cy="2357640"/>
          </a:xfrm>
          <a:prstGeom prst="rect">
            <a:avLst/>
          </a:prstGeom>
          <a:ln w="0">
            <a:noFill/>
          </a:ln>
        </p:spPr>
      </p:pic>
      <p:grpSp>
        <p:nvGrpSpPr>
          <p:cNvPr id="534" name="Group 12"/>
          <p:cNvGrpSpPr/>
          <p:nvPr/>
        </p:nvGrpSpPr>
        <p:grpSpPr>
          <a:xfrm>
            <a:off x="4849560" y="106200"/>
            <a:ext cx="2766600" cy="2405880"/>
            <a:chOff x="4849560" y="106200"/>
            <a:chExt cx="2766600" cy="2405880"/>
          </a:xfrm>
        </p:grpSpPr>
        <p:pic>
          <p:nvPicPr>
            <p:cNvPr id="535" name="Picture 5" descr="j0432645"/>
            <p:cNvPicPr/>
            <p:nvPr/>
          </p:nvPicPr>
          <p:blipFill>
            <a:blip r:embed="rId2"/>
            <a:stretch/>
          </p:blipFill>
          <p:spPr>
            <a:xfrm rot="21045600">
              <a:off x="5003280" y="259920"/>
              <a:ext cx="2087640" cy="20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7" descr="j0432645"/>
            <p:cNvPicPr/>
            <p:nvPr/>
          </p:nvPicPr>
          <p:blipFill>
            <a:blip r:embed="rId3"/>
            <a:stretch/>
          </p:blipFill>
          <p:spPr>
            <a:xfrm rot="20777400">
              <a:off x="5722920" y="618480"/>
              <a:ext cx="1714320" cy="1714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7" name="Picture 9" descr="j0432665"/>
          <p:cNvPicPr/>
          <p:nvPr/>
        </p:nvPicPr>
        <p:blipFill>
          <a:blip r:embed="rId4"/>
          <a:stretch/>
        </p:blipFill>
        <p:spPr>
          <a:xfrm>
            <a:off x="963720" y="4159080"/>
            <a:ext cx="2592360" cy="2592720"/>
          </a:xfrm>
          <a:prstGeom prst="rect">
            <a:avLst/>
          </a:prstGeom>
          <a:ln w="0">
            <a:noFill/>
          </a:ln>
        </p:spPr>
      </p:pic>
      <p:sp>
        <p:nvSpPr>
          <p:cNvPr id="538" name="WordArt 10"/>
          <p:cNvSpPr txBox="1"/>
          <p:nvPr/>
        </p:nvSpPr>
        <p:spPr>
          <a:xfrm>
            <a:off x="642960" y="2428920"/>
            <a:ext cx="7915320" cy="193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cc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Comic Sans MS"/>
              </a:rPr>
              <a:t>Спасибо за урок!</a:t>
            </a:r>
            <a:endParaRPr b="1" i="1" lang="en-US" sz="1800" spc="1" strike="noStrike">
              <a:ln w="28440">
                <a:solidFill>
                  <a:srgbClr val="cc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Comic Sans MS"/>
              <a:ea typeface="Comic Sans MS"/>
            </a:endParaRPr>
          </a:p>
        </p:txBody>
      </p:sp>
      <p:pic>
        <p:nvPicPr>
          <p:cNvPr id="539" name="Рисунок 9" descr="Рисунок1.jpg"/>
          <p:cNvPicPr/>
          <p:nvPr/>
        </p:nvPicPr>
        <p:blipFill>
          <a:blip r:embed="rId5"/>
          <a:stretch/>
        </p:blipFill>
        <p:spPr>
          <a:xfrm>
            <a:off x="-252360" y="-243000"/>
            <a:ext cx="3382920" cy="32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9" name=""/>
          <p:cNvGraphicFramePr/>
          <p:nvPr/>
        </p:nvGraphicFramePr>
        <p:xfrm>
          <a:off x="1332000" y="2421000"/>
          <a:ext cx="7056360" cy="1190520"/>
        </p:xfrm>
        <a:graphic>
          <a:graphicData uri="http://schemas.openxmlformats.org/drawingml/2006/table">
            <a:tbl>
              <a:tblPr/>
              <a:tblGrid>
                <a:gridCol w="880920"/>
                <a:gridCol w="882720"/>
                <a:gridCol w="880920"/>
                <a:gridCol w="882720"/>
                <a:gridCol w="881280"/>
                <a:gridCol w="882360"/>
                <a:gridCol w="882720"/>
                <a:gridCol w="882720"/>
              </a:tblGrid>
              <a:tr h="595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Овал 1"/>
          <p:cNvSpPr/>
          <p:nvPr/>
        </p:nvSpPr>
        <p:spPr>
          <a:xfrm>
            <a:off x="3276720" y="1916280"/>
            <a:ext cx="2808000" cy="1512720"/>
          </a:xfrm>
          <a:prstGeom prst="ellipse">
            <a:avLst/>
          </a:prstGeom>
          <a:solidFill>
            <a:srgbClr val="0070c0"/>
          </a:solidFill>
          <a:ln w="19080">
            <a:solidFill>
              <a:srgbClr val="005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f8f8"/>
                </a:solidFill>
                <a:latin typeface="Calibri"/>
              </a:rPr>
              <a:t>Суффи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Группа 25"/>
          <p:cNvGrpSpPr/>
          <p:nvPr/>
        </p:nvGrpSpPr>
        <p:grpSpPr>
          <a:xfrm>
            <a:off x="250920" y="2637000"/>
            <a:ext cx="3165120" cy="2232000"/>
            <a:chOff x="250920" y="2637000"/>
            <a:chExt cx="3165120" cy="2232000"/>
          </a:xfrm>
        </p:grpSpPr>
        <p:sp>
          <p:nvSpPr>
            <p:cNvPr id="512" name="Овал 6"/>
            <p:cNvSpPr/>
            <p:nvPr/>
          </p:nvSpPr>
          <p:spPr>
            <a:xfrm>
              <a:off x="250920" y="3789360"/>
              <a:ext cx="2232000" cy="1079640"/>
            </a:xfrm>
            <a:prstGeom prst="ellipse">
              <a:avLst/>
            </a:prstGeom>
            <a:solidFill>
              <a:srgbClr val="0070c0"/>
            </a:solidFill>
            <a:ln w="19080">
              <a:solidFill>
                <a:srgbClr val="00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Calibri"/>
                </a:rPr>
                <a:t>Находится после корн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Прямая соединительная линия 8"/>
            <p:cNvSpPr/>
            <p:nvPr/>
          </p:nvSpPr>
          <p:spPr>
            <a:xfrm flipH="1">
              <a:off x="1763280" y="2637000"/>
              <a:ext cx="1652760" cy="1224000"/>
            </a:xfrm>
            <a:prstGeom prst="line">
              <a:avLst/>
            </a:prstGeom>
            <a:ln w="10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Группа 27"/>
          <p:cNvGrpSpPr/>
          <p:nvPr/>
        </p:nvGrpSpPr>
        <p:grpSpPr>
          <a:xfrm>
            <a:off x="1258920" y="2852640"/>
            <a:ext cx="2952360" cy="3097440"/>
            <a:chOff x="1258920" y="2852640"/>
            <a:chExt cx="2952360" cy="3097440"/>
          </a:xfrm>
        </p:grpSpPr>
        <p:sp>
          <p:nvSpPr>
            <p:cNvPr id="515" name="Овал 5"/>
            <p:cNvSpPr/>
            <p:nvPr/>
          </p:nvSpPr>
          <p:spPr>
            <a:xfrm>
              <a:off x="1258920" y="4797360"/>
              <a:ext cx="2089080" cy="1152720"/>
            </a:xfrm>
            <a:prstGeom prst="ellipse">
              <a:avLst/>
            </a:prstGeom>
            <a:solidFill>
              <a:srgbClr val="0070c0"/>
            </a:solidFill>
            <a:ln w="19080">
              <a:solidFill>
                <a:srgbClr val="00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Calibri"/>
                </a:rPr>
                <a:t>Образует новые сло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Прямая соединительная линия 10"/>
            <p:cNvSpPr/>
            <p:nvPr/>
          </p:nvSpPr>
          <p:spPr>
            <a:xfrm flipH="1">
              <a:off x="2626920" y="2852640"/>
              <a:ext cx="1584360" cy="2089440"/>
            </a:xfrm>
            <a:prstGeom prst="line">
              <a:avLst/>
            </a:prstGeom>
            <a:ln w="10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Группа 28"/>
          <p:cNvGrpSpPr/>
          <p:nvPr/>
        </p:nvGrpSpPr>
        <p:grpSpPr>
          <a:xfrm>
            <a:off x="3635280" y="3141720"/>
            <a:ext cx="2016360" cy="3456000"/>
            <a:chOff x="3635280" y="3141720"/>
            <a:chExt cx="2016360" cy="3456000"/>
          </a:xfrm>
        </p:grpSpPr>
        <p:sp>
          <p:nvSpPr>
            <p:cNvPr id="518" name="Овал 4"/>
            <p:cNvSpPr/>
            <p:nvPr/>
          </p:nvSpPr>
          <p:spPr>
            <a:xfrm>
              <a:off x="3635280" y="5445360"/>
              <a:ext cx="2016360" cy="1152360"/>
            </a:xfrm>
            <a:prstGeom prst="ellipse">
              <a:avLst/>
            </a:prstGeom>
            <a:solidFill>
              <a:srgbClr val="0070c0"/>
            </a:solidFill>
            <a:ln w="19080">
              <a:solidFill>
                <a:srgbClr val="00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Calibri"/>
                </a:rPr>
                <a:t>Часть сло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Прямая соединительная линия 12"/>
            <p:cNvSpPr/>
            <p:nvPr/>
          </p:nvSpPr>
          <p:spPr>
            <a:xfrm>
              <a:off x="4643640" y="3141720"/>
              <a:ext cx="36360" cy="2376720"/>
            </a:xfrm>
            <a:prstGeom prst="line">
              <a:avLst/>
            </a:prstGeom>
            <a:ln w="10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Группа 30"/>
          <p:cNvGrpSpPr/>
          <p:nvPr/>
        </p:nvGrpSpPr>
        <p:grpSpPr>
          <a:xfrm>
            <a:off x="5651640" y="3141720"/>
            <a:ext cx="3168360" cy="2808360"/>
            <a:chOff x="5651640" y="3141720"/>
            <a:chExt cx="3168360" cy="2808360"/>
          </a:xfrm>
        </p:grpSpPr>
        <p:sp>
          <p:nvSpPr>
            <p:cNvPr id="521" name="Овал 3"/>
            <p:cNvSpPr/>
            <p:nvPr/>
          </p:nvSpPr>
          <p:spPr>
            <a:xfrm>
              <a:off x="6299280" y="4726080"/>
              <a:ext cx="2520720" cy="1224000"/>
            </a:xfrm>
            <a:prstGeom prst="ellipse">
              <a:avLst/>
            </a:prstGeom>
            <a:solidFill>
              <a:srgbClr val="0070c0"/>
            </a:solidFill>
            <a:ln w="19080">
              <a:solidFill>
                <a:srgbClr val="00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8f8f8"/>
                  </a:solidFill>
                  <a:latin typeface="Calibri"/>
                </a:rPr>
                <a:t>Безударная гласная запоминается, проверяе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Прямая соединительная линия 14"/>
            <p:cNvSpPr/>
            <p:nvPr/>
          </p:nvSpPr>
          <p:spPr>
            <a:xfrm>
              <a:off x="5651640" y="3141720"/>
              <a:ext cx="1161720" cy="2124360"/>
            </a:xfrm>
            <a:prstGeom prst="line">
              <a:avLst/>
            </a:prstGeom>
            <a:ln w="10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Группа 31"/>
          <p:cNvGrpSpPr/>
          <p:nvPr/>
        </p:nvGrpSpPr>
        <p:grpSpPr>
          <a:xfrm>
            <a:off x="5651640" y="2492280"/>
            <a:ext cx="3232080" cy="2008440"/>
            <a:chOff x="5651640" y="2492280"/>
            <a:chExt cx="3232080" cy="2008440"/>
          </a:xfrm>
        </p:grpSpPr>
        <p:sp>
          <p:nvSpPr>
            <p:cNvPr id="524" name="Овал 2"/>
            <p:cNvSpPr/>
            <p:nvPr/>
          </p:nvSpPr>
          <p:spPr>
            <a:xfrm>
              <a:off x="6659640" y="3284640"/>
              <a:ext cx="2224080" cy="1216080"/>
            </a:xfrm>
            <a:prstGeom prst="ellipse">
              <a:avLst/>
            </a:prstGeom>
            <a:solidFill>
              <a:srgbClr val="0070c0"/>
            </a:solidFill>
            <a:ln w="19080">
              <a:solidFill>
                <a:srgbClr val="00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Calibri"/>
                </a:rPr>
                <a:t>Изменяет значение сло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Прямая соединительная линия 16"/>
            <p:cNvSpPr/>
            <p:nvPr/>
          </p:nvSpPr>
          <p:spPr>
            <a:xfrm>
              <a:off x="5651640" y="2492280"/>
              <a:ext cx="1152360" cy="1081080"/>
            </a:xfrm>
            <a:prstGeom prst="line">
              <a:avLst/>
            </a:prstGeom>
            <a:ln w="10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Box 1"/>
          <p:cNvSpPr/>
          <p:nvPr/>
        </p:nvSpPr>
        <p:spPr>
          <a:xfrm>
            <a:off x="1476360" y="1484280"/>
            <a:ext cx="6120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ажи мне – и я забуду, покажи мне – и я запомню, вовлеки меня – и я научу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v_strane_nevyuchennyx_urokov.wmv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858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5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TextBox 11" descr=""/>
          <p:cNvPicPr/>
          <p:nvPr/>
        </p:nvPicPr>
        <p:blipFill>
          <a:blip r:embed="rId1"/>
          <a:stretch/>
        </p:blipFill>
        <p:spPr>
          <a:xfrm>
            <a:off x="-6480" y="8568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529" name="TextBox 12"/>
          <p:cNvSpPr/>
          <p:nvPr/>
        </p:nvSpPr>
        <p:spPr>
          <a:xfrm>
            <a:off x="324000" y="907920"/>
            <a:ext cx="9612000" cy="43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.Прочитаю слов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.Поставлю  во множественное числ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ли изменю форму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. Если гласный остался, пишу суффикс –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к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если выпал -пишу –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к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Box 1"/>
          <p:cNvSpPr/>
          <p:nvPr/>
        </p:nvSpPr>
        <p:spPr>
          <a:xfrm>
            <a:off x="539640" y="112536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орош…к, веноч…к, чулоч…к, карандаш…к, кирпич…к, нос…к, звоноч…к, сыноч…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Box 2"/>
          <p:cNvSpPr/>
          <p:nvPr/>
        </p:nvSpPr>
        <p:spPr>
          <a:xfrm>
            <a:off x="611280" y="1773360"/>
            <a:ext cx="853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 загадок таит в себе обыкновенный ёж…к. Колючий клубоч…к выдерживает мощные дозы я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Box 1"/>
          <p:cNvSpPr/>
          <p:nvPr/>
        </p:nvSpPr>
        <p:spPr>
          <a:xfrm>
            <a:off x="1547640" y="907920"/>
            <a:ext cx="6264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звени-ка, дружо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лосистый звоно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емену ждут ребя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играть немножко над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1T11:13:46Z</dcterms:created>
  <dc:creator>User</dc:creator>
  <dc:description/>
  <dc:language>en-US</dc:language>
  <cp:lastModifiedBy>Учитель</cp:lastModifiedBy>
  <dcterms:modified xsi:type="dcterms:W3CDTF">2012-12-10T11:18:54Z</dcterms:modified>
  <cp:revision>142</cp:revision>
  <dc:subject/>
  <dc:title>Слайд 1</dc:title>
</cp:coreProperties>
</file>