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0DD-E9B8-4B46-942E-BB6CAA9C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310C-FA10-4ED6-AAE9-CA6199C0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7488F-F7F5-482A-A272-1FFBA6E1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2D93C-1655-4F94-971A-5974E7C2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29086-B90B-4EED-877F-54444ACE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4D901-7A34-41C8-BFCB-0DFD238C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3B22D-17B3-4FF0-97F6-5BB5A4A8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83454-0711-46F9-93C0-FC62434A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E0A48-DE48-42AF-83C2-B9A4EFC2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3C15B-63CC-4111-B98E-072A4D7B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B2A88-B109-4DB9-9FE5-5331D22D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F88ED5-F1DB-451B-9358-977C3FE2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15F3-0AF6-4B24-88D1-F2E98D71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870A4A-CA72-4E79-BDCD-CCF61282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EB36D6-54D4-4E36-A4F7-7D753CC2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BFC53A-B486-49C3-886E-ECAD0FE0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738C0D-554E-4A3F-B46C-CFA3045A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01BBF8-89E1-4BFA-976B-9EDF2A33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664CC2-7020-46BA-B98B-833A86BB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19F396-4CB2-4809-80C3-CAAB72CC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348189-6DE6-4D29-A8C1-D54DB728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12A6CD-482A-47C7-9B9D-1D896AF1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D31818-7D5B-4D1E-9BA6-B38ED35A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DB9-B016-43F1-B0B6-570AA698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6F1209-E9C5-460B-9A80-1D747C94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042EC-7C05-4025-B326-13359570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35873-F0E9-48E7-A73F-460B7AA4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43695-7C70-4B9C-890B-B3792E34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BBB43-7D19-4AC1-9EC9-E92CF79F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B5EE1-BFAE-49AC-997D-1811C9B9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E826B-5AE0-4572-9628-FB189392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0E049-914A-4F45-B2EB-4A394745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7C083-A02E-4605-BB23-846EC479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33EFA-F35E-4F7E-B5D9-947E5636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0C5F-0B74-4204-B123-471BEECF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CB1EA-C82D-4DA6-BDFF-7CFDCA74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E7B81-7F7D-41FA-9617-AE604E6D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CA5C8-E4A2-4E43-9A71-7646814D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55D43-1DA0-4EB6-BCC3-9EB01F69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CBDB0-BC4F-434B-A213-89D96209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9534F-2AD0-4CB1-94A7-6A836B60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37BD7-0424-453A-B8AA-556BA036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BEB8A-B971-4BCD-A806-F53D469C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18231-FFAA-4F49-B773-25086346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E244C-3A22-43E7-905A-6E60005E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1D08-0D0A-4154-9F9B-3F31133D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A1560-53B7-4D29-996C-C82DDA2B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89246-A40D-41E4-88CF-E91C901F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E8FE1-8A6A-4202-B4C3-B78BB55C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C7178-9ED2-48DA-91CD-8E1FAED4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E8BA4-A78D-4840-ADDE-494BD5E1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0E99-F6FA-4EDD-B82D-378A096A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1887-DA9E-4AF2-BB93-6142D334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39CE-4C48-45D8-8041-D9C161E4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D0D1-B31C-457E-941F-A6CD1934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7843-A54F-42DA-9DC5-7D67AB78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625-17CC-4D05-976C-E9F0063D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CB85-55C1-4A1A-97CF-472FBEBD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DA60-15B3-4EF2-BE8B-E0B7999B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F4A0-6CB7-4248-BEBB-FA604FB2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5F22-6EE4-4D56-BE5D-758217C9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D960-5095-40CE-AAE9-D5F1AD63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63AFC-DDF7-44F3-AF1B-AAA5F34D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BB9D8-58F9-43B4-9956-AAF61EEB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9BE4E-91F3-486A-A285-5386C49E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D792E-9F85-4E85-A0AD-3E197E52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01221-3B65-45BC-A9E4-51138B5F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84F3-0C9F-442F-80CD-1A7AA62D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65F6D-DA8E-40D6-809D-7C64B9A0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3F44C-93FD-48D8-BD69-4BFBBA4F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78034-7B4F-401C-80C1-1AAF75D6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5FA60-ABAE-40FA-B0C9-0E23C1C5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20ADE-AACA-43AF-A68A-531E617A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05F65-B693-4EEC-8729-DF433A55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6AC5E-1D27-4E6F-AC66-F7989EAB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6FA3FE-48F1-487C-82C6-6A85383B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50A82C-BF0A-4452-AEFA-72393F7B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980535-20F7-4231-81AC-D66C61A2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8858-E857-4F18-A0A0-6C079E99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AAD03A-B746-4191-8FD5-D873E22F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A2450-3C59-42E5-B6F9-A029BAFA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A6AB8A-CA88-404E-B501-D2BC1518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FBE8B-A668-40BE-9BEC-937750B4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D324AA-5600-45A1-9E26-720B6D9B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BA6C9A-55E8-4E84-9FEE-D8B4A974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6FC01B-1893-4C0C-BD02-0C718377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AAF6A9-5B39-4518-9F51-FF6DE814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435467-852A-401D-809C-B72269A1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6D96D-FB55-4D3C-A2C2-939BEFE8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AF1-26C1-4A4D-B729-E43AFD4A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75795F-CC30-40E2-B041-F4546E78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4CF25E-B07A-4CF8-A458-21A33B2B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E4FFE5-E2F3-4166-A2EE-59433F47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504FC-A5E6-495F-BD29-ACFFBE58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AD3C7-9EEE-4EFB-B9FC-872E47BC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08436-2A64-42AC-949C-807D1F3B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72814E-F9B2-4E4D-95B4-7BEE2300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3428D3-88B1-4432-9092-621ACAD6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5EDDE-E720-40EE-96C2-7D33F089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95952-50E5-4F7C-8227-6A913D01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528-654A-46FD-A620-81E13718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A32EA6-2BB0-4450-8B0D-7164DC90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F5FCE-8562-4622-A9BE-B404D5B4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5D795C-409B-4F24-AB30-67DE5986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6158F0-9F30-4650-ABD6-F60FD601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33E75B-E06E-4F70-BBE2-783D30B3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7F2A3D-BCCB-4EF2-A97C-6B73F050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1F2E79-A9DA-4AA3-BBD6-71B7D35C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2C8B8-8B2E-4323-80CA-7E08A167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2E2402-5273-48D3-8CA7-F204A2A7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09CECE-2EC6-4563-B9BF-DFEE434C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340-003A-458C-B0AC-1DC603AA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B5729-FA1E-4689-9B37-81173DFC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4A3EE7-D120-4424-9C92-287752FC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497850-9705-4DEF-810F-E4B2E3D3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DB3C2-A1B0-4097-90AC-56DBF765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4DDB4-B8BE-4CB9-BBD7-11C035C2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0FE3B-31F9-4FD7-9DF4-4C046A69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D2AED-CA03-4962-8EFC-706C2DCB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358AD-A9CD-4AF4-A3C5-193BEBDC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121CB-2E68-4CDF-A3C9-ECE97F9E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DB2A3-0DB2-4440-B4A9-AD57A739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A70-C17F-4742-8CFD-60B05D28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ADF82-1F33-49F6-9D7B-F69F0B8C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596B9-3B55-4F8E-948A-3A08B226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A6D91-768B-40AF-A011-ED862F24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6E9E3-7F38-442F-9791-F97100FC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5D057-E0A0-4A58-BA5B-DA23481D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03707-5D5A-4589-B7C2-29D3C403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A608F-FB69-4AE4-87D7-9D65FF37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54168-D5FF-4A12-A791-AAB7D46F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25C38-7A85-4020-BFCE-948D3055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62CAF-480F-4E08-9437-A67924B8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CC2-BEA4-4ACA-81A4-48926073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7B32C-F943-4D2C-A2F3-A2A75C2B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8BA20-EED1-4AAC-8CB5-40C7947D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A584B-207E-44C2-9991-30406C69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37312-909E-4B7B-BFCC-DFBFAA65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7F38E-2165-4C07-A2BC-5A6FC91A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BF008-2379-4FA3-AC63-CC3241FA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68599-B350-4B55-A1B3-BF511A82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89F11-6CFE-4212-87C9-EE5EC6E4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747C6-7C53-4A34-8B99-6C0EFC6F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2F34B-EC85-432F-98DE-1F981224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16B7-8F67-4975-B7CA-D792E3972A8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FA90-D8B0-4FFB-BC63-F72E344BD714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7219-941D-4D2C-97D5-139658FAC3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B8AA-F9E0-4275-B23C-30D4F78A72A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dbf4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70dbf4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dbf4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70dbf4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dbf4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70dbf4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dbf4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70dbf4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dbf4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70dbf4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70dbf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dbf4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70dbf4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70dbf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dbf4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70dbf4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81A7-4B49-4854-8AF8-A04A5ECD9784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65A6-DF4F-4A21-A335-B84170FF0A0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98BE-2845-413E-A1A1-3D6870BF063F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7109-46BA-468E-8440-CEA966D2D13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F3C7-4BD6-4615-AEE9-B2BEE54FF68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AA7F-A2FA-49D7-89AF-EA672567432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6C58-08A3-47B1-946B-0382CE6D8F3B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2C70-FE9E-4026-B1B5-8E18758C072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19"/>
          <p:cNvSpPr/>
          <p:nvPr/>
        </p:nvSpPr>
        <p:spPr>
          <a:xfrm>
            <a:off x="1403280" y="1700280"/>
            <a:ext cx="61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MCj04281130000[1]"/>
          <p:cNvPicPr/>
          <p:nvPr/>
        </p:nvPicPr>
        <p:blipFill>
          <a:blip r:embed="rId1"/>
          <a:stretch/>
        </p:blipFill>
        <p:spPr>
          <a:xfrm flipH="1">
            <a:off x="6372360" y="4221000"/>
            <a:ext cx="2395440" cy="2357640"/>
          </a:xfrm>
          <a:prstGeom prst="rect">
            <a:avLst/>
          </a:prstGeom>
          <a:ln w="0">
            <a:noFill/>
          </a:ln>
        </p:spPr>
      </p:pic>
      <p:grpSp>
        <p:nvGrpSpPr>
          <p:cNvPr id="534" name="Group 12"/>
          <p:cNvGrpSpPr/>
          <p:nvPr/>
        </p:nvGrpSpPr>
        <p:grpSpPr>
          <a:xfrm>
            <a:off x="4849560" y="106200"/>
            <a:ext cx="2766600" cy="2405880"/>
            <a:chOff x="4849560" y="106200"/>
            <a:chExt cx="2766600" cy="2405880"/>
          </a:xfrm>
        </p:grpSpPr>
        <p:pic>
          <p:nvPicPr>
            <p:cNvPr id="535" name="Picture 5" descr="j0432645"/>
            <p:cNvPicPr/>
            <p:nvPr/>
          </p:nvPicPr>
          <p:blipFill>
            <a:blip r:embed="rId2"/>
            <a:stretch/>
          </p:blipFill>
          <p:spPr>
            <a:xfrm rot="21045600">
              <a:off x="5003280" y="259920"/>
              <a:ext cx="2087640" cy="20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7" descr="j0432645"/>
            <p:cNvPicPr/>
            <p:nvPr/>
          </p:nvPicPr>
          <p:blipFill>
            <a:blip r:embed="rId3"/>
            <a:stretch/>
          </p:blipFill>
          <p:spPr>
            <a:xfrm rot="20777400">
              <a:off x="5722920" y="618480"/>
              <a:ext cx="1714320" cy="171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7" name="Picture 9" descr="j0432665"/>
          <p:cNvPicPr/>
          <p:nvPr/>
        </p:nvPicPr>
        <p:blipFill>
          <a:blip r:embed="rId4"/>
          <a:stretch/>
        </p:blipFill>
        <p:spPr>
          <a:xfrm>
            <a:off x="963720" y="4159080"/>
            <a:ext cx="2592360" cy="2592720"/>
          </a:xfrm>
          <a:prstGeom prst="rect">
            <a:avLst/>
          </a:prstGeom>
          <a:ln w="0">
            <a:noFill/>
          </a:ln>
        </p:spPr>
      </p:pic>
      <p:sp>
        <p:nvSpPr>
          <p:cNvPr id="538" name="WordArt 10"/>
          <p:cNvSpPr txBox="1"/>
          <p:nvPr/>
        </p:nvSpPr>
        <p:spPr>
          <a:xfrm>
            <a:off x="642960" y="2428920"/>
            <a:ext cx="7915320" cy="19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cc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Comic Sans MS"/>
              </a:rPr>
              <a:t>Спасибо за урок!</a:t>
            </a:r>
            <a:endParaRPr b="1" i="1" lang="en-US" sz="1800" spc="1" strike="noStrike">
              <a:ln w="28440">
                <a:solidFill>
                  <a:srgbClr val="cc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pic>
        <p:nvPicPr>
          <p:cNvPr id="539" name="Рисунок 9" descr="Рисунок1.jpg"/>
          <p:cNvPicPr/>
          <p:nvPr/>
        </p:nvPicPr>
        <p:blipFill>
          <a:blip r:embed="rId5"/>
          <a:stretch/>
        </p:blipFill>
        <p:spPr>
          <a:xfrm>
            <a:off x="-252360" y="-243000"/>
            <a:ext cx="3382920" cy="32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1332000" y="2421000"/>
          <a:ext cx="7056360" cy="1190520"/>
        </p:xfrm>
        <a:graphic>
          <a:graphicData uri="http://schemas.openxmlformats.org/drawingml/2006/table">
            <a:tbl>
              <a:tblPr/>
              <a:tblGrid>
                <a:gridCol w="880920"/>
                <a:gridCol w="882720"/>
                <a:gridCol w="880920"/>
                <a:gridCol w="882720"/>
                <a:gridCol w="881280"/>
                <a:gridCol w="882360"/>
                <a:gridCol w="882720"/>
                <a:gridCol w="882720"/>
              </a:tblGrid>
              <a:tr h="59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Овал 1"/>
          <p:cNvSpPr/>
          <p:nvPr/>
        </p:nvSpPr>
        <p:spPr>
          <a:xfrm>
            <a:off x="3276720" y="1916280"/>
            <a:ext cx="2808000" cy="1512720"/>
          </a:xfrm>
          <a:prstGeom prst="ellipse">
            <a:avLst/>
          </a:prstGeom>
          <a:solidFill>
            <a:srgbClr val="0070c0"/>
          </a:solidFill>
          <a:ln w="19080">
            <a:solidFill>
              <a:srgbClr val="00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8f8"/>
                </a:solidFill>
                <a:latin typeface="Calibri"/>
              </a:rPr>
              <a:t>Суффи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Группа 25"/>
          <p:cNvGrpSpPr/>
          <p:nvPr/>
        </p:nvGrpSpPr>
        <p:grpSpPr>
          <a:xfrm>
            <a:off x="250920" y="2637000"/>
            <a:ext cx="3165120" cy="2232000"/>
            <a:chOff x="250920" y="2637000"/>
            <a:chExt cx="3165120" cy="2232000"/>
          </a:xfrm>
        </p:grpSpPr>
        <p:sp>
          <p:nvSpPr>
            <p:cNvPr id="512" name="Овал 6"/>
            <p:cNvSpPr/>
            <p:nvPr/>
          </p:nvSpPr>
          <p:spPr>
            <a:xfrm>
              <a:off x="250920" y="3789360"/>
              <a:ext cx="2232000" cy="1079640"/>
            </a:xfrm>
            <a:prstGeom prst="ellipse">
              <a:avLst/>
            </a:prstGeom>
            <a:solidFill>
              <a:srgbClr val="0070c0"/>
            </a:solidFill>
            <a:ln w="19080">
              <a:solidFill>
                <a:srgbClr val="00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Находится после кор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Прямая соединительная линия 8"/>
            <p:cNvSpPr/>
            <p:nvPr/>
          </p:nvSpPr>
          <p:spPr>
            <a:xfrm flipH="1">
              <a:off x="1763280" y="2637000"/>
              <a:ext cx="1652760" cy="1224000"/>
            </a:xfrm>
            <a:prstGeom prst="line">
              <a:avLst/>
            </a:prstGeom>
            <a:ln w="10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Группа 27"/>
          <p:cNvGrpSpPr/>
          <p:nvPr/>
        </p:nvGrpSpPr>
        <p:grpSpPr>
          <a:xfrm>
            <a:off x="1258920" y="2852640"/>
            <a:ext cx="2952360" cy="3097440"/>
            <a:chOff x="1258920" y="2852640"/>
            <a:chExt cx="2952360" cy="3097440"/>
          </a:xfrm>
        </p:grpSpPr>
        <p:sp>
          <p:nvSpPr>
            <p:cNvPr id="515" name="Овал 5"/>
            <p:cNvSpPr/>
            <p:nvPr/>
          </p:nvSpPr>
          <p:spPr>
            <a:xfrm>
              <a:off x="1258920" y="4797360"/>
              <a:ext cx="2089080" cy="1152720"/>
            </a:xfrm>
            <a:prstGeom prst="ellipse">
              <a:avLst/>
            </a:prstGeom>
            <a:solidFill>
              <a:srgbClr val="0070c0"/>
            </a:solidFill>
            <a:ln w="19080">
              <a:solidFill>
                <a:srgbClr val="00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Образует новые сл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Прямая соединительная линия 10"/>
            <p:cNvSpPr/>
            <p:nvPr/>
          </p:nvSpPr>
          <p:spPr>
            <a:xfrm flipH="1">
              <a:off x="2626920" y="2852640"/>
              <a:ext cx="1584360" cy="2089440"/>
            </a:xfrm>
            <a:prstGeom prst="line">
              <a:avLst/>
            </a:prstGeom>
            <a:ln w="10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Группа 28"/>
          <p:cNvGrpSpPr/>
          <p:nvPr/>
        </p:nvGrpSpPr>
        <p:grpSpPr>
          <a:xfrm>
            <a:off x="3635280" y="3141720"/>
            <a:ext cx="2016360" cy="3456000"/>
            <a:chOff x="3635280" y="3141720"/>
            <a:chExt cx="2016360" cy="3456000"/>
          </a:xfrm>
        </p:grpSpPr>
        <p:sp>
          <p:nvSpPr>
            <p:cNvPr id="518" name="Овал 4"/>
            <p:cNvSpPr/>
            <p:nvPr/>
          </p:nvSpPr>
          <p:spPr>
            <a:xfrm>
              <a:off x="3635280" y="5445360"/>
              <a:ext cx="2016360" cy="1152360"/>
            </a:xfrm>
            <a:prstGeom prst="ellipse">
              <a:avLst/>
            </a:prstGeom>
            <a:solidFill>
              <a:srgbClr val="0070c0"/>
            </a:solidFill>
            <a:ln w="19080">
              <a:solidFill>
                <a:srgbClr val="00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Часть сл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Прямая соединительная линия 12"/>
            <p:cNvSpPr/>
            <p:nvPr/>
          </p:nvSpPr>
          <p:spPr>
            <a:xfrm>
              <a:off x="4643640" y="3141720"/>
              <a:ext cx="36360" cy="2376720"/>
            </a:xfrm>
            <a:prstGeom prst="line">
              <a:avLst/>
            </a:prstGeom>
            <a:ln w="10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Группа 30"/>
          <p:cNvGrpSpPr/>
          <p:nvPr/>
        </p:nvGrpSpPr>
        <p:grpSpPr>
          <a:xfrm>
            <a:off x="5651640" y="3141720"/>
            <a:ext cx="3168360" cy="2808360"/>
            <a:chOff x="5651640" y="3141720"/>
            <a:chExt cx="3168360" cy="2808360"/>
          </a:xfrm>
        </p:grpSpPr>
        <p:sp>
          <p:nvSpPr>
            <p:cNvPr id="521" name="Овал 3"/>
            <p:cNvSpPr/>
            <p:nvPr/>
          </p:nvSpPr>
          <p:spPr>
            <a:xfrm>
              <a:off x="6299280" y="4726080"/>
              <a:ext cx="2520720" cy="1224000"/>
            </a:xfrm>
            <a:prstGeom prst="ellipse">
              <a:avLst/>
            </a:prstGeom>
            <a:solidFill>
              <a:srgbClr val="0070c0"/>
            </a:solidFill>
            <a:ln w="19080">
              <a:solidFill>
                <a:srgbClr val="00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8f8f8"/>
                  </a:solidFill>
                  <a:latin typeface="Calibri"/>
                </a:rPr>
                <a:t>Безударная гласная запоминается, проверяе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Прямая соединительная линия 14"/>
            <p:cNvSpPr/>
            <p:nvPr/>
          </p:nvSpPr>
          <p:spPr>
            <a:xfrm>
              <a:off x="5651640" y="3141720"/>
              <a:ext cx="1161720" cy="2124360"/>
            </a:xfrm>
            <a:prstGeom prst="line">
              <a:avLst/>
            </a:prstGeom>
            <a:ln w="10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Группа 31"/>
          <p:cNvGrpSpPr/>
          <p:nvPr/>
        </p:nvGrpSpPr>
        <p:grpSpPr>
          <a:xfrm>
            <a:off x="5651640" y="2492280"/>
            <a:ext cx="3232080" cy="2008440"/>
            <a:chOff x="5651640" y="2492280"/>
            <a:chExt cx="3232080" cy="2008440"/>
          </a:xfrm>
        </p:grpSpPr>
        <p:sp>
          <p:nvSpPr>
            <p:cNvPr id="524" name="Овал 2"/>
            <p:cNvSpPr/>
            <p:nvPr/>
          </p:nvSpPr>
          <p:spPr>
            <a:xfrm>
              <a:off x="6659640" y="3284640"/>
              <a:ext cx="2224080" cy="1216080"/>
            </a:xfrm>
            <a:prstGeom prst="ellipse">
              <a:avLst/>
            </a:prstGeom>
            <a:solidFill>
              <a:srgbClr val="0070c0"/>
            </a:solidFill>
            <a:ln w="19080">
              <a:solidFill>
                <a:srgbClr val="00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Изменяет значение сл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Прямая соединительная линия 16"/>
            <p:cNvSpPr/>
            <p:nvPr/>
          </p:nvSpPr>
          <p:spPr>
            <a:xfrm>
              <a:off x="5651640" y="2492280"/>
              <a:ext cx="1152360" cy="1081080"/>
            </a:xfrm>
            <a:prstGeom prst="line">
              <a:avLst/>
            </a:prstGeom>
            <a:ln w="10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Box 1"/>
          <p:cNvSpPr/>
          <p:nvPr/>
        </p:nvSpPr>
        <p:spPr>
          <a:xfrm>
            <a:off x="1476360" y="1484280"/>
            <a:ext cx="6120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ажи мне – и я забуду, покажи мне – и я запомню, вовлеки меня – и я науч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v_strane_nevyuchennyx_urokov.wmv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TextBox 11" descr=""/>
          <p:cNvPicPr/>
          <p:nvPr/>
        </p:nvPicPr>
        <p:blipFill>
          <a:blip r:embed="rId1"/>
          <a:stretch/>
        </p:blipFill>
        <p:spPr>
          <a:xfrm>
            <a:off x="-6480" y="8568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529" name="TextBox 12"/>
          <p:cNvSpPr/>
          <p:nvPr/>
        </p:nvSpPr>
        <p:spPr>
          <a:xfrm>
            <a:off x="324000" y="907920"/>
            <a:ext cx="9612000" cy="43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Прочитаю сло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Поставлю  во множественное чис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ли изменю форму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 Если гласный остался, пишу суффикс –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к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если выпал -пишу –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1"/>
          <p:cNvSpPr/>
          <p:nvPr/>
        </p:nvSpPr>
        <p:spPr>
          <a:xfrm>
            <a:off x="539640" y="112536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рош…к, веноч…к, чулоч…к, карандаш…к, кирпич…к, нос…к, звоноч…к, сыноч…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Box 2"/>
          <p:cNvSpPr/>
          <p:nvPr/>
        </p:nvSpPr>
        <p:spPr>
          <a:xfrm>
            <a:off x="611280" y="1773360"/>
            <a:ext cx="85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 загадок таит в себе обыкновенный ёж…к. Колючий клубоч…к выдерживает мощные дозы я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Box 1"/>
          <p:cNvSpPr/>
          <p:nvPr/>
        </p:nvSpPr>
        <p:spPr>
          <a:xfrm>
            <a:off x="1547640" y="907920"/>
            <a:ext cx="62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звени-ка, друж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лосистый звон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мену ждут ребя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играть немножко над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1T11:13:46Z</dcterms:created>
  <dc:creator>User</dc:creator>
  <dc:description/>
  <dc:language>en-US</dc:language>
  <cp:lastModifiedBy>Учитель</cp:lastModifiedBy>
  <dcterms:modified xsi:type="dcterms:W3CDTF">2012-12-10T11:18:54Z</dcterms:modified>
  <cp:revision>142</cp:revision>
  <dc:subject/>
  <dc:title>Слайд 1</dc:title>
</cp:coreProperties>
</file>