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029-238B-43AE-8A55-7BD45332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0B9-A954-4B73-8AD0-D365FD9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E58-40F3-4625-BC84-5A2F09E4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4AA-0F20-42F3-A041-03A8BEB6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ED63-00CA-4F09-85EA-CFBB1488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B02-E96D-4ECD-980D-0B3088D7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9CC-39D5-4D5D-AA0E-82E3D9B5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D10-2852-46B5-B902-941EA5D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8FBF-B768-48CF-91A7-00A562B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E4D-44E6-43E3-A43D-9E5AC76C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947-01D1-409C-9F33-BF8F1B5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DF9-DE01-4E5D-8E75-B27C02BB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08F-4770-44EC-9774-4242212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618E-2C29-4750-840D-BB64346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DFC-62FB-42C6-AA93-48C3DC6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DAE-EE65-4720-B328-750D78C9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E812-38A1-442F-BF51-68BBAE40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C21-BF3E-4C2C-8C91-76C03E59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C17-80D1-401C-9EC2-408405D1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F6D-59BC-455B-8AA9-DDDD58E7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21E-18EA-4BC2-9476-002517AC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820-1C79-42F4-8EDA-2EADB3E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4C9-0F16-45F2-B95D-F0BC031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A60-EEE7-4936-9146-2C08F41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46C-FE2F-414D-9DFE-E342F47817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C8B-AB7F-4B68-889B-8E02FA8E67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семирное наслед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Яненко Кс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Казанский Кремль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ко-архитектурный комплекс Казанского Кремля включен в список Всемирного наследия ЮНЕСКО 30 ноября 2000года. Таким образом, Казанский Кремль сегодня является не только достоянием Казани и Республики Татарстан, но и достоянием всего мирового со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зеро Байка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декабря 1996 г. по решению 20-й сессии Комитета Всемирного наследия ЮНЕСКО, озеро Байкал было включено в Список всемирного природного наследия. Чтобы попасть в этот список, объект-кандидат должен был удовлетворять как минимум одному из четырех критерие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вляться выдающимся примером, представляющим основные этапы развития Земли, включая свидетельства древней жизни, значительные геологические процессы в стадии формирования форм рельефа, геоморфологических и физиографических элементов, имеющих важное знач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онец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1-28T17:20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