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30E-91A6-48D0-9109-8CF85899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AB0-1568-499F-BBC0-03AC173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274-76B3-4882-A744-A00943C4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DAE-8D24-471A-957F-6CE1DBB3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573-E2DE-4AEC-9602-3E295807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E240-E31F-48E8-BA66-A16E950E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C7C-0AD2-42EA-85B5-5023E8B5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9D8F-BFF2-4C7E-A1E7-54D2BE0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7204-562A-4FBD-A52A-E05E3539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0C75-6C24-4852-B8CF-EDFD703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059C-55F4-404D-869B-0276E51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7AF-0773-4C85-8875-8F800BB9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CC45-167D-4204-8DDA-1C55106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088E-51ED-44B7-841D-83FF996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A4E0-A8FD-4415-9BD1-87B65F9D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01C8-E313-41BF-870C-92B66E8F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57A-56CD-4E1C-8125-78FF854C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DD8-4A97-4305-A6D0-43B09414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E04-1F25-4690-81D6-36727C6B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670-4562-4477-9B4C-8910813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A89-0D93-4348-AEA4-840DF1D4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4B3-DAD5-493B-BA77-4A422F5A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240-FBEE-463A-A074-E27936F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636-ADAE-4755-B2A2-66E68E4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C20-A2AC-4CDD-B2E9-B485D3633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9EB-3BBE-4192-9FBE-ED8C96FAEC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семирное наслед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: Яненко Кс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Казанский Кремл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ко-архитектурный комплекс Казанского Кремля включен в список Всемирного наследия ЮНЕСКО 30 ноября 2000года. Таким образом, Казанский Кремль сегодня является не только достоянием Казани и Республики Татарстан, но и достоянием всего мирового сооб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Озеро Байка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декабря 1996 г. по решению 20-й сессии Комитета Всемирного наследия ЮНЕСКО, озеро Байкал было включено в Список всемирного природного наследия. Чтобы попасть в этот список, объект-кандидат должен был удовлетворять как минимум одному из четырех критерие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вляться выдающимся примером, представляющим основные этапы развития Земли, включая свидетельства древней жизни, значительные геологические процессы в стадии формирования форм рельефа, геоморфологических и физиографических элементов, имеющих важное знач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онец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1-28T17:20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