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D938-7DBB-455F-BE35-660BA844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6A5D-2F51-4B6B-A8A2-DF216CFB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08A9-A67A-44A9-9EB3-EF085982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8C5C-749C-47C0-8541-054EDE3B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B1AE-687D-4638-A75F-C0F198FC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35A7-8787-4EFB-A72D-77120D69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702C-61A1-4211-AA8D-D61792BD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48A6-4EA2-4A1B-9D54-841248E1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1D43-8CEC-4EB3-A159-38E05F09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C364-4049-45CD-8ECA-7CB09FBD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1480-EBCC-439B-AC83-C02EEFDF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ABDE-AA34-4329-B615-7E6793E0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F578-57FB-41F5-B700-B7579091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5C25-404D-4126-9ED5-56F1C4A0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C82F-7C44-4A09-A79B-9BCD97F0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43D3-2C4F-4852-AF31-0306B921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9CAE-104D-4D88-AA33-91DC2307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DEADC-8854-4CFF-BCC8-523BD86F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AC63A-3A26-495D-B21E-0A70DFA3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F3F63-CF5D-44D0-94B8-C3F2A560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635DF-6DE4-403E-9080-ABA73BF7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00BB2-534F-4E9A-BBFC-1E113000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2450-99CA-42E0-911E-F80F8300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5CB45-080F-49D1-AB75-3AE77B4C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50255-0FE9-413E-A04E-728469CE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94269-ED90-4EC1-BA87-361CEFB2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0CCF8-27E1-4176-8BC5-E2891361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BF872-7459-4B58-BFF6-76D3B2FD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9B3A0-8037-411A-B42F-8185CFAF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6DEEC-AA76-408D-B0D8-5D38EC4B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7A517-0819-48D7-A1FB-5EA069C7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0583D-8A55-4EFD-9B23-F6DFE9DD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1E153-0C45-4E61-ACDC-51B4E0FF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1D54-E8D9-493F-AF31-397E5FC4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BB720-DA7E-4BE7-A552-CF6A7CFD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E4868-F212-449D-B408-9EC83CBD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99111-9674-46BE-9520-4A180832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0A494-FF1A-4732-8D47-47C2C8B9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16512-BEAA-49CC-B82B-ACD27162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91043-E184-47D2-A8F9-001CF8F2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4DCB7-3B41-4820-9B4E-CB33FC71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88AC1-16F3-4DD8-BEE0-A79BA581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F655F-5212-4535-92C7-625CB39A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1DA80-E6D7-4896-A54E-EA92C9CA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B8A8-888B-409A-B1C1-1B445490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803A1-B69A-4F20-9491-1B329F4E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A4312-254A-4221-8D98-3965835D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23CD3-BD92-4BA1-9603-53019475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53E1B-0CA4-4E65-A3EB-AD719592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ED4BD-D783-40D5-99A1-6226AC7A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DF28B-3071-4D5E-8802-D1111B05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DA164-4041-4D78-A705-2C3A0B35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72C61-BFEC-4B1E-BE1D-B1DF4538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CCED4-CBD6-49B7-8788-8FF9B432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9B488-E83F-4D8F-920D-5007CF75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F24F-5ABE-4824-ADE2-5B5CD862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CD7C3-29D0-4B75-8338-419ADBB5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3C203-A761-4F14-AA6C-1B780EFD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B431E-3108-44B9-B7FE-86E2522A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C5887-522D-4905-9F05-0194DDB7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29091-7E2A-4D37-A248-E78A1F93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8A197-0FCA-4E31-B8ED-63EE1758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C5D06-ACDF-4F33-B60D-577413E8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3B65D-858C-4E68-8388-8D79E52F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9AA88-8BD8-44A8-A2ED-BF779CA5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50488-276A-4901-A7AC-3A78494B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F2EB-5CBD-44DC-B0DB-82552619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2F37E-C4E3-4773-AB2A-F7C02392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339E9-A27F-4907-9A9B-B7F354A1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B28C5-550A-478A-AF60-0DF76AC21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85416-66DC-4CE9-BA07-13D028BE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08E23-2653-43CD-B33E-88D180AC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2138B-FAF7-4BAB-81CB-6D049290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2B292-39BA-4CCA-BA0B-738D6429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0B147-4A96-487F-96A8-31448B52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37F91-8DCF-4FE8-909E-F5E17192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C796C-4D22-460A-93D7-9469DD5F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29E2-40A7-4459-8CD3-9E36E3ED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5EF5A-5694-4DE3-9DD4-F75E404A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7E3EB-226C-4C1C-9F03-6BC3BDFB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B0B84-CDF2-4C6E-8C4B-730A4582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5BE65-3373-4327-9BDF-6F888F61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1944A-D4A7-4153-9E73-38E377ECB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F0D-2C81-477B-B4AF-1E80FCF2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9D22-19D9-416F-A263-4FB8EBB2AB99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8D71-2177-43E5-B12C-9A99553A114F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8F1C-5CD6-4218-B7B2-468F9E50A6C5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D64A-FC59-4749-B211-91FB8FEB9241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D3DC-84F9-4498-A793-8633E5030E60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DC3E-AE25-4A2D-9A97-B8AA1E372A47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EFF9-248F-4DBA-94FF-03F6906AA0B3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LESHNYA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Содержимое 5" descr="x_acfd5c0d.jpg"/>
          <p:cNvPicPr/>
          <p:nvPr/>
        </p:nvPicPr>
        <p:blipFill>
          <a:blip r:embed="rId2"/>
          <a:stretch/>
        </p:blipFill>
        <p:spPr>
          <a:xfrm>
            <a:off x="1500120" y="1714680"/>
            <a:ext cx="6786720" cy="4071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Tell about our villag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890800" y="1546200"/>
            <a:ext cx="4516560" cy="4514760"/>
            <a:chOff x="2890800" y="1546200"/>
            <a:chExt cx="4516560" cy="4514760"/>
          </a:xfrm>
        </p:grpSpPr>
        <p:sp>
          <p:nvSpPr>
            <p:cNvPr id="342" name="_s33816"/>
            <p:cNvSpPr/>
            <p:nvPr/>
          </p:nvSpPr>
          <p:spPr>
            <a:xfrm flipH="1" flipV="1">
              <a:off x="4348080" y="3003120"/>
              <a:ext cx="401760" cy="39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33815"/>
            <p:cNvSpPr/>
            <p:nvPr/>
          </p:nvSpPr>
          <p:spPr>
            <a:xfrm>
              <a:off x="3386160" y="2041560"/>
              <a:ext cx="1128600" cy="11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иглаш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сетить сел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33814"/>
            <p:cNvSpPr/>
            <p:nvPr/>
          </p:nvSpPr>
          <p:spPr>
            <a:xfrm flipH="1">
              <a:off x="4017960" y="3801960"/>
              <a:ext cx="566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33813"/>
            <p:cNvSpPr/>
            <p:nvPr/>
          </p:nvSpPr>
          <p:spPr>
            <a:xfrm>
              <a:off x="2890800" y="3240000"/>
              <a:ext cx="1128600" cy="112896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озмож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тдых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33812"/>
            <p:cNvSpPr/>
            <p:nvPr/>
          </p:nvSpPr>
          <p:spPr>
            <a:xfrm flipH="1">
              <a:off x="4349520" y="4200480"/>
              <a:ext cx="399960" cy="40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33811"/>
            <p:cNvSpPr/>
            <p:nvPr/>
          </p:nvSpPr>
          <p:spPr>
            <a:xfrm>
              <a:off x="3387600" y="4437000"/>
              <a:ext cx="1128960" cy="11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амятни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героям В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33810"/>
            <p:cNvSpPr/>
            <p:nvPr/>
          </p:nvSpPr>
          <p:spPr>
            <a:xfrm>
              <a:off x="5148360" y="4365720"/>
              <a:ext cx="1440" cy="56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33809"/>
            <p:cNvSpPr/>
            <p:nvPr/>
          </p:nvSpPr>
          <p:spPr>
            <a:xfrm>
              <a:off x="4586400" y="4932360"/>
              <a:ext cx="1128600" cy="11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Детский са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33808"/>
            <p:cNvSpPr/>
            <p:nvPr/>
          </p:nvSpPr>
          <p:spPr>
            <a:xfrm>
              <a:off x="5546880" y="4200480"/>
              <a:ext cx="401400" cy="39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33807"/>
            <p:cNvSpPr/>
            <p:nvPr/>
          </p:nvSpPr>
          <p:spPr>
            <a:xfrm>
              <a:off x="5783400" y="4435560"/>
              <a:ext cx="1128600" cy="11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больниц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33806"/>
            <p:cNvSpPr/>
            <p:nvPr/>
          </p:nvSpPr>
          <p:spPr>
            <a:xfrm>
              <a:off x="5711760" y="3801960"/>
              <a:ext cx="56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33805"/>
            <p:cNvSpPr/>
            <p:nvPr/>
          </p:nvSpPr>
          <p:spPr>
            <a:xfrm>
              <a:off x="6278400" y="3238560"/>
              <a:ext cx="1128960" cy="11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33804"/>
            <p:cNvSpPr/>
            <p:nvPr/>
          </p:nvSpPr>
          <p:spPr>
            <a:xfrm flipV="1">
              <a:off x="5546880" y="3003120"/>
              <a:ext cx="399960" cy="39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33803"/>
            <p:cNvSpPr/>
            <p:nvPr/>
          </p:nvSpPr>
          <p:spPr>
            <a:xfrm>
              <a:off x="5781600" y="2041560"/>
              <a:ext cx="1128960" cy="11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церков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33802"/>
            <p:cNvSpPr/>
            <p:nvPr/>
          </p:nvSpPr>
          <p:spPr>
            <a:xfrm flipV="1">
              <a:off x="5148360" y="2673360"/>
              <a:ext cx="0" cy="56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33801"/>
            <p:cNvSpPr/>
            <p:nvPr/>
          </p:nvSpPr>
          <p:spPr>
            <a:xfrm>
              <a:off x="4584600" y="1546200"/>
              <a:ext cx="1128960" cy="112860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ратк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стор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33800"/>
            <p:cNvSpPr/>
            <p:nvPr/>
          </p:nvSpPr>
          <p:spPr>
            <a:xfrm>
              <a:off x="4584600" y="3240000"/>
              <a:ext cx="1128960" cy="112896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леш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71760" y="428400"/>
            <a:ext cx="73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The village is</a:t>
            </a:r>
            <a:r>
              <a:rPr b="0" lang="ru-RU" sz="3600" spc="-1" strike="noStrike">
                <a:solidFill>
                  <a:srgbClr val="572314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572314"/>
                </a:solidFill>
                <a:latin typeface="Arial"/>
              </a:rPr>
              <a:t>situated not far from Tula in a very picturesque place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1" name="Содержимое 5" descr="map-tulskaya_leninskiy-karta.jpg"/>
          <p:cNvPicPr/>
          <p:nvPr/>
        </p:nvPicPr>
        <p:blipFill>
          <a:blip r:embed="rId2"/>
          <a:stretch/>
        </p:blipFill>
        <p:spPr>
          <a:xfrm>
            <a:off x="1285920" y="1928880"/>
            <a:ext cx="5000760" cy="4086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Our village is a historic place. It was founded in the 18</a:t>
            </a:r>
            <a:r>
              <a:rPr b="0" lang="en-US" sz="3900" spc="-1" strike="noStrike" baseline="30000">
                <a:solidFill>
                  <a:srgbClr val="572314"/>
                </a:solidFill>
                <a:latin typeface="Corbel"/>
              </a:rPr>
              <a:t>th</a:t>
            </a: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 century and was a center of textile industry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2124000" y="2276640"/>
            <a:ext cx="575316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One of the main sihgts of the village is the church. It was built in the middle of the 18</a:t>
            </a:r>
            <a:r>
              <a:rPr b="0" lang="en-US" sz="3900" spc="-1" strike="noStrike" baseline="30000">
                <a:solidFill>
                  <a:srgbClr val="572314"/>
                </a:solidFill>
                <a:latin typeface="Gill Sans MT"/>
              </a:rPr>
              <a:t>th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century.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6" name="Содержимое 3" descr="aleshnya1.jpg"/>
          <p:cNvPicPr/>
          <p:nvPr/>
        </p:nvPicPr>
        <p:blipFill>
          <a:blip r:embed="rId2"/>
          <a:stretch/>
        </p:blipFill>
        <p:spPr>
          <a:xfrm>
            <a:off x="2327400" y="17049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2314"/>
                </a:solidFill>
                <a:latin typeface="Gill Sans MT"/>
              </a:rPr>
              <a:t>Our school was built in 1973. It is a modern well-equipped building with many facilities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.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Содержимое 3" descr="x_2c7aa794.jpg"/>
          <p:cNvPicPr/>
          <p:nvPr/>
        </p:nvPicPr>
        <p:blipFill>
          <a:blip r:embed="rId2"/>
          <a:stretch/>
        </p:blipFill>
        <p:spPr>
          <a:xfrm>
            <a:off x="1042920" y="162864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329" name="Содержимое 5" descr="26042011156.jpg"/>
          <p:cNvPicPr/>
          <p:nvPr/>
        </p:nvPicPr>
        <p:blipFill>
          <a:blip r:embed="rId3"/>
          <a:stretch/>
        </p:blipFill>
        <p:spPr>
          <a:xfrm>
            <a:off x="5286240" y="2857680"/>
            <a:ext cx="3648240" cy="3071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here is a hospital in the village. Highly qualified doctors work there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Содержимое 5" descr="26042011144.jpg"/>
          <p:cNvPicPr/>
          <p:nvPr/>
        </p:nvPicPr>
        <p:blipFill>
          <a:blip r:embed="rId2"/>
          <a:stretch/>
        </p:blipFill>
        <p:spPr>
          <a:xfrm>
            <a:off x="2428920" y="1571760"/>
            <a:ext cx="5286240" cy="3643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2314"/>
                </a:solidFill>
                <a:latin typeface="Corbel"/>
              </a:rPr>
              <a:t>The cultural center of the village is our club. We sing and dance there, play different games and have partie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572314"/>
                </a:solidFill>
                <a:latin typeface="Corbel"/>
              </a:rPr>
              <a:t>Little children go to the kindergarten. It is one of the best places in our village. We remember it warmly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Содержимое 6" descr="26042011162.jpg"/>
          <p:cNvPicPr/>
          <p:nvPr/>
        </p:nvPicPr>
        <p:blipFill>
          <a:blip r:embed="rId2"/>
          <a:stretch/>
        </p:blipFill>
        <p:spPr>
          <a:xfrm>
            <a:off x="395280" y="278136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Рисунок 15" descr="26042011145.jpg"/>
          <p:cNvPicPr/>
          <p:nvPr/>
        </p:nvPicPr>
        <p:blipFill>
          <a:blip r:embed="rId3"/>
          <a:stretch/>
        </p:blipFill>
        <p:spPr>
          <a:xfrm>
            <a:off x="4786200" y="3357720"/>
            <a:ext cx="4143600" cy="3085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The monument to the heroes of the Great Patriotic War meets everybody who comes to our village. Many heroes are buried here. 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Содержимое 5" descr="x_32f4d5bb.jpg"/>
          <p:cNvPicPr/>
          <p:nvPr/>
        </p:nvPicPr>
        <p:blipFill>
          <a:blip r:embed="rId2"/>
          <a:stretch/>
        </p:blipFill>
        <p:spPr>
          <a:xfrm>
            <a:off x="2308320" y="1690560"/>
            <a:ext cx="5753160" cy="4314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Welcome to our village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have forests and meadows to pick up berries and mushrooms in summe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have rest zones to swim and play sport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have huge fields to ski in winte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have good ecology. Welcome to our village for rest and sightseeing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 PC</cp:lastModifiedBy>
  <dcterms:modified xsi:type="dcterms:W3CDTF">2013-01-20T17:12:49Z</dcterms:modified>
  <cp:revision>18</cp:revision>
  <dc:subject/>
  <dc:title>ALESHNYA</dc:title>
</cp:coreProperties>
</file>