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7A8-315D-4323-BDF4-812E8D8E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051-BC6D-4C57-8576-DFEDDFE0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5E0-90E4-48ED-A9A5-C5AC61C0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602-C4F3-497D-8F0C-5FCF3B08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AC36-2484-47A5-8F5C-3785D252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9853-3BED-4F50-ACF0-3D2C516B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83BE-D3BE-40C3-8994-ED4239D2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047E-06F8-4301-860E-77D1196C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1785-D2AB-4AEB-87C2-D210A2A9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4046-0736-4B35-A9F7-468279B5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368E-0E85-4174-8B00-A88B65B9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2F4-38B2-4697-8329-42CF17BE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CEF2-E2B4-408A-910C-895CDA23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B2A3-99C2-4559-B9E5-7AEC4760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F1C5-D818-4C87-948D-679CC75B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61E4-6F02-4A78-B0DD-FD409B27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1F56-3AF8-4824-8A9C-D877ACBF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CF43-8B72-4A79-A397-EC8A7C54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BC0B9-7BE4-4F0C-8C78-1C1C6923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052F7-E12F-4EF5-A01F-14C12A05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65AAA-0476-4D47-8889-078861AD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89D85-A8DE-4D46-B9B8-B55C6552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BB7-5093-48D4-B9C7-44775BF1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19938-5901-4D71-9B3E-1A3603AE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5C94A-A9E9-4AFC-8BFB-67053590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E6B16-272E-45DA-94AF-6FB0AFEE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743F-9967-4A59-AC3B-17C0716C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DB165-DB6F-4D27-BB44-2A40D0AD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EF81B-9BCC-4498-A213-D37E7731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21184-D7BD-4DAA-9F8B-676A8F35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7C868-4269-47F8-83A7-1C6F67D0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A24D6-C0F1-422C-AB29-8D40B5EF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7A067-23A6-4CF7-BABF-DCB555E4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498-38B7-4749-82AF-7A53409C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4FF69-99F3-4EC1-B8B3-2B06AC65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8D140-32EE-4972-9832-A9F9673A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1B079-FDDC-41FD-829B-7384AEEF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C2EB2-540E-40C9-9B18-FEAB7135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E15C2-1ABB-4DD3-A94B-F074F504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1A642-1DE3-45E8-A683-9AE67958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59E24-D095-46F0-A4FA-E9EFFA8B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1DC88-70E1-49BC-8A90-7E8502BB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9539D-CA0E-4514-855E-5E06BBDD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CC246-FAD2-41B9-A433-C31F4A10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06A-342B-478F-AA85-77376A9D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77462-0622-4EDF-9E08-36946D57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DBF0F-1395-4F15-AA92-CDDE2EF8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455C8-5F5A-44FA-B151-13A53F81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209CF-7B9E-4A38-8CC3-E5D6880E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C2FE2-1277-4E7F-A948-CB80D397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8276A-C70B-4973-A277-D3A0C14F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8A31C-4289-4EEC-AFFB-21228A48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EDB97-9819-4E97-98F9-0D20992B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39CD6-F83F-4045-90C9-3C8312AD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DC2B0-9428-4736-A2B3-CDBB47A2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EB3-EDA0-4709-963E-06B30406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36BF4-ADB1-48B0-B8BA-7F3FCE52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F585A-B6E4-4554-808B-7DDC473E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CDEF7-8301-4BC2-A90D-44FE325A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8C94B-FF5E-408B-A21E-342EA135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21566-4D7A-464B-8256-1417CA32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09B98-D7CD-4BEF-BC4E-C4CC0D03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11031-689C-42DC-925D-F6A00EF1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0FEF7-3532-45E8-AFE5-711EDC21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34189-7FAF-42A5-8E2F-AED256F7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80237-F9C5-47B6-9158-E1B70FF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C50-8E05-4A18-AC07-E75EE785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24DE0-C227-4406-812C-0E5CD2CF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41927-250A-4D7B-BBD3-47E5248A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29A95-3656-4B1E-A63B-54D981E3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FE479-A714-4225-97E6-5616ED13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8B000-A266-4F2C-A4B1-A1458ED3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7F8A5-C009-4B5F-850E-70A6A825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FF2CB-7B6E-45AF-B13C-F37F0985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FCA52-7133-45CA-8337-8AE73E7A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AEE16-388E-4DBB-B53F-C5A24DA2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373BA-1545-4951-A256-694C37B7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DFB-93BA-4D87-A798-C39AE311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26945-4D4D-4A40-A917-1084AB01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C6A0C-FEC0-43F5-B0A4-3A61B9EB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087BB-8778-4F81-8434-6102BF2C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968EF-4BE3-4865-BDB9-33093AF4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E322E-1AFC-460B-A6A8-04856FD8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7C1-3452-433B-8ACD-67D241B1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61D6-2763-4365-B61C-279EE11C4639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1373-CD1B-4847-BE6E-A04CA386EDE4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8B47-D912-463E-80E0-B06869549A0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C392-A9EE-4887-843A-EEC2131FB688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BB62-61E5-403C-8A8D-A76E76528F4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B9A6-2470-4DC7-BB44-0C8A47DB5899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7867-FD14-4AC0-B337-C103108672B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LESHNYA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5" descr="x_acfd5c0d.jpg"/>
          <p:cNvPicPr/>
          <p:nvPr/>
        </p:nvPicPr>
        <p:blipFill>
          <a:blip r:embed="rId2"/>
          <a:stretch/>
        </p:blipFill>
        <p:spPr>
          <a:xfrm>
            <a:off x="1500120" y="1714680"/>
            <a:ext cx="6786720" cy="4071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Tell about our villag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890800" y="1546200"/>
            <a:ext cx="4516560" cy="4514760"/>
            <a:chOff x="2890800" y="1546200"/>
            <a:chExt cx="4516560" cy="4514760"/>
          </a:xfrm>
        </p:grpSpPr>
        <p:sp>
          <p:nvSpPr>
            <p:cNvPr id="342" name="_s33816"/>
            <p:cNvSpPr/>
            <p:nvPr/>
          </p:nvSpPr>
          <p:spPr>
            <a:xfrm flipH="1" flipV="1">
              <a:off x="4348080" y="3003120"/>
              <a:ext cx="401760" cy="39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33815"/>
            <p:cNvSpPr/>
            <p:nvPr/>
          </p:nvSpPr>
          <p:spPr>
            <a:xfrm>
              <a:off x="3386160" y="2041560"/>
              <a:ext cx="1128600" cy="11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иглаш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сетить сел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33814"/>
            <p:cNvSpPr/>
            <p:nvPr/>
          </p:nvSpPr>
          <p:spPr>
            <a:xfrm flipH="1">
              <a:off x="4017960" y="3801960"/>
              <a:ext cx="566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33813"/>
            <p:cNvSpPr/>
            <p:nvPr/>
          </p:nvSpPr>
          <p:spPr>
            <a:xfrm>
              <a:off x="2890800" y="3240000"/>
              <a:ext cx="1128600" cy="112896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озмож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тдых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33812"/>
            <p:cNvSpPr/>
            <p:nvPr/>
          </p:nvSpPr>
          <p:spPr>
            <a:xfrm flipH="1">
              <a:off x="4349520" y="4200480"/>
              <a:ext cx="399960" cy="40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33811"/>
            <p:cNvSpPr/>
            <p:nvPr/>
          </p:nvSpPr>
          <p:spPr>
            <a:xfrm>
              <a:off x="3387600" y="4437000"/>
              <a:ext cx="1128960" cy="11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амятни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героям В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33810"/>
            <p:cNvSpPr/>
            <p:nvPr/>
          </p:nvSpPr>
          <p:spPr>
            <a:xfrm>
              <a:off x="5148360" y="4365720"/>
              <a:ext cx="1440" cy="56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33809"/>
            <p:cNvSpPr/>
            <p:nvPr/>
          </p:nvSpPr>
          <p:spPr>
            <a:xfrm>
              <a:off x="4586400" y="4932360"/>
              <a:ext cx="1128600" cy="11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етский са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33808"/>
            <p:cNvSpPr/>
            <p:nvPr/>
          </p:nvSpPr>
          <p:spPr>
            <a:xfrm>
              <a:off x="5546880" y="4200480"/>
              <a:ext cx="401400" cy="39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33807"/>
            <p:cNvSpPr/>
            <p:nvPr/>
          </p:nvSpPr>
          <p:spPr>
            <a:xfrm>
              <a:off x="5783400" y="4435560"/>
              <a:ext cx="1128600" cy="11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больни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33806"/>
            <p:cNvSpPr/>
            <p:nvPr/>
          </p:nvSpPr>
          <p:spPr>
            <a:xfrm>
              <a:off x="5711760" y="3801960"/>
              <a:ext cx="56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33805"/>
            <p:cNvSpPr/>
            <p:nvPr/>
          </p:nvSpPr>
          <p:spPr>
            <a:xfrm>
              <a:off x="6278400" y="3238560"/>
              <a:ext cx="1128960" cy="11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33804"/>
            <p:cNvSpPr/>
            <p:nvPr/>
          </p:nvSpPr>
          <p:spPr>
            <a:xfrm flipV="1">
              <a:off x="5546880" y="3003120"/>
              <a:ext cx="399960" cy="39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33803"/>
            <p:cNvSpPr/>
            <p:nvPr/>
          </p:nvSpPr>
          <p:spPr>
            <a:xfrm>
              <a:off x="5781600" y="2041560"/>
              <a:ext cx="1128960" cy="11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церков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33802"/>
            <p:cNvSpPr/>
            <p:nvPr/>
          </p:nvSpPr>
          <p:spPr>
            <a:xfrm flipV="1">
              <a:off x="5148360" y="2673360"/>
              <a:ext cx="0" cy="56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33801"/>
            <p:cNvSpPr/>
            <p:nvPr/>
          </p:nvSpPr>
          <p:spPr>
            <a:xfrm>
              <a:off x="4584600" y="1546200"/>
              <a:ext cx="1128960" cy="11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ратк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стор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33800"/>
            <p:cNvSpPr/>
            <p:nvPr/>
          </p:nvSpPr>
          <p:spPr>
            <a:xfrm>
              <a:off x="4584600" y="3240000"/>
              <a:ext cx="1128960" cy="112896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леш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71760" y="428400"/>
            <a:ext cx="73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The village is</a:t>
            </a:r>
            <a:r>
              <a:rPr b="0" lang="ru-RU" sz="36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572314"/>
                </a:solidFill>
                <a:latin typeface="Arial"/>
              </a:rPr>
              <a:t>situated not far from Tula in a very picturesque place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Содержимое 5" descr="map-tulskaya_leninskiy-karta.jpg"/>
          <p:cNvPicPr/>
          <p:nvPr/>
        </p:nvPicPr>
        <p:blipFill>
          <a:blip r:embed="rId2"/>
          <a:stretch/>
        </p:blipFill>
        <p:spPr>
          <a:xfrm>
            <a:off x="1285920" y="1928880"/>
            <a:ext cx="5000760" cy="408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Our village is a historic place. It was founded in the 18</a:t>
            </a:r>
            <a:r>
              <a:rPr b="0" lang="en-US" sz="3900" spc="-1" strike="noStrike" baseline="30000">
                <a:solidFill>
                  <a:srgbClr val="572314"/>
                </a:solidFill>
                <a:latin typeface="Corbel"/>
              </a:rPr>
              <a:t>th</a:t>
            </a: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 century and was a center of textile industry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7531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ne of the main sihgts of the village is the church. It was built in the middle of the 18</a:t>
            </a:r>
            <a:r>
              <a:rPr b="0" lang="en-US" sz="3900" spc="-1" strike="noStrike" baseline="30000">
                <a:solidFill>
                  <a:srgbClr val="572314"/>
                </a:solidFill>
                <a:latin typeface="Gill Sans MT"/>
              </a:rPr>
              <a:t>th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century.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Содержимое 3" descr="aleshnya1.jpg"/>
          <p:cNvPicPr/>
          <p:nvPr/>
        </p:nvPicPr>
        <p:blipFill>
          <a:blip r:embed="rId2"/>
          <a:stretch/>
        </p:blipFill>
        <p:spPr>
          <a:xfrm>
            <a:off x="2327400" y="1704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Our school was built in 1973. It is a modern well-equipped building with many facilitie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.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Содержимое 3" descr="x_2c7aa794.jpg"/>
          <p:cNvPicPr/>
          <p:nvPr/>
        </p:nvPicPr>
        <p:blipFill>
          <a:blip r:embed="rId2"/>
          <a:stretch/>
        </p:blipFill>
        <p:spPr>
          <a:xfrm>
            <a:off x="1042920" y="16286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29" name="Содержимое 5" descr="26042011156.jpg"/>
          <p:cNvPicPr/>
          <p:nvPr/>
        </p:nvPicPr>
        <p:blipFill>
          <a:blip r:embed="rId3"/>
          <a:stretch/>
        </p:blipFill>
        <p:spPr>
          <a:xfrm>
            <a:off x="5286240" y="2857680"/>
            <a:ext cx="3648240" cy="307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ere is a hospital in the village. Highly qualified doctors work there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5" descr="26042011144.jpg"/>
          <p:cNvPicPr/>
          <p:nvPr/>
        </p:nvPicPr>
        <p:blipFill>
          <a:blip r:embed="rId2"/>
          <a:stretch/>
        </p:blipFill>
        <p:spPr>
          <a:xfrm>
            <a:off x="2428920" y="1571760"/>
            <a:ext cx="5286240" cy="3643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The cultural center of the village is our club. We sing and dance there, play different games and have parti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Little children go to the kindergarten. It is one of the best places in our village. We remember it warmly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6" descr="26042011162.jpg"/>
          <p:cNvPicPr/>
          <p:nvPr/>
        </p:nvPicPr>
        <p:blipFill>
          <a:blip r:embed="rId2"/>
          <a:stretch/>
        </p:blipFill>
        <p:spPr>
          <a:xfrm>
            <a:off x="395280" y="27813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Рисунок 15" descr="26042011145.jpg"/>
          <p:cNvPicPr/>
          <p:nvPr/>
        </p:nvPicPr>
        <p:blipFill>
          <a:blip r:embed="rId3"/>
          <a:stretch/>
        </p:blipFill>
        <p:spPr>
          <a:xfrm>
            <a:off x="4786200" y="3357720"/>
            <a:ext cx="4143600" cy="308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The monument to the heroes of the Great Patriotic War meets everybody who comes to our village. Many heroes are buried here.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5" descr="x_32f4d5bb.jpg"/>
          <p:cNvPicPr/>
          <p:nvPr/>
        </p:nvPicPr>
        <p:blipFill>
          <a:blip r:embed="rId2"/>
          <a:stretch/>
        </p:blipFill>
        <p:spPr>
          <a:xfrm>
            <a:off x="2308320" y="169056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Welcome to our village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have forests and meadows to pick up berries and mushrooms in summ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have rest zones to swim and play spor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have huge fields to ski in wint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have good ecology. Welcome to our village for rest and sightseeing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 PC</cp:lastModifiedBy>
  <dcterms:modified xsi:type="dcterms:W3CDTF">2013-01-20T17:12:49Z</dcterms:modified>
  <cp:revision>18</cp:revision>
  <dc:subject/>
  <dc:title>ALESHNYA</dc:title>
</cp:coreProperties>
</file>