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B80-EA85-40F5-A963-F3CD6422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D54-FF93-4F34-968F-C8A8B59B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875-175C-48C5-BEE4-C38A47F5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350-7514-44F1-A68D-73D91164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448-C6D2-4CDC-823C-30795F63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EB8-44F0-4E9E-915B-D3B22135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6D5-7534-4900-8AE6-1F4D0A14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396-6AB6-4518-94E7-EAE5D1F9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508-A102-4290-A576-7E4BD170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406-E2A8-479A-A3AD-BD3D9C74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601-8A11-4BCF-9539-4063738D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43F-8995-4555-B9D4-6FEF0FAA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903D-42F9-4545-9241-F2D7207D2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067280" y="0"/>
            <a:ext cx="507672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знаки жизни и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кардиальный удар в область груд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068640"/>
            <a:ext cx="914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и жизни и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оказания экстренной реанимационной 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ардиальный удар в область гру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47628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стояние клинической смер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острадавшего, находящегося без сознания, необходимо провер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ю зрачков на свет (при повторном приподнимании верхнего века зрачок не суживаетс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отсутствие дых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ульса на сонной артерии: приложить пальцы под угол нижней челюсти справа или слева; отсутствие пульса свидетельствует об остановке серд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6omz"/>
          <p:cNvPicPr/>
          <p:nvPr/>
        </p:nvPicPr>
        <p:blipFill>
          <a:blip r:embed="rId1"/>
          <a:stretch/>
        </p:blipFill>
        <p:spPr>
          <a:xfrm>
            <a:off x="0" y="53820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0" y="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ним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комплекс мероприятий (действий) по выведению человека из состояния клинической смер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определения у пострадавшего состояния клинической смерти необходимо приступить к проведению реанимаци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нимационные мероприятия состоят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ардиального удара по груди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ямого массажа серд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енной вентиляции легких (ИВ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НИМАНИЕ! Запомните :прекардиальный удар при сохраненном сердцебиении может убить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omz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едовательность действий при реанимации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нуть пострадавшего на спин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свободить его грудную клетку от одежды, расстегнуть ремень на брюках, у женщин - бюстгальте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крыть мечевидный отросток грудины двумя пальцами одной руки, а другой рукой нанести прекардиальный удар в точку на 2-3 см выше мечевидного отростка грудины. Удар наносят коротким резким движением, ребром сжатой в кулак ладони, при этом локоть руки должен быть направлен вдоль тела пострадавш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сле удара необходимо проверить пульс на сонной артер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ардиальный удар наиболее эффективен в первую минуту после остановки серд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сли пульс не появился, необходимо приступить к непрямому массажу сердц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0"/>
            <a:ext cx="87487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ОГ:  Те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Врачи выделяют следующие признаки клинической смерт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е очень просто определяются и для этого не обязательно иметь каких-либо специальных зна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отсутствие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отсутствие реакции зрачков на све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отсутствие слух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отсутствие дыхания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отсутствие пульса на сонной арте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дите допущенную ошиб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пределите последовательность реанимационной помощ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адавше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роизвести прекардиальный удар в области груди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положить пострадавшего на спину на жесткую поверхн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провести искусственную вентиляцию легк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приступить к непрямому массажу серд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вызвать «скорую помощь» или срочно доставить пострадавшего в больниц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Выберите из предложенных вариантов ответов очередность правильных действий по определению признаков клинической смер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определить наличие отечности нижних и верхних конечнос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убедиться в полной дыхательной актив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убедиться в отсутствии дых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убедиться в отсутствии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убедиться в отсутствии речи у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 убедиться в реагировании зрачков глаз на све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 убедиться в отсутствии реакции зрачка на све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 убедиться в наличии у пострадавшего ушибов, травмы головы или позвоночника и) убедиться в отсутствии пульса на сонной артерии; к) определить наличие слуха у пострадавше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914400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Выберите из предложенных вариантов ответов правильные действия по нанесению прекардиального удара в области груд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рекардиальный удар наносится в точку расположенну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рудине выше мечевидного отростка: на 1-2 см; 2-3 с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-5 см (на границе средней и нижней трети грудины, на 2 с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ево от центра грудин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прекардиальный удар наносится ладон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прекардиальный удар наносится ребром сжатой в кулак ладо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локоть руки, наносящей удар, должен быть направлен поперек тела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локоть руки, наносящей удар, должен быть направлен вдоль тела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 удар должен быть скользящ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 удар должен быть коротким и достаточно резк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 после первого удара сделать второй уда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сразу после удара выяснить - возобновилась ли работа серд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/З Раздел 2, п 3.1-3.2 Ответить на вопросы(1-2), выполнить задание№16,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4"/>
          <p:cNvSpPr/>
          <p:nvPr/>
        </p:nvSpPr>
        <p:spPr>
          <a:xfrm>
            <a:off x="0" y="404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сновы безопасности жизнедеятельности» - учебник для учащихся 9 классов общеобразовательных  учреждений / С.Н. Вангородский, М.И. Кузнецов, В.В. Марков, В.Н. Латчук – М: Дрофа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Латчук В. Н., Марков В.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безопас­ности жизнедеятельности. 9 класс: методическое по­собие. — М.: Дрофа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В.Н. Латчук, В.В. Марк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П. Фролов «Основы безопасности жизнедеятельности» Дидактические материалы - М.: Дрофа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24000" y="260280"/>
            <a:ext cx="8569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 по теме «Первая медицинская помощь при травмах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1.Из названных ниже причин, выберите те, которые могут вызвать травму позвоноч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ар электрическим ток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ры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оп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равление химическими опасными веществ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дение с высо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адение радиоактивных веще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обильная авар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авма при прыжках в вод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удар твердым предметом по пальцам но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50920" y="189000"/>
            <a:ext cx="86421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1280" indent="-343080">
              <a:buClr>
                <a:srgbClr val="000000"/>
              </a:buClr>
              <a:buFont typeface="Arial"/>
              <a:buAutoNum type="arabicPeriod" startAt="2"/>
              <a:tabLst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ниже перечисленных мероприятий выберите те, которые нельзя делать до приезда «Скорой помощи», если у пострадав­шего появились признаки травмы головы или позвоноч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eriod" startAt="2"/>
              <a:tabLst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озможности держать голову и позвоночник пострадав­шего в неподвижном состоя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фиксировать руками голову пострадавшего с обеих сторон в том положении, в котором вы его обнаружи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мать одежд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лать промывание желуд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держивать проходимость дыхательных пу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ить за уровнем его сознания и дыхани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носить пострадавшего в постел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тановить наружное кровотеч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поддерживать нормальную температуру тела пострадавш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95280" y="26028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знаками сотрясения головного мозга явля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лимфатических узл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ичная или полная потеря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четкость зр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утанность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ременная потеря памяти (того, что предшествовало трав­м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ение сыпи на руках и ног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раснение кожи в области сустав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шнота и рво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отсутствие координа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) неодинаковые зрачк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) сонлив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) бессознательное состоя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50920" y="260280"/>
            <a:ext cx="8713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1280" indent="-343080">
              <a:buClr>
                <a:srgbClr val="000000"/>
              </a:buClr>
              <a:buFont typeface="Arial"/>
              <a:buAutoNum type="arabicPeriod" startAt="4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ушиба головы у подростка появилась тошнота и рвота, у него нарушилась координация движений и зрение. Определите вид травмы у подростка. Назовите причины, кото­рые могут вызвать подобную травму.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аши дальнейшие дейст­вия и их очередно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ь подростка в ближайшую поликлинику, больниц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звать «Скорую помощь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ложить к голове холодный компрес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ть обезболивающие таблет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ть по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50920" y="26028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87320" indent="-34272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знаками повреждения спины являются: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 горечь во р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упая или сильная боль в спине, которая обычно усилива­ется при движ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, которая передается в любую из конечностей, возмож­но сопровождается покалыванием или онемелост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вижность костей в необычном мес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азм мышц, который не позволяет согнуться или разог­нуть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желтение кож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езненность мыш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0920" y="26028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343080">
              <a:buClr>
                <a:srgbClr val="000000"/>
              </a:buClr>
              <a:buFont typeface="Arial"/>
              <a:buAutoNum type="arabicPeriod" startAt="6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страдавшего необходимо отправить в больницу, если боли в спине осложня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ар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овной бол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шното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вото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ечью во р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м лимфатических узл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держанием мочи/ка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ей чувстви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повреждением, произошедшим в результате падения или получения удара.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йдите допущенную ошиб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0" y="47628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определять признаки клинической см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последовательность действий при нанесении прекардиального уд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ть проверять пульс на сонной ар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5omz"/>
          <p:cNvPicPr/>
          <p:nvPr/>
        </p:nvPicPr>
        <p:blipFill>
          <a:blip r:embed="rId1"/>
          <a:stretch/>
        </p:blipFill>
        <p:spPr>
          <a:xfrm>
            <a:off x="0" y="1087560"/>
            <a:ext cx="9144000" cy="5770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ятие клинической смерти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ническая смерть - пограничное состояние между жизнью и смертью, во время которого ещё можно вернуть человека к жизни, сохранив его интеллект. Клиническая смерть длится 3-4 минуты, если за это время не возобновляется кровоснабжение головного мозга, наступает биологическая смер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6:21:45Z</dcterms:created>
  <dc:creator>GEG</dc:creator>
  <dc:description/>
  <dc:language>en-US</dc:language>
  <cp:lastModifiedBy>Админ</cp:lastModifiedBy>
  <dcterms:modified xsi:type="dcterms:W3CDTF">2013-12-25T15:20:33Z</dcterms:modified>
  <cp:revision>8</cp:revision>
  <dc:subject/>
  <dc:title>Слайд 1</dc:title>
</cp:coreProperties>
</file>