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F3C6A-91FE-4AE9-94A9-981336DC4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198ED-6503-41A6-A887-152069FFC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3D589-5EDE-4AAF-BA50-715D35956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9B309-6A07-4C28-819F-BDD83A31D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871F8-997F-41EC-AA1D-A8C73884F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6D009-622F-4F1E-BDFB-E87138498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55D51-2B68-4FD6-9022-2CE113131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DC64B-B454-451A-A84B-17EF57812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319E1-50C4-40CA-AA87-B73DBEDC3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768A3-0572-4F65-8275-621E94628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F4300-5B30-4D40-9D22-7479E8FF8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BBB4E-D7C8-4E37-ABA7-4323A4233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83F6F-73CF-445B-971B-EBCEF7E5008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4067280" y="0"/>
            <a:ext cx="5076720" cy="218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М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Признаки жизни и смер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Прекардиальный удар в область груди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0" y="3068640"/>
            <a:ext cx="914400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чебные вопрос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знаки жизни и смер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хема оказания экстренной реанимационной помощ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екардиальный удар в область груди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"/>
          <p:cNvSpPr/>
          <p:nvPr/>
        </p:nvSpPr>
        <p:spPr>
          <a:xfrm>
            <a:off x="0" y="476280"/>
            <a:ext cx="914400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Состояние клинической смер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 пострадавшего, находящегося без сознания, необходимо проверить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акцию зрачков на свет (при повторном приподнимании верхнего века зрачок не суживается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становить отсутствие дыха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личие пульса на сонной артерии: приложить пальцы под угол нижней челюсти справа или слева; отсутствие пульса свидетельствует об остановке сердц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9" descr="6omz"/>
          <p:cNvPicPr/>
          <p:nvPr/>
        </p:nvPicPr>
        <p:blipFill>
          <a:blip r:embed="rId1"/>
          <a:stretch/>
        </p:blipFill>
        <p:spPr>
          <a:xfrm>
            <a:off x="0" y="538200"/>
            <a:ext cx="9144000" cy="63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7"/>
          <p:cNvSpPr/>
          <p:nvPr/>
        </p:nvSpPr>
        <p:spPr>
          <a:xfrm>
            <a:off x="0" y="0"/>
            <a:ext cx="9144000" cy="503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аним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Реанимац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 это комплекс мероприятий (действий) по выведению человека из состояния клинической смерти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ле определения у пострадавшего состояния клинической смерти необходимо приступить к проведению реанимации. 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Реанимационные мероприятия состоят из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кардиального удара по грудин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прямого массажа сердц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кусственной вентиляции легких (ИВЛ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ВНИМАНИЕ! Запомните :прекардиальный удар при сохраненном сердцебиении может убить челове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7omz"/>
          <p:cNvPicPr/>
          <p:nvPr/>
        </p:nvPicPr>
        <p:blipFill>
          <a:blip r:embed="rId1"/>
          <a:stretch/>
        </p:blipFill>
        <p:spPr>
          <a:xfrm>
            <a:off x="0" y="0"/>
            <a:ext cx="9144000" cy="63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4"/>
          <p:cNvSpPr/>
          <p:nvPr/>
        </p:nvSpPr>
        <p:spPr>
          <a:xfrm>
            <a:off x="0" y="0"/>
            <a:ext cx="91440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оследовательность действий при реанимации: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Повернуть пострадавшего на спину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Освободить его грудную клетку от одежды, расстегнуть ремень на брюках, у женщин - бюстгальтер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Прикрыть мечевидный отросток грудины двумя пальцами одной руки, а другой рукой нанести прекардиальный удар в точку на 2-3 см выше мечевидного отростка грудины. Удар наносят коротким резким движением, ребром сжатой в кулак ладони, при этом локоть руки должен быть направлен вдоль тела пострадавшег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После удара необходимо проверить пульс на сонной артерии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кардиальный удар наиболее эффективен в первую минуту после остановки сердца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Если пульс не появился, необходимо приступить к непрямому массажу сердца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2"/>
          <p:cNvSpPr/>
          <p:nvPr/>
        </p:nvSpPr>
        <p:spPr>
          <a:xfrm>
            <a:off x="395280" y="0"/>
            <a:ext cx="8748720" cy="436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ТОГ:  Тес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1.Врачи выделяют следующие признаки клинической смерти,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оторые очень просто определяются и для этого не обязательно иметь каких-либо специальных знаний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а) отсутствие сознания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б) отсутствие реакции зрачков на свет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) отсутствие слуха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г) отсутствие дыхания;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) отсутствие пульса на сонной артери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Найдите допущенную ошибку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0" y="0"/>
            <a:ext cx="914400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2. Определите последовательность реанимационной помощи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страдавшему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а) произвести прекардиальный удар в области грудины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б) положить пострадавшего на спину на жесткую поверхность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) провести искусственную вентиляцию легких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г) приступить к непрямому массажу сердца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) вызвать «скорую помощь» или срочно доставить пострадавшего в больницу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"/>
          <p:cNvSpPr/>
          <p:nvPr/>
        </p:nvSpPr>
        <p:spPr>
          <a:xfrm>
            <a:off x="0" y="0"/>
            <a:ext cx="914400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3. Выберите из предложенных вариантов ответов очередность правильных действий по определению признаков клинической смерти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а) определить наличие отечности нижних и верхних конечностей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б) убедиться в полной дыхательной активности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) убедиться в отсутствии дыхания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г) убедиться в отсутствии сознания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) убедиться в отсутствии речи у пострадавшего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е) убедиться в реагировании зрачков глаз на свет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ж) убедиться в отсутствии реакции зрачка на свет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з) убедиться в наличии у пострадавшего ушибов, травмы головы или позвоночника и) убедиться в отсутствии пульса на сонной артерии; к) определить наличие слуха у пострадавшего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2"/>
          <p:cNvSpPr/>
          <p:nvPr/>
        </p:nvSpPr>
        <p:spPr>
          <a:xfrm>
            <a:off x="0" y="0"/>
            <a:ext cx="9144000" cy="65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4. Выберите из предложенных вариантов ответов правильные действия по нанесению прекардиального удара в области грудины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а) прекардиальный удар наносится в точку расположенную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а грудине выше мечевидного отростка: на 1-2 см; 2-3 см;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4-5 см (на границе средней и нижней трети грудины, на 2 см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лево от центра грудины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б) прекардиальный удар наносится ладонью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) прекардиальный удар наносится ребром сжатой в кулак ладони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г) локоть руки, наносящей удар, должен быть направлен поперек тела пострадавшего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) локоть руки, наносящей удар, должен быть направлен вдоль тела пострадавшего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е) удар должен быть скользящим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ж) удар должен быть коротким и достаточно резким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з) после первого удара сделать второй удар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) сразу после удара выяснить - возобновилась ли работа сердц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/З Раздел 2, п 3.1-3.2 Ответить на вопросы(1-2), выполнить задание№16,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Прямоугольник 4"/>
          <p:cNvSpPr/>
          <p:nvPr/>
        </p:nvSpPr>
        <p:spPr>
          <a:xfrm>
            <a:off x="0" y="40464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итератур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Основы безопасности жизнедеятельности» - учебник для учащихся 9 классов общеобразовательных  учреждений / С.Н. Вангородский, М.И. Кузнецов, В.В. Марков, В.Н. Латчук – М: Дрофа, 2009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2. Латчук В. Н., Марков В. В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новы безопас­ности жизнедеятельности. 9 класс: методическое по­собие. — М.: Дрофа, 200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3.В.Н. Латчук, В.В. Марков,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М.П. Фролов «Основы безопасности жизнедеятельности» Дидактические материалы - М.: Дрофа, 200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2"/>
          <p:cNvSpPr/>
          <p:nvPr/>
        </p:nvSpPr>
        <p:spPr>
          <a:xfrm>
            <a:off x="324000" y="260280"/>
            <a:ext cx="856908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74880">
              <a:tabLst>
                <a:tab algn="l" pos="0"/>
                <a:tab algn="l" pos="44460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Тест по теме «Первая медицинская помощь при травмах»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74880">
              <a:tabLst>
                <a:tab algn="l" pos="0"/>
                <a:tab algn="l" pos="44460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74880">
              <a:tabLst>
                <a:tab algn="l" pos="0"/>
                <a:tab algn="l" pos="44460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1.Из названных ниже причин, выберите те, которые могут вызвать травму позвоночника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74880">
              <a:tabLst>
                <a:tab algn="l" pos="0"/>
                <a:tab algn="l" pos="44460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74880">
              <a:tabLst>
                <a:tab algn="l" pos="0"/>
                <a:tab algn="l" pos="44460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а)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удар электрическим током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74880">
              <a:tabLst>
                <a:tab algn="l" pos="0"/>
                <a:tab algn="l" pos="44460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б)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зрыв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74880">
              <a:tabLst>
                <a:tab algn="l" pos="0"/>
                <a:tab algn="l" pos="44460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)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топ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74880">
              <a:tabLst>
                <a:tab algn="l" pos="0"/>
                <a:tab algn="l" pos="44460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г)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травление химическими опасными веществами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74880">
              <a:tabLst>
                <a:tab algn="l" pos="0"/>
                <a:tab algn="l" pos="44460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)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адение с высоты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74880">
              <a:tabLst>
                <a:tab algn="l" pos="0"/>
                <a:tab algn="l" pos="44460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е)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ыпадение радиоактивных веществ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74880">
              <a:tabLst>
                <a:tab algn="l" pos="0"/>
                <a:tab algn="l" pos="44460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ж)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автомобильная авария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74880">
              <a:tabLst>
                <a:tab algn="l" pos="0"/>
                <a:tab algn="l" pos="44460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з)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травма при прыжках в воду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74880">
              <a:tabLst>
                <a:tab algn="l" pos="0"/>
                <a:tab algn="l" pos="44460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) удар твердым предметом по пальцам ног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74880">
              <a:tabLst>
                <a:tab algn="l" pos="0"/>
                <a:tab algn="l" pos="44460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"/>
          <p:cNvSpPr/>
          <p:nvPr/>
        </p:nvSpPr>
        <p:spPr>
          <a:xfrm>
            <a:off x="250920" y="189000"/>
            <a:ext cx="8642160" cy="579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11280" indent="-343080">
              <a:buClr>
                <a:srgbClr val="000000"/>
              </a:buClr>
              <a:buFont typeface="Arial"/>
              <a:buAutoNum type="arabicPeriod" startAt="2"/>
              <a:tabLst>
                <a:tab algn="l" pos="444600"/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з ниже перечисленных мероприятий выберите те, которые нельзя делать до приезда «Скорой помощи», если у пострадав­шего появились признаки травмы головы или позвоночника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11280" indent="-343080">
              <a:buClr>
                <a:srgbClr val="000000"/>
              </a:buClr>
              <a:buFont typeface="Arial"/>
              <a:buAutoNum type="arabicPeriod" startAt="2"/>
              <a:tabLst>
                <a:tab algn="l" pos="444600"/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11280" indent="-343080">
              <a:tabLst>
                <a:tab algn="l" pos="0"/>
                <a:tab algn="l" pos="444600"/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а)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 возможности держать голову и позвоночник пострадав­шего в неподвижном состоянии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11280" indent="-343080">
              <a:tabLst>
                <a:tab algn="l" pos="0"/>
                <a:tab algn="l" pos="444600"/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б)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зафиксировать руками голову пострадавшего с обеих сторон в том положении, в котором вы его обнаружили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11280" indent="-343080">
              <a:tabLst>
                <a:tab algn="l" pos="0"/>
                <a:tab algn="l" pos="444600"/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)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нимать одежду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11280" indent="-343080">
              <a:tabLst>
                <a:tab algn="l" pos="0"/>
                <a:tab algn="l" pos="444600"/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г)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елать промывание желудка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11280" indent="-343080">
              <a:tabLst>
                <a:tab algn="l" pos="0"/>
                <a:tab algn="l" pos="444600"/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)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ддерживать проходимость дыхательных путей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11280" indent="-343080">
              <a:tabLst>
                <a:tab algn="l" pos="0"/>
                <a:tab algn="l" pos="444600"/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е)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ледить за уровнем его сознания и дыханием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11280" indent="-343080">
              <a:tabLst>
                <a:tab algn="l" pos="0"/>
                <a:tab algn="l" pos="444600"/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ж)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ереносить пострадавшего в постель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11280" indent="-343080">
              <a:tabLst>
                <a:tab algn="l" pos="0"/>
                <a:tab algn="l" pos="444600"/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з)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становить наружное кровотечение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11280" indent="-343080">
              <a:tabLst>
                <a:tab algn="l" pos="0"/>
                <a:tab algn="l" pos="444600"/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) поддерживать нормальную температуру тела пострадавшего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2"/>
          <p:cNvSpPr/>
          <p:nvPr/>
        </p:nvSpPr>
        <p:spPr>
          <a:xfrm>
            <a:off x="395280" y="260280"/>
            <a:ext cx="835344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3"/>
              <a:tabLst>
                <a:tab algn="l" pos="26820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Признаками сотрясения головного мозга являются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26820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26820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а)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увеличение лимфатических узлов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26820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б)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частичная или полная потеря сознания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26820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)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ечеткость зрения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26820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г)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путанность сознания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26820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)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ременная потеря памяти (того, что предшествовало трав­ме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26820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е)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явление сыпи на руках и ногах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26820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ж)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краснение кожи в области суставов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26820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з)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тошнота и рвота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26820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) отсутствие координации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26820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) неодинаковые зрачки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26820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л) сонливость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26820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м) бессознательное состояни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2"/>
          <p:cNvSpPr/>
          <p:nvPr/>
        </p:nvSpPr>
        <p:spPr>
          <a:xfrm>
            <a:off x="250920" y="260280"/>
            <a:ext cx="8713800" cy="37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11280" indent="-343080">
              <a:buClr>
                <a:srgbClr val="000000"/>
              </a:buClr>
              <a:buFont typeface="Arial"/>
              <a:buAutoNum type="arabicPeriod" startAt="4"/>
              <a:tabLst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 результате ушиба головы у подростка появилась тошнота и рвота, у него нарушилась координация движений и зрение. Определите вид травмы у подростка. Назовите причины, кото­рые могут вызвать подобную травму. </a:t>
            </a:r>
            <a:r>
              <a:rPr b="0" lang="ru-RU" sz="2200" spc="-1" strike="noStrike" u="sng">
                <a:solidFill>
                  <a:srgbClr val="000000"/>
                </a:solidFill>
                <a:uFillTx/>
                <a:latin typeface="Arial"/>
              </a:rPr>
              <a:t>Ваши дальнейшие дейст­вия и их очередность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11280" indent="-343080"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11280" indent="-343080"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а)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оводить подростка в ближайшую поликлинику, больницу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11280" indent="-343080"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б)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ызвать «Скорую помощь»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11280" indent="-343080"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)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иложить к голове холодный компресс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11280" indent="-343080"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г)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ать обезболивающие таблетки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11280" indent="-343080"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)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беспечить поко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2"/>
          <p:cNvSpPr/>
          <p:nvPr/>
        </p:nvSpPr>
        <p:spPr>
          <a:xfrm>
            <a:off x="250920" y="260280"/>
            <a:ext cx="8713800" cy="44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87320" indent="-342720"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Признаками повреждения спины являются:</a:t>
            </a:r>
            <a:br>
              <a:rPr sz="2200"/>
            </a:b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787320" indent="-342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а)  горечь во рту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787320" indent="-342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б)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тупая или сильная боль в спине, которая обычно усилива­ется при движении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787320" indent="-342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)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боль, которая передается в любую из конечностей, возмож­но сопровождается покалыванием или онемелостью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787320" indent="-342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г)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движность костей в необычном месте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787320" indent="-342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)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пазм мышц, который не позволяет согнуться или разог­нуться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787320" indent="-342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е)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желтение кожи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787320" indent="-342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ж)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болезненность мышц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250920" y="260280"/>
            <a:ext cx="8713800" cy="44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7680" indent="-343080">
              <a:buClr>
                <a:srgbClr val="000000"/>
              </a:buClr>
              <a:buFont typeface="Arial"/>
              <a:buAutoNum type="arabicPeriod" startAt="6"/>
              <a:tabLst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Пострадавшего необходимо отправить в больницу, если боли в спине осложняются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7680" indent="-343080">
              <a:tabLst>
                <a:tab algn="l" pos="0"/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7680" indent="-343080">
              <a:tabLst>
                <a:tab algn="l" pos="0"/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а)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жаром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7680" indent="-343080">
              <a:tabLst>
                <a:tab algn="l" pos="0"/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б)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головной болью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7680" indent="-343080">
              <a:tabLst>
                <a:tab algn="l" pos="0"/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)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тошнотой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7680" indent="-343080">
              <a:tabLst>
                <a:tab algn="l" pos="0"/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г)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вотой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7680" indent="-343080">
              <a:tabLst>
                <a:tab algn="l" pos="0"/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)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горечью во рту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7680" indent="-343080">
              <a:tabLst>
                <a:tab algn="l" pos="0"/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е)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увеличением лимфатических узлов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7680" indent="-343080">
              <a:tabLst>
                <a:tab algn="l" pos="0"/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ж)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едержанием мочи/кала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7680" indent="-343080">
              <a:tabLst>
                <a:tab algn="l" pos="0"/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з)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терей чувствительности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7680" indent="-343080">
              <a:tabLst>
                <a:tab algn="l" pos="0"/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) повреждением, произошедшим в результате падения или получения удара. </a:t>
            </a:r>
            <a:r>
              <a:rPr b="0" lang="ru-RU" sz="2200" spc="-1" strike="noStrike" u="sng">
                <a:solidFill>
                  <a:srgbClr val="000000"/>
                </a:solidFill>
                <a:uFillTx/>
                <a:latin typeface="Arial"/>
              </a:rPr>
              <a:t>Найдите допущенную ошибку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3"/>
          <p:cNvSpPr/>
          <p:nvPr/>
        </p:nvSpPr>
        <p:spPr>
          <a:xfrm>
            <a:off x="0" y="476280"/>
            <a:ext cx="914400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Цель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учиться определять признаки клинической смер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нать последовательность действий при нанесении прекардиального уда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меть проверять пульс на сонной артер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7" descr="5omz"/>
          <p:cNvPicPr/>
          <p:nvPr/>
        </p:nvPicPr>
        <p:blipFill>
          <a:blip r:embed="rId1"/>
          <a:stretch/>
        </p:blipFill>
        <p:spPr>
          <a:xfrm>
            <a:off x="0" y="1087560"/>
            <a:ext cx="9144000" cy="5770440"/>
          </a:xfrm>
          <a:prstGeom prst="rect">
            <a:avLst/>
          </a:prstGeom>
          <a:ln w="0">
            <a:noFill/>
          </a:ln>
        </p:spPr>
      </p:pic>
      <p:sp>
        <p:nvSpPr>
          <p:cNvPr id="51" name="Text Box 8"/>
          <p:cNvSpPr/>
          <p:nvPr/>
        </p:nvSpPr>
        <p:spPr>
          <a:xfrm>
            <a:off x="0" y="0"/>
            <a:ext cx="9144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Понятие клинической смерти                                               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линическая смерть - пограничное состояние между жизнью и смертью, во время которого ещё можно вернуть человека к жизни, сохранив его интеллект. Клиническая смерть длится 3-4 минуты, если за это время не возобновляется кровоснабжение головного мозга, наступает биологическая смерть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9T06:21:45Z</dcterms:created>
  <dc:creator>GEG</dc:creator>
  <dc:description/>
  <dc:language>en-US</dc:language>
  <cp:lastModifiedBy>Админ</cp:lastModifiedBy>
  <dcterms:modified xsi:type="dcterms:W3CDTF">2013-12-25T15:20:33Z</dcterms:modified>
  <cp:revision>8</cp:revision>
  <dc:subject/>
  <dc:title>Слайд 1</dc:title>
</cp:coreProperties>
</file>