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EBC-C936-406C-853D-4FECD3E5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59F-BD53-4150-B8C8-F2B36040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415703-CE54-42EE-8922-E96C93FE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A30DF2-E82A-4378-921C-64EF58BB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BBA73F-0CC1-45F8-9546-EA7FDFE9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BFCA02-4F8A-45F6-9C6D-F27084A7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B6F3D0-6D39-4E1C-91B9-0EB41BD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410FF7-C3FD-41A7-A631-3505ED7A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353390-E449-484B-BC03-17AC2FC2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7C965C-66D5-4CEC-8DED-7C991DA1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3D04D-4CAD-4E93-81CD-49829501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E0A-8415-45EC-80C1-35C6F8D4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040-9F2C-42FB-94BD-293FDF9E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ABB9D-8CC4-4ED7-8BE6-62662BA0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A3A01-6FA0-4155-B88B-C1B3954F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E5CDE-3E6B-4864-A7C3-E2BA1C70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97EDA-D425-43EC-A6E6-BF6B7F27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0EEED-3BA5-4451-8C99-F8284F48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10EDA-A718-427D-8292-60D7034A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37947-DF49-494A-A0C3-2D73056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22B-11E1-4910-B3B4-EF0E4AA1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7318-5202-4ED9-A103-C8FAC6F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ADC3D-8C60-4B91-8D1E-AEDEC46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AA3E4-2CAE-4545-8705-ADE6BFB6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7BD92-112B-4BB7-92E9-6A93AA99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C36B4-6AAC-4CB9-B0A8-D2846044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2F6A-BEEF-4792-9226-B49A9DA3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F78A-B431-4544-A38B-FA804B0C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FBD5-7180-4CE0-9803-E9A8372B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0A89-3CC6-40BE-A39D-DEB7F30B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B5D3-404E-4728-96B1-A96DC86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367-0336-436E-AB93-B037E0C7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9F33-42ED-4307-BD6F-80DEB8F0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9407-F596-4D05-BB0E-ABF0E30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E328-0A95-4EDB-817D-EA795E71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7B4E-CB62-475D-A402-99100E2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91EC-142F-4E59-926A-74A94F04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4B9F-7BBD-4B91-BA8B-0E4E869D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F0DD-8266-4AB0-A33C-750933A6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6A60F-89B0-4210-B1BD-C77BB952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9F5A4D-5D32-4472-BADC-C396FA3D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5D42A-8378-404F-B3EB-CC5168BD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621-0D36-4DF3-BF48-5AD7E058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4C0A6-54BF-438C-8E15-6A127D15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B4B32-117B-4A5C-9AEE-B6157B2A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D6D6B-D401-4086-B894-D8FCC64B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6E22F-B307-4845-B047-519F62F6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CE8E8-C08E-4EBA-BC5B-C121945C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48B14-5625-47EE-AD7D-EB13AB0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13C7E-CDB5-4C81-BFE7-C679765D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D692A-B554-437B-913C-5F3F1729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6ADC3-6016-4C0D-88DA-DAD434C7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D29CF-00D0-44CE-A14A-0AACFADD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051-906D-48D9-847F-303F8859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1ADD-7F49-4D3F-A60A-EACD37D2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083A4-73EA-43AA-80A5-507240C4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7AE7A-207A-4432-882F-CF2E9F75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B71A7-567A-4F46-80F6-DC7C5B62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4993-9E2D-486F-8BD0-12AE2041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CA46-FFD4-47DC-9F72-75D2DCB0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7DDCA-6757-4C0D-B66C-007070E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52B91-AB35-4419-9AD7-2F28D50C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67AE8-2A56-4960-9249-2B2F63AB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44FF0-C860-4922-97A9-BD32CC7C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64F-1D68-4568-AD54-820CAD52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3305C-F04F-4E3E-BE2F-40F3FB0C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67416-5FA6-48C3-8CB3-01FEA8EB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7A8C-48D0-45F9-B81A-42E14E34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F3D7-6A2E-4E8A-8C24-F919EA91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5AA0-A008-49D0-A215-B749B2E2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BC016-979F-43E4-8C23-5DC0E3F1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4E063-8371-4206-BE9D-C3C43DE4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6552D-FA1F-44BE-93A1-D6BCF87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ADD6E-E808-4AD3-9269-03EA920B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B9F21-0BF6-40B3-B9DE-29E5D156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661-1837-4349-BBD5-617BB21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9BAEB-AA5F-40CC-9411-8C708C27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3D4EC-5998-4689-8119-FA57D49A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4679D-CE8B-4FD2-BE52-90985C1B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66C7-2517-441D-8137-959EB50A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E26F-AD30-4BEE-8CDB-57063B25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60A0D-BC51-4BD6-B5AE-6EC6759E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3C67C-388F-41C4-A63B-DCC67C3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F2CAC-CC19-4FDD-A0CE-2E38B320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6ED2-7345-4AF1-9611-1DE158DD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3BB63-22C5-47CA-A2A7-CE27A36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2FE-4442-4687-8C36-93A454F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C9E16-9DCB-4BA6-9801-45E2536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29B40-B1AB-4ABC-AA27-9AAE560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00232-31A4-4524-AFD4-12DEB4AC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FC69E-7C66-486A-9E03-F6E014F0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75F8B-9334-4D29-BC7B-3DDC935B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F9B872-B70F-4860-92B9-45155B3B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A0E20-15CE-4509-A648-26C1BD1D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66C6E-7CB7-4960-8873-C2C1024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282049-F4C2-4368-BED8-F95EB08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106C9E-EF10-4F3E-B948-9C732A74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E40-71A3-453E-8CED-104D5E9D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E3F72-3D79-4231-9422-A876574B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D402EE-C87E-46C8-8AF9-2F055AA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B8DAE3-7D1D-4555-8FB9-AD8637C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F1DFE6-B4E5-493A-BD26-0DDD11D2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8BBDFD-BDC8-4D9B-BF6F-CD50B76A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93884A-B820-449D-8D65-4347C63B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9A236F-4571-436E-A6AD-B1021D00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00C1A1-9429-4F76-B0B4-1AF82862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3CB5D4-662E-4566-A7D0-DC2C3B56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AB821-64C3-487C-BFAF-D29264DF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E9D-2A34-46D6-B839-322441BBF84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51FB-4821-4347-AFD4-846FE4C01F4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39A-2035-4345-8906-3F3E74E4B68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250D-6194-40AE-A599-ACDE7B5F647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A6F9-6E5A-4D85-A059-D8B78DCE2F2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E214-108E-4A53-89CA-464B8C13291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2958-B6DE-487B-8896-643F1BCCB54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9492-9937-4427-A765-82BE6FAEE72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8B34-EDEB-4F51-843D-F0EDF81F055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8089920" cy="2841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3885840"/>
            <a:ext cx="655956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Школьный диспут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378000" y="285840"/>
            <a:ext cx="8669160" cy="166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228600" y="2209320"/>
            <a:ext cx="8763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Рассмотреть пробный брак как социальное явление 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с точки зрения моральных и нравственных основ формирования семьи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884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ассмотреть проблемы семьи через призму областей жизнедеятельности человека(законодательную, экономическую, медико-биологическую, морально-этическую, духовную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пособствовать формированию умений различать понятия гражданский брак и сожительство, так называемый «пробный брак»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Формирование навыков общения и позитивных эмоциональных отношений между участниками мероприятия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азвитие навыков поиска новой информации и использования имеющихся знаний в новых условиях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37680" cy="1305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нимание того, как эта проблема влияет на людей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нимание ключевых фактов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нализ всех «за» и «против»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иск того, что делает выбор столь трудным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еодоления в себе конфликта ценностей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91680" cy="1013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оординатор  будет направлять обсуждение, оставаясь при этом нейтральным. Он видит, что: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се расположены к участию в диспуте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икто не доминирует, каждый может высказаться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бсуждение не выходит за рамки вопроса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чтены все предложенные мнения и подходы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ддерживается атмосфера диспута, необходимая для анализа альтернатив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ы слушаем и слышим друг друга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6304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 допускать выпадов против личности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сказываться чётко, кратко, по вопрос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важительно относиться к любой точке зрения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 говорить одновременно с выступающим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 допускать излишнюю эмоциональность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 повторяться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двигать новые идеи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9253440" cy="1494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.  Почему в наше время стало не престижно, постыдно вступать в брак не имея интимных отношений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.  Если бывает «пробный брак», могут ли быть «пробные дети» и какова их судьба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.  Возможно ли в наше время создать семью на основе сложившихся традиций?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607600" cy="1450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Пробный брак – «за» и «против» через аспекты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Законодательны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Экономически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Медико – биологически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Морально – этически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Духовный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547120" cy="13111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 какой формы семьи есть большая перспектива в России? Почему?    (Позитивное и негативное в пробном браке)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ужно ли способствовать изменению взглядов на «пробный брак». Кто это может сделать и как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08:40Z</dcterms:created>
  <dc:creator>Поддубский</dc:creator>
  <dc:description/>
  <dc:language>en-US</dc:language>
  <cp:lastModifiedBy>Поддубский</cp:lastModifiedBy>
  <dcterms:modified xsi:type="dcterms:W3CDTF">2012-04-26T19:15:0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