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799-FDE4-4BFA-8CD5-D44FAB96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82B-D982-462F-AE7E-84BFA78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4DB27-DF54-4900-A097-5A1AC002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E5A54-96A3-4094-8DBA-03B801C8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8B5D7-6753-4EBA-8CCF-DB4589D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9DD7B-485E-421E-AACC-0048248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2AA595-C270-4980-A4E5-35755E6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4EB65-FFE5-4789-9023-5AC01CC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7E5C3-7BB0-40AD-9A5C-4641FC6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ED5E0-1DCE-45A1-B422-119332C9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C2E22-BC0C-46FB-85C3-050EB88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E85-6A3B-4BDA-B8F2-1CDF47D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D61-8C7D-462B-A2FE-E0C2672A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E4EE3-E5F8-4E82-A44A-5D580199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72A70-4DE6-48EF-9FBC-9C2A3CB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C3269-6678-40BB-86EA-8BADA78C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E0A05-4A00-4DB9-890C-C2C5546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65267-EF59-4DAB-AAFB-34F9CBC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D1069-F632-46AF-A292-7BD6831B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1873-132A-458B-824C-AD33D0B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16B-A8E4-4D63-A3A7-958E1A5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3AF1-B76B-41C9-8270-048942F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D97F-243B-4C43-B7C6-D174D08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272BC-0EAC-42F3-8638-906F82C2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0A2AF-1203-43BF-B383-BEB04D39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118B5-FDF9-41F8-A2C3-EA64499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5BAE-0DA7-485F-9924-7F5E519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9B7A-850F-402C-A590-CF94706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6650-B309-4CEC-9688-B62C0BA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282D-4C2D-4724-84B5-EF34188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E076-AB50-4135-AA0C-960D4F6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0E1-0E19-4D7F-85A7-9CEC9EC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1F2E-616B-4583-9CE8-5468736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F4F4-793E-4D61-A52F-7A83CF69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C360-32CD-4CA3-BA70-05590E6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45EA-F1A5-4FA1-98C9-B346AF4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D69A-7932-4611-8DCA-20FDC367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B8B7-F0AA-449F-A68E-0EF52EED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EAFA-09C2-490D-982C-32B40FBD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0F808-3002-40D2-8141-590BE16B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698A8-7A24-4341-83E8-D479A55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9B924-7839-4EB5-8648-4B559DE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2A1-835B-4B9C-8441-5EA528C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C6E52-6286-480B-B567-9B5191F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9572C-0BC9-4F48-8541-BD4AD74C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305BA-BDD4-405D-9044-D146F91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F75F9-4F81-4C6A-AAA0-A23F0821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21F6D-CB6A-46FA-9CF2-33B0739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7F137-5C23-4F55-BA01-ABE112E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C0167-D276-43F4-8935-5514F566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895DB-1282-4CD7-BA6B-E2A7041D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6DA3B-2D45-4EA7-A9FC-FD612E13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AFF4C-C03D-424D-8659-C2D9A8C4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C5B-DF18-490F-B0C8-34249C84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F66A1-CE10-4BAD-AA93-87A1FAB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CA2E-CB9E-43D1-A0DA-8229251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30BA-3368-4E10-B9D1-0E73AB2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3E6E-F818-40F3-B21F-77D9F56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BFA7-AB4D-4C88-A10B-202EA4E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4F51-4511-4F64-8A81-3BA0F65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BE7A-6689-42D1-947C-D368551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A6B1-CB50-4DF7-AE78-0CF24B6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6797-E2D1-4AE3-8F99-511B689E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9844-173F-48BD-A7C3-4B3CA0FD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4CF-F2FB-43FA-8023-BFEE2B93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6D9A-CEA8-42B3-A0A7-D1CFB594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2345-2138-4193-9186-C9691284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92E4-0D29-477B-9FA3-F8957BB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5F01-5EDC-4799-9B52-BE5D76A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1558B-3357-4242-BC63-3010E5E6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D9F4C-835D-4BFB-B7DF-927545DD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7327B-C673-4421-9686-2D5A2387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4272-8C43-458D-A990-4DDDB7B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7A87-CAC7-4EE9-BF4A-8970FC2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44738-3DCE-46E6-A8AF-93B9072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B05-7577-4BAF-9046-589ED2A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C802-FFDD-448D-B4CB-E578311B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3441-8D6B-4D9C-AD3E-DB3C27E6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3444-2758-4EF1-925E-0893B1C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492B-FCAE-4FE5-B64F-DCF5CA46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EE838-7213-432E-9ED3-F3DDAC2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DD0A3-9771-45FC-918F-A8241CC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5EDD-33D6-4CEC-B612-4660204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08A0-DB65-40AD-A511-EAB4BEA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2E2C-E454-4A86-AD30-F0028A9E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3FD7-C5BB-4F76-A8EF-0C3DBC5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D50-861B-4D3A-B3A3-4EA346E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A157-8492-4BBD-A1FB-140FD9C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28E0-917B-4D72-846E-DA7FC9E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4849-9D93-4A10-B196-C4A167D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9B98-E3D4-4097-8705-AF8D631E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E390-57D7-47D9-A228-D37F4D4B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1B55B6-D696-40C7-B509-85825504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3990F-89B3-401F-B853-4E404FE6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095C2-0E56-4E07-B2EB-BC8746D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CA4D6-0A75-4982-931C-4036E8DC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23785-0E2F-4FC7-A48E-689A58F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AD7-CF12-4B10-8D1C-604BAD89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853D0-1470-4960-A684-AFE55CE1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DA01EB-0BC5-4B35-8BE7-003D733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14D59D-E0CA-40FB-80C3-4FEB7A6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876CA-E389-4D9B-BED8-D5D2769C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3CF24-9839-4EC2-8A26-4458CE3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14C45-B703-45FB-97C9-CC4360D2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5882D-C4D1-4EBC-852F-617EC174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AEEB7-D557-4A92-91F0-8F9791F3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6F1F3-3E31-4421-BF78-0EFA7801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9E260-6A09-4382-B023-D1904EF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6ADE-68DD-4A01-AFFE-421F4482CD8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F94C-8EA7-4916-9CAA-DFD10A78194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E39B-62DD-42DB-BBC2-461B23D9BAF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12E-C06A-4433-9117-C9C8A97FFB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F18-A6CC-4E6A-AEC3-F8F2365D5B6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B16-9940-427A-9895-C6EF132D432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5C8-F637-4966-8BBD-F74252816FA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10D5-EFF6-4890-BEC7-3338DC1EC6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764-BB07-4A26-B3E8-43FE037000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089920" cy="2841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3885840"/>
            <a:ext cx="65595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Школьный диспут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378000" y="285840"/>
            <a:ext cx="8669160" cy="166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28600" y="2209320"/>
            <a:ext cx="8763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Рассмотреть пробный брак как социальное явление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 точки зрения моральных и нравственных основ формирования семьи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884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смотреть проблемы семьи через призму областей жизнедеятельности человека(законодательную, экономическую, медико-биологическую, морально-этическую, духовную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пособствовать формированию умений различать понятия гражданский брак и сожительство, так называемый «пробный брак»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Формирование навыков общения и позитивных эмоциональных отношений между участниками мероприятия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звитие навыков поиска новой информации и использования имеющихся знаний в новых условиях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нимание того, как эта проблема влияет на людей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нимание ключевых фактов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нализ всех «за» и «против»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иск того, что делает выбор столь трудным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еодоления в себе конфликта ценностей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91680" cy="1013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ординатор  будет направлять обсуждение, оставаясь при этом нейтральным. Он видит, что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се расположены к участию в диспуте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икто не доминирует, каждый может высказатьс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суждение не выходит за рамки вопроса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чтены все предложенные мнения и подходы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ддерживается атмосфера диспута, необходимая для анализа альтернатив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ы слушаем и слышим друг друга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6304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допускать выпадов против личност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сказываться чётко, кратко, по вопрос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важительно относиться к любой точке зрения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говорить одновременно с выступающим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допускать излишнюю эмоциональность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повторяться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двигать новые иде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9253440" cy="1494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.  Почему в наше время стало не престижно, постыдно вступать в брак не имея интимных отношений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.  Если бывает «пробный брак», могут ли быть «пробные дети» и какова их судьба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.  Возможно ли в наше время создать семью на основе сложившихся традиций?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607600" cy="1450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Пробный брак – «за» и «против» через аспекты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Законодательны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Эконом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Медико – биолог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Морально – эт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Духовны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47120" cy="1311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 какой формы семьи есть большая перспектива в России? Почему?    (Позитивное и негативное в пробном браке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ужно ли способствовать изменению взглядов на «пробный брак». Кто это может сделать и как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08:40Z</dcterms:created>
  <dc:creator>Поддубский</dc:creator>
  <dc:description/>
  <dc:language>en-US</dc:language>
  <cp:lastModifiedBy>Поддубский</cp:lastModifiedBy>
  <dcterms:modified xsi:type="dcterms:W3CDTF">2012-04-26T19:15:0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