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8CB0-14FF-49F9-B0F9-3235DCDB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76E8-0015-4C06-9EE0-6AF2E178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3D84-E9A6-47C9-8228-C7F7284F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D437-95EF-4C0E-8632-02E801AC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73B0-7EC7-44F8-B6B9-10169568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CF9D-8863-4962-96E5-0EAED800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4397-AD82-4F3F-A262-0F1B1F81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6276-48B4-4C67-9AF0-27B0B172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C5D5-8BE7-44CE-BCE2-CE2573DE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3240-3199-4E23-B46A-6C9A4E50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FA3E-5CF9-4AA1-A0BA-8854CDC0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7160-9CD9-4035-B3CB-E28088B4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80AC-6C89-490E-9EDC-B9B04169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5638-B8B6-4BA9-B5FD-08D2EF3B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BC81-B95D-4B84-B8B6-0AAA598F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426C-671D-4EA0-A517-20979EA7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85A6-5AF0-4E26-A04E-2E64EC2E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2AE9-1A3C-471B-9584-9A08A58C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443C-3C56-4666-8DE4-33D516E5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61C7-07B9-4F88-AD3B-089B763B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5083-A08E-4F0D-8E84-6C1797AC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2DA9-21D4-4B87-8B1D-2BDF63F0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A8DB-30EF-45F0-ACDB-82124778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8042-7C01-4065-87C8-264B816F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3dde8"/>
                </a:gs>
                <a:gs pos="50000">
                  <a:srgbClr val="e0ebf6"/>
                </a:gs>
                <a:gs pos="100000">
                  <a:srgbClr val="d3dde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5f8fc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5f8fc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BEDE-4E01-4FE5-8333-79C12CB96A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3dde8"/>
                </a:gs>
                <a:gs pos="50000">
                  <a:srgbClr val="e0ebf6"/>
                </a:gs>
                <a:gs pos="100000">
                  <a:srgbClr val="d3dde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5f8fc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4f7fb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5f8fc"/>
                </a:gs>
                <a:gs pos="100000">
                  <a:srgbClr val="f3f7f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FA7C-C7E8-449D-ACE1-1797B1E26E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7a4af"/>
                </a:solidFill>
                <a:latin typeface="Garamond"/>
              </a:rPr>
              <a:t>Профилактика здоровья глаз</a:t>
            </a:r>
            <a:endParaRPr b="1" lang="en-US" sz="5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МАДОУ ЦРР д.с № 272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Жуланова Ирина Викторовн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a4af"/>
                </a:solidFill>
                <a:latin typeface="Garamond"/>
              </a:rPr>
              <a:t>Регулярное проведение коррекционных упражнений   показало, что:</a:t>
            </a:r>
            <a:br>
              <a:rPr sz="4000"/>
            </a:b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2491920"/>
            <a:ext cx="82296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 детей повышается острота зрения, развиваются двигательные функции глаз, развивается бинокулярное зрение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Повышается познавательная активность, улучшается психо – эмоциональное самочувствие и здоровье детей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Применение зрительных тренажеров, позволило увеличить работоспособность, внимательность, активность дошкольников, отмечается устойчивый интерес к знаниям и самоконтроль. Все это позволяет не только сохранить здоровье дошкольника, но и улучшить его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a4af"/>
                </a:solidFill>
                <a:latin typeface="Garamond"/>
              </a:rPr>
              <a:t>Комплекс упражнений (Универсальный)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Лучшая 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профилактика нарушений зрения у детей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 – это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специальная гимнастика для глаз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. Предлагаем Вам несколько простых упражнений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Упражнение №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Предложите малышу «пострелять глазками», двигая их по горизонтали. Сначала нужно посмотреть влево, досчитать до 5, а затем перевести взгляд вправо и тоже посчитать до 5, а затем посмотреть вперед и закрыть глаза. Повторить 3-4 раза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Упражнение № 2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А теперь пусть ребенок подвигает глазками вертикально: вверх-вниз – также досчитывая до пяти. Заканчивается упражнение так же – посмотреть вперед и закрыть глазки. Повторить 3-4 раза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Упражнение № 3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Предложите малышу попробовать «скосить глаза», как зайчик. Пусть он посмотрит обоими глазами на кончик носа и, досчитав до 20, закроет глазки, чтобы отдохнуть. Повторить 3-4 раза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Упражнение № 4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Есть еще одно хорошее упражнение для профилактики нарушений зрения у детей. Сильно-сильно зажмурьтесь вместе с ребенком, а потом резко широко откройте глаза. Повторите 3-4 раза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Упражнение № 5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И, напоследок, быстро-быстро поморгайте глазками, считая до 30. После этого отдохните, закрыв глаза. Повторите также 3-4 раза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a4af"/>
                </a:solidFill>
                <a:latin typeface="Garamond"/>
              </a:rPr>
              <a:t>Примерные тренажоры для глаз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2" name="Picture 5" descr="Тренажер для глаз или коррекция зрения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4" name="Picture 5" descr="ex04"/>
          <p:cNvPicPr/>
          <p:nvPr/>
        </p:nvPicPr>
        <p:blipFill>
          <a:blip r:embed="rId1"/>
          <a:stretch/>
        </p:blipFill>
        <p:spPr>
          <a:xfrm>
            <a:off x="539640" y="476280"/>
            <a:ext cx="3384720" cy="29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ex09"/>
          <p:cNvPicPr/>
          <p:nvPr/>
        </p:nvPicPr>
        <p:blipFill>
          <a:blip r:embed="rId2"/>
          <a:stretch/>
        </p:blipFill>
        <p:spPr>
          <a:xfrm>
            <a:off x="4788000" y="476280"/>
            <a:ext cx="3497040" cy="2828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ex03"/>
          <p:cNvPicPr/>
          <p:nvPr/>
        </p:nvPicPr>
        <p:blipFill>
          <a:blip r:embed="rId3"/>
          <a:stretch/>
        </p:blipFill>
        <p:spPr>
          <a:xfrm>
            <a:off x="2484360" y="3573360"/>
            <a:ext cx="374328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a4af"/>
                </a:solidFill>
                <a:latin typeface="Garamond"/>
              </a:rPr>
              <a:t>Бабочки и цветочки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pic>
        <p:nvPicPr>
          <p:cNvPr id="148" name="Picture 5" descr="SP_A0026"/>
          <p:cNvPicPr/>
          <p:nvPr/>
        </p:nvPicPr>
        <p:blipFill>
          <a:blip r:embed="rId1"/>
          <a:stretch/>
        </p:blipFill>
        <p:spPr>
          <a:xfrm>
            <a:off x="1908000" y="2133720"/>
            <a:ext cx="522000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a4af"/>
                </a:solidFill>
                <a:latin typeface="Garamond"/>
              </a:rPr>
              <a:t>Жучки паучки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pic>
        <p:nvPicPr>
          <p:cNvPr id="150" name="Picture 5" descr="IMG_0282"/>
          <p:cNvPicPr/>
          <p:nvPr/>
        </p:nvPicPr>
        <p:blipFill>
          <a:blip r:embed="rId1"/>
          <a:stretch/>
        </p:blipFill>
        <p:spPr>
          <a:xfrm>
            <a:off x="1979640" y="1989000"/>
            <a:ext cx="5168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a4af"/>
                </a:solidFill>
                <a:latin typeface="Garamond"/>
              </a:rPr>
              <a:t>поезд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pic>
        <p:nvPicPr>
          <p:cNvPr id="152" name="Picture 5" descr="IMG_0329"/>
          <p:cNvPicPr/>
          <p:nvPr/>
        </p:nvPicPr>
        <p:blipFill>
          <a:blip r:embed="rId1"/>
          <a:stretch/>
        </p:blipFill>
        <p:spPr>
          <a:xfrm>
            <a:off x="1763640" y="1773360"/>
            <a:ext cx="5616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IMG_0283"/>
          <p:cNvPicPr/>
          <p:nvPr/>
        </p:nvPicPr>
        <p:blipFill>
          <a:blip r:embed="rId1"/>
          <a:stretch/>
        </p:blipFill>
        <p:spPr>
          <a:xfrm>
            <a:off x="1403280" y="1700280"/>
            <a:ext cx="6193080" cy="46990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a4af"/>
                </a:solidFill>
                <a:latin typeface="Garamond"/>
              </a:rPr>
              <a:t>Тренажор бабоча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a4af"/>
                </a:solidFill>
                <a:latin typeface="Garamond"/>
              </a:rPr>
              <a:t>Причины нарушения зрения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Просмотр ТВ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Компьютер и другие мультимидийные средств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Переутомляемость глаз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Недостаточное освещение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7a4af"/>
                </a:solidFill>
                <a:latin typeface="Garamond"/>
              </a:rPr>
              <a:t>Спасибо за внимание</a:t>
            </a:r>
            <a:endParaRPr b="1" lang="en-US" sz="5400" spc="-1" strike="noStrike">
              <a:solidFill>
                <a:srgbClr val="77a4a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a4af"/>
                </a:solidFill>
                <a:latin typeface="Garamond"/>
              </a:rPr>
              <a:t>СанПиН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35684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 Непрерывная длительность просмотра телепередач и диафильмов в 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младшей и средней группах - не более 20 мин., в старшей и подготовительной - не более 30 мин.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Просмотр телепередач для детей дошкольного возраста допускается не чаще 2 раз в день (в первую и вторую половину дня)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500040"/>
            <a:ext cx="822960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12.21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. 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Непосредственно образовательную деятельность с использованием компьютеров для детей 5 - 7 лет следует проводить не более одного в течение дня и не чаще трех раз в неделю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в дни наиболее высокой работоспособности: во вторник, в среду и в четверг. После работы с компьютером с детьми проводят гимнастику для глаз. Непрерывная продолжительность работы с компьютером 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в форме развивающих игр для детей 5 лет не должна превышать 10 минут и для детей 6 - 7 лет - 15 минут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a4af"/>
                </a:solidFill>
                <a:latin typeface="Garamond"/>
              </a:rPr>
              <a:t>Недостатки зрения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32000" y="1844280"/>
            <a:ext cx="678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Утомляемость глаз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Снижение уровня зрения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a4af"/>
                </a:solidFill>
                <a:latin typeface="Garamond"/>
              </a:rPr>
              <a:t>Симптомы на которые надо обратить внимание взрослому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- Ребенок держит книгу или другой предмет слишком близко к глазам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- Ребенок закрывает один глаз или прикрывает его рукой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- Ребенок часто теряется в пространстве и быстро устает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- Ребенок жалуется на головные боли и переутомление глаз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- Двоение в глазах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- Нарушение зрительно-моторной координаци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- Проблемы, связанные с перемещением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пространстве ребенок ударяется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о стоящие предметы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роняет вещи на пол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5" name="Picture 4" descr="4_1"/>
          <p:cNvPicPr/>
          <p:nvPr/>
        </p:nvPicPr>
        <p:blipFill>
          <a:blip r:embed="rId1"/>
          <a:stretch/>
        </p:blipFill>
        <p:spPr>
          <a:xfrm>
            <a:off x="6300720" y="3429000"/>
            <a:ext cx="2136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a4af"/>
                </a:solidFill>
                <a:latin typeface="Garamond"/>
              </a:rPr>
              <a:t>Актуальность и задачи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Актуальность данной темы в том что стало многодетей с нарушением зреия, снижением зрения, утомляемостью глаз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Основная наша задача это профилактика данных нарушений.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8" name="Picture 5" descr="blizorukost"/>
          <p:cNvPicPr/>
          <p:nvPr/>
        </p:nvPicPr>
        <p:blipFill>
          <a:blip r:embed="rId1"/>
          <a:stretch/>
        </p:blipFill>
        <p:spPr>
          <a:xfrm>
            <a:off x="5076720" y="3933720"/>
            <a:ext cx="324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a4af"/>
                </a:solidFill>
                <a:latin typeface="Garamond"/>
              </a:rPr>
              <a:t>Как можно помочь ребенку в доу (способы) </a:t>
            </a:r>
            <a:endParaRPr b="1" lang="en-US" sz="4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Гимнастика  игровая коррекционная физминутка,с предметами, по зрительным тренажёрам, комплексы по словесным инструкциям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изуальный тренажор для глаз Чиркиной Г.В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ндивидуальные тренажоры- «Палочки-выручалочк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Тренажор солнышко методика Ковалева В.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Это будет профилактика снижения зрения, развитие двигательных мышц глаз, предупреждение  утомляемости глаз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a4af"/>
                </a:solidFill>
                <a:latin typeface="Garamond"/>
              </a:rPr>
              <a:t>Когда это проводить?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В перерывах во время монотонной работы сильной концентрации глаз ( развитие мелкой млторики( нанзывание бусин на леску)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После настольных-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дидактическох игр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3" name="Picture 5" descr="95e8acfebbe0b6c55fde98b138de6042"/>
          <p:cNvPicPr/>
          <p:nvPr/>
        </p:nvPicPr>
        <p:blipFill>
          <a:blip r:embed="rId1"/>
          <a:stretch/>
        </p:blipFill>
        <p:spPr>
          <a:xfrm>
            <a:off x="5292720" y="3914640"/>
            <a:ext cx="349560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2T06:34:48Z</dcterms:created>
  <dc:creator>USER</dc:creator>
  <dc:description/>
  <dc:language>en-US</dc:language>
  <cp:lastModifiedBy>Ирина</cp:lastModifiedBy>
  <dcterms:modified xsi:type="dcterms:W3CDTF">2014-01-28T03:01:09Z</dcterms:modified>
  <cp:revision>6</cp:revision>
  <dc:subject/>
  <dc:title>Профилактика снижения зрения</dc:title>
</cp:coreProperties>
</file>