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691E-CC86-4095-9A10-2B12E9C17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3AA6-98EE-417C-B9F4-CCFBCC93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FC31-7AC8-4CD8-9E86-C07349E0D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DF5A-AEC1-445C-BA02-51D2A1FBC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413E-43B6-452B-B91C-949AEBC79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DF18-4F00-4931-AC8B-7CAF98E4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F3D81-EF9D-4CCD-80CD-12702EFF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C70F-498D-4E47-B1F1-89F9FAA5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9B52-C58B-4506-AAB1-AE6D3B0C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ABD2-B332-4CD6-B2B3-ED5A99B6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6BB1-BA68-4D7D-91B9-76928CE6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35C8-6FA7-4309-ADB8-53247FFE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C481-FC19-4CD1-A44D-F33FA671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E211-AB60-4C69-9FFA-9FEF51BC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27F0-C22E-4BA4-AA50-FC50D201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37E34-119D-4E26-9A0E-68A1EDC86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F5055-6C64-464E-B1B5-ACF1154C9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FC21-72BC-4B13-97CE-BA302513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14EF-DC98-4F42-B8D7-0DAA52AC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00A3-398F-45E7-A7A8-C2EA4485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BEF6-A9C1-4D9C-A2AB-557CDD68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D6EA-7ADC-4748-8A30-37D571FD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8B7E-83D6-44DA-9272-9DBFABC4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3C62-7B0B-4564-B4B3-DFE6BDE4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3dde8"/>
                </a:gs>
                <a:gs pos="50000">
                  <a:srgbClr val="e0ebf6"/>
                </a:gs>
                <a:gs pos="100000">
                  <a:srgbClr val="d3dde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f5f8fc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f4f7fb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f4f7fb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f4f7fb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f5f8fc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EF92-4B72-4EBE-9749-BB7C271DC2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3dde8"/>
                </a:gs>
                <a:gs pos="50000">
                  <a:srgbClr val="e0ebf6"/>
                </a:gs>
                <a:gs pos="100000">
                  <a:srgbClr val="d3dde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f5f8fc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f4f7fb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f4f7fb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f4f7fb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f5f8fc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93AD-363C-451B-8EE7-34803CE1B4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7a4af"/>
                </a:solidFill>
                <a:latin typeface="Garamond"/>
              </a:rPr>
              <a:t>Профилактика здоровья глаз</a:t>
            </a:r>
            <a:endParaRPr b="1" lang="en-US" sz="5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МАДОУ ЦРР д.с № 272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Жуланова Ирина Викторовна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36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a4af"/>
                </a:solidFill>
                <a:latin typeface="Garamond"/>
              </a:rPr>
              <a:t>Регулярное проведение коррекционных упражнений   показало, что:</a:t>
            </a:r>
            <a:br>
              <a:rPr sz="4000"/>
            </a:b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2491920"/>
            <a:ext cx="82296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 детей повышается острота зрения, развиваются двигательные функции глаз, развивается бинокулярное зрение;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Повышается познавательная активность, улучшается психо – эмоциональное самочувствие и здоровье детей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Применение зрительных тренажеров, позволило увеличить работоспособность, внимательность, активность дошкольников, отмечается устойчивый интерес к знаниям и самоконтроль. Все это позволяет не только сохранить здоровье дошкольника, но и улучшить его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a4af"/>
                </a:solidFill>
                <a:latin typeface="Garamond"/>
              </a:rPr>
              <a:t>Комплекс упражнений (Универсальный)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Лучшая 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профилактика нарушений зрения у детей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 – это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aramond"/>
              </a:rPr>
              <a:t>специальная гимнастика для глаз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. Предлагаем Вам несколько простых упражнений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aramond"/>
              </a:rPr>
              <a:t>Упражнение № 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Предложите малышу «пострелять глазками», двигая их по горизонтали. Сначала нужно посмотреть влево, досчитать до 5, а затем перевести взгляд вправо и тоже посчитать до 5, а затем посмотреть вперед и закрыть глаза. Повторить 3-4 раза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aramond"/>
              </a:rPr>
              <a:t>Упражнение № 2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А теперь пусть ребенок подвигает глазками вертикально: вверх-вниз – также досчитывая до пяти. Заканчивается упражнение так же – посмотреть вперед и закрыть глазки. Повторить 3-4 раза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aramond"/>
              </a:rPr>
              <a:t>Упражнение № 3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Предложите малышу попробовать «скосить глаза», как зайчик. Пусть он посмотрит обоими глазами на кончик носа и, досчитав до 20, закроет глазки, чтобы отдохнуть. Повторить 3-4 раза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aramond"/>
              </a:rPr>
              <a:t>Упражнение № 4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Есть еще одно хорошее упражнение для профилактики нарушений зрения у детей. Сильно-сильно зажмурьтесь вместе с ребенком, а потом резко широко откройте глаза. Повторите 3-4 раза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aramond"/>
              </a:rPr>
              <a:t>Упражнение № 5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И, напоследок, быстро-быстро поморгайте глазками, считая до 30. После этого отдохните, закрыв глаза. Повторите также 3-4 раза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a4af"/>
                </a:solidFill>
                <a:latin typeface="Garamond"/>
              </a:rPr>
              <a:t>Примерные тренажоры для глаз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2" name="Picture 5" descr="Тренажер для глаз или коррекция зрения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4" name="Picture 5" descr="ex04"/>
          <p:cNvPicPr/>
          <p:nvPr/>
        </p:nvPicPr>
        <p:blipFill>
          <a:blip r:embed="rId1"/>
          <a:stretch/>
        </p:blipFill>
        <p:spPr>
          <a:xfrm>
            <a:off x="539640" y="476280"/>
            <a:ext cx="3384720" cy="29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ex09"/>
          <p:cNvPicPr/>
          <p:nvPr/>
        </p:nvPicPr>
        <p:blipFill>
          <a:blip r:embed="rId2"/>
          <a:stretch/>
        </p:blipFill>
        <p:spPr>
          <a:xfrm>
            <a:off x="4788000" y="476280"/>
            <a:ext cx="3497040" cy="2828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ex03"/>
          <p:cNvPicPr/>
          <p:nvPr/>
        </p:nvPicPr>
        <p:blipFill>
          <a:blip r:embed="rId3"/>
          <a:stretch/>
        </p:blipFill>
        <p:spPr>
          <a:xfrm>
            <a:off x="2484360" y="3573360"/>
            <a:ext cx="374328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a4af"/>
                </a:solidFill>
                <a:latin typeface="Garamond"/>
              </a:rPr>
              <a:t>Бабочки и цветочки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pic>
        <p:nvPicPr>
          <p:cNvPr id="148" name="Picture 5" descr="SP_A0026"/>
          <p:cNvPicPr/>
          <p:nvPr/>
        </p:nvPicPr>
        <p:blipFill>
          <a:blip r:embed="rId1"/>
          <a:stretch/>
        </p:blipFill>
        <p:spPr>
          <a:xfrm>
            <a:off x="1908000" y="2133720"/>
            <a:ext cx="5220000" cy="39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a4af"/>
                </a:solidFill>
                <a:latin typeface="Garamond"/>
              </a:rPr>
              <a:t>Жучки паучки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pic>
        <p:nvPicPr>
          <p:cNvPr id="150" name="Picture 5" descr="IMG_0282"/>
          <p:cNvPicPr/>
          <p:nvPr/>
        </p:nvPicPr>
        <p:blipFill>
          <a:blip r:embed="rId1"/>
          <a:stretch/>
        </p:blipFill>
        <p:spPr>
          <a:xfrm>
            <a:off x="1979640" y="1989000"/>
            <a:ext cx="5168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a4af"/>
                </a:solidFill>
                <a:latin typeface="Garamond"/>
              </a:rPr>
              <a:t>поезд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pic>
        <p:nvPicPr>
          <p:cNvPr id="152" name="Picture 5" descr="IMG_0329"/>
          <p:cNvPicPr/>
          <p:nvPr/>
        </p:nvPicPr>
        <p:blipFill>
          <a:blip r:embed="rId1"/>
          <a:stretch/>
        </p:blipFill>
        <p:spPr>
          <a:xfrm>
            <a:off x="1763640" y="1773360"/>
            <a:ext cx="5616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IMG_0283"/>
          <p:cNvPicPr/>
          <p:nvPr/>
        </p:nvPicPr>
        <p:blipFill>
          <a:blip r:embed="rId1"/>
          <a:stretch/>
        </p:blipFill>
        <p:spPr>
          <a:xfrm>
            <a:off x="1403280" y="1700280"/>
            <a:ext cx="6193080" cy="46990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a4af"/>
                </a:solidFill>
                <a:latin typeface="Garamond"/>
              </a:rPr>
              <a:t>Тренажор бабоча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a4af"/>
                </a:solidFill>
                <a:latin typeface="Garamond"/>
              </a:rPr>
              <a:t>Причины нарушения зрения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Просмотр ТВ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Компьютер и другие мультимидийные средства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Переутомляемость глаз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Недостаточное освещение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7a4af"/>
                </a:solidFill>
                <a:latin typeface="Garamond"/>
              </a:rPr>
              <a:t>Спасибо за внимание</a:t>
            </a:r>
            <a:endParaRPr b="1" lang="en-US" sz="5400" spc="-1" strike="noStrike">
              <a:solidFill>
                <a:srgbClr val="77a4a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a4af"/>
                </a:solidFill>
                <a:latin typeface="Garamond"/>
              </a:rPr>
              <a:t>СанПиН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35684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 Непрерывная длительность просмотра телепередач и диафильмов в </a:t>
            </a: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младшей и средней группах - не более 20 мин., в старшей и подготовительной - не более 30 мин.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Просмотр телепередач для детей дошкольного возраста допускается не чаще 2 раз в день (в первую и вторую половину дня)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500040"/>
            <a:ext cx="8229600" cy="55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12.21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. </a:t>
            </a: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Непосредственно образовательную деятельность с использованием компьютеров для детей 5 - 7 лет следует проводить не более одного в течение дня и не чаще трех раз в неделю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в дни наиболее высокой работоспособности: во вторник, в среду и в четверг. После работы с компьютером с детьми проводят гимнастику для глаз. Непрерывная продолжительность работы с компьютером </a:t>
            </a: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в форме развивающих игр для детей 5 лет не должна превышать 10 минут и для детей 6 - 7 лет - 15 минут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a4af"/>
                </a:solidFill>
                <a:latin typeface="Garamond"/>
              </a:rPr>
              <a:t>Недостатки зрения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32000" y="1844280"/>
            <a:ext cx="678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Утомляемость глаз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Снижение уровня зрения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a4af"/>
                </a:solidFill>
                <a:latin typeface="Garamond"/>
              </a:rPr>
              <a:t>Симптомы на которые надо обратить внимание взрослому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- Ребенок держит книгу или другой предмет слишком близко к глазам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- Ребенок закрывает один глаз или прикрывает его рукой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- Ребенок часто теряется в пространстве и быстро устает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- Ребенок жалуется на головные боли и переутомление глаз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- Двоение в глазах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- Нарушение зрительно-моторной координаци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- Проблемы, связанные с перемещением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 пространстве ребенок ударяется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о стоящие предметы,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роняет вещи на пол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5" name="Picture 4" descr="4_1"/>
          <p:cNvPicPr/>
          <p:nvPr/>
        </p:nvPicPr>
        <p:blipFill>
          <a:blip r:embed="rId1"/>
          <a:stretch/>
        </p:blipFill>
        <p:spPr>
          <a:xfrm>
            <a:off x="6300720" y="3429000"/>
            <a:ext cx="21369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a4af"/>
                </a:solidFill>
                <a:latin typeface="Garamond"/>
              </a:rPr>
              <a:t>Актуальность и задачи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Актуальность данной темы в том что стало многодетей с нарушением зреия, снижением зрения, утомляемостью глаз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Основная наша задача это профилактика данных нарушений. 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8" name="Picture 5" descr="blizorukost"/>
          <p:cNvPicPr/>
          <p:nvPr/>
        </p:nvPicPr>
        <p:blipFill>
          <a:blip r:embed="rId1"/>
          <a:stretch/>
        </p:blipFill>
        <p:spPr>
          <a:xfrm>
            <a:off x="5076720" y="3933720"/>
            <a:ext cx="3240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a4af"/>
                </a:solidFill>
                <a:latin typeface="Garamond"/>
              </a:rPr>
              <a:t>Как можно помочь ребенку в доу (способы) 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Гимнастика  игровая коррекционная физминутка,с предметами, по зрительным тренажёрам, комплексы по словесным инструкциям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изуальный тренажор для глаз Чиркиной Г.В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ндивидуальные тренажоры- «Палочки-выручалочки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Тренажор солнышко методика Ковалева В.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Это будет профилактика снижения зрения, развитие двигательных мышц глаз, предупреждение  утомляемости глаз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a4af"/>
                </a:solidFill>
                <a:latin typeface="Garamond"/>
              </a:rPr>
              <a:t>Когда это проводить?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В перерывах во время монотонной работы сильной концентрации глаз ( развитие мелкой млторики( нанзывание бусин на леску)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После настольных-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дидактическох игр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3" name="Picture 5" descr="95e8acfebbe0b6c55fde98b138de6042"/>
          <p:cNvPicPr/>
          <p:nvPr/>
        </p:nvPicPr>
        <p:blipFill>
          <a:blip r:embed="rId1"/>
          <a:stretch/>
        </p:blipFill>
        <p:spPr>
          <a:xfrm>
            <a:off x="5292720" y="3914640"/>
            <a:ext cx="349560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2T06:34:48Z</dcterms:created>
  <dc:creator>USER</dc:creator>
  <dc:description/>
  <dc:language>en-US</dc:language>
  <cp:lastModifiedBy>Ирина</cp:lastModifiedBy>
  <dcterms:modified xsi:type="dcterms:W3CDTF">2014-01-28T03:01:09Z</dcterms:modified>
  <cp:revision>6</cp:revision>
  <dc:subject/>
  <dc:title>Профилактика снижения зрения</dc:title>
</cp:coreProperties>
</file>