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8EC-16F3-48D8-84B8-00645C28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474-A779-42D9-9C36-A40FFECF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7CD-760B-48C6-9BAB-90492493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48F-B219-4566-AF6D-D2DF485B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19D8-36FF-4872-B352-7E063BBA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54A6-C93D-4313-8F38-DB09C20B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5D78-E9D2-4A0D-B2B2-8E4A3F2E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BB74-45DD-4C0B-8BB5-54250DE0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A192-BE74-4A53-AEDF-3B2CDDDB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F085-2069-46D0-AA31-3CA70DE8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737D-6124-4A48-A21D-DB891200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81E-89EC-4346-9424-80107927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3160-BF7A-47B1-88D7-5F33D58D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2119-4CC3-4D52-B5F6-D2184AD3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8AFC-5EB0-44DA-8920-C796D86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73D5-17E3-48AF-9304-3A45FA60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7678-03BC-4D4A-9AD2-8D02C413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2D6-A189-4F80-BFD5-18BA14E5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BAE-0D40-43BA-AA50-51702D7B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AB3-C1E0-4BEB-BDE6-DC834B5F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53D-DBF6-466E-9D37-AE57DD4F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BF3-7670-43E3-80C8-2CD74F75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4C9-559A-41A0-BA0C-8A7438D4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C01-C046-4894-BADE-3AB4AA77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5431-0AAA-4FDC-866A-954C4350F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AAA9-EC02-4D08-AD6B-8F2F23909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роцентный рост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Копия 9"/>
          <p:cNvPicPr/>
          <p:nvPr/>
        </p:nvPicPr>
        <p:blipFill>
          <a:blip r:embed="rId1"/>
          <a:stretch/>
        </p:blipFill>
        <p:spPr>
          <a:xfrm>
            <a:off x="5940360" y="3284640"/>
            <a:ext cx="2200320" cy="2200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900000" y="3500280"/>
            <a:ext cx="56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Свяжем школу с жизнь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гда-нибудь это у нас должно получиться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награмм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7920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66cc"/>
                </a:solidFill>
                <a:latin typeface="Comic Sans MS"/>
              </a:rPr>
              <a:t>разгадайте зашифрованные слова и уберите лишнее слово, не подходящее по смыс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996666"/>
                </a:solidFill>
                <a:latin typeface="Comic Sans MS"/>
              </a:rPr>
              <a:t>1)  </a:t>
            </a:r>
            <a:r>
              <a:rPr b="1" lang="en-US" sz="2800" spc="-1" strike="noStrike">
                <a:solidFill>
                  <a:srgbClr val="996666"/>
                </a:solidFill>
                <a:latin typeface="Comic Sans MS"/>
              </a:rPr>
              <a:t>ЧИК + Д+ВКЛА;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2)  РЕ + ТИК + Д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800" spc="-1" strike="noStrike">
                <a:solidFill>
                  <a:srgbClr val="8d1529"/>
                </a:solidFill>
                <a:latin typeface="Comic Sans MS"/>
              </a:rPr>
              <a:t>3)  Ц + ТОН + РЕ + П;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6f0f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d90f0f"/>
                </a:solidFill>
                <a:latin typeface="Comic Sans MS"/>
              </a:rPr>
              <a:t>4)  ВО+ТОЖ+Т+ДЕС;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800" spc="-1" strike="noStrike">
                <a:solidFill>
                  <a:srgbClr val="0f4ba3"/>
                </a:solidFill>
                <a:latin typeface="Comic Sans MS"/>
              </a:rPr>
              <a:t>5)  МИ + ПРО + ЛЕ +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971640" y="5013360"/>
            <a:ext cx="770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r>
              <a:rPr b="0" lang="ru-RU" sz="28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94a47"/>
                </a:solidFill>
                <a:latin typeface="Comic Sans MS"/>
              </a:rPr>
              <a:t>1) </a:t>
            </a:r>
            <a:r>
              <a:rPr b="0" lang="ru-RU" sz="2800" spc="-1" strike="noStrike">
                <a:solidFill>
                  <a:srgbClr val="694a47"/>
                </a:solidFill>
                <a:latin typeface="Arial"/>
              </a:rPr>
              <a:t>ВКЛАДЧИК</a:t>
            </a:r>
            <a:r>
              <a:rPr b="0" lang="ru-RU" sz="2800" spc="-1" strike="noStrike">
                <a:solidFill>
                  <a:srgbClr val="694a47"/>
                </a:solidFill>
                <a:latin typeface="Comic Sans MS"/>
              </a:rPr>
              <a:t>;</a:t>
            </a:r>
            <a:r>
              <a:rPr b="0" lang="ru-RU" sz="2800" spc="-1" strike="noStrike">
                <a:solidFill>
                  <a:srgbClr val="6666cc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2) КРЕД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cc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8d1529"/>
                </a:solidFill>
                <a:latin typeface="Comic Sans MS"/>
              </a:rPr>
              <a:t>3) ПРОЦЕНТ;</a:t>
            </a:r>
            <a:r>
              <a:rPr b="0" lang="ru-RU" sz="28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d90f0f"/>
                </a:solidFill>
                <a:latin typeface="Comic Sans MS"/>
              </a:rPr>
              <a:t>4) </a:t>
            </a:r>
            <a:r>
              <a:rPr b="0" lang="ru-RU" sz="2800" spc="-1" strike="noStrike">
                <a:solidFill>
                  <a:srgbClr val="d90f0f"/>
                </a:solidFill>
                <a:latin typeface="Arial"/>
              </a:rPr>
              <a:t>ТОЖД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3d3db9"/>
                </a:solidFill>
                <a:latin typeface="Comic Sans MS"/>
              </a:rPr>
              <a:t>2) ПРОМИЛ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003640" y="5373720"/>
            <a:ext cx="2953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24480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Задача 1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 известный актёр получил  гонорар 600000 рублей, решил положить эти деньги в банк. Для уменьшения риска он разделил всю сумму на две равные части и положил их в два бан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вый государственный банк на три года под 8% годовых (простые %) и второй – коммерческий банк на два года под12% годовых (сложные %). Какой вклад принёс больший дох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k055"/>
          <p:cNvPicPr/>
          <p:nvPr/>
        </p:nvPicPr>
        <p:blipFill>
          <a:blip r:embed="rId1"/>
          <a:stretch/>
        </p:blipFill>
        <p:spPr>
          <a:xfrm flipH="1">
            <a:off x="7308360" y="5516640"/>
            <a:ext cx="1008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619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встали, улыб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ше-выше потя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-ка плечи распрям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нимите, опус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право, влево повер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 коленями косн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ли, встали. Сели, вс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на месте побежа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6" descr="9c90c60593fafe445f40a8d8c87e034a.gif"/>
          <p:cNvPicPr/>
          <p:nvPr/>
        </p:nvPicPr>
        <p:blipFill>
          <a:blip r:embed="rId1"/>
          <a:stretch/>
        </p:blipFill>
        <p:spPr>
          <a:xfrm>
            <a:off x="6012000" y="1989000"/>
            <a:ext cx="28080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Задача 2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7924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вкладу Сбербанка России «Пенсионный депозит Сбербанка России» предусмотрена выплата 6% годовых. По истечению каждого года эти процент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питализируются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анный вид вклада был открыт счет, который не пополнялся и с которого не снимали деньги в течение 2 лет. На какую сумму был открыт счет, если по истечении этого срока на вкладе стало 22472 руб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k055"/>
          <p:cNvPicPr/>
          <p:nvPr/>
        </p:nvPicPr>
        <p:blipFill>
          <a:blip r:embed="rId1"/>
          <a:stretch/>
        </p:blipFill>
        <p:spPr>
          <a:xfrm>
            <a:off x="7236000" y="5589720"/>
            <a:ext cx="100800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Задача 3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какой процент годовых (простой процентный рост) надо вложить сумму 10000 рублей, чтобы по истечению 5 лет получить 20000 рубл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9" descr="j0434411"/>
          <p:cNvPicPr/>
          <p:nvPr/>
        </p:nvPicPr>
        <p:blipFill>
          <a:blip r:embed="rId1"/>
          <a:stretch/>
        </p:blipFill>
        <p:spPr>
          <a:xfrm rot="21277200">
            <a:off x="5148360" y="3860280"/>
            <a:ext cx="23763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Задача 4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ый компьютер был куплен за 40 000 руб. Каждый год на его амортизацию списывается 10% стоимости. Через сколько лет компьютер будет стоить 16 000 руб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печатающий_компьютер.gif"/>
          <p:cNvPicPr/>
          <p:nvPr/>
        </p:nvPicPr>
        <p:blipFill>
          <a:blip r:embed="rId1"/>
          <a:stretch/>
        </p:blipFill>
        <p:spPr>
          <a:xfrm>
            <a:off x="6443640" y="4653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Arial"/>
              </a:rPr>
              <a:t>Задача 5 (ЕГЭ)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нк ежегодно увеличивает на одно и то же число процентов сумму, имеющуюся на вкладе к моменту начисления процентов. На сколько процентов ежегодно увеличивается сумма, если за два года она возросла с 2000 до 2420 руб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м11"/>
          <p:cNvPicPr/>
          <p:nvPr/>
        </p:nvPicPr>
        <p:blipFill>
          <a:blip r:embed="rId1"/>
          <a:stretch/>
        </p:blipFill>
        <p:spPr>
          <a:xfrm>
            <a:off x="6588000" y="4653000"/>
            <a:ext cx="14385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5:40:28Z</dcterms:created>
  <dc:creator>Владелец</dc:creator>
  <dc:description/>
  <dc:language>en-US</dc:language>
  <cp:lastModifiedBy>Customer</cp:lastModifiedBy>
  <dcterms:modified xsi:type="dcterms:W3CDTF">2013-11-14T13:33:01Z</dcterms:modified>
  <cp:revision>13</cp:revision>
  <dc:subject/>
  <dc:title>Проценты в нашей жизни</dc:title>
</cp:coreProperties>
</file>