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wmf" ContentType="image/x-wm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779A-18A9-4583-853E-C97B7681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90B6-85A7-483F-BD7D-DA965588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23F9-7EDA-4FDB-9E76-8C51B5C8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590-39DF-450B-AEC0-1D89EF0F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5C69-F5B3-4D19-B87A-96B5D75A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E797-796C-4555-95AD-D34F034D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40E4-C9A1-4E7F-B122-4F48BA9D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9803-0ECF-4F44-876B-E746228A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3F0C-D711-4DAE-9937-683D7C8C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41AF-2E7C-4313-83B0-6B55C350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2399-1F45-4D41-A6F4-BFB0E7A2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91EE-3452-42E8-B7E2-118F5921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F212-DB78-4C31-B494-5165942E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FE93-5BE0-41E4-B7EA-87BAD6D1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F9D0-E29F-49AD-BD87-88723D81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3A94-4220-4AAB-B703-F91C27C6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3176-903B-4EC7-8388-1A94A42A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4BC-7D7A-4CBC-A9FB-BDBD9C3E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0E36-2AC4-4A30-95DE-7DC652D5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2334-544C-47D3-9AEE-8FD5004B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ED8F-6ED3-4A28-BBF8-AD27DF04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F1C-7A29-4DB4-8853-EF93B9CD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753-AF04-4ED8-84AC-61662515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1B8C-76D7-4D4A-A8A1-DC753374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10BD-C1D2-458B-836F-CB9825B7B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8B20-9586-418E-80EE-773A894CB7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роцентный рост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Копия 9"/>
          <p:cNvPicPr/>
          <p:nvPr/>
        </p:nvPicPr>
        <p:blipFill>
          <a:blip r:embed="rId1"/>
          <a:stretch/>
        </p:blipFill>
        <p:spPr>
          <a:xfrm>
            <a:off x="5940360" y="3284640"/>
            <a:ext cx="2200320" cy="2200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900000" y="3500280"/>
            <a:ext cx="56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Свяжем школу с жизнь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гда-нибудь это у нас должно получиться!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Анаграмм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7920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66cc"/>
                </a:solidFill>
                <a:latin typeface="Comic Sans MS"/>
              </a:rPr>
              <a:t>разгадайте зашифрованные слова и уберите лишнее слово, не подходящее по смыс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996666"/>
                </a:solidFill>
                <a:latin typeface="Comic Sans MS"/>
              </a:rPr>
              <a:t>1)  </a:t>
            </a:r>
            <a:r>
              <a:rPr b="1" lang="en-US" sz="2800" spc="-1" strike="noStrike">
                <a:solidFill>
                  <a:srgbClr val="996666"/>
                </a:solidFill>
                <a:latin typeface="Comic Sans MS"/>
              </a:rPr>
              <a:t>ЧИК + Д+ВКЛА;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2)  РЕ + ТИК + Д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2800" spc="-1" strike="noStrike">
                <a:solidFill>
                  <a:srgbClr val="8d1529"/>
                </a:solidFill>
                <a:latin typeface="Comic Sans MS"/>
              </a:rPr>
              <a:t>3)  Ц + ТОН + РЕ + П;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6f0f"/>
                </a:solidFill>
                <a:latin typeface="Comic Sans MS"/>
              </a:rPr>
              <a:t>         </a:t>
            </a:r>
            <a:r>
              <a:rPr b="1" lang="en-US" sz="2800" spc="-1" strike="noStrike">
                <a:solidFill>
                  <a:srgbClr val="d90f0f"/>
                </a:solidFill>
                <a:latin typeface="Comic Sans MS"/>
              </a:rPr>
              <a:t>4)  ВО+ТОЖ+Т+ДЕС;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2800" spc="-1" strike="noStrike">
                <a:solidFill>
                  <a:srgbClr val="0f4ba3"/>
                </a:solidFill>
                <a:latin typeface="Comic Sans MS"/>
              </a:rPr>
              <a:t>5)  МИ + ПРО + ЛЕ +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971640" y="5013360"/>
            <a:ext cx="770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вет:</a:t>
            </a:r>
            <a:r>
              <a:rPr b="0" lang="ru-RU" sz="2800" spc="-1" strike="noStrike">
                <a:solidFill>
                  <a:srgbClr val="6666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c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694a47"/>
                </a:solidFill>
                <a:latin typeface="Comic Sans MS"/>
              </a:rPr>
              <a:t>1) </a:t>
            </a:r>
            <a:r>
              <a:rPr b="0" lang="ru-RU" sz="2800" spc="-1" strike="noStrike">
                <a:solidFill>
                  <a:srgbClr val="694a47"/>
                </a:solidFill>
                <a:latin typeface="Arial"/>
              </a:rPr>
              <a:t>ВКЛАДЧИК</a:t>
            </a:r>
            <a:r>
              <a:rPr b="0" lang="ru-RU" sz="2800" spc="-1" strike="noStrike">
                <a:solidFill>
                  <a:srgbClr val="694a47"/>
                </a:solidFill>
                <a:latin typeface="Comic Sans MS"/>
              </a:rPr>
              <a:t>;</a:t>
            </a:r>
            <a:r>
              <a:rPr b="0" lang="ru-RU" sz="2800" spc="-1" strike="noStrike">
                <a:solidFill>
                  <a:srgbClr val="6666cc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cc0099"/>
                </a:solidFill>
                <a:latin typeface="Comic Sans MS"/>
              </a:rPr>
              <a:t>2) КРЕД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cc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8d1529"/>
                </a:solidFill>
                <a:latin typeface="Comic Sans MS"/>
              </a:rPr>
              <a:t>3) ПРОЦЕНТ;</a:t>
            </a:r>
            <a:r>
              <a:rPr b="0" lang="ru-RU" sz="2800" spc="-1" strike="noStrike">
                <a:solidFill>
                  <a:srgbClr val="6666c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d90f0f"/>
                </a:solidFill>
                <a:latin typeface="Comic Sans MS"/>
              </a:rPr>
              <a:t>4) </a:t>
            </a:r>
            <a:r>
              <a:rPr b="0" lang="ru-RU" sz="2800" spc="-1" strike="noStrike">
                <a:solidFill>
                  <a:srgbClr val="d90f0f"/>
                </a:solidFill>
                <a:latin typeface="Arial"/>
              </a:rPr>
              <a:t>ТОЖД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3d3db9"/>
                </a:solidFill>
                <a:latin typeface="Comic Sans MS"/>
              </a:rPr>
              <a:t>2) ПРОМИЛ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003640" y="5373720"/>
            <a:ext cx="29530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244800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n-US" sz="4200" spc="-1" strike="noStrike" u="sng">
                <a:solidFill>
                  <a:srgbClr val="ffffff"/>
                </a:solidFill>
                <a:uFillTx/>
                <a:latin typeface="Arial"/>
              </a:rPr>
              <a:t>Задача 1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ин известный актёр получил  гонорар 600000 рублей, решил положить эти деньги в банк. Для уменьшения риска он разделил всю сумму на две равные части и положил их в два бан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ервый государственный банк на три года под 8% годовых (простые %) и второй – коммерческий банк на два года под12% годовых (сложные %). Какой вклад принёс больший дох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k055"/>
          <p:cNvPicPr/>
          <p:nvPr/>
        </p:nvPicPr>
        <p:blipFill>
          <a:blip r:embed="rId1"/>
          <a:stretch/>
        </p:blipFill>
        <p:spPr>
          <a:xfrm flipH="1">
            <a:off x="7308360" y="5516640"/>
            <a:ext cx="1008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619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встали, улыбну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ше-выше потяну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у-ка плечи распрями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нимите, опуст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право, влево повер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к коленями коснит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ли, встали. Сели, вст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на месте побежа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6" descr="9c90c60593fafe445f40a8d8c87e034a.gif"/>
          <p:cNvPicPr/>
          <p:nvPr/>
        </p:nvPicPr>
        <p:blipFill>
          <a:blip r:embed="rId1"/>
          <a:stretch/>
        </p:blipFill>
        <p:spPr>
          <a:xfrm>
            <a:off x="6012000" y="1989000"/>
            <a:ext cx="280800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fffff"/>
                </a:solidFill>
                <a:uFillTx/>
                <a:latin typeface="Arial"/>
              </a:rPr>
              <a:t>Задача 2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79246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вкладу Сбербанка России «Пенсионный депозит Сбербанка России» предусмотрена выплата 6% годовых. По истечению каждого года эти процент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питализируются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данный вид вклада был открыт счет, который не пополнялся и с которого не снимали деньги в течение 2 лет. На какую сумму был открыт счет, если по истечении этого срока на вкладе стало 22472 руб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k055"/>
          <p:cNvPicPr/>
          <p:nvPr/>
        </p:nvPicPr>
        <p:blipFill>
          <a:blip r:embed="rId1"/>
          <a:stretch/>
        </p:blipFill>
        <p:spPr>
          <a:xfrm>
            <a:off x="7236000" y="5589720"/>
            <a:ext cx="100800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ff"/>
                </a:solidFill>
                <a:uFillTx/>
                <a:latin typeface="Arial"/>
              </a:rPr>
              <a:t>Задача 3.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 какой процент годовых (простой процентный рост) надо вложить сумму 10000 рублей, чтобы по истечению 5 лет получить 20000 рубле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9" descr="j0434411"/>
          <p:cNvPicPr/>
          <p:nvPr/>
        </p:nvPicPr>
        <p:blipFill>
          <a:blip r:embed="rId1"/>
          <a:stretch/>
        </p:blipFill>
        <p:spPr>
          <a:xfrm rot="21277200">
            <a:off x="5148360" y="3860280"/>
            <a:ext cx="237636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ff"/>
                </a:solidFill>
                <a:uFillTx/>
                <a:latin typeface="Arial"/>
              </a:rPr>
              <a:t>Задача 4.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вый компьютер был куплен за 40 000 руб. Каждый год на его амортизацию списывается 10% стоимости. Через сколько лет компьютер будет стоить 16 000 руб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7" descr="печатающий_компьютер.gif"/>
          <p:cNvPicPr/>
          <p:nvPr/>
        </p:nvPicPr>
        <p:blipFill>
          <a:blip r:embed="rId1"/>
          <a:stretch/>
        </p:blipFill>
        <p:spPr>
          <a:xfrm>
            <a:off x="6443640" y="4653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ff"/>
                </a:solidFill>
                <a:uFillTx/>
                <a:latin typeface="Arial"/>
              </a:rPr>
              <a:t>Задача 5 (ЕГЭ)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нк ежегодно увеличивает на одно и то же число процентов сумму, имеющуюся на вкладе к моменту начисления процентов. На сколько процентов ежегодно увеличивается сумма, если за два года она возросла с 2000 до 2420 руб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м11"/>
          <p:cNvPicPr/>
          <p:nvPr/>
        </p:nvPicPr>
        <p:blipFill>
          <a:blip r:embed="rId1"/>
          <a:stretch/>
        </p:blipFill>
        <p:spPr>
          <a:xfrm>
            <a:off x="6588000" y="4653000"/>
            <a:ext cx="14385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5:40:28Z</dcterms:created>
  <dc:creator>Владелец</dc:creator>
  <dc:description/>
  <dc:language>en-US</dc:language>
  <cp:lastModifiedBy>Customer</cp:lastModifiedBy>
  <dcterms:modified xsi:type="dcterms:W3CDTF">2013-11-14T13:33:01Z</dcterms:modified>
  <cp:revision>13</cp:revision>
  <dc:subject/>
  <dc:title>Проценты в нашей жизни</dc:title>
</cp:coreProperties>
</file>