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FF6-6523-4106-85C5-7C0A0AAF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6B7-CA06-492C-8581-1C70782E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A72B-A5AD-4930-9617-43373AF9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C9D-45B7-48E0-80BF-0C457736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60F-78FD-4373-B42D-EF344617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213-91FD-415B-9A3F-C7F016C0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C22-F97A-463B-B39A-BCABC1F2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F7D-C5CC-4788-ABB6-4C4E558F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5A7-4AFC-43B0-A630-E6BFAF32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A96-292E-4D59-B77E-E7744418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D4F-86EC-4CE9-BC45-E37FF0DC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382-6169-4DD5-9AF2-16E9273D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0405-06EC-4C07-8EB9-42BFE51F3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Развитие правильного произношения и памяти с помощью скороговорок и стихов на тему «Цве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8000" y="5105520"/>
            <a:ext cx="435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Воспитатель ГБДОУ №5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Примор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Новикова Р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1403200">
            <a:off x="755640" y="3779640"/>
            <a:ext cx="40323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Скорогово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- Это специально подобранные фразы с трудно выговариваемым подбором звуков, быстро произносимая шуточная поговорка или прибаутка. Они помогают ребенку быстрее освоить родную речь и научиться хорошо гово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48000" cy="2187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51280" y="692280"/>
            <a:ext cx="511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В цветнике цветут цвет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29280" y="1700280"/>
            <a:ext cx="311472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421000"/>
            <a:ext cx="586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Розовые розы замерзают в моро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3419640" cy="2997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27280" y="5013360"/>
            <a:ext cx="73533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Зоя у Зины взяла мимозу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Зина у Зои закупила роз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58920" y="2204640"/>
            <a:ext cx="55069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Грустит гвоздика голуба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96160" y="0"/>
            <a:ext cx="2247840" cy="2708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404640"/>
            <a:ext cx="662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У Маши на кармашк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вышиты рома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2987640" cy="261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071680"/>
            <a:ext cx="529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Из-за жары жасми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завядш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435640" y="4240080"/>
            <a:ext cx="37083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Сти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498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Только солнышко взойдет –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Мак на грядке расцветет.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Бабочка-капустница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На цветок опустится.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Поглядишь – а у цветка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Больше на два лепестк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12464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Заучивание стихов развивает память, обогащает р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детей устойчивыми словосочета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3708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Одуванчик золотой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Был красивый, молодой,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Не боялся никого,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Даже ветра самого!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Одуванчик золотой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Постарел и стал седой,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А как только поседел,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Вместе с ветром улете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3851280" cy="393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3909960"/>
            <a:ext cx="5292720" cy="2948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1484280"/>
            <a:ext cx="56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Расцвёл подсолнух в огороде,</a:t>
            </a:r>
            <a:br>
              <a:rPr sz="2600"/>
            </a:b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И к солнцу тянется весь день,</a:t>
            </a:r>
            <a:br>
              <a:rPr sz="2600"/>
            </a:b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За солнышком головкой водит,</a:t>
            </a:r>
            <a:br>
              <a:rPr sz="2600"/>
            </a:b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Чтоб не попала она в тень.</a:t>
            </a:r>
            <a:br>
              <a:rPr sz="2600"/>
            </a:b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Когда же солнышко заходит,</a:t>
            </a:r>
            <a:br>
              <a:rPr sz="2600"/>
            </a:b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Он ждёт до самого утра,</a:t>
            </a:r>
            <a:br>
              <a:rPr sz="2600"/>
            </a:b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Вздыхая в тёмном огороде:</a:t>
            </a:r>
            <a:br>
              <a:rPr sz="2600"/>
            </a:b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- Вставай же, солнышко! Пора!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3419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03280" y="404280"/>
            <a:ext cx="549252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Колокольчик голубой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Поклонился нам с тобой.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Колокольчики-цветы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чень вежливы. А т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3102120"/>
            <a:ext cx="47527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8469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9T10:52:47Z</dcterms:created>
  <dc:creator>555</dc:creator>
  <dc:description/>
  <dc:language>en-US</dc:language>
  <cp:lastModifiedBy>555</cp:lastModifiedBy>
  <dcterms:modified xsi:type="dcterms:W3CDTF">2014-01-29T15:05:38Z</dcterms:modified>
  <cp:revision>3</cp:revision>
  <dc:subject/>
  <dc:title>Развитие правильного произношения и памяти с помощью скороговорок и стихов на тему «Цветы»</dc:title>
</cp:coreProperties>
</file>