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73D-3B46-4851-A081-7B388566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F67-F404-4C96-9A1E-F7E0D02A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66F-DEA8-4952-9EBC-D69127A8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7B6-4DD9-4064-9689-07ABA40C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A5C-EF17-45FF-9F1C-3DB9D43A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503-F8FB-4D78-95C8-962CD435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D77-5544-4720-B344-A1A26DDC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8FD-D860-49B8-8C24-F3194611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A25-A320-402B-96B2-7AD4BD53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974-B633-45F8-B395-1F4461F3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F8D-1689-41E7-A107-0ED234EA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904-772F-4383-9F21-FF2071B5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E9E5-8FFD-446F-AB0E-88EA20167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Развитие правильного произношения и памяти с помощью скороговорок и стихов на тему «Цве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5105520"/>
            <a:ext cx="435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Воспитатель ГБДОУ №5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Примор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Новикова Р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1403200">
            <a:off x="755640" y="3779640"/>
            <a:ext cx="4032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Скор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- Это специально подобранные фразы с трудно выговариваемым подбором звуков, быстро произносимая шуточная поговорка или прибаутка. Они помогают ребенку быстрее освоить родную речь и научиться хорошо гов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218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1280" y="692280"/>
            <a:ext cx="51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В цветнике цветут цве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29280" y="1700280"/>
            <a:ext cx="311472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421000"/>
            <a:ext cx="58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Розовые розы замерзают в моро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3419640" cy="2997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27280" y="5013360"/>
            <a:ext cx="73533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Зоя у Зины взяла мимозу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Зина у Зои закупила роз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58920" y="2204640"/>
            <a:ext cx="55069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Грустит гвоздика голуба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96160" y="0"/>
            <a:ext cx="2247840" cy="270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404640"/>
            <a:ext cx="662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У Маши на кармашк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вышиты рома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2987640" cy="261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071680"/>
            <a:ext cx="529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Из-за жары жасми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завядш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435640" y="4240080"/>
            <a:ext cx="37083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Сти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498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Только солнышко взойдет –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Мак на грядке расцветет.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Бабочка-капустница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На цветок опустится.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оглядишь – а у цветка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Больше на два лепестк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12464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Заучивание стихов развивает память, обогащает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детей устойчивыми словосочета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3708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Одуванчик золотой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Был красивый, молодой,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Не боялся никого,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Даже ветра самого!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Одуванчик золотой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остарел и стал седой,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А как только поседел,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Вместе с ветром улете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3851280" cy="393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3909960"/>
            <a:ext cx="5292720" cy="2948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56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Расцвёл подсолнух в огороде,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И к солнцу тянется весь день,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За солнышком головкой водит,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Чтоб не попала она в тень.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Когда же солнышко заходит,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Он ждёт до самого утра,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Вздыхая в тёмном огороде:</a:t>
            </a:r>
            <a:br>
              <a:rPr sz="2600"/>
            </a:b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- Вставай же, солнышко! Пора!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3419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03280" y="404280"/>
            <a:ext cx="549252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Колокольчик голубой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Поклонился нам с тобой.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Колокольчики-цветы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чень вежливы. А 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3102120"/>
            <a:ext cx="47527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8469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10:52:47Z</dcterms:created>
  <dc:creator>555</dc:creator>
  <dc:description/>
  <dc:language>en-US</dc:language>
  <cp:lastModifiedBy>555</cp:lastModifiedBy>
  <dcterms:modified xsi:type="dcterms:W3CDTF">2014-01-29T15:05:38Z</dcterms:modified>
  <cp:revision>3</cp:revision>
  <dc:subject/>
  <dc:title>Развитие правильного произношения и памяти с помощью скороговорок и стихов на тему «Цветы»</dc:title>
</cp:coreProperties>
</file>