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7.jpeg" ContentType="image/jpeg"/>
  <Override PartName="/ppt/media/image6.wmf" ContentType="image/x-wmf"/>
  <Override PartName="/ppt/media/image19.jpeg" ContentType="image/jpeg"/>
  <Override PartName="/ppt/media/image13.jpeg" ContentType="image/jpeg"/>
  <Override PartName="/ppt/media/image23.jpeg" ContentType="image/jpeg"/>
  <Override PartName="/ppt/media/image18.jpeg" ContentType="image/jpeg"/>
  <Override PartName="/ppt/media/image21.png" ContentType="image/png"/>
  <Override PartName="/ppt/media/image4.png" ContentType="image/png"/>
  <Override PartName="/ppt/media/image20.jpeg" ContentType="image/jpeg"/>
  <Override PartName="/ppt/media/image15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png" ContentType="image/png"/>
  <Override PartName="/ppt/media/image22.jpeg" ContentType="image/jpeg"/>
  <Override PartName="/ppt/media/image1.jpeg" ContentType="image/jpeg"/>
  <Override PartName="/ppt/media/image3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CBE9-5978-42C5-AEB3-143F8228D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CC8C-1BF9-4C1B-87D1-8552C39E5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64E0-5D15-4013-8314-8558041AE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BC66-E3D4-4BE5-BBE0-4D5DAB45F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AB093-C62A-4796-B1DE-524FB5973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F0FED-CC4B-45D7-873E-38FD46681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97831-98CA-4499-8667-A56A8E2E8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9FA8D-C3DC-42FA-A212-00CA419D1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3DB57-6F05-4D93-88A7-E46F8C245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D9F0D-8CEC-48F2-9494-86607F4BF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A4EA2-9A51-4482-AA8D-3D625752B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33D1-7DD0-460B-AD94-C10603426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54D30-91DF-4C7E-B466-01C33D278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A977F-D99B-4906-89EB-DB0B725FB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36A2D-819D-4319-8ED7-FFC9A5AE6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08D9F-9684-4EA1-902E-006A91365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8567F-5296-46AA-B2A6-FE51DAB5F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84737E-7B8D-489F-8B93-FB4C4378C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42BA6F-C35A-4060-9BE1-5DD27559D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FCB19F-CA79-4E4C-8AD5-F524D5B83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862065-893D-49A0-9089-AE2C0845A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826A5F-F623-4BD6-8716-2F0670350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BDA4-6DAD-4A36-9A07-53377ADD8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15E623-A7D2-435A-9756-46675A537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636E46-356B-4FD3-8AA6-05533B367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C20A2B-C847-4DE2-AB77-EE09BC538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6764F6-0CB5-4BD9-B93A-B5861A0D4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E6340C-4A40-4146-A261-9FB68877D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8F07F3-B936-44F8-BACE-75E4744FE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70E18A-2217-4A7B-9A7D-E00BC1349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B8DD04-EF19-4B26-836C-6C7822A75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3D9739-7A24-4B4F-8304-84BA0BD40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8C0E59-8D59-4C99-B639-5AA9417F2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F415-595D-425E-959E-49D055F66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0311A8-0BE8-4A8D-8B71-0206CABF7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9DF497-3962-4F3A-9B2B-04867C880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0D0351-F941-463C-A412-B1CA0CD38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BDC507-F53B-48B6-9B4A-45D8F87E9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573907-62F9-4D21-A6FB-5E41E1023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0C44C4-3DEE-4E23-B81B-6C7DCBED8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60DBE3-EB52-4E63-A5B0-180377B28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5F1662-880A-47ED-9FF9-D1E8EAF0C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2907C3-C364-49CF-91E6-1988C9B30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19E9B5-8B02-43B2-9946-60D812994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D77A-9CD1-4C59-889A-6858D4FA3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A8B102-3B97-4E54-B52C-7B7EED8E3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558299-3C29-47E4-8ABD-245070113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267A7F-A73E-42F9-B4CC-259783E45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649226-DBBF-4332-8383-85FE75745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6EBDFB-37B6-418C-8CDB-A93AE0BEF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7D31ED-27A2-4958-B644-D2B02D665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BE7EA5-CB96-442B-853E-B478FB082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7E58D1-8FA0-4D93-9706-F2D0AED1D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5A3D6B-198A-4201-9AAE-5C9A8AC4F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59C451-D2F2-4568-82A8-ACE55F9DA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C8CC-7D0D-475E-8BEF-16A10E3BC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EB33EC-815A-4130-851F-A803B46DA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66E8C7-B710-4A48-BDF8-EA937DA3E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4BADA2-8A9B-4F48-B329-7A8155DFC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91143A-F0E8-4C29-A2B3-EA668668D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C4CF17-005A-4F4E-95AE-A5F58E243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4410D7-FA81-44D7-BB59-B0A0298A1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E4A7F5-A61B-4054-BA47-E7528A69F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CD2E95-5487-4550-A6DB-5DC754FA3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3FC400-055E-44D5-8DF6-D59878160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C6019D-C1B4-4343-AADB-553F2E565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83D8-F62E-4EDC-8868-1F8A662E4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37FB10-8910-4BB2-B14D-CB3CAE06F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13487C-7475-46B8-A892-0D5FA8388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FCCF19-E548-4267-8C91-AD44D9E5E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B4AF1A-16F0-4067-B8B7-C5D3CA42C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A1E48A-BF89-4DA7-A4E6-7799B3702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D8CED5-6129-4FDD-9382-B1B9ADCE6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2A8611-75EA-4746-B2E7-4B64E0E52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66F8D6-53DF-4300-A8E8-F645B237E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7867BA-4495-40ED-8E08-F0CEAFB87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BB700E-FFF1-4D74-9C13-20DD24BD6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C887-1626-4D01-A30C-0D3DEA715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D4CE2F-B475-479A-90B2-CB1570F2F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655A2E-D2C3-4E20-B20B-6C938D761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240AE3-4F46-46C2-BD8F-3BAF18551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C1AA2C-2E5F-42A4-ABF2-1AD1740EA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4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5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383C4A-7009-40ED-9BBD-39C074A0B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9186-6217-4C2B-A817-25B660F9E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49690-C005-4062-92EA-3C440286690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D749D-4B22-497D-9C5C-A2A6990A5B42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9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0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59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0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1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2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3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64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67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8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9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0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1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2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3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4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5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7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79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80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81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82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83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>
                    <a:gd name="textAreaLeft" fmla="*/ 0 w 245160"/>
                    <a:gd name="textAreaRight" fmla="*/ 245520 w 24516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4" name="Freeform 45"/>
                <p:cNvSpPr/>
                <p:nvPr/>
              </p:nvSpPr>
              <p:spPr>
                <a:xfrm rot="18427200">
                  <a:off x="8029440" y="516240"/>
                  <a:ext cx="431280" cy="695520"/>
                </a:xfrm>
                <a:custGeom>
                  <a:avLst/>
                  <a:gdLst>
                    <a:gd name="textAreaLeft" fmla="*/ 0 w 431280"/>
                    <a:gd name="textAreaRight" fmla="*/ 431640 w 43128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5" name="Freeform 46"/>
                <p:cNvSpPr/>
                <p:nvPr/>
              </p:nvSpPr>
              <p:spPr>
                <a:xfrm rot="18427200">
                  <a:off x="7726320" y="278640"/>
                  <a:ext cx="809640" cy="1425600"/>
                </a:xfrm>
                <a:custGeom>
                  <a:avLst/>
                  <a:gdLst>
                    <a:gd name="textAreaLeft" fmla="*/ 0 w 809640"/>
                    <a:gd name="textAreaRight" fmla="*/ 810000 w 80964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6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>
                    <a:gd name="textAreaLeft" fmla="*/ 0 w 1215720"/>
                    <a:gd name="textAreaRight" fmla="*/ 1216080 w 121572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7" name="Freeform 48"/>
                <p:cNvSpPr/>
                <p:nvPr/>
              </p:nvSpPr>
              <p:spPr>
                <a:xfrm rot="18427200">
                  <a:off x="8426160" y="1419480"/>
                  <a:ext cx="270720" cy="193680"/>
                </a:xfrm>
                <a:custGeom>
                  <a:avLst/>
                  <a:gdLst>
                    <a:gd name="textAreaLeft" fmla="*/ 0 w 270720"/>
                    <a:gd name="textAreaRight" fmla="*/ 271080 w 27072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8" name="Freeform 49"/>
                <p:cNvSpPr/>
                <p:nvPr/>
              </p:nvSpPr>
              <p:spPr>
                <a:xfrm rot="18427200">
                  <a:off x="8338320" y="1274040"/>
                  <a:ext cx="290160" cy="22860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9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90" name="Freeform 51"/>
                <p:cNvSpPr/>
                <p:nvPr/>
              </p:nvSpPr>
              <p:spPr>
                <a:xfrm rot="18427200">
                  <a:off x="7869960" y="208800"/>
                  <a:ext cx="286920" cy="219240"/>
                </a:xfrm>
                <a:custGeom>
                  <a:avLst/>
                  <a:gdLst>
                    <a:gd name="textAreaLeft" fmla="*/ 0 w 286920"/>
                    <a:gd name="textAreaRight" fmla="*/ 287280 w 2869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91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D7F6D-E0E6-4A91-A484-ADA5AAA1AF3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70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71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72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73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4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5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6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7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8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9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0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1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2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3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84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85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6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7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8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9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0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1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2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3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4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3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204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7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8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21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222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229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230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31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32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33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607FE-7AAC-4166-B1F6-AA047B7CDD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ftr" idx="1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40C60-9F26-482E-829F-003A9560FB5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dt" idx="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31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31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2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32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grpSp>
        <p:nvGrpSpPr>
          <p:cNvPr id="32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329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0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59360"/>
                <a:gd name="textAreaBottom" fmla="*/ 459720 h 4593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1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19760"/>
                <a:gd name="textAreaBottom" fmla="*/ 420120 h 41976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3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33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2840"/>
                  <a:gd name="textAreaBottom" fmla="*/ 493200 h 49284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640"/>
                  <a:gd name="textAreaBottom" fmla="*/ 279000 h 27864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3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36AB6-1844-42D5-ACB9-723E232D5B9F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1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382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83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384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5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6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7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8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9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0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1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2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3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4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395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396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7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8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9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0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1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2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3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4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5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6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7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8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9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0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1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2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3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414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415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6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7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8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9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0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1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2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3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4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5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6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7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8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9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0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1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432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433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4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5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6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7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8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9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440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441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42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43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44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0FDCF-2AC3-434A-93C1-2E8F7E6F463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" Target="slide17.xml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440" y="1996560"/>
            <a:ext cx="8458200" cy="4527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Century"/>
              </a:rPr>
              <a:t>Внутренние воды России.</a:t>
            </a:r>
            <a:br>
              <a:rPr sz="4800"/>
            </a:br>
            <a:br>
              <a:rPr sz="4800"/>
            </a:br>
            <a:r>
              <a:rPr b="1" i="1" lang="ru-RU" sz="4800" spc="-1" strike="noStrike">
                <a:solidFill>
                  <a:srgbClr val="ffffff"/>
                </a:solidFill>
                <a:latin typeface="Century"/>
              </a:rPr>
              <a:t>Реки.</a:t>
            </a:r>
            <a:br>
              <a:rPr sz="4800"/>
            </a:br>
            <a:r>
              <a:rPr b="1" i="1" lang="ru-RU" sz="4800" spc="-1" strike="noStrike">
                <a:solidFill>
                  <a:srgbClr val="ffffff"/>
                </a:solidFill>
                <a:latin typeface="Century"/>
              </a:rPr>
              <a:t> </a:t>
            </a:r>
            <a:br>
              <a:rPr sz="4800"/>
            </a:br>
            <a:br>
              <a:rPr sz="4000"/>
            </a:b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87" name="Picture 6" descr="0_2e89_994e0cfe_L"/>
          <p:cNvPicPr/>
          <p:nvPr/>
        </p:nvPicPr>
        <p:blipFill>
          <a:blip r:embed="rId1"/>
          <a:stretch/>
        </p:blipFill>
        <p:spPr>
          <a:xfrm>
            <a:off x="-642960" y="0"/>
            <a:ext cx="10296720" cy="7238880"/>
          </a:xfrm>
          <a:prstGeom prst="rect">
            <a:avLst/>
          </a:prstGeom>
          <a:ln w="0">
            <a:noFill/>
          </a:ln>
        </p:spPr>
      </p:pic>
      <p:sp>
        <p:nvSpPr>
          <p:cNvPr id="488" name="Text Box 7"/>
          <p:cNvSpPr/>
          <p:nvPr/>
        </p:nvSpPr>
        <p:spPr>
          <a:xfrm>
            <a:off x="0" y="765000"/>
            <a:ext cx="8820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Book Antiqua"/>
              </a:rPr>
              <a:t>Внутренние воды России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Book Antiqua"/>
              </a:rPr>
              <a:t>Реки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89" name="Течет река Волга.....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" restart="whenNotActive" nodeType="interactiveSeq" fill="hold">
                <p:stCondLst>
                  <p:cond evt="onClick">
                    <p:tgtEl>
                      <p:spTgt spid="489"/>
                    </p:tgtEl>
                  </p:cond>
                </p:stCondLst>
                <p:childTnLst>
                  <p:par>
                    <p:cTn id="10" fill="hold">
                      <p:stCondLst>
                        <p:cond evt="onClick">
                          <p:tgtEl>
                            <p:spTgt spid="489"/>
                          </p:tgtEl>
                        </p:cond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305664" fill="hold"/>
                                        <p:tgtEl>
                                          <p:spTgt spid="4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ivaldi"/>
              </a:rPr>
              <a:t>Моря и бассейны океан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9" descr="Заключение  ГПН2070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6021360"/>
          </a:xfrm>
          <a:prstGeom prst="rect">
            <a:avLst/>
          </a:prstGeom>
          <a:ln w="0">
            <a:noFill/>
          </a:ln>
        </p:spPr>
      </p:pic>
      <p:sp>
        <p:nvSpPr>
          <p:cNvPr id="528" name="Text Box 10"/>
          <p:cNvSpPr/>
          <p:nvPr/>
        </p:nvSpPr>
        <p:spPr>
          <a:xfrm>
            <a:off x="4788000" y="306864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65%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9" name="Text Box 12"/>
          <p:cNvSpPr/>
          <p:nvPr/>
        </p:nvSpPr>
        <p:spPr>
          <a:xfrm>
            <a:off x="6732720" y="443700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20%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0" name="Text Box 13"/>
          <p:cNvSpPr/>
          <p:nvPr/>
        </p:nvSpPr>
        <p:spPr>
          <a:xfrm>
            <a:off x="1692360" y="335772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10%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1" name="Text Box 14"/>
          <p:cNvSpPr/>
          <p:nvPr/>
        </p:nvSpPr>
        <p:spPr>
          <a:xfrm>
            <a:off x="395280" y="357336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5%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АСТИ РЕ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6" descr="Безымянный"/>
          <p:cNvPicPr/>
          <p:nvPr/>
        </p:nvPicPr>
        <p:blipFill>
          <a:blip r:embed="rId1"/>
          <a:stretch/>
        </p:blipFill>
        <p:spPr>
          <a:xfrm>
            <a:off x="0" y="907920"/>
            <a:ext cx="9144000" cy="5950080"/>
          </a:xfrm>
          <a:prstGeom prst="rect">
            <a:avLst/>
          </a:prstGeom>
          <a:ln w="0">
            <a:noFill/>
          </a:ln>
        </p:spPr>
      </p:pic>
      <p:sp>
        <p:nvSpPr>
          <p:cNvPr id="534" name="Text Box 7"/>
          <p:cNvSpPr/>
          <p:nvPr/>
        </p:nvSpPr>
        <p:spPr>
          <a:xfrm>
            <a:off x="1547640" y="1125360"/>
            <a:ext cx="151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ОЗЕРО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5" name="Text Box 8"/>
          <p:cNvSpPr/>
          <p:nvPr/>
        </p:nvSpPr>
        <p:spPr>
          <a:xfrm>
            <a:off x="7035840" y="1258920"/>
            <a:ext cx="113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6" name="Text Box 9"/>
          <p:cNvSpPr/>
          <p:nvPr/>
        </p:nvSpPr>
        <p:spPr>
          <a:xfrm>
            <a:off x="7236000" y="1341360"/>
            <a:ext cx="136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ГОРЫ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7" name="Text Box 10"/>
          <p:cNvSpPr/>
          <p:nvPr/>
        </p:nvSpPr>
        <p:spPr>
          <a:xfrm>
            <a:off x="1835280" y="4653000"/>
            <a:ext cx="1584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ГЛАВНОЕ РУСЛО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8" name="Text Box 11"/>
          <p:cNvSpPr/>
          <p:nvPr/>
        </p:nvSpPr>
        <p:spPr>
          <a:xfrm>
            <a:off x="539640" y="2349360"/>
            <a:ext cx="12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ИСТОК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9" name="Text Box 12"/>
          <p:cNvSpPr/>
          <p:nvPr/>
        </p:nvSpPr>
        <p:spPr>
          <a:xfrm>
            <a:off x="6012000" y="4941720"/>
            <a:ext cx="12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УСТЬ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0" name="Text Box 13"/>
          <p:cNvSpPr/>
          <p:nvPr/>
        </p:nvSpPr>
        <p:spPr>
          <a:xfrm>
            <a:off x="6516720" y="2852640"/>
            <a:ext cx="136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ПРИТОК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Горная река                    Равнинная р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7" descr="018085B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250920" y="1484280"/>
            <a:ext cx="3760560" cy="4641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43" name="Picture 28" descr="0_2e88_ac339f1f_L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643280" y="1557360"/>
            <a:ext cx="4176720" cy="4608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Picture 5" descr="018086B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1476360" y="0"/>
            <a:ext cx="619128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Picture 2" descr="C:\Users\User\Documents\gornaya_reka-3553.jpg"/>
          <p:cNvPicPr/>
          <p:nvPr/>
        </p:nvPicPr>
        <p:blipFill>
          <a:blip r:embed="rId1"/>
          <a:stretch/>
        </p:blipFill>
        <p:spPr>
          <a:xfrm>
            <a:off x="214200" y="647640"/>
            <a:ext cx="8715600" cy="62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Picture 2" descr="C:\Users\User\Documents\sredi_snega-3585.jpg"/>
          <p:cNvPicPr/>
          <p:nvPr/>
        </p:nvPicPr>
        <p:blipFill>
          <a:blip r:embed="rId1"/>
          <a:stretch/>
        </p:blipFill>
        <p:spPr>
          <a:xfrm>
            <a:off x="928800" y="357120"/>
            <a:ext cx="7358040" cy="592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Рисунок 1" descr="reka_i_eli-3579.jpg"/>
          <p:cNvPicPr/>
          <p:nvPr/>
        </p:nvPicPr>
        <p:blipFill>
          <a:blip r:embed="rId1"/>
          <a:stretch/>
        </p:blipFill>
        <p:spPr>
          <a:xfrm>
            <a:off x="714240" y="642960"/>
            <a:ext cx="77868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-360" y="404280"/>
            <a:ext cx="8642520" cy="2016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ПАДЕНИЕ </a:t>
            </a:r>
            <a:r>
              <a:rPr b="1" lang="ru-RU" sz="3600" spc="-1" strike="noStrike">
                <a:solidFill>
                  <a:srgbClr val="ccecff"/>
                </a:solidFill>
                <a:latin typeface="Arial"/>
              </a:rPr>
              <a:t>– это разница высот между истоком и устьем. (в метрах)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32400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Arial"/>
              </a:rPr>
              <a:t>Н = Н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1</a:t>
            </a:r>
            <a:r>
              <a:rPr b="1" lang="ru-RU" sz="4400" spc="-1" strike="noStrike">
                <a:solidFill>
                  <a:srgbClr val="000099"/>
                </a:solidFill>
                <a:latin typeface="Arial"/>
              </a:rPr>
              <a:t> – Н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2</a:t>
            </a:r>
            <a:r>
              <a:rPr b="1" lang="ru-RU" sz="4400" spc="-1" strike="noStrike">
                <a:solidFill>
                  <a:srgbClr val="000099"/>
                </a:solidFill>
                <a:latin typeface="Arial"/>
              </a:rPr>
              <a:t>,</a:t>
            </a: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д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– абсолютная высота истока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– абсолютная высота усть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/>
          </p:nvPr>
        </p:nvSpPr>
        <p:spPr>
          <a:xfrm>
            <a:off x="250920" y="620640"/>
            <a:ext cx="91440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1 задани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Определить падение реки Волги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Решение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Исток – Валдайская возвышенность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≈ 300м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Устье – Каспийское море = (-28м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        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300 – (-28) = 328(м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адение реки Волги  328м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/>
          </p:nvPr>
        </p:nvSpPr>
        <p:spPr>
          <a:xfrm>
            <a:off x="395280" y="0"/>
            <a:ext cx="8229600" cy="645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2 задани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Определить падение реки Ангар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Решение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– озеро Байкал = 456м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– река Енисей = 76м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456 – 76 = 380м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адение реки Ангара 380м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5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5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5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5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5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0" name="Organization Chart 83"/>
          <p:cNvGrpSpPr/>
          <p:nvPr/>
        </p:nvGrpSpPr>
        <p:grpSpPr>
          <a:xfrm>
            <a:off x="395280" y="333360"/>
            <a:ext cx="8208000" cy="6119640"/>
            <a:chOff x="395280" y="333360"/>
            <a:chExt cx="8208000" cy="6119640"/>
          </a:xfrm>
        </p:grpSpPr>
        <p:cxnSp>
          <p:nvCxnSpPr>
            <p:cNvPr id="491" name="_s1028"/>
            <p:cNvCxnSpPr>
              <a:stCxn id="492" idx="1"/>
              <a:endCxn id="493" idx="2"/>
            </p:cNvCxnSpPr>
            <p:nvPr/>
          </p:nvCxnSpPr>
          <p:spPr>
            <a:xfrm rot="10800000">
              <a:off x="2856960" y="803520"/>
              <a:ext cx="821520" cy="259164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494" name="_s1029"/>
            <p:cNvCxnSpPr>
              <a:stCxn id="495" idx="1"/>
              <a:endCxn id="493" idx="2"/>
            </p:cNvCxnSpPr>
            <p:nvPr/>
          </p:nvCxnSpPr>
          <p:spPr>
            <a:xfrm rot="10800000">
              <a:off x="2856960" y="803520"/>
              <a:ext cx="821520" cy="329868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496" name="_s1030"/>
            <p:cNvCxnSpPr>
              <a:stCxn id="497" idx="1"/>
              <a:endCxn id="493" idx="2"/>
            </p:cNvCxnSpPr>
            <p:nvPr/>
          </p:nvCxnSpPr>
          <p:spPr>
            <a:xfrm rot="10800000">
              <a:off x="2856960" y="803520"/>
              <a:ext cx="821520" cy="400392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498" name="_s1031"/>
            <p:cNvCxnSpPr>
              <a:stCxn id="499" idx="1"/>
              <a:endCxn id="493" idx="2"/>
            </p:cNvCxnSpPr>
            <p:nvPr/>
          </p:nvCxnSpPr>
          <p:spPr>
            <a:xfrm rot="10800000">
              <a:off x="2856960" y="803520"/>
              <a:ext cx="821520" cy="470844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500" name="_s1032"/>
            <p:cNvCxnSpPr>
              <a:stCxn id="501" idx="1"/>
              <a:endCxn id="493" idx="2"/>
            </p:cNvCxnSpPr>
            <p:nvPr/>
          </p:nvCxnSpPr>
          <p:spPr>
            <a:xfrm rot="10800000">
              <a:off x="2856960" y="803520"/>
              <a:ext cx="821520" cy="541368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502" name="_s1033"/>
            <p:cNvCxnSpPr>
              <a:stCxn id="503" idx="1"/>
              <a:endCxn id="493" idx="2"/>
            </p:cNvCxnSpPr>
            <p:nvPr/>
          </p:nvCxnSpPr>
          <p:spPr>
            <a:xfrm rot="10800000">
              <a:off x="2856960" y="803520"/>
              <a:ext cx="821520" cy="188496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504" name="_s1034"/>
            <p:cNvCxnSpPr>
              <a:stCxn id="505" idx="1"/>
              <a:endCxn id="493" idx="2"/>
            </p:cNvCxnSpPr>
            <p:nvPr/>
          </p:nvCxnSpPr>
          <p:spPr>
            <a:xfrm rot="10800000">
              <a:off x="2856960" y="803520"/>
              <a:ext cx="821520" cy="117828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506" name="_s1035"/>
            <p:cNvCxnSpPr>
              <a:stCxn id="507" idx="1"/>
              <a:endCxn id="493" idx="2"/>
            </p:cNvCxnSpPr>
            <p:nvPr/>
          </p:nvCxnSpPr>
          <p:spPr>
            <a:xfrm rot="10800000">
              <a:off x="2856960" y="803520"/>
              <a:ext cx="821520" cy="47160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</a:ln>
          </p:spPr>
        </p:cxnSp>
        <p:sp>
          <p:nvSpPr>
            <p:cNvPr id="493" name="_s1036"/>
            <p:cNvSpPr/>
            <p:nvPr/>
          </p:nvSpPr>
          <p:spPr>
            <a:xfrm>
              <a:off x="395280" y="333360"/>
              <a:ext cx="4924800" cy="4708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9999"/>
              </a:solidFill>
              <a:miter/>
            </a:ln>
            <a:effectLst>
              <a:outerShdw dist="63504" dir="19383909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Tahoma"/>
                </a:rPr>
                <a:t>Внутренние воды</a:t>
              </a:r>
              <a:endParaRPr b="0" lang="en-US" sz="2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7" name="_s1037"/>
            <p:cNvSpPr/>
            <p:nvPr/>
          </p:nvSpPr>
          <p:spPr>
            <a:xfrm>
              <a:off x="3678480" y="1040040"/>
              <a:ext cx="4924800" cy="4708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99cc00"/>
              </a:solidFill>
              <a:miter/>
            </a:ln>
            <a:effectLst>
              <a:outerShdw dist="63504" dir="19383909" blurRad="0" rotWithShape="0">
                <a:srgbClr val="99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Tahoma"/>
                </a:rPr>
                <a:t>Реки</a:t>
              </a:r>
              <a:endParaRPr b="0" lang="en-US" sz="2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5" name="_s1038"/>
            <p:cNvSpPr/>
            <p:nvPr/>
          </p:nvSpPr>
          <p:spPr>
            <a:xfrm>
              <a:off x="3678480" y="1746720"/>
              <a:ext cx="4924800" cy="4708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99cc00"/>
              </a:solidFill>
              <a:miter/>
            </a:ln>
            <a:effectLst>
              <a:outerShdw dist="63504" dir="19383909" blurRad="0" rotWithShape="0">
                <a:srgbClr val="99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Tahoma"/>
                </a:rPr>
                <a:t>Озера</a:t>
              </a:r>
              <a:endParaRPr b="0" lang="en-US" sz="2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3" name="_s1039"/>
            <p:cNvSpPr/>
            <p:nvPr/>
          </p:nvSpPr>
          <p:spPr>
            <a:xfrm>
              <a:off x="3678480" y="2453400"/>
              <a:ext cx="4924800" cy="4708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99cc00"/>
              </a:solidFill>
              <a:miter/>
            </a:ln>
            <a:effectLst>
              <a:outerShdw dist="63504" dir="19383909" blurRad="0" rotWithShape="0">
                <a:srgbClr val="99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Tahoma"/>
                </a:rPr>
                <a:t>Болота</a:t>
              </a:r>
              <a:endParaRPr b="0" lang="en-US" sz="2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1" name="_s1040"/>
            <p:cNvSpPr/>
            <p:nvPr/>
          </p:nvSpPr>
          <p:spPr>
            <a:xfrm>
              <a:off x="3678480" y="5982120"/>
              <a:ext cx="4924800" cy="4708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99cc00"/>
              </a:solidFill>
              <a:miter/>
            </a:ln>
            <a:effectLst>
              <a:outerShdw dist="63504" dir="19383909" blurRad="0" rotWithShape="0">
                <a:srgbClr val="99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Tahoma"/>
                </a:rPr>
                <a:t>Каналы</a:t>
              </a:r>
              <a:endParaRPr b="0" lang="en-US" sz="2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9" name="_s1041"/>
            <p:cNvSpPr/>
            <p:nvPr/>
          </p:nvSpPr>
          <p:spPr>
            <a:xfrm>
              <a:off x="3678480" y="5276880"/>
              <a:ext cx="4924800" cy="46944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99cc00"/>
              </a:solidFill>
              <a:miter/>
            </a:ln>
            <a:effectLst>
              <a:outerShdw dist="63504" dir="19383909" blurRad="0" rotWithShape="0">
                <a:srgbClr val="99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Tahoma"/>
                </a:rPr>
                <a:t>Пруды</a:t>
              </a:r>
              <a:endParaRPr b="0" lang="en-US" sz="2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7" name="_s1042"/>
            <p:cNvSpPr/>
            <p:nvPr/>
          </p:nvSpPr>
          <p:spPr>
            <a:xfrm>
              <a:off x="3678480" y="4572000"/>
              <a:ext cx="4924800" cy="4690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99cc00"/>
              </a:solidFill>
              <a:miter/>
            </a:ln>
            <a:effectLst>
              <a:outerShdw dist="63504" dir="19383909" blurRad="0" rotWithShape="0">
                <a:srgbClr val="99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Tahoma"/>
                </a:rPr>
                <a:t>Водохранилища</a:t>
              </a:r>
              <a:endParaRPr b="0" lang="en-US" sz="2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5" name="_s1043"/>
            <p:cNvSpPr/>
            <p:nvPr/>
          </p:nvSpPr>
          <p:spPr>
            <a:xfrm>
              <a:off x="3678480" y="3865320"/>
              <a:ext cx="4924800" cy="47088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99cc00"/>
              </a:solidFill>
              <a:miter/>
            </a:ln>
            <a:effectLst>
              <a:outerShdw dist="63504" dir="19383909" blurRad="0" rotWithShape="0">
                <a:srgbClr val="99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Tahoma"/>
                </a:rPr>
                <a:t>Подземные воды</a:t>
              </a:r>
              <a:endParaRPr b="0" lang="en-US" sz="2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2" name="_s1044"/>
            <p:cNvSpPr/>
            <p:nvPr/>
          </p:nvSpPr>
          <p:spPr>
            <a:xfrm>
              <a:off x="3678480" y="3160080"/>
              <a:ext cx="4924800" cy="46944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99cc00"/>
              </a:solidFill>
              <a:miter/>
            </a:ln>
            <a:effectLst>
              <a:outerShdw dist="63504" dir="19383909" blurRad="0" rotWithShape="0">
                <a:srgbClr val="99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Tahoma"/>
                </a:rPr>
                <a:t>Ледники</a:t>
              </a:r>
              <a:endParaRPr b="0" lang="en-US" sz="2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/>
          </p:nvPr>
        </p:nvSpPr>
        <p:spPr>
          <a:xfrm>
            <a:off x="250920" y="2599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3 задани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Определить падение реки Невы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Решение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- Ладожское озеро = 4м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– Финский залив = 0м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4 – 0 = 4м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адение реки Нева 4м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5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5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5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5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5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УКЛОН 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– </a:t>
            </a: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отношение падения реки (в см.) к ее длине (в км.)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I = H </a:t>
            </a:r>
            <a:r>
              <a:rPr b="1" lang="ru-RU" sz="4400" spc="-1" strike="noStrike">
                <a:solidFill>
                  <a:srgbClr val="000099"/>
                </a:solidFill>
                <a:latin typeface="Arial"/>
              </a:rPr>
              <a:t>: </a:t>
            </a: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L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, гд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– уклон реки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- падение реки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– длина рек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/>
          </p:nvPr>
        </p:nvSpPr>
        <p:spPr>
          <a:xfrm>
            <a:off x="395280" y="62064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1 задание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Определить уклон реки Волг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Решение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Н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= 328м = 32800см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= 3531км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= 32800 : 3531 = 9 см/км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Уклон реки равен 9см/км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2 задани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Определить уклон Ангары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Решение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 = 380м = 38000см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1826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м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= 38000 : 1826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≈ 21 см/км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Уклон Ангары -  21см/км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5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5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5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5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5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5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5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3 задани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Определить уклон реки Невы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Решение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 = 4м =400см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= 74км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= 400 : 74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≈ 5 см/км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Уклон Невы 5см/км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5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5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5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5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5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5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5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5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5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5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59" name="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7696080" cy="3657600"/>
          </a:xfrm>
          <a:prstGeom prst="rect">
            <a:avLst/>
          </a:prstGeom>
          <a:ln w="0">
            <a:noFill/>
          </a:ln>
        </p:spPr>
      </p:pic>
      <p:pic>
        <p:nvPicPr>
          <p:cNvPr id="560" name="Picture 2" descr="C:\Users\User\Desktop\VolkhovRiver.jpg"/>
          <p:cNvPicPr/>
          <p:nvPr/>
        </p:nvPicPr>
        <p:blipFill>
          <a:blip r:embed="rId2"/>
          <a:stretch/>
        </p:blipFill>
        <p:spPr>
          <a:xfrm>
            <a:off x="-1785960" y="-343080"/>
            <a:ext cx="12715920" cy="955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62" name="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7696080" cy="3657600"/>
          </a:xfrm>
          <a:prstGeom prst="rect">
            <a:avLst/>
          </a:prstGeom>
          <a:ln w="0">
            <a:noFill/>
          </a:ln>
        </p:spPr>
      </p:pic>
      <p:pic>
        <p:nvPicPr>
          <p:cNvPr id="563" name="Picture 2" descr="C:\Users\User\Desktop\71321-84.JPG"/>
          <p:cNvPicPr/>
          <p:nvPr/>
        </p:nvPicPr>
        <p:blipFill>
          <a:blip r:embed="rId2"/>
          <a:stretch/>
        </p:blipFill>
        <p:spPr>
          <a:xfrm>
            <a:off x="-1500120" y="-1071720"/>
            <a:ext cx="10858320" cy="950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1)Составь пары: река- приток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олг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Енисей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Лен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Обь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Амур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Аргунь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Иртыш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Ок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Алдан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Ангар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На какой реке стоит город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алехард          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Краснодар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Якутск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Архангельск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Астрахань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Красноярск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арьян-Мар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Иркутск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Москв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анкт-Петербург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Домашнее задание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нести на к/к крупные рек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добрать загадки, пословицы, поговорки о река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72" name="Течет река Волга......mp3" descr=""/>
          <p:cNvPicPr/>
          <p:nvPr/>
        </p:nvPicPr>
        <p:blipFill>
          <a:blip r:embed="rId1"/>
          <a:stretch/>
        </p:blipFill>
        <p:spPr>
          <a:xfrm>
            <a:off x="7858080" y="5929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0" dur="indefinite" restart="never" nodeType="tmRoot">
          <p:childTnLst>
            <p:seq>
              <p:cTn id="191" restart="whenNotActive" nodeType="interactiveSeq" fill="hold">
                <p:stCondLst>
                  <p:cond evt="onClick">
                    <p:tgtEl>
                      <p:spTgt spid="572"/>
                    </p:tgtEl>
                  </p:cond>
                </p:stCondLst>
                <p:childTnLst>
                  <p:par>
                    <p:cTn id="192" fill="hold">
                      <p:stCondLst>
                        <p:cond evt="onClick">
                          <p:tgtEl>
                            <p:spTgt spid="572"/>
                          </p:tgtEl>
                        </p:cond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5" dur="305664" fill="hold"/>
                                        <p:tgtEl>
                                          <p:spTgt spid="5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вязь внутренних вод с другими компонентами прир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9" name="Object 7"/>
          <p:cNvGraphicFramePr/>
          <p:nvPr/>
        </p:nvGraphicFramePr>
        <p:xfrm>
          <a:off x="324000" y="907920"/>
          <a:ext cx="8820000" cy="5473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0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907920"/>
                    <a:ext cx="8820000" cy="547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39528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ток Вол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Picture 7" descr="Foto4990"/>
          <p:cNvPicPr/>
          <p:nvPr/>
        </p:nvPicPr>
        <p:blipFill>
          <a:blip r:embed="rId1"/>
          <a:stretch/>
        </p:blipFill>
        <p:spPr>
          <a:xfrm>
            <a:off x="250920" y="765000"/>
            <a:ext cx="8642160" cy="5980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f0"/>
                </a:solidFill>
                <a:latin typeface="Arial"/>
              </a:rPr>
              <a:t>ВОЛГ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2" descr="C:\Users\User\Documents\картинки Волги\Волга.jpg"/>
          <p:cNvPicPr/>
          <p:nvPr/>
        </p:nvPicPr>
        <p:blipFill>
          <a:blip r:embed="rId1"/>
          <a:stretch/>
        </p:blipFill>
        <p:spPr>
          <a:xfrm>
            <a:off x="500040" y="1108080"/>
            <a:ext cx="8358120" cy="50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f0"/>
                </a:solidFill>
                <a:latin typeface="Arial"/>
              </a:rPr>
              <a:t>ВОЛГ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Picture 2" descr="C:\Users\User\Documents\картинки Волги\Волга1.jpeg"/>
          <p:cNvPicPr/>
          <p:nvPr/>
        </p:nvPicPr>
        <p:blipFill>
          <a:blip r:embed="rId1"/>
          <a:stretch/>
        </p:blipFill>
        <p:spPr>
          <a:xfrm>
            <a:off x="0" y="1285920"/>
            <a:ext cx="9144000" cy="5572080"/>
          </a:xfrm>
          <a:prstGeom prst="rect">
            <a:avLst/>
          </a:prstGeom>
          <a:ln w="0">
            <a:noFill/>
          </a:ln>
        </p:spPr>
      </p:pic>
      <p:pic>
        <p:nvPicPr>
          <p:cNvPr id="518" name="Течет река Волга......mp3" descr=""/>
          <p:cNvPicPr/>
          <p:nvPr/>
        </p:nvPicPr>
        <p:blipFill>
          <a:blip r:embed="rId2"/>
          <a:stretch/>
        </p:blipFill>
        <p:spPr>
          <a:xfrm>
            <a:off x="4419720" y="37101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restart="whenNotActive" nodeType="interactiveSeq" fill="hold">
                <p:stCondLst>
                  <p:cond evt="onClick">
                    <p:tgtEl>
                      <p:spTgt spid="518"/>
                    </p:tgtEl>
                  </p:cond>
                </p:stCondLst>
                <p:childTnLst>
                  <p:par>
                    <p:cTn id="16" fill="hold">
                      <p:stCondLst>
                        <p:cond evt="onClick">
                          <p:tgtEl>
                            <p:spTgt spid="518"/>
                          </p:tgtEl>
                        </p:cond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" dur="305664" fill="hold"/>
                                        <p:tgtEl>
                                          <p:spTgt spid="5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Picture 6" descr="6133_ext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520" name="Text Box 7"/>
          <p:cNvSpPr/>
          <p:nvPr/>
        </p:nvSpPr>
        <p:spPr>
          <a:xfrm>
            <a:off x="6588000" y="645336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Река Ле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ток Ангары – озеро Байк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Picture 6" descr="771_b"/>
          <p:cNvPicPr/>
          <p:nvPr/>
        </p:nvPicPr>
        <p:blipFill>
          <a:blip r:embed="rId1"/>
          <a:stretch/>
        </p:blipFill>
        <p:spPr>
          <a:xfrm>
            <a:off x="250920" y="892080"/>
            <a:ext cx="8642160" cy="570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Text Box 23"/>
          <p:cNvSpPr/>
          <p:nvPr/>
        </p:nvSpPr>
        <p:spPr>
          <a:xfrm>
            <a:off x="7164360" y="54338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ДО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24" name="Picture 25" descr="433342"/>
          <p:cNvPicPr/>
          <p:nvPr/>
        </p:nvPicPr>
        <p:blipFill>
          <a:blip r:embed="rId1"/>
          <a:stretch/>
        </p:blipFill>
        <p:spPr>
          <a:xfrm>
            <a:off x="214200" y="0"/>
            <a:ext cx="8569440" cy="6427800"/>
          </a:xfrm>
          <a:prstGeom prst="rect">
            <a:avLst/>
          </a:prstGeom>
          <a:ln w="0">
            <a:noFill/>
          </a:ln>
        </p:spPr>
      </p:pic>
      <p:sp>
        <p:nvSpPr>
          <p:cNvPr id="525" name="Text Box 26"/>
          <p:cNvSpPr/>
          <p:nvPr/>
        </p:nvSpPr>
        <p:spPr>
          <a:xfrm>
            <a:off x="6732720" y="5950080"/>
            <a:ext cx="194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Река До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1T19:41:52Z</dcterms:created>
  <dc:creator>Владелец</dc:creator>
  <dc:description/>
  <dc:language>en-US</dc:language>
  <cp:lastModifiedBy>Natali</cp:lastModifiedBy>
  <dcterms:modified xsi:type="dcterms:W3CDTF">2014-01-29T14:25:38Z</dcterms:modified>
  <cp:revision>57</cp:revision>
  <dc:subject/>
  <dc:title>Внутренние воды России.  Реки.  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