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media/image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A181-C90C-47DC-AB7E-F6929442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4C1E-935F-4D9F-B53D-D575581D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34A5-C9CC-451D-8AD8-0C62FF6CF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8D9D-EEC4-4282-BDDF-C6E055CE0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137B-8F07-41ED-B506-BD994B6C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C04F-2D26-488D-9729-D8EDDFBA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1383-7B49-4FF0-A544-FEAAAFFF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33E8-0CE7-451C-874C-E2F465CA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B2BD-9F3C-483E-9BF2-C42C838B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2525-35FB-45EA-8D46-9F1C0764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F7F1-FE60-4DD8-AA47-C27D047C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EC3C-E054-49A9-BCE0-FA6D59A5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3AA7-C4D9-4A24-978B-4CD85480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92D4-814E-4B71-8B5A-0E50D42F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B4E3-36FC-4D24-99BE-DC1E40CF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FF2F-DECF-49B1-9EE4-B83418EC0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8A86-0BCC-49C0-AE8C-B37BF455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BA786-4814-4D28-9F7C-973849BD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D96CD-2701-4764-A520-4CC2F704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52ED6-608E-4695-8C5B-EF99A919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2B471-23E0-4C47-BF1A-854BB419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C2B52-E95E-4B20-B54B-C36A3376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6605-47E4-4D46-8AB1-F8139114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68C3C-55DD-487A-A03D-8E35FA92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02D75-8B3E-4C1D-BE72-EED71F48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17D6F-7B7A-4061-BA38-02278A21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C686E-3A97-44B9-B5AB-384D416C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C609E-108B-4608-A650-2A9394B4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6243C-FE6A-4D12-A70B-DDE28650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50AB5-A68D-4CEC-8AD3-85CF0ACBC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DAF98-0176-43A6-BE09-63FBCE5A6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39C26-FF1D-411A-B8E6-1DAA7A24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D6152-3229-4375-902C-27DECD93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32B7-7A71-40DC-BB6C-FE8E71DD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AD4EC-E49D-4AED-A638-06D05FC8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6A38C-2C65-4506-8020-2C14004C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47150-D57E-4002-92E2-7E50B188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C957F-5649-4CE3-AAD4-F0052FD5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A776D-EA99-4BC9-BF81-A34694DB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6127D-692B-4B3F-8641-417CB7AA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2CD30-9774-4521-A0FC-F4DD81B1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E868E-EE07-4F0F-A0AC-BF7FBAA5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95687-7F89-40DC-B01C-2793736EA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C1485E-D9ED-4880-A67B-C102027B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C89A-7E03-402F-BDA4-D4554CF2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486142-925B-47AB-8BE6-BC5CC0F3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079954-103C-41AF-AD9D-A806AE05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F46CBE-F62D-41AE-B732-4E4EF706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9AF360-F829-4D9E-A6D3-6C9B6868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708E12-C6E9-4402-BAB7-8ECE67B3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D6FE85-6C2A-4441-AB14-EEB87AEA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9D758A-F20E-42BB-B539-D7901F9A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DCEC98-F36C-4E82-A8EC-E9A39B3C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FA26BD-948F-4F9A-8C4C-7DAB9395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180C36-4900-404B-B721-CDF07392A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14E6-2FEB-40DF-AB9A-458BE778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954EFF-20AD-4B2A-8DAA-A6C4BB1D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8DDE3-4D55-4F89-818A-E5B07E15F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5D96E-ABA4-4AB5-82AE-A2A98D98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94782-3959-47CF-9D0B-854BEDEA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6B42C-D87A-4C3C-8625-674848C3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E7D69-3629-49BC-ACB7-344713CF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93DC4-CED8-4D75-94A3-F48181EC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0A446-F679-4811-9338-8C5C737E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620B5-96FC-4E2B-B872-87D170CA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D9BDF-77A9-44C4-BF20-5FB2870E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9143-AB99-47C0-8B27-36FA6E47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2C49C-700C-4242-89EB-DC055FFC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E8A9B-A5FF-471F-A3D8-77F775F07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C01F0-2A2D-4B51-8BA6-A3208A7B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C0930-9DEE-4F01-8B29-D4AB768A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C3516-DC2B-41DC-A945-420FFECA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70D93-FA75-4BD8-8EE6-9B56DDBB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8AC8B-9439-42C2-95BC-E46F15C0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75464-206E-49A3-987C-21969D5D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5070E-ADBF-403D-B631-EAFEB218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74A35-2AD1-40AF-A4AF-455D4250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CCD7-527E-4BAC-94EB-0438BF0A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D68B0-9084-45BF-9516-84622739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51A0D-654E-470C-ACE6-C1082B37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5E820-4A1E-4F52-A0D3-BA48B070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BE526-5492-4D74-88F0-3E09BA5D1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A15D3-BEFB-479E-B60E-9D7A54FAD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9C02-9593-4FB3-A491-33DF640A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CC75-CD32-48D5-9460-E7AF3B4A51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16B7-E0A0-43FE-B0C9-7B0568F9DF3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80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7819-18EA-4B24-BCA0-3ED5333BBB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7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7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7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8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8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0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2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2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22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3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1008-5D1F-4937-A7C1-930B984697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D991-359A-4BBD-813A-6FC31D7F0C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1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1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2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2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32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32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3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33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3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2817-C0C4-4A97-A299-53AA966DB33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8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8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8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9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9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1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1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3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3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44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4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A633-8C89-4A37-B037-362AA440645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17.xm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996560"/>
            <a:ext cx="8458200" cy="4527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Century"/>
              </a:rPr>
              <a:t>Внутренние воды России.</a:t>
            </a: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ffffff"/>
                </a:solidFill>
                <a:latin typeface="Century"/>
              </a:rPr>
              <a:t>Реки.</a:t>
            </a:r>
            <a:br>
              <a:rPr sz="4800"/>
            </a:br>
            <a:r>
              <a:rPr b="1" i="1" lang="ru-RU" sz="4800" spc="-1" strike="noStrike">
                <a:solidFill>
                  <a:srgbClr val="ffffff"/>
                </a:solidFill>
                <a:latin typeface="Century"/>
              </a:rPr>
              <a:t> 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7" name="Picture 6" descr="0_2e89_994e0cfe_L"/>
          <p:cNvPicPr/>
          <p:nvPr/>
        </p:nvPicPr>
        <p:blipFill>
          <a:blip r:embed="rId1"/>
          <a:stretch/>
        </p:blipFill>
        <p:spPr>
          <a:xfrm>
            <a:off x="-642960" y="0"/>
            <a:ext cx="10296720" cy="723888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7"/>
          <p:cNvSpPr/>
          <p:nvPr/>
        </p:nvSpPr>
        <p:spPr>
          <a:xfrm>
            <a:off x="0" y="765000"/>
            <a:ext cx="8820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 Antiqua"/>
              </a:rPr>
              <a:t>Внутренние воды Росси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 Antiqua"/>
              </a:rPr>
              <a:t>Рек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9" name="Течет река Волга.....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05664" fill="hold"/>
                                        <p:tgtEl>
                                          <p:spTgt spid="4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ivaldi"/>
              </a:rPr>
              <a:t>Моря и бассейны океан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9" descr="Заключение  ГПН2070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10"/>
          <p:cNvSpPr/>
          <p:nvPr/>
        </p:nvSpPr>
        <p:spPr>
          <a:xfrm>
            <a:off x="4788000" y="30686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65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Text Box 12"/>
          <p:cNvSpPr/>
          <p:nvPr/>
        </p:nvSpPr>
        <p:spPr>
          <a:xfrm>
            <a:off x="6732720" y="4437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Text Box 13"/>
          <p:cNvSpPr/>
          <p:nvPr/>
        </p:nvSpPr>
        <p:spPr>
          <a:xfrm>
            <a:off x="1692360" y="33577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Text Box 14"/>
          <p:cNvSpPr/>
          <p:nvPr/>
        </p:nvSpPr>
        <p:spPr>
          <a:xfrm>
            <a:off x="395280" y="3573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5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И РЕ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6" descr="Безымянный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7"/>
          <p:cNvSpPr/>
          <p:nvPr/>
        </p:nvSpPr>
        <p:spPr>
          <a:xfrm>
            <a:off x="1547640" y="1125360"/>
            <a:ext cx="15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ЗЕР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7035840" y="1258920"/>
            <a:ext cx="113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Text Box 9"/>
          <p:cNvSpPr/>
          <p:nvPr/>
        </p:nvSpPr>
        <p:spPr>
          <a:xfrm>
            <a:off x="7236000" y="13413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ГОР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1835280" y="465300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ГЛАВНОЕ РУСЛ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Text Box 11"/>
          <p:cNvSpPr/>
          <p:nvPr/>
        </p:nvSpPr>
        <p:spPr>
          <a:xfrm>
            <a:off x="539640" y="23493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ИСТО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Text Box 12"/>
          <p:cNvSpPr/>
          <p:nvPr/>
        </p:nvSpPr>
        <p:spPr>
          <a:xfrm>
            <a:off x="6012000" y="49417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УСТЬ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Text Box 13"/>
          <p:cNvSpPr/>
          <p:nvPr/>
        </p:nvSpPr>
        <p:spPr>
          <a:xfrm>
            <a:off x="6516720" y="28526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РИТО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Горная река                    Равнинная р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7" descr="018085B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250920" y="1484280"/>
            <a:ext cx="3760560" cy="464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43" name="Picture 28" descr="0_2e88_ac339f1f_L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643280" y="1557360"/>
            <a:ext cx="4176720" cy="460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5" descr="018086B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476360" y="0"/>
            <a:ext cx="6191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C:\Users\User\Documents\gornaya_reka-3553.jpg"/>
          <p:cNvPicPr/>
          <p:nvPr/>
        </p:nvPicPr>
        <p:blipFill>
          <a:blip r:embed="rId1"/>
          <a:stretch/>
        </p:blipFill>
        <p:spPr>
          <a:xfrm>
            <a:off x="214200" y="647640"/>
            <a:ext cx="871560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C:\Users\User\Documents\sredi_snega-3585.jpg"/>
          <p:cNvPicPr/>
          <p:nvPr/>
        </p:nvPicPr>
        <p:blipFill>
          <a:blip r:embed="rId1"/>
          <a:stretch/>
        </p:blipFill>
        <p:spPr>
          <a:xfrm>
            <a:off x="928800" y="357120"/>
            <a:ext cx="735804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Рисунок 1" descr="reka_i_eli-3579.jpg"/>
          <p:cNvPicPr/>
          <p:nvPr/>
        </p:nvPicPr>
        <p:blipFill>
          <a:blip r:embed="rId1"/>
          <a:stretch/>
        </p:blipFill>
        <p:spPr>
          <a:xfrm>
            <a:off x="714240" y="642960"/>
            <a:ext cx="77868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8642520" cy="201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ПАДЕНИЕ 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– это разница высот между истоком и устьем. (в метрах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Н = Н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 – Н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д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абсолютная высота исток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абсолютная высота усть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91440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 зада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пределить падение реки Волг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сток – Валдайская возвышенность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≈ 300м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стье – Каспийское море = (-28м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00 – (-28) = 328(м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адение реки Волги  328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 зад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ределить падение реки Ангар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озеро Байкал = 456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– река Енисей = 76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56 – 76 = 380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адение реки Ангара 380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Organization Chart 83"/>
          <p:cNvGrpSpPr/>
          <p:nvPr/>
        </p:nvGrpSpPr>
        <p:grpSpPr>
          <a:xfrm>
            <a:off x="395280" y="333360"/>
            <a:ext cx="8208000" cy="6119640"/>
            <a:chOff x="395280" y="333360"/>
            <a:chExt cx="8208000" cy="6119640"/>
          </a:xfrm>
        </p:grpSpPr>
        <p:cxnSp>
          <p:nvCxnSpPr>
            <p:cNvPr id="491" name="_s1028"/>
            <p:cNvCxnSpPr>
              <a:stCxn id="492" idx="1"/>
              <a:endCxn id="493" idx="2"/>
            </p:cNvCxnSpPr>
            <p:nvPr/>
          </p:nvCxnSpPr>
          <p:spPr>
            <a:xfrm rot="10800000">
              <a:off x="2856960" y="803520"/>
              <a:ext cx="821520" cy="25916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94" name="_s1029"/>
            <p:cNvCxnSpPr>
              <a:stCxn id="495" idx="1"/>
              <a:endCxn id="493" idx="2"/>
            </p:cNvCxnSpPr>
            <p:nvPr/>
          </p:nvCxnSpPr>
          <p:spPr>
            <a:xfrm rot="10800000">
              <a:off x="2856960" y="803520"/>
              <a:ext cx="821520" cy="329868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96" name="_s1030"/>
            <p:cNvCxnSpPr>
              <a:stCxn id="497" idx="1"/>
              <a:endCxn id="493" idx="2"/>
            </p:cNvCxnSpPr>
            <p:nvPr/>
          </p:nvCxnSpPr>
          <p:spPr>
            <a:xfrm rot="10800000">
              <a:off x="2856960" y="803520"/>
              <a:ext cx="821520" cy="40039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98" name="_s1031"/>
            <p:cNvCxnSpPr>
              <a:stCxn id="499" idx="1"/>
              <a:endCxn id="493" idx="2"/>
            </p:cNvCxnSpPr>
            <p:nvPr/>
          </p:nvCxnSpPr>
          <p:spPr>
            <a:xfrm rot="10800000">
              <a:off x="2856960" y="803520"/>
              <a:ext cx="821520" cy="47084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500" name="_s1032"/>
            <p:cNvCxnSpPr>
              <a:stCxn id="501" idx="1"/>
              <a:endCxn id="493" idx="2"/>
            </p:cNvCxnSpPr>
            <p:nvPr/>
          </p:nvCxnSpPr>
          <p:spPr>
            <a:xfrm rot="10800000">
              <a:off x="2856960" y="803520"/>
              <a:ext cx="821520" cy="541368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502" name="_s1033"/>
            <p:cNvCxnSpPr>
              <a:stCxn id="503" idx="1"/>
              <a:endCxn id="493" idx="2"/>
            </p:cNvCxnSpPr>
            <p:nvPr/>
          </p:nvCxnSpPr>
          <p:spPr>
            <a:xfrm rot="10800000">
              <a:off x="2856960" y="803520"/>
              <a:ext cx="821520" cy="188496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504" name="_s1034"/>
            <p:cNvCxnSpPr>
              <a:stCxn id="505" idx="1"/>
              <a:endCxn id="493" idx="2"/>
            </p:cNvCxnSpPr>
            <p:nvPr/>
          </p:nvCxnSpPr>
          <p:spPr>
            <a:xfrm rot="10800000">
              <a:off x="2856960" y="803520"/>
              <a:ext cx="821520" cy="117828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506" name="_s1035"/>
            <p:cNvCxnSpPr>
              <a:stCxn id="507" idx="1"/>
              <a:endCxn id="493" idx="2"/>
            </p:cNvCxnSpPr>
            <p:nvPr/>
          </p:nvCxnSpPr>
          <p:spPr>
            <a:xfrm rot="10800000">
              <a:off x="2856960" y="803520"/>
              <a:ext cx="821520" cy="4716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493" name="_s1036"/>
            <p:cNvSpPr/>
            <p:nvPr/>
          </p:nvSpPr>
          <p:spPr>
            <a:xfrm>
              <a:off x="395280" y="333360"/>
              <a:ext cx="4924800" cy="470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9999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ahoma"/>
                </a:rPr>
                <a:t>Внутренние воды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_s1037"/>
            <p:cNvSpPr/>
            <p:nvPr/>
          </p:nvSpPr>
          <p:spPr>
            <a:xfrm>
              <a:off x="3678480" y="1040040"/>
              <a:ext cx="4924800" cy="470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ahoma"/>
                </a:rPr>
                <a:t>Реки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_s1038"/>
            <p:cNvSpPr/>
            <p:nvPr/>
          </p:nvSpPr>
          <p:spPr>
            <a:xfrm>
              <a:off x="3678480" y="1746720"/>
              <a:ext cx="4924800" cy="470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ahoma"/>
                </a:rPr>
                <a:t>Озера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_s1039"/>
            <p:cNvSpPr/>
            <p:nvPr/>
          </p:nvSpPr>
          <p:spPr>
            <a:xfrm>
              <a:off x="3678480" y="2453400"/>
              <a:ext cx="4924800" cy="4708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ahoma"/>
                </a:rPr>
                <a:t>Болота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1" name="_s1040"/>
            <p:cNvSpPr/>
            <p:nvPr/>
          </p:nvSpPr>
          <p:spPr>
            <a:xfrm>
              <a:off x="3678480" y="5982120"/>
              <a:ext cx="4924800" cy="4708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ahoma"/>
                </a:rPr>
                <a:t>Каналы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9" name="_s1041"/>
            <p:cNvSpPr/>
            <p:nvPr/>
          </p:nvSpPr>
          <p:spPr>
            <a:xfrm>
              <a:off x="3678480" y="5276880"/>
              <a:ext cx="4924800" cy="4694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ahoma"/>
                </a:rPr>
                <a:t>Пруды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7" name="_s1042"/>
            <p:cNvSpPr/>
            <p:nvPr/>
          </p:nvSpPr>
          <p:spPr>
            <a:xfrm>
              <a:off x="3678480" y="4572000"/>
              <a:ext cx="4924800" cy="469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ahoma"/>
                </a:rPr>
                <a:t>Водохранилища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5" name="_s1043"/>
            <p:cNvSpPr/>
            <p:nvPr/>
          </p:nvSpPr>
          <p:spPr>
            <a:xfrm>
              <a:off x="3678480" y="3865320"/>
              <a:ext cx="4924800" cy="4708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ahoma"/>
                </a:rPr>
                <a:t>Подземные воды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_s1044"/>
            <p:cNvSpPr/>
            <p:nvPr/>
          </p:nvSpPr>
          <p:spPr>
            <a:xfrm>
              <a:off x="3678480" y="3160080"/>
              <a:ext cx="4924800" cy="4694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ahoma"/>
                </a:rPr>
                <a:t>Ледники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 зад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ределить падение реки Нев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ше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Ладожское озеро = 4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Финский залив = 0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 – 0 = 4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адение реки Нева 4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УКЛОН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– 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отношение падения реки (в см.) к ее длине (в км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I = H 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 гд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– уклон реки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- падение реки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– длина ре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 зада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ределить уклон реки Волг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= 328м = 32800с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= 3531к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= 32800 : 3531 = 9 см/к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клон реки равен 9см/к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 зад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ределить уклон Ангар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 = 380м = 38000с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826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= 38000 : 1826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≈ 21 см/к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Уклон Ангары -  21см/к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 зад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ределить уклон реки Нев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 = 4м =400с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 74к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= 400 : 74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≈ 5 см/к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Уклон Невы 5см/к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2" descr="C:\Users\User\Desktop\VolkhovRiver.jpg"/>
          <p:cNvPicPr/>
          <p:nvPr/>
        </p:nvPicPr>
        <p:blipFill>
          <a:blip r:embed="rId2"/>
          <a:stretch/>
        </p:blipFill>
        <p:spPr>
          <a:xfrm>
            <a:off x="-1785960" y="-343080"/>
            <a:ext cx="12715920" cy="955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2" descr="C:\Users\User\Desktop\71321-84.JPG"/>
          <p:cNvPicPr/>
          <p:nvPr/>
        </p:nvPicPr>
        <p:blipFill>
          <a:blip r:embed="rId2"/>
          <a:stretch/>
        </p:blipFill>
        <p:spPr>
          <a:xfrm>
            <a:off x="-1500120" y="-1071720"/>
            <a:ext cx="10858320" cy="9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1)Составь пары: река- прито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олг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нис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Ле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мур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ргун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ртыш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лда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нга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 какой реке стоит город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алехард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раснодар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Якутс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рхангельс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страхан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расноярс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рьян-Мар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ркутс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ск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анкт-Петербур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нести на к/к крупные ре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обрать загадки, пословицы, поговорки о рек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2" name="Течет река Волга......mp3" descr=""/>
          <p:cNvPicPr/>
          <p:nvPr/>
        </p:nvPicPr>
        <p:blipFill>
          <a:blip r:embed="rId1"/>
          <a:stretch/>
        </p:blipFill>
        <p:spPr>
          <a:xfrm>
            <a:off x="7858080" y="59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restart="whenNotActive" nodeType="interactiveSeq" fill="hold">
                <p:stCondLst>
                  <p:cond evt="onClick">
                    <p:tgtEl>
                      <p:spTgt spid="572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572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305664" fill="hold"/>
                                        <p:tgtEl>
                                          <p:spTgt spid="5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язь внутренних вод с другими компонентами прир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9" name="Object 7"/>
          <p:cNvGraphicFramePr/>
          <p:nvPr/>
        </p:nvGraphicFramePr>
        <p:xfrm>
          <a:off x="324000" y="907920"/>
          <a:ext cx="8820000" cy="547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07920"/>
                    <a:ext cx="882000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к Вол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7" descr="Foto4990"/>
          <p:cNvPicPr/>
          <p:nvPr/>
        </p:nvPicPr>
        <p:blipFill>
          <a:blip r:embed="rId1"/>
          <a:stretch/>
        </p:blipFill>
        <p:spPr>
          <a:xfrm>
            <a:off x="250920" y="765000"/>
            <a:ext cx="8642160" cy="598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Arial"/>
              </a:rPr>
              <a:t>ВОЛ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2" descr="C:\Users\User\Documents\картинки Волги\Волга.jpg"/>
          <p:cNvPicPr/>
          <p:nvPr/>
        </p:nvPicPr>
        <p:blipFill>
          <a:blip r:embed="rId1"/>
          <a:stretch/>
        </p:blipFill>
        <p:spPr>
          <a:xfrm>
            <a:off x="500040" y="1108080"/>
            <a:ext cx="835812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Arial"/>
              </a:rPr>
              <a:t>ВОЛ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2" descr="C:\Users\User\Documents\картинки Волги\Волга1.jpeg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518" name="Течет река Волга......mp3" descr=""/>
          <p:cNvPicPr/>
          <p:nvPr/>
        </p:nvPicPr>
        <p:blipFill>
          <a:blip r:embed="rId2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305664" fill="hold"/>
                                        <p:tgtEl>
                                          <p:spTgt spid="5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6" descr="6133_ext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7"/>
          <p:cNvSpPr/>
          <p:nvPr/>
        </p:nvSpPr>
        <p:spPr>
          <a:xfrm>
            <a:off x="6588000" y="6453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ка Ле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к Ангары – озеро Байк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6" descr="771_b"/>
          <p:cNvPicPr/>
          <p:nvPr/>
        </p:nvPicPr>
        <p:blipFill>
          <a:blip r:embed="rId1"/>
          <a:stretch/>
        </p:blipFill>
        <p:spPr>
          <a:xfrm>
            <a:off x="250920" y="892080"/>
            <a:ext cx="864216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23"/>
          <p:cNvSpPr/>
          <p:nvPr/>
        </p:nvSpPr>
        <p:spPr>
          <a:xfrm>
            <a:off x="7164360" y="54338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4" name="Picture 25" descr="433342"/>
          <p:cNvPicPr/>
          <p:nvPr/>
        </p:nvPicPr>
        <p:blipFill>
          <a:blip r:embed="rId1"/>
          <a:stretch/>
        </p:blipFill>
        <p:spPr>
          <a:xfrm>
            <a:off x="214200" y="0"/>
            <a:ext cx="8569440" cy="642780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26"/>
          <p:cNvSpPr/>
          <p:nvPr/>
        </p:nvSpPr>
        <p:spPr>
          <a:xfrm>
            <a:off x="6732720" y="595008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ка Д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9:41:52Z</dcterms:created>
  <dc:creator>Владелец</dc:creator>
  <dc:description/>
  <dc:language>en-US</dc:language>
  <cp:lastModifiedBy>Natali</cp:lastModifiedBy>
  <dcterms:modified xsi:type="dcterms:W3CDTF">2014-01-29T14:25:38Z</dcterms:modified>
  <cp:revision>57</cp:revision>
  <dc:subject/>
  <dc:title>Внутренние воды России.  Реки.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