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36FA-518A-4FC5-9E0D-12216B5AC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D543-50EC-464B-B2B8-17D5E248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8B12-98C2-43B3-9C93-8A10CC63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2E03-FCCD-4C6D-8CC2-F509B4916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E7BF-1662-4C1E-ACD8-D09C2ECB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404B-3740-48DA-84EE-2A3FA81D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C238-0722-4873-9C07-69473CFD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425A-62B3-4569-83B5-790BB0A5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7851-B87B-4D92-94FD-30B1F783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B1B4-0E10-431B-A30C-BE9B5DAA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72B4-3D1B-46DD-9F70-15F93772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A4C4-1517-4794-B610-3F4CC0D0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BC1E-B716-4A61-B1EA-A864AD6322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692280"/>
            <a:ext cx="65944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.Д. Шостако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43"/>
          <p:cNvSpPr/>
          <p:nvPr/>
        </p:nvSpPr>
        <p:spPr>
          <a:xfrm>
            <a:off x="250920" y="3213000"/>
            <a:ext cx="504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мфония №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03640" y="1962000"/>
            <a:ext cx="374364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788000" y="3500280"/>
            <a:ext cx="4078080" cy="20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дат Николай Савков артиллерист 42 армии написал стихотворение во время секретной операции "шквал" 9 августа 1942 года посвящённый премьере 7 симфонии и самой секретной операции.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4968720" cy="49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вятое августа сорок второго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лощадь искусств, филармонии зал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юди города, фронта, симфонии строгой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рдцем слушают звуки, прикрыв глаз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залось на миг им, безоблачным небо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друг - в симфонию звуки грозы ворвались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сразу лица, полные гнев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альцы до боли, в кресла впились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 зале колонны, как жерла пушек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целились в чёрную глубину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мфонию мужества, город слушал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быв о войне, и вспомнив войну..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не знали они, что, когда в знак начал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рижерская палочка поднялась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д городом фронтом, как гром величаво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ругая симфония раздалась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мфония наших гвардейских пушек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б враг по городу бить не стал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б город седьмую симфонию слушал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 зале шквал, и по фронту шквал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когда разошлись по квартирам люди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ны высоких и гордых чувств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йцы опустили стволы орудий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щитив от обстрела площадь Искусств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59280" y="620640"/>
            <a:ext cx="331164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53308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ервые недели Великой отечественной войны, которую Шостакович встретил в своём родном городе — Ленинграде, он начал писать Седьму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мфонию, ставшую одним из важнейших его произведени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2491920"/>
            <a:ext cx="55800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месте с другими ленинградцами Дмитрий Дмитриевич участвовал в обороне город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64000" y="3213000"/>
            <a:ext cx="3438720" cy="2262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332000" y="3573360"/>
            <a:ext cx="367344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684360" y="486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8920" y="404280"/>
            <a:ext cx="82803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говорил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Нашей победе над фашизмом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шей грядущей победе над врагом, моему любимому городу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Ленинград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свящаю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ю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едьмую симфонию»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932360" y="3357720"/>
            <a:ext cx="3708360" cy="2781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95280" y="2852640"/>
            <a:ext cx="445284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732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43588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ромным событием, наполнивших ленинградцев гордостью, было исполнение в блокадном Ленинграде Седьмой симфонии Шостаковича. Это было 9 августа 1942 года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14560" y="2420640"/>
            <a:ext cx="532908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андующий Ленинградским фронтом генерал-лейтенант Говоров обеспечил на несколько часов тишину в городе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ция под кодовым названием "Шквал" вывела на необходимое время из строя вражескую артиллерию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356400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узык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Шостакови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84000" y="1483920"/>
            <a:ext cx="52563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наменитая ленинградка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творившись нотной тетрадкой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озвращалась в родной эфир, -писала об этом событии Ахматова.</a:t>
            </a:r>
            <a:br>
              <a:rPr sz="1800"/>
            </a:b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ещь гениальная, Шостакович - гений, и наша эпоха, конечно, будет именоваться эпохой Шостакович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2333880" cy="3814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547640" y="5589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516720" y="4005360"/>
            <a:ext cx="22701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47145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na</cp:lastModifiedBy>
  <dcterms:modified xsi:type="dcterms:W3CDTF">2014-01-22T17:32:26Z</dcterms:modified>
  <cp:revision>583</cp:revision>
  <dc:subject/>
  <dc:title>Diapositiva 1</dc:title>
</cp:coreProperties>
</file>