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D81-85A4-46A8-A488-664CDB40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F94-AAC5-433A-880F-789F309F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95A-4CCB-496C-9CF5-1725501D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6D2-A565-4D0D-8643-01DF1695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5DB-8E5E-435D-9B10-5F8B2662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B84-89A5-45E9-895A-C07B959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0A5-C988-4A1C-9677-089C551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16C-384F-41D7-AEBE-F8D01A9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8CD-73DA-4B19-85DF-05AAAF8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DB7-1B25-4C73-8D6A-74681D7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478-35AA-4827-8499-CA21642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6D3-863A-447E-AA2B-925F864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09C-5897-4B50-A708-D4FF63700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5944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Д. Шоста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3"/>
          <p:cNvSpPr/>
          <p:nvPr/>
        </p:nvSpPr>
        <p:spPr>
          <a:xfrm>
            <a:off x="250920" y="3213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фония №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962000"/>
            <a:ext cx="37436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3500280"/>
            <a:ext cx="407808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 Николай Савков артиллерист 42 армии написал стихотворение во время секретной операции "шквал" 9 августа 1942 года посвящённый премьере 7 симфонии и самой секретной операции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96872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ятое августа сорок второг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щадь искусств, филармонии з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и города, фронта, симфонии строг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дцем слушают звуки, прикрыв глаз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лось на миг им, безоблачным неб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руг - в симфонию звуки грозы ворвалис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разу лица, полные гне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альцы до боли, в кресла впилис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зале колонны, как жерла пуш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елились в чёрную глуби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фонию мужества, город слу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ыв о войне, и вспомнив войну..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 знали они, что, когда в знак начал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ижерская палочка поднялас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городом фронтом, как гром величав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ая симфония раздалас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фония наших гвардейских пуш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враг по городу бить не ст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город седьмую симфонию слу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зале шквал, и по фронту шкв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огда разошлись по квартирам люд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ы высоких и гордых чувст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йцы опустили стволы оруди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ив от обстрела площадь Искусств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33116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33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ые недели Великой отечественной войны, которую Шостакович встретил в своём родном городе — Ленинграде, он начал писать Седьм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фонию, ставшую одним из важнейших его произведен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558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ругими ленинградцами Дмитрий Дмитриевич участвовал в обороне город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438720" cy="22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36734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84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говорил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ашей победе над фашизм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шей грядущей победе над врагом, моему любимому город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енингра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вяща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дьмую симфонию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335772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4528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3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омным событием, наполнивших ленинградцев гордостью, было исполнение в блокадном Ленинграде Седьмой симфонии Шостаковича. Это было 9 августа 1942 года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14560" y="2420640"/>
            <a:ext cx="53290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ующий Ленинградским фронтом генерал-лейтенант Говоров обеспечил на несколько часов тишину в город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я под кодовым названием "Шквал" вывела на необходимое время из строя вражескую артиллери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564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Шостак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84000" y="1483920"/>
            <a:ext cx="525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менитая ленинград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творившись нотной тетрадк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вращалась в родной эфир, -писала об этом событии Ахматова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щь гениальная, Шостакович - гений, и наша эпоха, конечно, будет именоваться эпохой Шостакови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333880" cy="381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270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71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na</cp:lastModifiedBy>
  <dcterms:modified xsi:type="dcterms:W3CDTF">2014-01-22T17:32:26Z</dcterms:modified>
  <cp:revision>583</cp:revision>
  <dc:subject/>
  <dc:title>Diapositiva 1</dc:title>
</cp:coreProperties>
</file>