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media/image13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B457-70B9-4CD4-9B95-516CD95818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Лях; А.А.Зданевич -  ФИЗИЧЕСКАЯ КУЛЬТУРА  ДЛЯ 10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ы - Физическая культура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DFB5-16A9-4816-8959-59611235AC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Лях; А.А.Зданевич -  ФИЗИЧЕСКАЯ КУЛЬТУРА  ДЛЯ 10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ы - Физическая культура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6F1B-F5BD-485A-B85F-7FD7EC6F74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Лях; А.А.Зданевич -  ФИЗИЧЕСКАЯ КУЛЬТУРА  ДЛЯ 10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ы - Физическая культура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DD94-B318-477A-AE92-229991450C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457-4EC9-453D-906E-82FBB603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EDCD-1648-4859-83A3-C26C93D9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7F659-913A-42B9-8F97-7FC8B74C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CD2C2-7DC3-4C79-B4D6-225BB984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5270A-271F-44A1-8C59-E15715D0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B8ADB-216B-437A-A4A7-46ACE6DD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5473D-2B7E-4904-A1DE-3B4EC855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B1D56-8F00-45BF-A6CC-41F37A08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8E1E4-3704-4055-A7D5-B5E3EB51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C2F0A-DFCB-4A1E-B337-FE5F94CD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96809-F5DC-4A56-B3E8-1E5E5964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80D-E432-418A-9AB5-9D799415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82A-14C0-4679-B04C-492143F1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8B28-0AF1-4050-9AE8-1ED263AB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E9F0-5BE3-40E6-9C57-FB95A5F6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F8B4-2717-4704-B37E-2A176E2F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63CB-ACAF-4A98-8890-9AC57621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5577-0F2F-4B63-AA1C-2F21387B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B034-5BDC-45C1-A80A-048BA9CF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8844-330A-480A-9B09-E0F8CBAB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F1D8-33D6-4A20-A762-9BD2CD52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E607-B910-4253-9786-8BD70ED3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FF3C-019F-479E-9B13-14FB4692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5305-FE1F-4FC6-8DFB-5EC2B875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EACA-A828-4F8D-8FCA-A5F7B71E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31D2-07A8-4645-A13E-5A65DB38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49ADA-5A53-4F64-8158-BFA1ED7E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A7083-F61E-4A2E-928C-4D66D8EA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46312-318E-4824-8958-3585C71D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9879D-B91E-42C1-852F-5816E931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6639B-B6E9-42A9-B9D8-9917EEAA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05AD-E906-49D1-8613-42BF45F4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B8C9F-93B4-4850-A4E2-3A6EEF90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AFA3D-643E-4B0B-8032-111C4F26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2376-C4B0-4562-8337-792C2E87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3361D-7EDF-4446-B101-0F4B8DA7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80F80-BE94-4A85-9E81-51E297D8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9B9C5-F8A3-4E11-B6BF-14DD9922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FB837-0031-4663-A380-B841DB66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4FC45-5043-488F-A117-619E67ED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B6312-A3AD-4C78-9742-5636D6F0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3AA7D-2026-41D8-8156-29649994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1F7E-C8AA-4531-B613-EF862BE8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FF611-339F-41A7-81C0-17140C69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A67DB-F941-4538-94C8-3236911C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820E5-E5C9-4ED6-B20A-DF91AF02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00466-B95D-44F7-B547-7081B056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37852-46CE-46CF-8768-8C436BE8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4267E-C0CE-4248-BB0B-BBA86365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B882A-66F9-4035-9220-DADEA6FA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F2EA8-65A7-4AF4-9824-012A60A8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C9CBC-BB96-4B7D-90A6-833339B8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ECD3F-1203-4EC0-AE52-A5F2B5F4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E25-AB8D-470B-B88E-C448C1A1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D77C8-7418-4DE0-97FD-BA234059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90557-3FDC-4083-ADF7-3DCD7D8E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CB1FE-3BEB-454B-ACCA-E24AD0DB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966B3-4791-46B6-A6D4-4A853E09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27660-5E98-4D5E-BFA7-58FD5EA3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57B4D-CC2F-448E-AF95-1E297E39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85AB9-9F28-499A-A9F8-34F77B18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58736-6E08-4015-BB2D-8022E317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E8214-E9CD-472F-AD5A-02BE6FD3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AE1CD-DCDF-4441-8B13-28219FCD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786F-C4D7-4344-9542-DD70ED34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51B27-38D3-4DE5-BDBE-E9860422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1D90E-A3FF-4BBC-BC97-1BE41CC4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41A4E-CE2E-445F-9D36-F1B283D2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D0A0B-8303-4460-8C1E-0882D4F2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CE033-5C46-4C2C-8480-555DD27E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38151-22F7-488C-BF06-1600F66B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B2C51-FB28-472B-80F0-3B66ADBC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95828-1C61-42B3-99A6-F3070EED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BE39A-F7F5-40D4-BEF0-DDAF888A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D7F42-208C-4150-80B5-E106D696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66A-7DD3-4C0B-BB4A-527F8964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FD3D6-B141-4991-B0DA-10090BD5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63C40-2426-4B1D-913F-32D1794C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12C96-3592-4BA8-AC3A-75A36EAB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EA5CD-AE92-4EB2-8354-9C7855FC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F9817-0E5C-4DE3-87CB-9A009E29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852AA-A353-47A9-BBE2-9D3FE187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5DACB-B539-48D6-BB26-B0B265A4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47823-B59D-4FF3-8D28-D2DEA7FD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FA940-C58C-4BF1-93FB-CD71C402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1D211-FEAE-4143-B902-1B1AC9DF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5460-873B-4E23-ADED-3E210606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4E8FC-59A1-4BFF-B240-9EFA74BC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720C1-89AB-465E-8FCD-FC417F3A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703E5-71DD-4610-AAC7-4B35F106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4E678-653E-415F-9C53-A7C7FDC1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540FA-45B0-47E5-9F88-A39BD708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4532C-79D6-4701-BA02-BF4B66EA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F5A4D-4F09-47DF-A3CE-829F3E18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5EB2A-C030-4262-8E07-BE5D8035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A9470-6F52-406A-8738-5FB1AD71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F17AE-E901-4BEE-971D-4D57C514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17B8-224A-42B6-BCA5-40858171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E5DF0-D25D-4100-B2FD-12498B41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4E5CA-0156-4A27-9FA9-CD4E7141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42BF2-3ED6-4784-A948-FA38773D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40780-7778-44D7-9428-5C122607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D5581-B4E5-44A7-B134-52F8440E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4DF0B-1066-4ECA-906C-A3AA6512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D0181-1318-477C-BA4F-6DD3B1AA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EBACF-16E5-4324-9F8D-968794DC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5B4E1-CF6B-4866-87F9-7E1A1A8F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E4DD2-DC10-4E6B-9F6C-A2B1CC5B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2845-A9E4-4F7B-ACF5-1C5C97012FEF}" type="datetime">
              <a:rPr b="0" lang="ru-RU" sz="1200" spc="-1" strike="noStrike">
                <a:solidFill>
                  <a:srgbClr val="d38e27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B3E0-37C9-4F4A-966F-54F1953D192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7C57-7F6C-4C84-ACCE-F324D7B08749}" type="datetime">
              <a:rPr b="0" lang="ru-RU" sz="1200" spc="-1" strike="noStrike">
                <a:solidFill>
                  <a:srgbClr val="d38e27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CC64-60AE-4BEC-A122-CEF12358FA6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BF26-1D10-476F-96B7-01E2EBD42F24}" type="datetime">
              <a:rPr b="0" lang="ru-RU" sz="1200" spc="-1" strike="noStrike">
                <a:solidFill>
                  <a:srgbClr val="d38e27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6537-C1FE-4F0C-AFC6-A50543D44D7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BA52-FD94-4B7E-8E23-13F137628446}" type="datetime">
              <a:rPr b="0" lang="ru-RU" sz="1200" spc="-1" strike="noStrike">
                <a:solidFill>
                  <a:srgbClr val="d38e27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AF6B-69AC-459D-B173-AAA4DD7B549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A55E-7AE0-4C1A-8A5E-354065C7D5E4}" type="datetime">
              <a:rPr b="0" lang="ru-RU" sz="1200" spc="-1" strike="noStrike">
                <a:solidFill>
                  <a:srgbClr val="d38e27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1387-B159-4B3F-969D-802C19FA7AB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F68A-0686-4CF9-8B01-8ED796F5ACD5}" type="datetime">
              <a:rPr b="0" lang="ru-RU" sz="1200" spc="-1" strike="noStrike">
                <a:solidFill>
                  <a:srgbClr val="d38e27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C796-FD26-4DA3-9A9F-0200219DD998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7F3B-50E9-4D17-B1B6-5530E0D98344}" type="datetime">
              <a:rPr b="0" lang="ru-RU" sz="1200" spc="-1" strike="noStrike">
                <a:solidFill>
                  <a:srgbClr val="d38e27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0BF5-3EDF-456C-A341-63A64D28ECB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51FB-3F8B-4BF0-8DEE-29A7BFBE3197}" type="datetime">
              <a:rPr b="0" lang="ru-RU" sz="1200" spc="-1" strike="noStrike">
                <a:solidFill>
                  <a:srgbClr val="d38e27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2261-BD6D-4BF4-928E-7D89B782022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EE1B-230D-469F-8A41-01648DE90323}" type="datetime">
              <a:rPr b="0" lang="ru-RU" sz="1200" spc="-1" strike="noStrike">
                <a:solidFill>
                  <a:srgbClr val="d38e27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F706-868C-4FBD-B34D-7494A0766FD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dtl-spb.ru/pictures/osport/atlet/osport_atlet4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school16.edu.tomsk.ru/files/Image/sport/f191109-1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71432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Franklin Gothic Medium"/>
              </a:rPr>
              <a:t>           </a:t>
            </a:r>
            <a:r>
              <a:rPr b="1" lang="ru-RU" sz="6600" spc="-1" strike="noStrike">
                <a:solidFill>
                  <a:srgbClr val="c00000"/>
                </a:solidFill>
                <a:latin typeface="Franklin Gothic Medium"/>
              </a:rPr>
              <a:t>ПРОЕКТ    </a:t>
            </a:r>
            <a:br>
              <a:rPr sz="6600"/>
            </a:br>
            <a:r>
              <a:rPr b="1" lang="ru-RU" sz="6600" spc="-1" strike="noStrike">
                <a:solidFill>
                  <a:srgbClr val="c00000"/>
                </a:solidFill>
                <a:latin typeface="Franklin Gothic Medium"/>
              </a:rPr>
              <a:t>     «ФИЗИЧЕСКОЕ   </a:t>
            </a:r>
            <a:br>
              <a:rPr sz="6600"/>
            </a:br>
            <a:r>
              <a:rPr b="1" lang="ru-RU" sz="6600" spc="-1" strike="noStrike">
                <a:solidFill>
                  <a:srgbClr val="c00000"/>
                </a:solidFill>
                <a:latin typeface="Franklin Gothic Medium"/>
              </a:rPr>
              <a:t>   КАЧЕСТВО - СИЛА»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7" name="Рисунок 2" descr="D1.png"/>
          <p:cNvPicPr/>
          <p:nvPr/>
        </p:nvPicPr>
        <p:blipFill>
          <a:blip r:embed="rId1"/>
          <a:stretch/>
        </p:blipFill>
        <p:spPr>
          <a:xfrm>
            <a:off x="2286000" y="3714840"/>
            <a:ext cx="45640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713880" y="4357800"/>
            <a:ext cx="8001000" cy="76824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 fontScale="8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Franklin Gothic Book"/>
              </a:rPr>
              <a:t>Спасибо за внимание !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0" name="Рисунок 12" descr="information_items_136.png"/>
          <p:cNvPicPr/>
          <p:nvPr/>
        </p:nvPicPr>
        <p:blipFill>
          <a:blip r:embed="rId1"/>
          <a:stretch/>
        </p:blipFill>
        <p:spPr>
          <a:xfrm>
            <a:off x="2500200" y="71424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85840" y="2499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Franklin Gothic Medium"/>
              </a:rPr>
              <a:t>ЦЕЛЬ ПРОЕКТА: </a:t>
            </a:r>
            <a:r>
              <a:rPr b="1" lang="ru-RU" sz="6000" spc="-1" strike="noStrike">
                <a:solidFill>
                  <a:srgbClr val="c00000"/>
                </a:solidFill>
                <a:latin typeface="Franklin Gothic Medium"/>
              </a:rPr>
              <a:t>СОСТАВИТЬ КОМПЛЕКС ОРУ НА РАЗВИТИЕ СИЛОВЫХ КАЧЕСТВ</a:t>
            </a:r>
            <a:endParaRPr b="0" lang="en-US" sz="60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9" name="Рисунок 2" descr="sm.jpeg"/>
          <p:cNvPicPr/>
          <p:nvPr/>
        </p:nvPicPr>
        <p:blipFill>
          <a:blip r:embed="rId1"/>
          <a:stretch/>
        </p:blipFill>
        <p:spPr>
          <a:xfrm>
            <a:off x="5851440" y="-6480"/>
            <a:ext cx="27990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изические качества -</a:t>
            </a:r>
            <a:endParaRPr b="0" lang="en-US" sz="5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ожденные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генетически унаследованные)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чества,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одаря которым возможна физическая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сть человека,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учающая свое полное проявление в целесообразной двигательной деятельности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3"/>
          <p:cNvSpPr/>
          <p:nvPr/>
        </p:nvSpPr>
        <p:spPr>
          <a:xfrm>
            <a:off x="0" y="0"/>
            <a:ext cx="9144000" cy="69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 основным физическим качествам относя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c87d0e"/>
                </a:solidFill>
                <a:latin typeface="Times New Roman"/>
                <a:ea typeface="Times New Roman"/>
              </a:rPr>
              <a:t>силу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строту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ыносливос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гибкос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ловкос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0070c0"/>
                </a:solidFill>
                <a:latin typeface="Franklin Gothic Medium"/>
              </a:rPr>
              <a:t>СИЛА-</a:t>
            </a:r>
            <a:endParaRPr b="0" lang="en-US" sz="65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214560" y="1071360"/>
            <a:ext cx="93582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Franklin Gothic Book"/>
              </a:rPr>
              <a:t>   </a:t>
            </a:r>
            <a:r>
              <a:rPr b="1" lang="ru-RU" sz="4000" spc="-1" strike="noStrike">
                <a:solidFill>
                  <a:srgbClr val="c00000"/>
                </a:solidFill>
                <a:latin typeface="Franklin Gothic Medium"/>
              </a:rPr>
              <a:t>способность человека преодолевать внешнее сопротивление или противостоять ему за счет мышечных усилий (напряжений)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Picture 2" descr="http://900igr.net/datai/fizkultura/Gimnastika/0015-026-Atleticheskaja-gimnastika.jpg"/>
          <p:cNvPicPr/>
          <p:nvPr/>
        </p:nvPicPr>
        <p:blipFill>
          <a:blip r:embed="rId1"/>
          <a:stretch/>
        </p:blipFill>
        <p:spPr>
          <a:xfrm>
            <a:off x="4643280" y="3643200"/>
            <a:ext cx="4500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Franklin Gothic Medium"/>
              </a:rPr>
              <a:t>Абсолютная сила —</a:t>
            </a:r>
            <a:endParaRPr b="0" lang="en-US" sz="5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0" y="100008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это максимальная сила, проявляемая человеком в каком-либо движении, независимо от массы его тел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Picture 7" descr="Картинка 162 из 23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29680" y="0"/>
            <a:ext cx="1714320" cy="1496880"/>
          </a:xfrm>
          <a:prstGeom prst="rect">
            <a:avLst/>
          </a:prstGeom>
          <a:ln w="0">
            <a:noFill/>
          </a:ln>
        </p:spPr>
      </p:pic>
      <p:sp>
        <p:nvSpPr>
          <p:cNvPr id="419" name="Прямоугольник 4"/>
          <p:cNvSpPr/>
          <p:nvPr/>
        </p:nvSpPr>
        <p:spPr>
          <a:xfrm>
            <a:off x="0" y="2928960"/>
            <a:ext cx="914400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Franklin Gothic Medium"/>
              </a:rPr>
              <a:t>Относительная сила 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это сила, проявляемая человеком в пересчете на 1 кг собственного веса. Она выражается отношением максимальной силы к массе тела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http://coleman.kiev.ua/shared/userfiles/images/KidsFitness2.jpg"/>
          <p:cNvPicPr/>
          <p:nvPr/>
        </p:nvPicPr>
        <p:blipFill>
          <a:blip r:embed="rId3"/>
          <a:stretch/>
        </p:blipFill>
        <p:spPr>
          <a:xfrm>
            <a:off x="7107120" y="5429160"/>
            <a:ext cx="20368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-420840" y="-231840"/>
            <a:ext cx="9571320" cy="1311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-22320" y="1285560"/>
            <a:ext cx="916632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Franklin Gothic Medium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Franklin Gothic Medium"/>
              </a:rPr>
              <a:t>это комплекс различных проявлений человека в определенной двигательной деятельности, в основе которых лежит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Franklin Gothic Medium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Franklin Gothic Medium"/>
              </a:rPr>
              <a:t>понятие «сила»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3" name="Picture 5" descr="Картинка 273 из 818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3549600"/>
            <a:ext cx="4643280" cy="33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"/>
          <p:cNvSpPr/>
          <p:nvPr/>
        </p:nvSpPr>
        <p:spPr>
          <a:xfrm>
            <a:off x="0" y="10868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Medium"/>
              </a:rPr>
              <a:t>Самыми благоприятными перио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Medium"/>
              </a:rPr>
              <a:t>развития сил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Franklin Gothic Medium"/>
              </a:rPr>
              <a:t>у мальчиков и юношей считается возраст от 13—14 до 17—18 л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Franklin Gothic Medium"/>
              </a:rPr>
              <a:t>а у девочек и девушек — от 11—12 до 15—16 л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чему в немалой степени соответствует доля мышечной массы к общей массе те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(к 10— 11 годам она составляет примерно 23%, к 14—15 годам — 33%, а к 17—18 годам — 45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Наиболее значительные темпы возрастания относительной силы различных мышечных групп наблюдаются в младшем школьном возрасте, особенно у детей от 9 до 11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Medium"/>
              </a:rPr>
              <a:t>Развитие силы - </a:t>
            </a: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это процесс повышения максимально возможного напряжения мыш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142920" y="0"/>
          <a:ext cx="9001080" cy="6858000"/>
        </p:xfrm>
        <a:graphic>
          <a:graphicData uri="http://schemas.openxmlformats.org/drawingml/2006/table">
            <a:tbl>
              <a:tblPr/>
              <a:tblGrid>
                <a:gridCol w="3225600"/>
                <a:gridCol w="2625840"/>
                <a:gridCol w="3149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ОСНОВНЫ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Сред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развит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силов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способнос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ДОПОЛНИТЕЛЬНЫ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.Упражнения, отягощённые весом  собственного т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.Упражнения с использованием внешней ср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.Упражнения с весом внешних предм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.Упражнения с использованием сопротивления упругих предм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.Упражнения с использованием тренажёрных устройств общего ти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.Упражнения с противодействием партнё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.Рывково-тормозные упраж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.Изометрические упраж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7" name="Rectangle 91"/>
          <p:cNvSpPr/>
          <p:nvPr/>
        </p:nvSpPr>
        <p:spPr>
          <a:xfrm>
            <a:off x="-122400" y="598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Рисунок 3" descr="pozitive_cartoons_10.jpg"/>
          <p:cNvPicPr/>
          <p:nvPr/>
        </p:nvPicPr>
        <p:blipFill>
          <a:blip r:embed="rId1"/>
          <a:stretch/>
        </p:blipFill>
        <p:spPr>
          <a:xfrm>
            <a:off x="3780000" y="2382840"/>
            <a:ext cx="179856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5:01:34Z</dcterms:created>
  <dc:creator>Admin</dc:creator>
  <dc:description/>
  <dc:language>en-US</dc:language>
  <cp:lastModifiedBy>Владимир</cp:lastModifiedBy>
  <dcterms:modified xsi:type="dcterms:W3CDTF">2013-02-19T09:55:52Z</dcterms:modified>
  <cp:revision>72</cp:revision>
  <dc:subject/>
  <dc:title>Слайд 1</dc:title>
</cp:coreProperties>
</file>