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13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898B-4A7D-4E1B-BD45-C7487ABFB2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Лях; А.А.Зданевич -  ФИЗИЧЕСКАЯ КУЛЬТУРА  ДЛЯ 10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ы - Физическая культура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FD3E-37BB-4018-BF1D-A618ED8D9E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Лях; А.А.Зданевич -  ФИЗИЧЕСКАЯ КУЛЬТУРА  ДЛЯ 10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ы - Физическая культура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A47C-FD59-4492-AB8A-125F837EFA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Лях; А.А.Зданевич -  ФИЗИЧЕСКАЯ КУЛЬТУРА  ДЛЯ 10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ы - Физическая культура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F32C-686B-445E-99B3-63F72D65DB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DC4-DBBF-419F-8497-A960425D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402-1F9E-4B22-8548-A7ABD3CC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32420-7905-4FEB-BDA5-DEA5D20F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56B7B-7831-4CF2-B40C-96AF2CBD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3A944-AFE1-452D-8E0B-9DD9132A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ED3EC-3000-438C-98F9-55ADE0C2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556AD-1ABC-45AC-94CD-3A1BC3C8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FAA69-7AD3-4E04-8DD1-2CE35E83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0C8BA-7BC0-473D-B79A-A2FF0F56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7E137-E56E-462B-8FE1-DB7E8B34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0E9A5-C6AB-4EDC-B83D-D95F6948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EB5-A43C-48B3-84FD-DC0DB381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54F-AFE2-420F-B31E-C45014D1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359F-3F81-425E-AD40-22722EEC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B446-76B7-4CDA-91D3-3E22597B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86DA-39BD-4924-B447-B0F1FE07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18D1-8390-4781-A20F-D34D5634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FAC4-D109-42A8-80C0-EFBA2BAD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DFB6-7A98-4681-AF33-63521E82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609E-B141-4BF2-916C-5313945A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5AF-E0B1-4104-97F8-C9158CDB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5CC3-8B54-4D04-B35F-59437387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1E02-D992-493E-91F8-37C99DD8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2590-686E-46DA-BED9-3D2D5CE9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8738-BC3B-4DAC-A86A-6C5A8C3A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F894-F4D6-4E5B-BE71-CF98C98F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30F35-9E71-4999-97E2-C774434D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005D7-1900-424A-ABCD-F2D728D9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5161A-72AB-44A5-88B4-168BDD7B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85CA4-3D67-4926-9016-16638729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717D1-B269-480E-957D-ABF67653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714-0624-488A-8E9A-5B2BC8C0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1DF85-20C1-4535-A2A1-C8DD2F65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307F2-93BF-41F3-8A0A-CBC78D77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256B0-C072-4DA9-B529-E054F0FC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1FBB9-542A-4961-90A1-B9A2136E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7C53D-7C2E-4F9E-8D31-71985F51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FBED0-FF56-4E54-A067-C737087B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D7C4D-787A-46A1-8194-F1ACE763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17717-DF0C-41E6-B518-3DDC520F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F12DE-E995-4DCE-B40D-8BB81E1E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3A58A-0179-4594-B9C6-7F0B3AA5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516-68D9-45EF-AB11-89E33830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8B98A-7FE4-4A4F-A522-D3B100EA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B216D-CD4F-4C2D-8ADF-B8248125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68DEB-DB0C-4DCE-9D72-AC221A27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5F3AA-8E8A-48EB-A846-FFFA75A0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09466-12D6-4976-8AD0-F17DF206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BDCFA-E31E-4781-9B4B-8DAB3682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0DA60-A699-4A94-B89E-73FD0776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23C4B-D718-4F7D-B3A0-5DEE9166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DB001-6BC6-4C37-9527-18DB8339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838F3-194F-49B9-B267-B4D5E252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1FD-FA6B-431F-A013-BB10C6BE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200F7-0AF4-4F1A-9D1C-D5C82FFE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D7D48-9025-404A-8736-3A01A999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8ACC6-9C0A-479B-8133-389883C2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FBA5D-C780-4E62-9B64-526C370F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A3735-83D5-4F24-9871-C9B1A82C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D6E82-9CE1-4804-ACEB-79437F92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090D5-7489-4EFC-990B-7E966E82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22B36-559A-4419-B7E8-EAFDB90B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93211-60A4-4ED7-82A1-0ACBBB9D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0C1AF-5676-4EAC-863C-21CCFF1F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0B28-8D8F-4DAF-8505-535E003C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EA6EA-3ABB-4A25-9AE4-4600E09A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D6106-F89E-428C-A565-BE979579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DC5F7-F002-40F2-A90D-FA2295C9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2D2DB-7370-448D-A1A4-D07816D6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C342C-BA54-4E07-A3E5-05F1DFB6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CEFD6-BD04-463E-8BCE-C59A9D68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0AE53-2CD2-4FC2-AC47-8729FD96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88A84-B2DD-4847-80D8-833F0BBE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E4DFE-7E9F-4A0B-A1D5-0AC78677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D0863-3D47-40FA-917C-66745CA2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845-4FEB-4004-8E72-6DDCDE95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5F885-87EE-4871-A96C-664AD9FD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1C5E2-A753-4D9D-A589-CC1C1866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F6275-AA6F-4768-AF4C-B3A836AA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5924A-7E4A-47C2-A224-3683A902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A77B2-A881-410C-A0A5-75D17958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9C61C-45B0-4EB4-84CC-A965274B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F80E8-38D3-449D-BC86-F75BEF32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1AF87-31D3-4798-9C17-9A0F5394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D4F9F-9DF7-4729-9702-277323D3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29B9F-6FFD-4304-8C64-A850737A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2E0-692B-4312-8A00-53F3070D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6F00C-14C0-4450-9A4E-D4EB4AF5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F0353-1741-4071-A467-682EED1F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64C8C-2838-4410-AEAB-272C2A8A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7D07A-A0CC-400F-81BB-94FA01AD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B7252-1127-4E95-9539-86FE764D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1ACF4-0A15-45C9-95A1-21966656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F5CC5-441A-4BCE-9E15-68852D0F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8405B-1B84-43C6-B7FE-87FA8F2C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876F8-86EE-4D05-8C0B-A232EA85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01ED0-264C-46D4-9E20-8A436571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A9D-6832-4B25-97B4-77D62931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3FF61-CB07-48A8-BDB1-58D8396A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96114-F760-46D9-AF2E-B7370B56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17677-00E2-4641-8E89-93ED1093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E9BDF-1240-4B80-8FB2-3CA3405C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0989E-EECB-4D9D-8CBE-9EDEE5B8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3FF0B-462E-4B57-BECB-D5E30F1E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A0F7F-A67D-439D-94F6-7CDEE285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36E14-8B1A-4C7D-AF9E-EFEB6992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B4468-FFC3-466C-830A-89F2BEDE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5356F-4050-48EB-BD97-BDDCD270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39D7-4B4D-4C07-A99A-35854D8070E0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98AA-1A11-4AB0-A4B4-B8AF0D38477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078B-CCA4-4D1B-9ECD-FF514D868FF0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3E62-4705-4368-893C-D4FC761EDC5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F287-23B2-4568-B128-C208C36687CA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B9C7-5887-46BB-8090-CDD4CBCC4FE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574C-570B-4790-989B-53177A9CEE5A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C850-B446-4E07-9C39-4A3B6737CE9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60CA-CE58-40FC-ADD3-83E4FD3AA3B9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3724-A8C1-4FB0-B663-89A2DAD7AF2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6C35-3B0B-4E80-A351-12610790090D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452C-B310-4787-8ABF-62689B168DE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C764-2848-492D-A3C5-4F5D1EAF7027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D6A4-000B-4D22-A97E-CB3192EF78F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374B-4100-4EC7-97E9-0DE632238618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C129-E5F2-4E12-8EAD-2673F61DCDC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8F7F-C81C-4164-AAA7-1677326CB3B1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78E9-A9B4-4BB9-93BC-C7263010804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dtl-spb.ru/pictures/osport/atlet/osport_atlet4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school16.edu.tomsk.ru/files/Image/sport/f191109-1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71432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Franklin Gothic Medium"/>
              </a:rPr>
              <a:t>           </a:t>
            </a:r>
            <a:r>
              <a:rPr b="1" lang="ru-RU" sz="6600" spc="-1" strike="noStrike">
                <a:solidFill>
                  <a:srgbClr val="c00000"/>
                </a:solidFill>
                <a:latin typeface="Franklin Gothic Medium"/>
              </a:rPr>
              <a:t>ПРОЕКТ    </a:t>
            </a:r>
            <a:br>
              <a:rPr sz="6600"/>
            </a:br>
            <a:r>
              <a:rPr b="1" lang="ru-RU" sz="6600" spc="-1" strike="noStrike">
                <a:solidFill>
                  <a:srgbClr val="c00000"/>
                </a:solidFill>
                <a:latin typeface="Franklin Gothic Medium"/>
              </a:rPr>
              <a:t>     «ФИЗИЧЕСКОЕ   </a:t>
            </a:r>
            <a:br>
              <a:rPr sz="6600"/>
            </a:br>
            <a:r>
              <a:rPr b="1" lang="ru-RU" sz="6600" spc="-1" strike="noStrike">
                <a:solidFill>
                  <a:srgbClr val="c00000"/>
                </a:solidFill>
                <a:latin typeface="Franklin Gothic Medium"/>
              </a:rPr>
              <a:t>   КАЧЕСТВО - СИЛА»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7" name="Рисунок 2" descr="D1.png"/>
          <p:cNvPicPr/>
          <p:nvPr/>
        </p:nvPicPr>
        <p:blipFill>
          <a:blip r:embed="rId1"/>
          <a:stretch/>
        </p:blipFill>
        <p:spPr>
          <a:xfrm>
            <a:off x="2286000" y="3714840"/>
            <a:ext cx="45640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713880" y="4357800"/>
            <a:ext cx="8001000" cy="7682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 fontScale="86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Franklin Gothic Book"/>
              </a:rPr>
              <a:t>Спасибо за внимание !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0" name="Рисунок 12" descr="information_items_136.png"/>
          <p:cNvPicPr/>
          <p:nvPr/>
        </p:nvPicPr>
        <p:blipFill>
          <a:blip r:embed="rId1"/>
          <a:stretch/>
        </p:blipFill>
        <p:spPr>
          <a:xfrm>
            <a:off x="2500200" y="71424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85840" y="2499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Franklin Gothic Medium"/>
              </a:rPr>
              <a:t>ЦЕЛЬ ПРОЕКТА: </a:t>
            </a:r>
            <a:r>
              <a:rPr b="1" lang="ru-RU" sz="6000" spc="-1" strike="noStrike">
                <a:solidFill>
                  <a:srgbClr val="c00000"/>
                </a:solidFill>
                <a:latin typeface="Franklin Gothic Medium"/>
              </a:rPr>
              <a:t>СОСТАВИТЬ КОМПЛЕКС ОРУ НА РАЗВИТИЕ СИЛОВЫХ КАЧЕСТВ</a:t>
            </a:r>
            <a:endParaRPr b="0" lang="en-US" sz="6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9" name="Рисунок 2" descr="sm.jpeg"/>
          <p:cNvPicPr/>
          <p:nvPr/>
        </p:nvPicPr>
        <p:blipFill>
          <a:blip r:embed="rId1"/>
          <a:stretch/>
        </p:blipFill>
        <p:spPr>
          <a:xfrm>
            <a:off x="5851440" y="-6480"/>
            <a:ext cx="27990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изические качества -</a:t>
            </a:r>
            <a:endParaRPr b="0" lang="en-US" sz="5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ожденные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генетически унаследованные)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чества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одаря которым возможна физическая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сть человека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учающая свое полное проявление в целесообразной двигательной деятельности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3"/>
          <p:cNvSpPr/>
          <p:nvPr/>
        </p:nvSpPr>
        <p:spPr>
          <a:xfrm>
            <a:off x="0" y="0"/>
            <a:ext cx="9144000" cy="69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 основным физическим качествам относя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силу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строту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ыносливос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гибкос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ловкос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70c0"/>
                </a:solidFill>
                <a:latin typeface="Franklin Gothic Medium"/>
              </a:rPr>
              <a:t>СИЛА-</a:t>
            </a:r>
            <a:endParaRPr b="0" lang="en-US" sz="6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214560" y="1071360"/>
            <a:ext cx="93582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Franklin Gothic Book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способность человека преодолевать внешнее сопротивление или противостоять ему за счет мышечных усилий (напряжений)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2" descr="http://900igr.net/datai/fizkultura/Gimnastika/0015-026-Atleticheskaja-gimnastika.jpg"/>
          <p:cNvPicPr/>
          <p:nvPr/>
        </p:nvPicPr>
        <p:blipFill>
          <a:blip r:embed="rId1"/>
          <a:stretch/>
        </p:blipFill>
        <p:spPr>
          <a:xfrm>
            <a:off x="4643280" y="3643200"/>
            <a:ext cx="4500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Franklin Gothic Medium"/>
              </a:rPr>
              <a:t>Абсолютная сила —</a:t>
            </a:r>
            <a:endParaRPr b="0" lang="en-US" sz="5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100008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это максимальная сила, проявляемая человеком в каком-либо движении, независимо от массы его тел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7" descr="Картинка 162 из 23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496880"/>
          </a:xfrm>
          <a:prstGeom prst="rect">
            <a:avLst/>
          </a:prstGeom>
          <a:ln w="0">
            <a:noFill/>
          </a:ln>
        </p:spPr>
      </p:pic>
      <p:sp>
        <p:nvSpPr>
          <p:cNvPr id="419" name="Прямоугольник 4"/>
          <p:cNvSpPr/>
          <p:nvPr/>
        </p:nvSpPr>
        <p:spPr>
          <a:xfrm>
            <a:off x="0" y="2928960"/>
            <a:ext cx="914400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Franklin Gothic Medium"/>
              </a:rPr>
              <a:t>Относительная сила 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это сила, проявляемая человеком в пересчете на 1 кг собственного веса. Она выражается отношением максимальной силы к массе тела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http://coleman.kiev.ua/shared/userfiles/images/KidsFitness2.jpg"/>
          <p:cNvPicPr/>
          <p:nvPr/>
        </p:nvPicPr>
        <p:blipFill>
          <a:blip r:embed="rId3"/>
          <a:stretch/>
        </p:blipFill>
        <p:spPr>
          <a:xfrm>
            <a:off x="7107120" y="5429160"/>
            <a:ext cx="20368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-420840" y="-231840"/>
            <a:ext cx="9571320" cy="1311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-22320" y="1285560"/>
            <a:ext cx="916632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Franklin Gothic Medium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Franklin Gothic Medium"/>
              </a:rPr>
              <a:t>это комплекс различных проявлений человека в определенной двигательной деятельности, в основе которых лежит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Franklin Gothic Medium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Franklin Gothic Medium"/>
              </a:rPr>
              <a:t>понятие «сила»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Picture 5" descr="Картинка 273 из 81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3549600"/>
            <a:ext cx="4643280" cy="33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4"/>
          <p:cNvSpPr/>
          <p:nvPr/>
        </p:nvSpPr>
        <p:spPr>
          <a:xfrm>
            <a:off x="0" y="10868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Medium"/>
              </a:rPr>
              <a:t>Самыми благоприятными пери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Medium"/>
              </a:rPr>
              <a:t>развития сил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Franklin Gothic Medium"/>
              </a:rPr>
              <a:t>у мальчиков и юношей считается возраст от 13—14 до 17—18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Franklin Gothic Medium"/>
              </a:rPr>
              <a:t>а у девочек и девушек — от 11—12 до 15—16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чему в немалой степени соответствует доля мышечной массы к общей массе те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(к 10— 11 годам она составляет примерно 23%, к 14—15 годам — 33%, а к 17—18 годам — 45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Наиболее значительные темпы возрастания относительной силы различных мышечных групп наблюдаются в младшем школьном возрасте, особенно у детей от 9 до 11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Medium"/>
              </a:rPr>
              <a:t>Развитие силы - </a:t>
            </a: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это процесс повышения максимально возможного напряжения мыш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142920" y="0"/>
          <a:ext cx="9001080" cy="6858000"/>
        </p:xfrm>
        <a:graphic>
          <a:graphicData uri="http://schemas.openxmlformats.org/drawingml/2006/table">
            <a:tbl>
              <a:tblPr/>
              <a:tblGrid>
                <a:gridCol w="3225600"/>
                <a:gridCol w="2625840"/>
                <a:gridCol w="3149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ОСНОВНЫ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Сред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развит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силов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способнос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Franklin Gothic Medium"/>
                          <a:ea typeface="Times New Roman"/>
                        </a:rPr>
                        <a:t>ДОПОЛНИТЕЛЬНЫ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.Упражнения, отягощённые весом  собственного 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.Упражнения с использованием внешней ср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.Упражнения с весом внешних предм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.Упражнения с использованием сопротивления упругих предм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.Упражнения с использованием тренажёрных устройств общего ти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.Упражнения с противодействием партнё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.Рывково-тормозные упраж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.Изометрические упраж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7" name="Rectangle 91"/>
          <p:cNvSpPr/>
          <p:nvPr/>
        </p:nvSpPr>
        <p:spPr>
          <a:xfrm>
            <a:off x="-122400" y="598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Рисунок 3" descr="pozitive_cartoons_10.jpg"/>
          <p:cNvPicPr/>
          <p:nvPr/>
        </p:nvPicPr>
        <p:blipFill>
          <a:blip r:embed="rId1"/>
          <a:stretch/>
        </p:blipFill>
        <p:spPr>
          <a:xfrm>
            <a:off x="3780000" y="2382840"/>
            <a:ext cx="17985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5:01:34Z</dcterms:created>
  <dc:creator>Admin</dc:creator>
  <dc:description/>
  <dc:language>en-US</dc:language>
  <cp:lastModifiedBy>Владимир</cp:lastModifiedBy>
  <dcterms:modified xsi:type="dcterms:W3CDTF">2013-02-19T09:55:52Z</dcterms:modified>
  <cp:revision>72</cp:revision>
  <dc:subject/>
  <dc:title>Слайд 1</dc:title>
</cp:coreProperties>
</file>