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7.gif" ContentType="image/gif"/>
  <Override PartName="/ppt/media/image21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25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28.gif" ContentType="image/gif"/>
  <Override PartName="/ppt/media/image8.png" ContentType="image/png"/>
  <Override PartName="/ppt/media/image23.png" ContentType="image/png"/>
  <Override PartName="/ppt/media/image30.gif" ContentType="image/gif"/>
  <Override PartName="/ppt/media/image9.png" ContentType="image/png"/>
  <Override PartName="/ppt/media/image31.gif" ContentType="image/gif"/>
  <Override PartName="/ppt/media/image11.gif" ContentType="image/gif"/>
  <Override PartName="/ppt/media/image6.png" ContentType="image/png"/>
  <Override PartName="/ppt/media/image12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.png" ContentType="image/png"/>
  <Override PartName="/ppt/media/image22.gif" ContentType="image/gif"/>
  <Override PartName="/ppt/media/image1.png" ContentType="image/png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26.gif" ContentType="image/gi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9.png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4727520"/>
            <a:ext cx="2268360" cy="2130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877080" y="4729320"/>
            <a:ext cx="2266920" cy="21286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050920" cy="1925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0" t="41020" r="59991" b="3945"/>
          <a:stretch/>
        </p:blipFill>
        <p:spPr>
          <a:xfrm>
            <a:off x="1476360" y="522936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rcRect l="0" t="0" r="59991" b="0"/>
          <a:stretch/>
        </p:blipFill>
        <p:spPr>
          <a:xfrm>
            <a:off x="7846920" y="1060560"/>
            <a:ext cx="1297080" cy="2616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rcRect l="0" t="41020" r="59991" b="3945"/>
          <a:stretch/>
        </p:blipFill>
        <p:spPr>
          <a:xfrm>
            <a:off x="1835280" y="260280"/>
            <a:ext cx="1296720" cy="1440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5148360" y="0"/>
            <a:ext cx="1006200" cy="10684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 rot="5779200">
            <a:off x="-360" y="227736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1"/>
          <a:stretch/>
        </p:blipFill>
        <p:spPr>
          <a:xfrm>
            <a:off x="4716360" y="5589720"/>
            <a:ext cx="1006560" cy="10681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2"/>
          <a:stretch/>
        </p:blipFill>
        <p:spPr>
          <a:xfrm rot="13672800">
            <a:off x="6547680" y="22896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3"/>
          <a:stretch/>
        </p:blipFill>
        <p:spPr>
          <a:xfrm>
            <a:off x="6732720" y="0"/>
            <a:ext cx="2411280" cy="22636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4"/>
          <a:srcRect l="0" t="15748" r="72024" b="66647"/>
          <a:stretch/>
        </p:blipFill>
        <p:spPr>
          <a:xfrm>
            <a:off x="7667640" y="3645000"/>
            <a:ext cx="1224000" cy="11080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5"/>
          <a:srcRect l="34655" t="0" r="38688" b="85174"/>
          <a:stretch/>
        </p:blipFill>
        <p:spPr>
          <a:xfrm>
            <a:off x="3348000" y="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6"/>
          <a:srcRect l="0" t="68569" r="73344" b="12909"/>
          <a:stretch/>
        </p:blipFill>
        <p:spPr>
          <a:xfrm>
            <a:off x="7777080" y="18900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7"/>
          <a:srcRect l="34655" t="0" r="38688" b="85174"/>
          <a:stretch/>
        </p:blipFill>
        <p:spPr>
          <a:xfrm>
            <a:off x="3419640" y="5878440"/>
            <a:ext cx="1223640" cy="97956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8"/>
          <a:srcRect l="0" t="68569" r="73344" b="12909"/>
          <a:stretch/>
        </p:blipFill>
        <p:spPr>
          <a:xfrm>
            <a:off x="324000" y="3284640"/>
            <a:ext cx="1366560" cy="136656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9"/>
          <a:stretch/>
        </p:blipFill>
        <p:spPr>
          <a:xfrm>
            <a:off x="5796000" y="5789520"/>
            <a:ext cx="1006560" cy="106848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Автор: Мажура Юлия Михайловна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воспитатель высшей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квалификационной категории МДОУ д/с КВ № 14 «Тополёк», </a:t>
            </a:r>
            <a:br>
              <a:rPr sz="2000"/>
            </a:b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город Южноуральск, Челябин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ff3399"/>
                </a:solidFill>
                <a:latin typeface="Times New Roman"/>
              </a:rPr>
              <a:t>«Скоро Лето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нятие по изобрази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штриховка простым карандашом и «рисование» ласти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ля детей стар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от мы и представили лето. А сейчас  я вам предлагаю пройти за столы и выполнить  непростую работу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Мы заштрихуем лист бумаги простым карандашом и нарисуем ромашки  ласт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Описание: F:\Детский сад\SDC11033.JPG"/>
          <p:cNvPicPr/>
          <p:nvPr/>
        </p:nvPicPr>
        <p:blipFill>
          <a:blip r:embed="rId1"/>
          <a:srcRect l="12208" t="14514" r="12243" b="12913"/>
          <a:stretch/>
        </p:blipFill>
        <p:spPr>
          <a:xfrm>
            <a:off x="1835280" y="1484280"/>
            <a:ext cx="5832360" cy="374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rot="18321000">
            <a:off x="6485760" y="4970880"/>
            <a:ext cx="1211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Всем 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за хорошую работу, 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51280" y="40766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6980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Я соткано из зноя, несу тепло с собою,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Я реки согреваю, "купайтесь!" - приглашаю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 любите за это вы все меня, я ...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6520" y="39276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(ЛЕТ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41880" y="1411560"/>
            <a:ext cx="69001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олько солнца! Сколько света!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олько зелени кругом!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 же это? Это ЛЕТО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конец спешит к нам в дом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вчих птиц разноголосье!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вежий запах сочных трав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 поле спелые колосья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 грибы в тени дубра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0920" y="170028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Давайте помечтаем об этом времени года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371628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6120" y="3500280"/>
            <a:ext cx="8597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Как вы думает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очему мы хоти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чтобы поскорее к нам пришло ле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22190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летом можно отдыхать на дач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отправиться на мо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ловить рыбу на реч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кататься на самокате и  велосип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собирать вкусные  яг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любоваться красивыми цветами и бабочками на 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гулять в пар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кататься на карусе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и любоваться красотой фонтанов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Отгадайте загад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 модной шляпке голубой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сть цветочек озорной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 кем не повстречается –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 земли скло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В летний солнечный денек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олотой расцвел цветок.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На высокой тонкой ножке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все дремал он у дорожки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А проснулся - улыбнулся: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- вот пушистый я какой!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Ах, боюсь, что разлечусь,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тише, ветер луговой!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597400" cy="251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51640" y="3716280"/>
            <a:ext cx="3241440" cy="2665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995640" y="5781600"/>
            <a:ext cx="14194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 жёлтенького солныш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учи не горячи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 жёлтенького солныш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Белые л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Как прекрасны все цве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А со мной согласен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Вся природа дивным ц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Расцвела. Спасибо, ЛЕТ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404640"/>
            <a:ext cx="2952720" cy="2372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08360" y="2781360"/>
            <a:ext cx="119700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 rot="18739200">
            <a:off x="7241760" y="2631600"/>
            <a:ext cx="17146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Так давайте, ребята вместе с красивыми цветами  перенесемся на миг в чудесное время года -  в лет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24360" y="4437000"/>
            <a:ext cx="13906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4292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3573360"/>
            <a:ext cx="121896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33880" y="2509920"/>
            <a:ext cx="2676240" cy="1838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8474600">
            <a:off x="6171840" y="19728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012000" y="3573360"/>
            <a:ext cx="1590480" cy="1419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780000" y="4365720"/>
            <a:ext cx="99036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 rot="2100600">
            <a:off x="2916000" y="1267920"/>
            <a:ext cx="1714320" cy="133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1619280" y="2205000"/>
            <a:ext cx="1008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6:15:42Z</dcterms:created>
  <dc:creator>Юлия</dc:creator>
  <dc:description/>
  <dc:language>en-US</dc:language>
  <cp:lastModifiedBy>Admin</cp:lastModifiedBy>
  <dcterms:modified xsi:type="dcterms:W3CDTF">2014-01-24T22:05:32Z</dcterms:modified>
  <cp:revision>14</cp:revision>
  <dc:subject/>
  <dc:title>Слайд 1</dc:title>
</cp:coreProperties>
</file>