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218-1698-42F2-B2C2-8ED539A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1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7C4-B2A9-4384-AC04-A342524C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00F-DBF3-4F56-A5D2-A3F40937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04C-27A0-46BD-8AE2-30700AE0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7F1C-48A2-482E-A89B-98AA8833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DC06-223E-4766-BA5D-BF3C255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AC67-F354-4720-A88A-D7D512FE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BA54-2ED4-41C1-8DBF-50D4FDA4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E733-99F6-4763-A0FD-D5042BA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816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1D2-D040-49F7-B513-C55D7E85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9956-D9DC-460F-A245-7C39479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B44-6E9B-4FA0-8B0E-D0B08F08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FDDB-550D-440B-BA93-00E51E2D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2121-F1DD-4A5D-A9DC-BC24F607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31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EE1C-618D-42AD-8419-812D4B5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905F-8C41-4B4B-B017-63AD0138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0D61-A9AD-48B0-888B-AF4B8756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373-B17B-4B0D-B078-1A1667CD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775-8B22-49C4-A45B-32C84F44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9C2-4ABC-4DC4-B09B-F8FD66CB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816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15C-656E-4C95-BEE7-D5C66AE4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1EB-5175-44C5-BE8A-7BFF26E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A13-1FEE-4DFC-AB7E-087E62B5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627-8AA5-4215-8AD0-DA4624BD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60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no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no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5520" y="6246720"/>
            <a:ext cx="28969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no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84C9-4803-464B-815F-8F0D1DEFE7DF}" type="slidenum">
              <a:rPr b="0" lang="ru-RU" sz="1300" spc="-1" strike="noStrike">
                <a:solidFill>
                  <a:srgbClr val="000000"/>
                </a:solidFill>
                <a:latin typeface="Tino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4560" bIns="0" anchor="t">
            <a:normAutofit fontScale="76000"/>
          </a:bodyPr>
          <a:p>
            <a:pPr marL="236160" indent="-23616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76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787680" indent="-1580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15660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4" marL="1418760" indent="-1580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5" marL="1418760" indent="-1580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6" marL="1418760" indent="-1580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no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no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no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06E9-61A8-4579-B671-03766BA3D61A}" type="slidenum">
              <a:rPr b="0" lang="ru-RU" sz="1300" spc="-1" strike="noStrike">
                <a:solidFill>
                  <a:srgbClr val="000000"/>
                </a:solidFill>
                <a:latin typeface="Tino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го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1116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d1e17"/>
                </a:solidFill>
                <a:latin typeface="Monotype Corsiva"/>
              </a:rPr>
              <a:t>Профессия сейсмол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3059280" y="1844640"/>
            <a:ext cx="558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Выполнил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ченики 9 «В»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АОУ «Средняя школа №42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714240" y="42148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уководитель: Богатырё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нна Константин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1760" y="9000"/>
            <a:ext cx="888048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5582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DejaVu Serif"/>
              </a:rPr>
              <a:t>Где «учат на сейсмолог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1760" y="1306080"/>
            <a:ext cx="888048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0880" bIns="0" anchor="ctr">
            <a:noAutofit/>
          </a:bodyPr>
          <a:p>
            <a:pPr marL="287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временном мире сейсмология играет очень большую роль. По профессии сейсмолог специалистов готовят в различных ВУЗах России, да и всего ми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Росс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Университет (МГ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анкт-Петербургский Государственный Университет (СПбГ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льневосточный Федеральный Университет (ДВФ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мчатский Государственный Университет имени Витуса Беринга (КамГ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многие другие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рубеж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mperial College London (Великобрита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University of Southern California (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Massachusetts Institute of Technology (MIT) (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Stanford University (SU) (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многие другие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685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739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1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Профессия сейсмолога трудна, но интересна. Требует обширных знаний в различных областях науки (физики, химии, географии и т.д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работе сейсмолога  много романтики. Она в необходимости разгадывания загадок природы, в отсутствии шаблонов, в постоянной смене условий рабо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 заключении можно сказать, что данная профессия является востребованной и необходимой в настоящее время, и без нее невозможно представить жизнь в нашем реги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одзаголовок 2"/>
          <p:cNvSpPr/>
          <p:nvPr/>
        </p:nvSpPr>
        <p:spPr>
          <a:xfrm>
            <a:off x="7072200" y="6143760"/>
            <a:ext cx="185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Спасибо за внима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468360" y="115920"/>
            <a:ext cx="339084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ЦЕЛЬ РАБОТЫ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8" name="Picture 5" descr="челобук"/>
          <p:cNvPicPr/>
          <p:nvPr/>
        </p:nvPicPr>
        <p:blipFill>
          <a:blip r:embed="rId3"/>
          <a:stretch/>
        </p:blipFill>
        <p:spPr>
          <a:xfrm>
            <a:off x="0" y="4643280"/>
            <a:ext cx="1336680" cy="1947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428760" y="1143000"/>
            <a:ext cx="77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d1e17"/>
                </a:solidFill>
                <a:latin typeface="Monotype Corsiva"/>
              </a:rPr>
              <a:t>Ознакомление с профессией сейсмол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79280" y="1773360"/>
            <a:ext cx="1928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АДАЧИ: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071720" y="2357280"/>
            <a:ext cx="688968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1e17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1e17"/>
                </a:solidFill>
                <a:latin typeface="Monotype Corsiva"/>
              </a:rPr>
              <a:t>Изучить литературу по данной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1e17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1e17"/>
                </a:solidFill>
                <a:latin typeface="Monotype Corsiva"/>
              </a:rPr>
              <a:t>сходить на экскурсию и познакомиться с работой сейсм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1e17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1e17"/>
                </a:solidFill>
                <a:latin typeface="Monotype Corsiva"/>
              </a:rPr>
              <a:t>собрать необходимый материал о работе сейсмолога в г. Петропавловск-Камчатский</a:t>
            </a:r>
            <a:r>
              <a:rPr b="1" lang="ru-RU" sz="3200" spc="-1" strike="noStrike">
                <a:solidFill>
                  <a:srgbClr val="5d1e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Профессия - сейсмолог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9920" y="1306080"/>
            <a:ext cx="86216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0880" bIns="0" anchor="ctr">
            <a:noAutofit/>
          </a:bodyPr>
          <a:p>
            <a:pPr indent="0" algn="just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произошло в Китае около 130 года до нашей эры. Однажды ученый объявил, что в отдаленной области произошло землетряс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ители города не поверили ученому, потому что никто из них не заметил сотрясения почвы или какого-либо другого признака землетряс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итель же города вызвал ученого к себе во дворец и сказал е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давно уже заметил, что ты хочешь показать, будто бы ты мудрее всех. Но на этот раз я уличил тебя во лжи… Если сотрясение земли произошло далеко, то как ты мог о нем узнать, ведь расстояние до места, о котором ты говоришь, лучший императорский гонец может проехать только за три дн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5120" y="1352160"/>
            <a:ext cx="5943600" cy="351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8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 меня нет гонцов, — ответил он. — Мне сообщила об этом сама Зем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а-ха-ха, так ты умеешь разговаривать с Земле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т, сам я не умею говорить, но у меня есть прибор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итель даже не дослушал и приказал отвести ученого в тюрьму. Но через несколько дней прискакал гонец с сообщением о том землетрясении, про которое говорил мудре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334200" y="312840"/>
            <a:ext cx="2678040" cy="4064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31760" y="5095800"/>
            <a:ext cx="85154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1560" bIns="40680" anchor="t">
            <a:noAutofit/>
          </a:bodyPr>
          <a:p>
            <a:pPr algn="just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ого не только помиловали, но и дали денег для усовершенствования при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был первый сейсмоскоп, а китайский учёный Чжан Хэн был одним из первых сейсмо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376880" y="385920"/>
            <a:ext cx="2089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6800" bIns="4068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ejaVu Serif"/>
              </a:rPr>
              <a:t>Чжан Хэ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240" y="1397160"/>
            <a:ext cx="4506840" cy="259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algn="just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ак рассказывает история, прибор Чжан Хэна представлял собой большой полый шар с маятни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 наружной стороне шара равномерно были расположены головы драко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7600" y="4181400"/>
            <a:ext cx="889632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3360" bIns="40680" anchor="t">
            <a:noAutofit/>
          </a:bodyPr>
          <a:p>
            <a:pPr algn="just">
              <a:lnSpc>
                <a:spcPct val="93000"/>
              </a:lnSpc>
              <a:spcAft>
                <a:spcPts val="774"/>
              </a:spcAft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5582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пасти каждой из них помещался шарик. При сотрясении прибора один из них попадал в пасть лягушки, расположенной ниж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774"/>
              </a:spcAft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5582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ак можно было узнать направление пришедшей сейсмической вол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43200" y="352440"/>
            <a:ext cx="3462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6800" bIns="4068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DejaVu Serif"/>
              </a:rPr>
              <a:t>Первый сейсм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seysmoskop_"/>
          <p:cNvPicPr/>
          <p:nvPr/>
        </p:nvPicPr>
        <p:blipFill>
          <a:blip r:embed="rId1"/>
          <a:stretch/>
        </p:blipFill>
        <p:spPr>
          <a:xfrm>
            <a:off x="4932360" y="907920"/>
            <a:ext cx="404820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1760" y="9000"/>
            <a:ext cx="568152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DejaVu Serif"/>
              </a:rPr>
              <a:t>Современный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DejaVu Serif"/>
              </a:rPr>
              <a:t>сейсмограф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3440" y="1306080"/>
            <a:ext cx="56484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егодня сейсмограф - это компьютер с аналого-цифровым преобразователем и подключение к Интернету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ольшинство систем записывают сигнал непрерывно, но некоторые из них это делают только при обнаружении достаточно сильного сигнал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igital_seismograph_eartquake_monitor"/>
          <p:cNvPicPr/>
          <p:nvPr/>
        </p:nvPicPr>
        <p:blipFill>
          <a:blip r:embed="rId1"/>
          <a:stretch/>
        </p:blipFill>
        <p:spPr>
          <a:xfrm>
            <a:off x="5962680" y="0"/>
            <a:ext cx="3181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DejaVu Serif"/>
              </a:rPr>
              <a:t>Основные задачи сейсм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9920" y="1306080"/>
            <a:ext cx="86216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ейсмометрические наблюдения, систематизация и анализ данных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пределение причин землетрясений, их связи с тектоническими процессами, а также изучение возможности их предсказания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ейсморайонирование и работы по инженерной сейсмологии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сследование внутреннего строения Земли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менение в других областях науки и техники от изучения вулканов до разведки полезных ископаемых и мониторинга ядерных взрыв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55504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DejaVu Serif"/>
              </a:rPr>
              <a:t>Важнейшие научные направления сейсмолог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5813280" y="1236600"/>
            <a:ext cx="3259440" cy="3400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5160" y="3652920"/>
            <a:ext cx="3917880" cy="31352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20840" y="1276200"/>
            <a:ext cx="52606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9480" bIns="4068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300" spc="-1" strike="noStrike">
                <a:solidFill>
                  <a:srgbClr val="dc2300"/>
                </a:solidFill>
                <a:latin typeface="Arial"/>
              </a:rPr>
              <a:t>Изучение</a:t>
            </a:r>
            <a:br>
              <a:rPr sz="3300"/>
            </a:br>
            <a:r>
              <a:rPr b="0" lang="ru-RU" sz="3300" spc="-1" strike="noStrike">
                <a:solidFill>
                  <a:srgbClr val="dc2300"/>
                </a:solidFill>
                <a:latin typeface="Arial"/>
              </a:rPr>
              <a:t>строения Зем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179960" y="5551560"/>
            <a:ext cx="489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94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300" spc="-1" strike="noStrike">
                <a:solidFill>
                  <a:srgbClr val="dc2300"/>
                </a:solidFill>
                <a:latin typeface="Times New Roman"/>
              </a:rPr>
              <a:t>Прогноз и оценка</a:t>
            </a:r>
            <a:br>
              <a:rPr sz="3300"/>
            </a:br>
            <a:r>
              <a:rPr b="0" lang="ru-RU" sz="3300" spc="-1" strike="noStrike">
                <a:solidFill>
                  <a:srgbClr val="dc2300"/>
                </a:solidFill>
                <a:latin typeface="Times New Roman"/>
              </a:rPr>
              <a:t>сейсмической опасност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7:04:16Z</dcterms:created>
  <dc:creator>Home</dc:creator>
  <dc:description/>
  <dc:language>en-US</dc:language>
  <cp:lastModifiedBy>Пользователь</cp:lastModifiedBy>
  <dcterms:modified xsi:type="dcterms:W3CDTF">2014-01-29T03:04:20Z</dcterms:modified>
  <cp:revision>35</cp:revision>
  <dc:subject/>
  <dc:title>Слайд 1</dc:title>
</cp:coreProperties>
</file>