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430-44BB-4400-BE85-D6598E53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153-F097-468C-B798-24E25FC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402-79B1-479B-BCA1-88EBFE56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A1-5B9A-4862-A28E-661F240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4720-8FE9-4968-8C20-536662D7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27D8-6C63-44A5-9938-3D8FE6D9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A966-E34D-4D1A-B9CE-040E770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BA6-318E-49F9-B040-288B0D4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8F9-0399-4138-BEC3-49044864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33E0-6D6F-46CD-96F0-01986B8C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D12D-97FF-465F-9DBF-1CAD5D5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B2E-182F-4637-A03C-BCEAF506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55CE-394C-4B4E-B804-01EF1D4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48B9-BB87-46F5-B30D-06F25BD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A49-1DFF-4245-80C8-BFB415E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2459-BF97-4390-8F45-DF37E14C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731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E0F7-4C6B-4BEE-A575-3EDB424C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C7D-0B1B-461F-8433-B00BED2F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A30-6F51-4AAA-8072-D131B21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360-4247-4334-8031-F090A284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1A3-588F-4BDE-AB3E-4B5ABD0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D88-1A00-444F-A3CA-A303732A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731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60C-D136-434D-A82D-2592CB4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1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8D2-84E8-45BD-8BB0-5CF207B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no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5520" y="6246720"/>
            <a:ext cx="289692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D00-551B-4FE3-93B8-4B06802B3551}" type="slidenum">
              <a:rPr b="0" lang="ru-RU" sz="1300" spc="-1" strike="noStrike">
                <a:solidFill>
                  <a:srgbClr val="000000"/>
                </a:solidFill>
                <a:latin typeface="Tino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4560" bIns="0" anchor="t">
            <a:normAutofit fontScale="76000"/>
          </a:bodyPr>
          <a:p>
            <a:pPr marL="236160" indent="-23616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76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78768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15660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4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5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6" marL="1418760" indent="-158040">
              <a:lnSpc>
                <a:spcPct val="93000"/>
              </a:lnSpc>
              <a:spcAft>
                <a:spcPts val="1712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no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no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463-41DF-4EA5-A3EF-B83753D4989E}" type="slidenum">
              <a:rPr b="0" lang="ru-RU" sz="1300" spc="-1" strike="noStrike">
                <a:solidFill>
                  <a:srgbClr val="000000"/>
                </a:solidFill>
                <a:latin typeface="Tino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го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Заголовок 1"/>
          <p:cNvSpPr/>
          <p:nvPr/>
        </p:nvSpPr>
        <p:spPr>
          <a:xfrm>
            <a:off x="1116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d1e17"/>
                </a:solidFill>
                <a:latin typeface="Monotype Corsiva"/>
              </a:rPr>
              <a:t>Профессия сейсмо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3059280" y="1844640"/>
            <a:ext cx="55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ыполнил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ченики 9 «В»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АОУ «Средняя школа №4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714240" y="42148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уководитель: Богатырё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нна Константи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1760" y="9000"/>
            <a:ext cx="888048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DejaVu Serif"/>
              </a:rPr>
              <a:t>Где «учат на сейсмолог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1760" y="1306080"/>
            <a:ext cx="888048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временном мире сейсмология играет очень большую роль. По профессии сейсмолог специалистов готовят в различных ВУЗах России, да и всего ми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осс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Университет (М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ский Государственный Университет (СПб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льневосточный Федеральный Университет (ДВФ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мчатский Государственный Университет имени Витуса Беринга (КамГУ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многие другие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 рубеж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mperial College London (Великобрита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University of Southern California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Massachusetts Institute of Technology (MIT)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Stanford University (SU) (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многие другие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685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рофессия сейсмолога трудна, но интересна. Требует обширных знаний в различных областях науки (физики, химии, географии и т.д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работе сейсмолога  много романтики. Она в необходимости разгадывания загадок природы, в отсутствии шаблонов, в постоянной смене условий рабо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 заключении можно сказать, что данная профессия является востребованной и необходимой в настоящее время, и без нее невозможно представить жизнь в нашем реги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80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7072200" y="6143760"/>
            <a:ext cx="185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Спасибо за внима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468360" y="115920"/>
            <a:ext cx="33908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ЦЕЛЬ РАБОТЫ: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88" name="Picture 5" descr="челобук"/>
          <p:cNvPicPr/>
          <p:nvPr/>
        </p:nvPicPr>
        <p:blipFill>
          <a:blip r:embed="rId3"/>
          <a:stretch/>
        </p:blipFill>
        <p:spPr>
          <a:xfrm>
            <a:off x="0" y="4643280"/>
            <a:ext cx="1336680" cy="1947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28760" y="1143000"/>
            <a:ext cx="77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d1e17"/>
                </a:solidFill>
                <a:latin typeface="Monotype Corsiva"/>
              </a:rPr>
              <a:t>Ознакомление с профессией сейсмол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79280" y="1773360"/>
            <a:ext cx="1928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АДАЧИ: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071720" y="2357280"/>
            <a:ext cx="688968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Изучить литературу по данн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сходить на экскурсию и познакомиться с работой сейсм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1e17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1e17"/>
                </a:solidFill>
                <a:latin typeface="Monotype Corsiva"/>
              </a:rPr>
              <a:t>собрать необходимый материал о работе сейсмолога в г. Петропавловск-Камчатский</a:t>
            </a:r>
            <a:r>
              <a:rPr b="1" lang="ru-RU" sz="3200" spc="-1" strike="noStrike">
                <a:solidFill>
                  <a:srgbClr val="5d1e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Monotype Corsiva"/>
              </a:rPr>
              <a:t>Профессия - сейсмолог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9920" y="1306080"/>
            <a:ext cx="86216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произошло в Китае около 130 года до нашей эры. Однажды ученый объявил, что в отдаленной области произошло землетряс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тели города не поверили ученому, потому что никто из них не заметил сотрясения почвы или какого-либо другого признака землетряс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7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итель же города вызвал ученого к себе во дворец и сказал е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давно уже заметил, что ты хочешь показать, будто бы ты мудрее всех. Но на этот раз я уличил тебя во лжи… Если сотрясение земли произошло далеко, то как ты мог о нем узнать, ведь расстояние до места, о котором ты говоришь, лучший императорский гонец может проехать только за три дн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5120" y="1352160"/>
            <a:ext cx="5943600" cy="35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88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меня нет гонцов, — ответил он. — Мне сообщила об этом сама Зем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-ха-ха, так ты умеешь разговаривать с Земле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т, сам я не умею говорить, но у меня есть прибор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7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итель даже не дослушал и приказал отвести ученого в тюрьму. Но через несколько дней прискакал гонец с сообщением о том землетрясении, про которое говорил мудре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334200" y="312840"/>
            <a:ext cx="2678040" cy="4064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31760" y="5095800"/>
            <a:ext cx="85154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1560" bIns="40680" anchor="t">
            <a:noAutofit/>
          </a:bodyPr>
          <a:p>
            <a:pPr algn="just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ого не только помиловали, но и дали денег для усовершенствования при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ыл первый сейсмоскоп, а китайский учёный Чжан Хэн был одним из первых сейсмо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376880" y="385920"/>
            <a:ext cx="2089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6800" bIns="4068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DejaVu Serif"/>
              </a:rPr>
              <a:t>Чжан Хэ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8240" y="1397160"/>
            <a:ext cx="4506840" cy="25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algn="just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ак рассказывает история, прибор Чжан Хэна представлял собой большой полый шар с маятни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наружной стороне шара равномерно были расположены головы драко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7600" y="4181400"/>
            <a:ext cx="88963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3360" bIns="40680" anchor="t">
            <a:noAutofit/>
          </a:bodyPr>
          <a:p>
            <a:pPr algn="just"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пасти каждой из них помещался шарик. При сотрясении прибора один из них попадал в пасть лягушки, расположенной ниж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Aft>
                <a:spcPts val="774"/>
              </a:spcAft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55828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ак можно было узнать направление пришедшей сейсмической вол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52440"/>
            <a:ext cx="346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6800" bIns="4068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DejaVu Serif"/>
              </a:rPr>
              <a:t>Первый сейсм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seysmoskop_"/>
          <p:cNvPicPr/>
          <p:nvPr/>
        </p:nvPicPr>
        <p:blipFill>
          <a:blip r:embed="rId1"/>
          <a:stretch/>
        </p:blipFill>
        <p:spPr>
          <a:xfrm>
            <a:off x="4932360" y="907920"/>
            <a:ext cx="404820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1760" y="9000"/>
            <a:ext cx="568152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DejaVu Serif"/>
              </a:rPr>
              <a:t>Современный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DejaVu Serif"/>
              </a:rPr>
              <a:t>сейсмограф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3440" y="1306080"/>
            <a:ext cx="56484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годня сейсмограф - это компьютер с аналого-цифровым преобразователем и подключение к Интернет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ольшинство систем записывают сигнал непрерывно, но некоторые из них это делают только при обнаружении достаточно сильного сигнал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igital_seismograph_eartquake_monitor"/>
          <p:cNvPicPr/>
          <p:nvPr/>
        </p:nvPicPr>
        <p:blipFill>
          <a:blip r:embed="rId1"/>
          <a:stretch/>
        </p:blipFill>
        <p:spPr>
          <a:xfrm>
            <a:off x="5962680" y="0"/>
            <a:ext cx="3181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22960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DejaVu Serif"/>
              </a:rPr>
              <a:t>Основные задачи сейсм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9920" y="1306080"/>
            <a:ext cx="862164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йсмометрические наблюдения, систематизация и анализ данных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пределение причин землетрясений, их связи с тектоническими процессами, а также изучение возможности их предсказания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ейсморайонирование и работы по инженерной сейсмологии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сследование внутреннего строения Земли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менение в других областях науки и техники от изучения вулканов до разведки полезных ископаемых и мониторинга ядерных взрыв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00"/>
            <a:ext cx="8555040" cy="11322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1693800" indent="0" algn="ctr">
              <a:lnSpc>
                <a:spcPct val="98000"/>
              </a:lnSpc>
              <a:buNone/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5297400"/>
                <a:tab algn="l" pos="5705640"/>
                <a:tab algn="l" pos="6113520"/>
                <a:tab algn="l" pos="6519960"/>
                <a:tab algn="l" pos="6927840"/>
                <a:tab algn="l" pos="7335720"/>
                <a:tab algn="l" pos="7742160"/>
                <a:tab algn="l" pos="815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DejaVu Serif"/>
              </a:rPr>
              <a:t>Важнейшие научные направления сейсмолог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813280" y="1236600"/>
            <a:ext cx="3259440" cy="340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5160" y="3652920"/>
            <a:ext cx="3917880" cy="3135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20840" y="1276200"/>
            <a:ext cx="5260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9480" bIns="4068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dc2300"/>
                </a:solidFill>
                <a:latin typeface="Arial"/>
              </a:rPr>
              <a:t>Изучение</a:t>
            </a:r>
            <a:br>
              <a:rPr sz="3300"/>
            </a:br>
            <a:r>
              <a:rPr b="0" lang="ru-RU" sz="3300" spc="-1" strike="noStrike">
                <a:solidFill>
                  <a:srgbClr val="dc2300"/>
                </a:solidFill>
                <a:latin typeface="Arial"/>
              </a:rPr>
              <a:t>строения Зем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79960" y="5551560"/>
            <a:ext cx="489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94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07880"/>
                <a:tab algn="l" pos="814320"/>
                <a:tab algn="l" pos="1222200"/>
                <a:tab algn="l" pos="1630440"/>
                <a:tab algn="l" pos="2038320"/>
                <a:tab algn="l" pos="2444760"/>
                <a:tab algn="l" pos="2852640"/>
                <a:tab algn="l" pos="3260880"/>
                <a:tab algn="l" pos="3666960"/>
                <a:tab algn="l" pos="4075200"/>
                <a:tab algn="l" pos="4483080"/>
                <a:tab algn="l" pos="48909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dc2300"/>
                </a:solidFill>
                <a:latin typeface="Times New Roman"/>
              </a:rPr>
              <a:t>Прогноз и оценка</a:t>
            </a:r>
            <a:br>
              <a:rPr sz="3300"/>
            </a:br>
            <a:r>
              <a:rPr b="0" lang="ru-RU" sz="3300" spc="-1" strike="noStrike">
                <a:solidFill>
                  <a:srgbClr val="dc2300"/>
                </a:solidFill>
                <a:latin typeface="Times New Roman"/>
              </a:rPr>
              <a:t>сейсмической опасност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7:04:16Z</dcterms:created>
  <dc:creator>Home</dc:creator>
  <dc:description/>
  <dc:language>en-US</dc:language>
  <cp:lastModifiedBy>Пользователь</cp:lastModifiedBy>
  <dcterms:modified xsi:type="dcterms:W3CDTF">2014-01-29T03:04:20Z</dcterms:modified>
  <cp:revision>35</cp:revision>
  <dc:subject/>
  <dc:title>Слайд 1</dc:title>
</cp:coreProperties>
</file>