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7B1-5569-4588-924D-7A1C4C7D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EA9-E655-45B2-ABE2-BAF3ADD4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C29-D7B3-43A4-9469-68928041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280-CBA3-4197-B6A5-12105755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AB38-FE82-4C84-A9C0-728E2B4A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C499-07D0-4A0A-847D-FF3C836C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A0C3-55CA-42A8-947E-3036BAEA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71E6-139E-46F4-B7F7-42BD96A5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D8F9-C3A7-4778-BA85-EC48FF9E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FC58-EF5F-4806-8A3F-B3B4CEF7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CF8F-A2AB-44DB-AEC1-E931B8D2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FD1-C152-40BE-AC3D-13CF8E8C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7FB6-B854-437B-97EE-FBCDB82E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838F-4D8E-43F7-9891-D66F9CCA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10B9-98B8-4483-AF26-DF5EEA07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51C3-F34D-40E2-94EA-D3AF0ED7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C129-9775-49A5-9563-C705CF66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CCE-BCDE-41CD-A979-0420459D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3748-A185-435B-86AF-DDC12DFE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498-C0C7-47A8-B8D8-DABD57C4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CA3-7867-456E-B93A-892C7C29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B9D3-36DF-4AAE-A4F7-61DE5F7D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D24-75AA-4B18-915F-357D7F3C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B02-C93A-4B0A-BFE7-565221EF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470C-A35E-483A-A2FF-82C9911359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C2EE-5F2D-43FF-BED9-97BBABE1E3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pace tourist adventur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s on the unusual pla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me of this planet is “ The Ice Cream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not very big plane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three parts: The Pink, The Yellow and The Bl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is planet the sweets are everyw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untains are from chocolate, the rivers and the seas are from milk, the trees and the grass are from the swe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owers are from marmal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eat all what you want on this pla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ople are unusual to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ave big and round head, but their hands and feet are s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faces are n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very kind and fun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1:58:04Z</dcterms:created>
  <dc:creator>Алексей</dc:creator>
  <dc:description/>
  <dc:language>en-US</dc:language>
  <cp:lastModifiedBy>Алексей</cp:lastModifiedBy>
  <dcterms:modified xsi:type="dcterms:W3CDTF">2009-12-08T12:47:32Z</dcterms:modified>
  <cp:revision>4</cp:revision>
  <dc:subject/>
  <dc:title>Space tourist adventure</dc:title>
</cp:coreProperties>
</file>