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FD8-6737-47A7-B2A1-0454B05F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AF6-B5E4-4812-AD82-564F398A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E2B-3CDA-4CAA-A209-113AF06D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613-85EC-4F72-8CE4-EFD3792A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7F06-68C7-4624-9A89-2E56BBFB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BB02-242E-439C-82F9-20D75F2B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9EE6-BBC2-4C95-89C3-55096AEC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2987-AAF2-4314-B0BA-C7DE5D19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0C30-2098-4FC5-924B-2C79A536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CEC6-17C9-4819-BD25-8E8D4051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64C6-C635-4D3D-83ED-6EB6DF83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926C-6F88-4642-8B25-C76C3740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8785-82D5-4347-97A9-7CBD8051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DCC9-3FF0-4D3F-944E-3FFA700E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092F-A98B-43EA-A65D-BBF55E70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EC41-4CD8-4EE9-900E-3A4902FF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AADC-48B8-4DD3-8717-D35CD70D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FA8-5AE2-46C7-BEEE-6FCFFB27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F28-074F-4CCB-AAE1-EDD3904A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92F-84CC-489A-B565-6316F4A1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38B-2B43-4976-80A0-6EAD08BB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1CE-E60C-441C-B995-7D1920EC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EF3-3BFF-43A4-A72F-FDF1AF53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71E-63A8-4313-9F3A-A950D48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6B4F-D40F-47C9-AEE0-E1DE228E94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978B-6245-4FD1-A749-8FF5363433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pace tourist adventur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on the unusual pla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me of this planet is “ The Ice Cream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not very big plan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ree parts: The Pink, The Yellow and The B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is planet the sweets are everyw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untains are from chocolate, the rivers and the seas are from milk, the trees and the grass are from the swe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wers are from marmal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eat all what you want on this pla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are unusual to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have big and round head, but their hands and feet are s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faces are n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very kind and fun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1:58:04Z</dcterms:created>
  <dc:creator>Алексей</dc:creator>
  <dc:description/>
  <dc:language>en-US</dc:language>
  <cp:lastModifiedBy>Алексей</cp:lastModifiedBy>
  <dcterms:modified xsi:type="dcterms:W3CDTF">2009-12-08T12:47:32Z</dcterms:modified>
  <cp:revision>4</cp:revision>
  <dc:subject/>
  <dc:title>Space tourist adventure</dc:title>
</cp:coreProperties>
</file>