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2ED5-A567-4074-B512-509EBB1B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3CD-04CD-4096-A52E-C0B2FB59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C54-9DB0-4D36-8B99-124CE757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DBE-7720-49F6-B79E-89741162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285B-5177-444B-A98D-C377B069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8174-312B-49C0-B3C8-D1DF31C5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2C5D-E259-44BE-A756-34A3BA2D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A914-F731-4642-AAA0-306FB594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F06F-E106-4859-8F91-EA936330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2BD6-6E8B-4E54-AA67-71379749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82B9-44C4-49F1-8E73-47B2854F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5C2-1081-4029-B17D-8C3B023A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9296-B55A-4A09-8D87-DFBD873D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C10F-FF70-4EB7-8EA3-D711A14B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DD3E-8E11-49D2-9E59-18F5FDE0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0F7A-26E2-486B-B372-7C6C9FC2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639D-93DB-4776-A7B3-3CDB3F08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9466E-ED5D-4011-99FC-D24BBF72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D17EA-140F-4CD1-BBEC-2EC986EE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52683-ECA1-45C1-AC1A-5E8531BF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8318F-2E6D-4A08-8292-F34747EA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60826-6100-43C9-B470-92FD2744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516-9646-4B2B-9E9B-FFD4EC28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D6618-A281-4B4E-817C-002F32AD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F13F-D7A6-4436-97E6-015162A9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E1653-4993-4553-A51F-8AE73D82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BADE-6ED4-4BE1-8B36-FC9EDD26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DDAED-C904-4B7C-B00E-679EA73A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15C04-587A-457F-9415-9B13EAC4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61DF4-13AE-4A51-A59A-0001EE59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DA4DD-ECBD-46A0-8D07-5C643262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88EE9-A531-4275-AF9A-7AD311F2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18061-E5CD-42DC-8D7F-06ACA55F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614-6AC6-4DDD-98D7-CF3FE5B3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7E43A-805C-4740-84FE-0B872F4D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E42EB-FB33-4B80-B9B4-3D09D23F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91731-C5AA-4482-876F-B37F7024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96FCF-1499-4CCB-ACBB-B6B06F00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AC6E6-BEBB-41DA-B4FA-367670BF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B6D52-5779-4597-BA40-66E94E17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FBEED-8233-4315-9D86-35C3DE9C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24BF4-D1BE-4CA2-9199-4543C67D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9FE53-A470-4936-91C4-59B256A6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29F6B-8432-4201-8900-87E67E57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A21-9D61-465B-8A33-79B8A57E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89884-3D56-4659-95E1-4CEEA30A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2F3A1-9600-425F-B834-1AB6DCEC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2E800-1F22-4931-9527-A8ED987B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8D7E6-53F4-4F48-9D7B-6CF38F12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E82B3-C4CD-4D07-81F4-BD5CBCFB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6CFB6-69A5-4ADF-9334-619E5DE9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40B71-1E50-4C4E-96FA-05AB53DA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3A6E1-FDE4-4672-8CAC-0EA66634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010F3-9D00-495B-B12D-04749962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2DF66-FCE0-4E87-B30E-6DC3DFCB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6EF-18B2-4276-BAA9-9DE6C755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53184-BF83-4AF2-856E-7D386F82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6FA-CC15-4BDD-9759-88F68546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960-49BD-4921-B42C-876C9343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702-08C7-48C1-A791-0128310E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8FFE-E50B-4D2F-83F1-06420FB176A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42AF-68E9-4687-AB48-C06D4C94B2EB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B648-7EA9-4385-95CC-C186DA05030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5086-504A-4E68-ACC1-A37EF885797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E8EE-9DD0-4AA9-8BD7-BBF94122AD3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 музы не молч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ли…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Работа театров во время блокады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0" name="Picture 2" descr="C:\Users\User\Desktop\Новая папка (2)\music-1.jpg"/>
          <p:cNvPicPr/>
          <p:nvPr/>
        </p:nvPicPr>
        <p:blipFill>
          <a:blip r:embed="rId1"/>
          <a:stretch/>
        </p:blipFill>
        <p:spPr>
          <a:xfrm>
            <a:off x="539640" y="1565280"/>
            <a:ext cx="3168720" cy="4567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Users\User\Desktop\Новая папка (2)\4194.jpg"/>
          <p:cNvPicPr/>
          <p:nvPr/>
        </p:nvPicPr>
        <p:blipFill>
          <a:blip r:embed="rId2"/>
          <a:stretch/>
        </p:blipFill>
        <p:spPr>
          <a:xfrm>
            <a:off x="3851280" y="2492280"/>
            <a:ext cx="48448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Users\User\Desktop\Новая папка (2)\43042.jpg"/>
          <p:cNvPicPr/>
          <p:nvPr/>
        </p:nvPicPr>
        <p:blipFill>
          <a:blip r:embed="rId1"/>
          <a:stretch/>
        </p:blipFill>
        <p:spPr>
          <a:xfrm>
            <a:off x="250920" y="189000"/>
            <a:ext cx="4356000" cy="3217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C:\Users\User\Desktop\Новая папка (2)\1209_.jpg"/>
          <p:cNvPicPr/>
          <p:nvPr/>
        </p:nvPicPr>
        <p:blipFill>
          <a:blip r:embed="rId2"/>
          <a:stretch/>
        </p:blipFill>
        <p:spPr>
          <a:xfrm>
            <a:off x="4751280" y="189000"/>
            <a:ext cx="4392720" cy="3133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Users\User\Desktop\Новая папка (2)\music-18.jpg"/>
          <p:cNvPicPr/>
          <p:nvPr/>
        </p:nvPicPr>
        <p:blipFill>
          <a:blip r:embed="rId3"/>
          <a:stretch/>
        </p:blipFill>
        <p:spPr>
          <a:xfrm>
            <a:off x="4572000" y="3500280"/>
            <a:ext cx="4314960" cy="3168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0" y="4085640"/>
            <a:ext cx="45370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«Нашей борьбе с фашизмом, нашей грядущей победе над врагом, моему родному городу – Ленинграду я посвящаю свою Седьмую симфонию» (слова Шостаковича опубликованы газетой «Правда» 29 марта 1942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C:\Users\User\Desktop\Новая папка (2)\1844.jpg"/>
          <p:cNvPicPr/>
          <p:nvPr/>
        </p:nvPicPr>
        <p:blipFill>
          <a:blip r:embed="rId1"/>
          <a:stretch/>
        </p:blipFill>
        <p:spPr>
          <a:xfrm>
            <a:off x="900000" y="3213000"/>
            <a:ext cx="5038920" cy="3333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Users\User\Desktop\Новая папка (2)\03vrwkhve_b.jpg"/>
          <p:cNvPicPr/>
          <p:nvPr/>
        </p:nvPicPr>
        <p:blipFill>
          <a:blip r:embed="rId2"/>
          <a:stretch/>
        </p:blipFill>
        <p:spPr>
          <a:xfrm>
            <a:off x="3995640" y="0"/>
            <a:ext cx="4184640" cy="2879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Users\User\Desktop\Новая папка (2)\bilety.jpg"/>
          <p:cNvPicPr/>
          <p:nvPr/>
        </p:nvPicPr>
        <p:blipFill>
          <a:blip r:embed="rId3"/>
          <a:stretch/>
        </p:blipFill>
        <p:spPr>
          <a:xfrm>
            <a:off x="0" y="260280"/>
            <a:ext cx="3983040" cy="27860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6"/>
          <p:cNvSpPr/>
          <p:nvPr/>
        </p:nvSpPr>
        <p:spPr>
          <a:xfrm flipV="1" rot="10800000">
            <a:off x="6407280" y="1621800"/>
            <a:ext cx="2736720" cy="54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«Билеты распродаются моментально в первый же день продажи за десять дней до спектакля. В день спектакля вас встречают желающие приобрести билеты у угла Публичной библиотеки на Невском проспекте и на всем протяжении проездов по обеим сторонам Екатерининского сквера. На площади у театра целая толпа. Некоторые живут на перепродаже театральных билетов, и живут неплохо по нынешним временам. Я видел, как гражданин продавал билеты на хлеб: 200 г хлеба за каждый билет на балкон 3-его яруса» (Н. Кондратьев о Театре музыкальной комедии, 2 марта 1943 г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C:\Users\User\Desktop\Новая папка (2)\picture11.jpg"/>
          <p:cNvPicPr/>
          <p:nvPr/>
        </p:nvPicPr>
        <p:blipFill>
          <a:blip r:embed="rId1"/>
          <a:stretch/>
        </p:blipFill>
        <p:spPr>
          <a:xfrm>
            <a:off x="4500720" y="692280"/>
            <a:ext cx="4381200" cy="5584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C:\Users\User\Desktop\Новая папка (2)\_-0hJLaPhkw.jpg"/>
          <p:cNvPicPr/>
          <p:nvPr/>
        </p:nvPicPr>
        <p:blipFill>
          <a:blip r:embed="rId2"/>
          <a:stretch/>
        </p:blipFill>
        <p:spPr>
          <a:xfrm>
            <a:off x="250920" y="549360"/>
            <a:ext cx="4213080" cy="26827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 flipV="1" rot="10800000">
            <a:off x="-360" y="4243680"/>
            <a:ext cx="44276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«Хочется концертной музыки &lt;…&gt;. Филармония, за белыми колоннами, на красном диванчике… Полузакрыть глаза и слушать» (врач – терапевт М. Тушинский в письме на Большую землю, 2 апреля 1942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C:\Users\User\Desktop\Новая папка (2)\52.jpeg"/>
          <p:cNvPicPr/>
          <p:nvPr/>
        </p:nvPicPr>
        <p:blipFill>
          <a:blip r:embed="rId1"/>
          <a:stretch/>
        </p:blipFill>
        <p:spPr>
          <a:xfrm>
            <a:off x="2050920" y="0"/>
            <a:ext cx="4467240" cy="3359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Users\User\Desktop\Новая папка (2)\silva.JPG"/>
          <p:cNvPicPr/>
          <p:nvPr/>
        </p:nvPicPr>
        <p:blipFill>
          <a:blip r:embed="rId2"/>
          <a:stretch/>
        </p:blipFill>
        <p:spPr>
          <a:xfrm>
            <a:off x="5724360" y="1844640"/>
            <a:ext cx="3419640" cy="4842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Users\User\Desktop\Новая папка (2)\004-blokada.jpg"/>
          <p:cNvPicPr/>
          <p:nvPr/>
        </p:nvPicPr>
        <p:blipFill>
          <a:blip r:embed="rId3"/>
          <a:stretch/>
        </p:blipFill>
        <p:spPr>
          <a:xfrm>
            <a:off x="468360" y="2332080"/>
            <a:ext cx="293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Calibri"/>
              </a:rPr>
              <a:t>Краткая хроника культурной жизни Ленинграда 1941-1943 гг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Users\User\Desktop\Новая папка (2)\0_6ba33_92a2ffb0_XL.jpg"/>
          <p:cNvPicPr/>
          <p:nvPr/>
        </p:nvPicPr>
        <p:blipFill>
          <a:blip r:embed="rId1"/>
          <a:stretch/>
        </p:blipFill>
        <p:spPr>
          <a:xfrm>
            <a:off x="395280" y="0"/>
            <a:ext cx="4659480" cy="3124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C:\Users\User\Desktop\Новая папка (2)\44_29_01.jpg"/>
          <p:cNvPicPr/>
          <p:nvPr/>
        </p:nvPicPr>
        <p:blipFill>
          <a:blip r:embed="rId2"/>
          <a:stretch/>
        </p:blipFill>
        <p:spPr>
          <a:xfrm>
            <a:off x="179280" y="3179880"/>
            <a:ext cx="3168720" cy="3678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C:\Users\User\Desktop\Новая папка (2)\2181438.jpg"/>
          <p:cNvPicPr/>
          <p:nvPr/>
        </p:nvPicPr>
        <p:blipFill>
          <a:blip r:embed="rId3"/>
          <a:stretch/>
        </p:blipFill>
        <p:spPr>
          <a:xfrm>
            <a:off x="3276720" y="2495520"/>
            <a:ext cx="3057480" cy="4362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C:\Users\User\Desktop\Новая папка (2)\AFISHA_1.jpg"/>
          <p:cNvPicPr/>
          <p:nvPr/>
        </p:nvPicPr>
        <p:blipFill>
          <a:blip r:embed="rId4"/>
          <a:stretch/>
        </p:blipFill>
        <p:spPr>
          <a:xfrm>
            <a:off x="6016680" y="0"/>
            <a:ext cx="3127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971280" y="-360"/>
            <a:ext cx="6778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5 октября Оставшиеся в Лен-де студенты Консерватории приступают к занятиям (132 человека)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8 октября ГК ВКП (б) утвердил предложение «Ленфильма» о создании документально-художественного фильма«Героическая оборона Ленинграда»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9 октября В Эрмитаже прошло Торжественное заседание, посвященное 800-летию со дня рождения великого Азербайджанского поэта Низами Ганджеви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26 октября В театрах воскресная программа. Ленинского Комсомола- «Забавный случай» К.Гольдони, Филармония – Каменский исп. Чайковского2 ноября В Филармонии Концерт оркестра русских народных инструментов им. Андреева (Глинка, Чайковский, Глазунов и др.)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20 ноября Возобновились оперные спектакли: в Госнардоме «Евгений Онегин»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30 ноября Из-за обстрела отменен концерт в Филармонии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7 декабря Филармония –симфонич. оркестр Радиокомитета в сопровожд. Духового оркестра Гарнизона – Чайковский «1812» Увертюра. Музкомедия – «Три мушкетера» — во время спектакля от истощения умер артист хора А.Абрамов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2 декабря Эрмитаж. Заседание отдела Востока в честь 500-летия великого узбекского поэта Алишера Навои.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23 декабря В Академии Художеств открыта выставка дипломных работ2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5 декабря Театр Музкомедии начал работу в театре Пушкин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30 декабря Из Ленинграда на фронт выехали 18 концертных бригад</a:t>
            </a:r>
            <a:r>
              <a:rPr b="1" lang="ru-RU" sz="900" spc="-1" strike="noStrike">
                <a:solidFill>
                  <a:srgbClr val="000000"/>
                </a:solidFill>
                <a:latin typeface="Cambria"/>
              </a:rPr>
              <a:t>1942 г. 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 января5 театров Лен-да давали спектакли. Музкомедия, Ленком, Ленсовета. В 8 кинотеатрах – художественные фильмы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4 января Театральный Агитвзвод Дома Кр.Армии выехал в 55-ую армию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6 января Новогодний праздник в Малом оперном – спект. «Овод»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1 январяВ Лен-де даны два внеплановых концерта: Дом Кр.Армии — фронтовой Ансамбль песни и пляски, Консерватория – (в кабинете директора) Отчетный концерт кафедры камерного пения. Кнцерт проходил при фонаре «Летучая мышь». (работают факультеты: вокальный, фортепианный и историко-теоретический)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22 января Архитектор А.Никольский создает проекты Триумфальных арок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8 февраля ГК партии поддержал предложение Союза художников о подготовке выставки произведений «Лен-д в дни Великой Отечественной войны“. Ленгорисполком: “ продлить выдачу супов на февраль без карточек для актеров и обслуж. персонала действующих театров» 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28 февраля Решение ГК партии: в снабжение электроэнергией включить т-р Музкомедии. после перерыва с серед. января. 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4 марта первый спектакль «Сильва»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8 марта Открылись кинотеатры «Молодежный», «Ударник», «Аврора». К концу месяца откроются кинотеатры во всех районах.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2 марта Горком постановил наладить выпуск киножурналов и кинокартин, посвященных обороне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3 марта С началом концертов эстрады, Ансамбля КБФ и Красноармейского, принято решение включить Филармонию в систему энергоснабжения.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8 марта Премьера в Музкомедии – «Любовь моряка»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13:25:42Z</dcterms:created>
  <dc:creator>User</dc:creator>
  <dc:description/>
  <dc:language>en-US</dc:language>
  <cp:lastModifiedBy>-</cp:lastModifiedBy>
  <dcterms:modified xsi:type="dcterms:W3CDTF">2014-01-23T05:00:37Z</dcterms:modified>
  <cp:revision>12</cp:revision>
  <dc:subject/>
  <dc:title>А музы не молчат..</dc:title>
</cp:coreProperties>
</file>