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406C-C363-43AD-BEC4-00DC6F842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DCE5-350F-4B02-A913-42877AAD6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5C0F-A739-4A70-8C51-0E5EDE0D7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FB57-B0E9-4A69-89D5-3B0559008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5D10D-2650-4E29-8080-E70D0871F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4F763-5D71-4615-8C4E-9464F73C3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84B95-EC52-4408-8770-19A44D5C2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B3E62-B92D-401E-BF84-CA1A88757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81CBB-4939-4696-9D43-9551B39ED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081A5-99FF-4EB2-806D-A5D7761D1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22DE3-9F69-4039-AB99-DF98D25E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7986-E166-4564-A792-80AF54C1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53A8C-8DA3-40B2-8F17-F9780021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25849-5B11-4807-99A7-8528DBE2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A0647-9305-4DE3-8C32-A8FDC961E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34619-A297-4B67-87D8-3264DE0DB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BC5DF-6B91-4E55-A2C7-AEA8FB4AF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FE9F1-C1A7-4D71-B8EF-125F8D18C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8FFD3-0823-47CE-B1DA-4132DF3C7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C54EC-C78E-43FF-BAC1-B5A4FCF58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C558F-A6F3-48C3-B6BF-EBFC11BF7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79CD3-7217-4BD2-8703-E2BCC20F1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AD79-FA7A-46BB-B7E8-FB1F09F19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23A79-C3FB-41B0-9BB9-AED356FFB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28663-DC31-4453-81C5-C1508EE1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FE151-99E8-45A9-88B0-C400685B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8AFB7-E640-488C-8840-79D61A31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87FAE-29AE-448C-BEC6-AF4C2EC1C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86E93-47A6-45FD-8997-9413864C9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0B4EA-7D4E-4498-B2C2-8DED99BB7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C7C5C-0A3C-4988-B059-8C898E148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D4023-2522-4830-8878-ECD2E8CAC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49387-1258-4617-9EC1-6E1536CB9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9A77-ADD0-4C87-B8E6-4247DEAF8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16C95-DB82-4F23-A089-D16499CE2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FA4E9-35AA-451F-BBE1-50A304161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DE402-DDB1-4E45-A8EC-7BDD79827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D92E7-4465-4104-A22A-C77E7301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03252-FEDF-42D2-8251-FBF92411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1D59E-3460-42D4-B222-47E13447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80045-6F6A-4253-998E-E240B0865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64A56-B3AC-4F29-97AF-70D4C8B47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45E2E-950D-4B57-B86D-965035D40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D9F0E-D435-49F7-9C18-B500E78C2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3841-D304-4F82-A375-CB93935C8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9480F-01BE-41A9-92D0-B33B8FBF4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6D098-492B-49C8-B1BB-94D6846DA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F563F-E8D0-43CB-98D7-81D50B47A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7A42A-337D-4690-99FB-F50D7B701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F6922-D58D-4ACE-8A14-E6F11F60E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B704F-A032-489A-AA35-AF0C5B4E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9782C-6F0F-4455-888D-B24E0218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4A666-D85E-4619-9EB5-D2EC98B8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45B5F-3B74-44D4-9ECD-443EFA5E7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AA322-718C-4356-912B-B0DB28ED1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ACFF-13E0-490F-B71B-26A5899D8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FE3AA-73BA-4CF9-8029-2B2365ADB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0AD2-E3F4-44E2-BBE1-4E93F56C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7798-3FDA-4EF5-A07B-C9F3A887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9ECC-AA7B-4C57-B79C-B73BE3C1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07C90-7781-463D-8FD8-0C13A677C776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D97A-FE65-4458-B72C-B4ED81185A99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5FDEE-3D61-4907-8440-F2C572FF9E2A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4DF60-C5E9-4B0A-BFE9-3442517EAD35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527EC-190D-41EA-8E9E-59568B9368B5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А музы не молч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али…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Работа театров во время блокады 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30" name="Picture 2" descr="C:\Users\User\Desktop\Новая папка (2)\music-1.jpg"/>
          <p:cNvPicPr/>
          <p:nvPr/>
        </p:nvPicPr>
        <p:blipFill>
          <a:blip r:embed="rId1"/>
          <a:stretch/>
        </p:blipFill>
        <p:spPr>
          <a:xfrm>
            <a:off x="539640" y="1565280"/>
            <a:ext cx="3168720" cy="45673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C:\Users\User\Desktop\Новая папка (2)\4194.jpg"/>
          <p:cNvPicPr/>
          <p:nvPr/>
        </p:nvPicPr>
        <p:blipFill>
          <a:blip r:embed="rId2"/>
          <a:stretch/>
        </p:blipFill>
        <p:spPr>
          <a:xfrm>
            <a:off x="3851280" y="2492280"/>
            <a:ext cx="484488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C:\Users\User\Desktop\Новая папка (2)\43042.jpg"/>
          <p:cNvPicPr/>
          <p:nvPr/>
        </p:nvPicPr>
        <p:blipFill>
          <a:blip r:embed="rId1"/>
          <a:stretch/>
        </p:blipFill>
        <p:spPr>
          <a:xfrm>
            <a:off x="250920" y="189000"/>
            <a:ext cx="4356000" cy="32176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" descr="C:\Users\User\Desktop\Новая папка (2)\1209_.jpg"/>
          <p:cNvPicPr/>
          <p:nvPr/>
        </p:nvPicPr>
        <p:blipFill>
          <a:blip r:embed="rId2"/>
          <a:stretch/>
        </p:blipFill>
        <p:spPr>
          <a:xfrm>
            <a:off x="4751280" y="189000"/>
            <a:ext cx="4392720" cy="31338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C:\Users\User\Desktop\Новая папка (2)\music-18.jpg"/>
          <p:cNvPicPr/>
          <p:nvPr/>
        </p:nvPicPr>
        <p:blipFill>
          <a:blip r:embed="rId3"/>
          <a:stretch/>
        </p:blipFill>
        <p:spPr>
          <a:xfrm>
            <a:off x="4572000" y="3500280"/>
            <a:ext cx="4314960" cy="316872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5"/>
          <p:cNvSpPr/>
          <p:nvPr/>
        </p:nvSpPr>
        <p:spPr>
          <a:xfrm>
            <a:off x="0" y="4085640"/>
            <a:ext cx="4537080" cy="20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«Нашей борьбе с фашизмом, нашей грядущей победе над врагом, моему родному городу – Ленинграду я посвящаю свою Седьмую симфонию» (слова Шостаковича опубликованы газетой «Правда» 29 марта 1942 г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3" descr="C:\Users\User\Desktop\Новая папка (2)\1844.jpg"/>
          <p:cNvPicPr/>
          <p:nvPr/>
        </p:nvPicPr>
        <p:blipFill>
          <a:blip r:embed="rId1"/>
          <a:stretch/>
        </p:blipFill>
        <p:spPr>
          <a:xfrm>
            <a:off x="900000" y="3213000"/>
            <a:ext cx="5038920" cy="33339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C:\Users\User\Desktop\Новая папка (2)\03vrwkhve_b.jpg"/>
          <p:cNvPicPr/>
          <p:nvPr/>
        </p:nvPicPr>
        <p:blipFill>
          <a:blip r:embed="rId2"/>
          <a:stretch/>
        </p:blipFill>
        <p:spPr>
          <a:xfrm>
            <a:off x="3995640" y="0"/>
            <a:ext cx="4184640" cy="28796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C:\Users\User\Desktop\Новая папка (2)\bilety.jpg"/>
          <p:cNvPicPr/>
          <p:nvPr/>
        </p:nvPicPr>
        <p:blipFill>
          <a:blip r:embed="rId3"/>
          <a:stretch/>
        </p:blipFill>
        <p:spPr>
          <a:xfrm>
            <a:off x="0" y="260280"/>
            <a:ext cx="3983040" cy="278604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6"/>
          <p:cNvSpPr/>
          <p:nvPr/>
        </p:nvSpPr>
        <p:spPr>
          <a:xfrm flipV="1" rot="10800000">
            <a:off x="6407280" y="1621800"/>
            <a:ext cx="2736720" cy="542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«Билеты распродаются моментально в первый же день продажи за десять дней до спектакля. В день спектакля вас встречают желающие приобрести билеты у угла Публичной библиотеки на Невском проспекте и на всем протяжении проездов по обеим сторонам Екатерининского сквера. На площади у театра целая толпа. Некоторые живут на перепродаже театральных билетов, и живут неплохо по нынешним временам. Я видел, как гражданин продавал билеты на хлеб: 200 г хлеба за каждый билет на балкон 3-его яруса» (Н. Кондратьев о Театре музыкальной комедии, 2 марта 1943 г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3" descr="C:\Users\User\Desktop\Новая папка (2)\picture11.jpg"/>
          <p:cNvPicPr/>
          <p:nvPr/>
        </p:nvPicPr>
        <p:blipFill>
          <a:blip r:embed="rId1"/>
          <a:stretch/>
        </p:blipFill>
        <p:spPr>
          <a:xfrm>
            <a:off x="4500720" y="692280"/>
            <a:ext cx="4381200" cy="55846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C:\Users\User\Desktop\Новая папка (2)\_-0hJLaPhkw.jpg"/>
          <p:cNvPicPr/>
          <p:nvPr/>
        </p:nvPicPr>
        <p:blipFill>
          <a:blip r:embed="rId2"/>
          <a:stretch/>
        </p:blipFill>
        <p:spPr>
          <a:xfrm>
            <a:off x="250920" y="549360"/>
            <a:ext cx="4213080" cy="268272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5"/>
          <p:cNvSpPr/>
          <p:nvPr/>
        </p:nvSpPr>
        <p:spPr>
          <a:xfrm flipV="1" rot="10800000">
            <a:off x="-360" y="4243680"/>
            <a:ext cx="442764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«Хочется концертной музыки &lt;…&gt;. Филармония, за белыми колоннами, на красном диванчике… Полузакрыть глаза и слушать» (врач – терапевт М. Тушинский в письме на Большую землю, 2 апреля 1942 г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3" descr="C:\Users\User\Desktop\Новая папка (2)\52.jpeg"/>
          <p:cNvPicPr/>
          <p:nvPr/>
        </p:nvPicPr>
        <p:blipFill>
          <a:blip r:embed="rId1"/>
          <a:stretch/>
        </p:blipFill>
        <p:spPr>
          <a:xfrm>
            <a:off x="2050920" y="0"/>
            <a:ext cx="4467240" cy="33591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" descr="C:\Users\User\Desktop\Новая папка (2)\silva.JPG"/>
          <p:cNvPicPr/>
          <p:nvPr/>
        </p:nvPicPr>
        <p:blipFill>
          <a:blip r:embed="rId2"/>
          <a:stretch/>
        </p:blipFill>
        <p:spPr>
          <a:xfrm>
            <a:off x="5724360" y="1844640"/>
            <a:ext cx="3419640" cy="48420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" descr="C:\Users\User\Desktop\Новая папка (2)\004-blokada.jpg"/>
          <p:cNvPicPr/>
          <p:nvPr/>
        </p:nvPicPr>
        <p:blipFill>
          <a:blip r:embed="rId3"/>
          <a:stretch/>
        </p:blipFill>
        <p:spPr>
          <a:xfrm>
            <a:off x="468360" y="2332080"/>
            <a:ext cx="2930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6920" y="23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96464"/>
                </a:solidFill>
                <a:latin typeface="Calibri"/>
              </a:rPr>
              <a:t>Краткая хроника культурной жизни Ленинграда 1941-1943 гг.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C:\Users\User\Desktop\Новая папка (2)\0_6ba33_92a2ffb0_XL.jpg"/>
          <p:cNvPicPr/>
          <p:nvPr/>
        </p:nvPicPr>
        <p:blipFill>
          <a:blip r:embed="rId1"/>
          <a:stretch/>
        </p:blipFill>
        <p:spPr>
          <a:xfrm>
            <a:off x="395280" y="0"/>
            <a:ext cx="4659480" cy="31240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C:\Users\User\Desktop\Новая папка (2)\44_29_01.jpg"/>
          <p:cNvPicPr/>
          <p:nvPr/>
        </p:nvPicPr>
        <p:blipFill>
          <a:blip r:embed="rId2"/>
          <a:stretch/>
        </p:blipFill>
        <p:spPr>
          <a:xfrm>
            <a:off x="179280" y="3179880"/>
            <a:ext cx="3168720" cy="36781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C:\Users\User\Desktop\Новая папка (2)\2181438.jpg"/>
          <p:cNvPicPr/>
          <p:nvPr/>
        </p:nvPicPr>
        <p:blipFill>
          <a:blip r:embed="rId3"/>
          <a:stretch/>
        </p:blipFill>
        <p:spPr>
          <a:xfrm>
            <a:off x="3276720" y="2495520"/>
            <a:ext cx="3057480" cy="43624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C:\Users\User\Desktop\Новая папка (2)\AFISHA_1.jpg"/>
          <p:cNvPicPr/>
          <p:nvPr/>
        </p:nvPicPr>
        <p:blipFill>
          <a:blip r:embed="rId4"/>
          <a:stretch/>
        </p:blipFill>
        <p:spPr>
          <a:xfrm>
            <a:off x="6016680" y="0"/>
            <a:ext cx="31273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971280" y="-360"/>
            <a:ext cx="677844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mbria"/>
              </a:rPr>
              <a:t>15 октября Оставшиеся в Лен-де студенты Консерватории приступают к занятиям (132 человека)</a:t>
            </a: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mbri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Cambria"/>
              </a:rPr>
              <a:t>18 октября ГК ВКП (б) утвердил предложение «Ленфильма» о создании документально-художественного фильма«Героическая оборона Ленинграда»</a:t>
            </a: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mbria"/>
              </a:rPr>
              <a:t>19 октября В Эрмитаже прошло Торжественное заседание, посвященное 800-летию со дня рождения великого Азербайджанского поэта Низами Ганджеви</a:t>
            </a: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mbria"/>
              </a:rPr>
              <a:t>26 октября В театрах воскресная программа. Ленинского Комсомола- «Забавный случай» К.Гольдони, Филармония – Каменский исп. Чайковского2 ноября В Филармонии Концерт оркестра русских народных инструментов им. Андреева (Глинка, Чайковский, Глазунов и др.)</a:t>
            </a: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mbria"/>
              </a:rPr>
              <a:t>20 ноября Возобновились оперные спектакли: в Госнардоме «Евгений Онегин»</a:t>
            </a: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mbria"/>
              </a:rPr>
              <a:t>30 ноября Из-за обстрела отменен концерт в Филармонии</a:t>
            </a: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mbria"/>
              </a:rPr>
              <a:t>7 декабря Филармония –симфонич. оркестр Радиокомитета в сопровожд. Духового оркестра Гарнизона – Чайковский «1812» Увертюра. Музкомедия – «Три мушкетера» — во время спектакля от истощения умер артист хора А.Абрамов</a:t>
            </a: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mbria"/>
              </a:rPr>
              <a:t>12 декабря Эрмитаж. Заседание отдела Востока в честь 500-летия великого узбекского поэта Алишера Навои.</a:t>
            </a: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mbria"/>
              </a:rPr>
              <a:t>23 декабря В Академии Художеств открыта выставка дипломных работ2</a:t>
            </a: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mbria"/>
              </a:rPr>
              <a:t>5 декабря Театр Музкомедии начал работу в театре Пушкина</a:t>
            </a: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mbria"/>
              </a:rPr>
              <a:t>30 декабря Из Ленинграда на фронт выехали 18 концертных бригад</a:t>
            </a:r>
            <a:r>
              <a:rPr b="1" lang="ru-RU" sz="900" spc="-1" strike="noStrike">
                <a:solidFill>
                  <a:srgbClr val="000000"/>
                </a:solidFill>
                <a:latin typeface="Cambria"/>
              </a:rPr>
              <a:t>1942 г. </a:t>
            </a: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mbria"/>
              </a:rPr>
              <a:t>1 января5 театров Лен-да давали спектакли. Музкомедия, Ленком, Ленсовета. В 8 кинотеатрах – художественные фильмы</a:t>
            </a: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mbria"/>
              </a:rPr>
              <a:t>4 января Театральный Агитвзвод Дома Кр.Армии выехал в 55-ую армию</a:t>
            </a: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mbria"/>
              </a:rPr>
              <a:t>6 января Новогодний праздник в Малом оперном – спект. «Овод»</a:t>
            </a: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mbria"/>
              </a:rPr>
              <a:t>11 январяВ Лен-де даны два внеплановых концерта: Дом Кр.Армии — фронтовой Ансамбль песни и пляски, Консерватория – (в кабинете директора) Отчетный концерт кафедры камерного пения. Кнцерт проходил при фонаре «Летучая мышь». (работают факультеты: вокальный, фортепианный и историко-теоретический)</a:t>
            </a: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mbria"/>
              </a:rPr>
              <a:t>22 января Архитектор А.Никольский создает проекты Триумфальных арок</a:t>
            </a: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mbria"/>
              </a:rPr>
              <a:t>8 февраля ГК партии поддержал предложение Союза художников о подготовке выставки произведений «Лен-д в дни Великой Отечественной войны“. Ленгорисполком: “ продлить выдачу супов на февраль без карточек для актеров и обслуж. персонала действующих театров» </a:t>
            </a: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mbria"/>
              </a:rPr>
              <a:t>28 февраля Решение ГК партии: в снабжение электроэнергией включить т-р Музкомедии. после перерыва с серед. января. </a:t>
            </a: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mbria"/>
              </a:rPr>
              <a:t>4 марта первый спектакль «Сильва»</a:t>
            </a: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mbria"/>
              </a:rPr>
              <a:t>8 марта Открылись кинотеатры «Молодежный», «Ударник», «Аврора». К концу месяца откроются кинотеатры во всех районах.</a:t>
            </a: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mbria"/>
              </a:rPr>
              <a:t>12 марта Горком постановил наладить выпуск киножурналов и кинокартин, посвященных обороне</a:t>
            </a: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mbri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Cambria"/>
              </a:rPr>
              <a:t>13 марта С началом концертов эстрады, Ансамбля КБФ и Красноармейского, принято решение включить Филармонию в систему энергоснабжения.</a:t>
            </a: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mbria"/>
              </a:rPr>
              <a:t>18 марта Премьера в Музкомедии – «Любовь моряка»</a:t>
            </a: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2T13:25:42Z</dcterms:created>
  <dc:creator>User</dc:creator>
  <dc:description/>
  <dc:language>en-US</dc:language>
  <cp:lastModifiedBy>-</cp:lastModifiedBy>
  <dcterms:modified xsi:type="dcterms:W3CDTF">2014-01-23T05:00:37Z</dcterms:modified>
  <cp:revision>12</cp:revision>
  <dc:subject/>
  <dc:title>А музы не молчат..</dc:title>
</cp:coreProperties>
</file>