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8D18-83C5-4317-A820-2F8A1643F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97F6-EABA-4DCD-B131-32DA65A1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C8F3-B27E-4671-B024-617B553D8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467F-E52B-4D1C-A106-CEA37A978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E45C-916A-4512-BE8C-AE0C91599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E12E3-18BF-4907-8E6D-AEEF539D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BEBB-2BDE-4F3A-8376-6847EDEC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7E76-157F-4037-8A95-2FC79AF4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0EA1-FC85-4524-9C24-E89DED08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29823-87F6-4B11-8A57-51ABC15E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A598-334C-445B-A14C-2D750929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010C-B142-48BB-B84B-052B1AC1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BB70-E15B-45A9-A02E-20DE9BE6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FC196-A85B-434F-9FD9-ACABDC27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229D-0965-4FC3-9622-63311425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161B-7239-44F2-9D74-7035DFFE2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BBC9-08B1-4CA3-842D-EF43033A9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550D2-B8C4-4C42-A443-7549C1A58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BA7B1-2484-4A4D-8FB1-40250D78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21FDD-899C-4D9A-9774-E80AEE61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E4C8C-133A-4C8B-936A-B5CF90BC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96A4D-4104-41F4-A082-5FE486E9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0211-B6C8-4494-8A48-46F05E9A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7C342-C871-4C67-9248-F491E389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47B75-15C9-437F-BD0C-F2F11A7E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CFBB5-1864-41CA-BB06-825FDF9F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086FF-EEF4-4549-B33F-13CAB0FE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65848-D6FB-4F82-9DBE-9813E9DA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5E0DE-C68C-4BCE-A192-A59ED6833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D9331-1FFE-49EA-8CFA-919C9D957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B5EA1-C7B2-46F7-AF4A-356C2D3CE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B422A-0DA7-4F97-820F-016EC52B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E6223-C767-4184-84D0-9847FE2E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9891-E398-4604-9CA5-742240CB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EE622-4D77-4CDD-86AD-FCC12CEF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F4212-3EA4-4EC0-85F2-91F59B63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BAA4A-DD56-4C57-B6B7-1590BFFF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2DEA8-F660-43B1-AB9F-2A1E7DAE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E6AED-2DCC-452D-BA98-D7AD0EDA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89A2A-CB31-4A29-BE5C-C14FC5D0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7EB74-17C1-4B03-8C04-04293B09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9A46D-057D-4D2B-911A-F1D113C1D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967CD-6743-4E5B-867F-A3CB55285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CEA1F-1693-419E-A8A8-23A225816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6EB4-5CAE-4002-AA2E-232DE187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AF30C-BFB3-4C63-A423-7CE09B6D1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18800-56BC-47CC-B5DC-3B7367DF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2A036-9BA2-4A2E-BF09-2C91D0E4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7D1B4-C73F-4FB8-90B5-A701F50E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1B348-BAD0-4C1D-90B2-AD09A8BE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9962B-A8B0-4C5E-A0B7-EDD1D93D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067BF-BC33-4813-BB5A-F253F39A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88817-6FE6-4485-BF24-2E838A53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D448A-435D-4A71-8309-21E69013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D35FC-9EE2-476D-8152-509CC9971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1BAC-C3AE-4FAD-9C7D-54BA1D89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E7097-C693-4DEB-9AEC-661813E25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DC8BA-6661-4010-9B1E-9BF10CB32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A3F82-E8BB-4EB9-86D6-86746750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C0EE7-0486-449F-8405-179F78E1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A59F9-2778-49A8-AAE8-AB2B6C5D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6A472-26B8-4C40-B55E-95053B79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48AB6-5AB7-43D5-8186-86D51F47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75029-91D1-4550-8365-2B663DC8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95134-E9A4-45CF-9DF1-A48193A4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09978-D980-40D3-8CD9-4567AC2B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B77E-0DBB-467A-B002-02E7CD35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A98B0-04A2-4C26-8BEA-6F0DBBF3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83AE9-23E3-46A2-8B27-18C1E34A7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382ED-A9FA-42A9-BD2D-94B720AF8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D6B95-C4CD-4281-AC5F-9BC48659D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87803-E379-41ED-A0BD-99C9222B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2876C-A023-4E31-9FFF-3DB4357E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C10CD-9547-4D8E-9FB2-FCB05211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1FACD-CE2A-49A0-BEC4-F3A42F4D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F7700-D492-4674-A9A8-85BA7BCE5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2B8B4-6FD3-4363-8C27-C048761A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522B-510B-4A2B-B77F-84CCB577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D6C8D-D0D9-4D27-95B0-9E9145A9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BCFF9-2EB3-456D-9B57-DB510C8E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B1B1E-1902-4906-BB29-46D4D55D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80761-46A4-44E6-BB53-92D681817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3C965-E24B-46B6-A428-3376189AD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151A-816D-43F2-8A1F-50F88770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950F-7013-41C3-8013-38CA76CE27D4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C501-9BF2-4995-B0EC-D7C95A26AE4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6375-8E7A-4B61-A7ED-4E9E6EDBEBA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F20D-04ED-40B1-90B3-E7166D014D9D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ABA0B-C783-4C0E-BCF2-E0DB57D84251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13E3-1C19-4764-83C3-946935F6664E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8AD8-AA46-4CA5-8CB7-541FF16F4AB0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1"/>
          <a:stretch/>
        </p:blipFill>
        <p:spPr>
          <a:xfrm>
            <a:off x="712800" y="360360"/>
            <a:ext cx="7772400" cy="12859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56760" y="1142640"/>
            <a:ext cx="8572680" cy="342900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marL="63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orbel"/>
            </a:endParaRPr>
          </a:p>
          <a:p>
            <a:pPr marL="63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orbel"/>
            </a:endParaRPr>
          </a:p>
          <a:p>
            <a:pPr marL="633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633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Arial"/>
                <a:ea typeface="Arial"/>
              </a:rPr>
              <a:t>Тест по музыке для 2 класса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633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Arial"/>
                <a:ea typeface="Arial"/>
              </a:rPr>
              <a:t> </a:t>
            </a:r>
            <a:r>
              <a:rPr b="0" lang="ru-RU" sz="4000" spc="-1" strike="noStrike">
                <a:solidFill>
                  <a:srgbClr val="00b0f0"/>
                </a:solidFill>
                <a:latin typeface="Arial"/>
                <a:ea typeface="Arial"/>
              </a:rPr>
              <a:t>2 четверть.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633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633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Arial"/>
                <a:ea typeface="Arial"/>
              </a:rPr>
              <a:t>       </a:t>
            </a:r>
            <a:r>
              <a:rPr b="0" lang="ru-RU" sz="2400" spc="-1" strike="noStrike">
                <a:solidFill>
                  <a:srgbClr val="00b0f0"/>
                </a:solidFill>
                <a:latin typeface="Arial"/>
                <a:ea typeface="Arial"/>
              </a:rPr>
              <a:t>Составил учитель музыки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633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b0f0"/>
                </a:solidFill>
                <a:latin typeface="Arial"/>
                <a:ea typeface="Arial"/>
              </a:rPr>
              <a:t>Прокопенко Владимир Васильевич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Скругленный прямоугольник 3"/>
          <p:cNvSpPr/>
          <p:nvPr/>
        </p:nvSpPr>
        <p:spPr>
          <a:xfrm>
            <a:off x="1285920" y="5942160"/>
            <a:ext cx="2000160" cy="4284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Скругленный прямоугольник 5"/>
          <p:cNvSpPr/>
          <p:nvPr/>
        </p:nvSpPr>
        <p:spPr>
          <a:xfrm>
            <a:off x="5286240" y="5942160"/>
            <a:ext cx="2000520" cy="4284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Скругленный прямоугольник 7"/>
          <p:cNvSpPr/>
          <p:nvPr/>
        </p:nvSpPr>
        <p:spPr>
          <a:xfrm>
            <a:off x="3071880" y="50133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одзаголовок 2"/>
          <p:cNvSpPr/>
          <p:nvPr/>
        </p:nvSpPr>
        <p:spPr>
          <a:xfrm>
            <a:off x="250920" y="6453360"/>
            <a:ext cx="85723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457200" y="1285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309240" indent="-309240" algn="ctr">
              <a:lnSpc>
                <a:spcPct val="80000"/>
              </a:lnSpc>
              <a:buClr>
                <a:srgbClr val="e66c7d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09240" indent="-309240" algn="ctr">
              <a:lnSpc>
                <a:spcPct val="80000"/>
              </a:lnSpc>
              <a:buClr>
                <a:srgbClr val="e66c7d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Народные праздники ?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Скругленный прямоугольник 13"/>
          <p:cNvSpPr/>
          <p:nvPr/>
        </p:nvSpPr>
        <p:spPr>
          <a:xfrm>
            <a:off x="1214280" y="3857760"/>
            <a:ext cx="321480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ожд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Скругленный прямоугольник 14"/>
          <p:cNvSpPr/>
          <p:nvPr/>
        </p:nvSpPr>
        <p:spPr>
          <a:xfrm>
            <a:off x="5072040" y="3929040"/>
            <a:ext cx="335772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овый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e66c7d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a6378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Скругленный прямоугольник 10"/>
          <p:cNvSpPr/>
          <p:nvPr/>
        </p:nvSpPr>
        <p:spPr>
          <a:xfrm>
            <a:off x="2857680" y="2357280"/>
            <a:ext cx="335736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8 ма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3" descr=""/>
          <p:cNvPicPr/>
          <p:nvPr/>
        </p:nvPicPr>
        <p:blipFill>
          <a:blip r:embed="rId2"/>
          <a:stretch/>
        </p:blipFill>
        <p:spPr>
          <a:xfrm>
            <a:off x="8002440" y="0"/>
            <a:ext cx="1141560" cy="130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12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126" nodeType="clickEffect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13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134" nodeType="clickEffect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14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то сочинил песню«Перепелочка» 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Скругленный прямоугольник 3"/>
          <p:cNvSpPr/>
          <p:nvPr/>
        </p:nvSpPr>
        <p:spPr>
          <a:xfrm>
            <a:off x="714240" y="4357800"/>
            <a:ext cx="3286440" cy="121428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еларусский на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Скругленный прямоугольник 5"/>
          <p:cNvSpPr/>
          <p:nvPr/>
        </p:nvSpPr>
        <p:spPr>
          <a:xfrm>
            <a:off x="5072040" y="4286160"/>
            <a:ext cx="342900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Чайк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3" descr=""/>
          <p:cNvPicPr/>
          <p:nvPr/>
        </p:nvPicPr>
        <p:blipFill>
          <a:blip r:embed="rId2"/>
          <a:stretch/>
        </p:blipFill>
        <p:spPr>
          <a:xfrm>
            <a:off x="8002440" y="0"/>
            <a:ext cx="1141560" cy="13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457200" y="121392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уда полез медведь на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Скругленный прямоугольник 13"/>
          <p:cNvSpPr/>
          <p:nvPr/>
        </p:nvSpPr>
        <p:spPr>
          <a:xfrm>
            <a:off x="3500280" y="2714760"/>
            <a:ext cx="228600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ос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Скругленный прямоугольник 15"/>
          <p:cNvSpPr/>
          <p:nvPr/>
        </p:nvSpPr>
        <p:spPr>
          <a:xfrm>
            <a:off x="500040" y="4000680"/>
            <a:ext cx="242892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ерез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Скругленный прямоугольник 16"/>
          <p:cNvSpPr/>
          <p:nvPr/>
        </p:nvSpPr>
        <p:spPr>
          <a:xfrm>
            <a:off x="6286680" y="3929040"/>
            <a:ext cx="250020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Ел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e66c7d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a6378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2"/>
          <a:stretch/>
        </p:blipFill>
        <p:spPr>
          <a:xfrm>
            <a:off x="8002440" y="0"/>
            <a:ext cx="1141560" cy="130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143" nodeType="clickEffect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14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151" nodeType="clickEffect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15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159" nodeType="clickEffect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16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Как называется произведение  Д. Кабалевского в котором показаны девочки с разным характером ?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Кликните на правильный ответ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Скругленный прямоугольник 3"/>
          <p:cNvSpPr/>
          <p:nvPr/>
        </p:nvSpPr>
        <p:spPr>
          <a:xfrm>
            <a:off x="714240" y="4357800"/>
            <a:ext cx="3286440" cy="121428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ри подруж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Скругленный прямоугольник 5"/>
          <p:cNvSpPr/>
          <p:nvPr/>
        </p:nvSpPr>
        <p:spPr>
          <a:xfrm>
            <a:off x="5072040" y="4286160"/>
            <a:ext cx="342900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ри дев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3" descr=""/>
          <p:cNvPicPr/>
          <p:nvPr/>
        </p:nvPicPr>
        <p:blipFill>
          <a:blip r:embed="rId2"/>
          <a:stretch/>
        </p:blipFill>
        <p:spPr>
          <a:xfrm>
            <a:off x="8002440" y="0"/>
            <a:ext cx="1141560" cy="13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Динамика это 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Скругленный прямоугольник 3"/>
          <p:cNvSpPr/>
          <p:nvPr/>
        </p:nvSpPr>
        <p:spPr>
          <a:xfrm>
            <a:off x="714240" y="4286160"/>
            <a:ext cx="3214800" cy="121464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Громкое и тих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звуч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Скругленный прямоугольник 5"/>
          <p:cNvSpPr/>
          <p:nvPr/>
        </p:nvSpPr>
        <p:spPr>
          <a:xfrm>
            <a:off x="5000760" y="4286160"/>
            <a:ext cx="335736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едленное и быстрое движение музы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3" descr=""/>
          <p:cNvPicPr/>
          <p:nvPr/>
        </p:nvPicPr>
        <p:blipFill>
          <a:blip r:embed="rId2"/>
          <a:stretch/>
        </p:blipFill>
        <p:spPr>
          <a:xfrm>
            <a:off x="8002440" y="0"/>
            <a:ext cx="1141560" cy="13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0" y="1071360"/>
            <a:ext cx="9144000" cy="18572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то сочинил пьесу «Веселая. Грустная.»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2" name="Скругленный прямоугольник 3"/>
          <p:cNvSpPr/>
          <p:nvPr/>
        </p:nvSpPr>
        <p:spPr>
          <a:xfrm>
            <a:off x="5286240" y="4643280"/>
            <a:ext cx="2928960" cy="121464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етхов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Скругленный прямоугольник 5"/>
          <p:cNvSpPr/>
          <p:nvPr/>
        </p:nvSpPr>
        <p:spPr>
          <a:xfrm>
            <a:off x="1071720" y="4643280"/>
            <a:ext cx="300024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Чайк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3" descr=""/>
          <p:cNvPicPr/>
          <p:nvPr/>
        </p:nvPicPr>
        <p:blipFill>
          <a:blip r:embed="rId2"/>
          <a:stretch/>
        </p:blipFill>
        <p:spPr>
          <a:xfrm>
            <a:off x="8002440" y="0"/>
            <a:ext cx="1141560" cy="13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85680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сполнитель это то кто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Скругленный прямоугольник 13"/>
          <p:cNvSpPr/>
          <p:nvPr/>
        </p:nvSpPr>
        <p:spPr>
          <a:xfrm>
            <a:off x="500040" y="4000680"/>
            <a:ext cx="271476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то играет и поет музы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Скругленный прямоугольник 15"/>
          <p:cNvSpPr/>
          <p:nvPr/>
        </p:nvSpPr>
        <p:spPr>
          <a:xfrm>
            <a:off x="3286080" y="2571840"/>
            <a:ext cx="278604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нимательно слушае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Скругленный прямоугольник 16"/>
          <p:cNvSpPr/>
          <p:nvPr/>
        </p:nvSpPr>
        <p:spPr>
          <a:xfrm>
            <a:off x="6072120" y="3929040"/>
            <a:ext cx="278604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нимает музы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e66c7d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a6378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3" descr=""/>
          <p:cNvPicPr/>
          <p:nvPr/>
        </p:nvPicPr>
        <p:blipFill>
          <a:blip r:embed="rId2"/>
          <a:stretch/>
        </p:blipFill>
        <p:spPr>
          <a:xfrm>
            <a:off x="8002440" y="0"/>
            <a:ext cx="1141560" cy="130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168" nodeType="clickEffect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17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176" nodeType="clickEffect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184" nodeType="clickEffect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19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0" y="1071360"/>
            <a:ext cx="9144000" cy="18572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ак называют маленькие песенки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Скругленный прямоугольник 3"/>
          <p:cNvSpPr/>
          <p:nvPr/>
        </p:nvSpPr>
        <p:spPr>
          <a:xfrm>
            <a:off x="5286240" y="4643280"/>
            <a:ext cx="2928960" cy="121464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пе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Скругленный прямоугольник 5"/>
          <p:cNvSpPr/>
          <p:nvPr/>
        </p:nvSpPr>
        <p:spPr>
          <a:xfrm>
            <a:off x="1071720" y="4643280"/>
            <a:ext cx="300024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ипе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3" descr=""/>
          <p:cNvPicPr/>
          <p:nvPr/>
        </p:nvPicPr>
        <p:blipFill>
          <a:blip r:embed="rId2"/>
          <a:stretch/>
        </p:blipFill>
        <p:spPr>
          <a:xfrm>
            <a:off x="8002440" y="0"/>
            <a:ext cx="1141560" cy="13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5720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0000"/>
          </a:bodyPr>
          <a:p>
            <a:pPr marL="350280" indent="-254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54880" algn="ctr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йдите лишнее- народные инструменты – это… 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Скругленный прямоугольник 3"/>
          <p:cNvSpPr/>
          <p:nvPr/>
        </p:nvSpPr>
        <p:spPr>
          <a:xfrm>
            <a:off x="357120" y="2500200"/>
            <a:ext cx="278604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рещот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Скругленный прямоугольник 12"/>
          <p:cNvSpPr/>
          <p:nvPr/>
        </p:nvSpPr>
        <p:spPr>
          <a:xfrm>
            <a:off x="357120" y="3929040"/>
            <a:ext cx="278604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Гусли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Скругленный прямоугольник 13"/>
          <p:cNvSpPr/>
          <p:nvPr/>
        </p:nvSpPr>
        <p:spPr>
          <a:xfrm>
            <a:off x="3286080" y="3429000"/>
            <a:ext cx="271476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алалай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Скругленный прямоугольник 15"/>
          <p:cNvSpPr/>
          <p:nvPr/>
        </p:nvSpPr>
        <p:spPr>
          <a:xfrm>
            <a:off x="6072120" y="2428920"/>
            <a:ext cx="278604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Флейта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Скругленный прямоугольник 16"/>
          <p:cNvSpPr/>
          <p:nvPr/>
        </p:nvSpPr>
        <p:spPr>
          <a:xfrm>
            <a:off x="6072120" y="3929040"/>
            <a:ext cx="278604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крип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e66c7d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a6378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3" descr=""/>
          <p:cNvPicPr/>
          <p:nvPr/>
        </p:nvPicPr>
        <p:blipFill>
          <a:blip r:embed="rId2"/>
          <a:stretch/>
        </p:blipFill>
        <p:spPr>
          <a:xfrm>
            <a:off x="8002440" y="0"/>
            <a:ext cx="1141560" cy="130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193" nodeType="clickEffect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19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201" nodeType="clickEffect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422"/>
                    </p:tgtEl>
                  </p:cond>
                </p:stCondLst>
                <p:childTnLst>
                  <p:par>
                    <p:cTn id="209" nodeType="clickEffect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21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217" nodeType="clickEffect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22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225" nodeType="clickEffect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23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457200" y="85680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имфонические инструменты – это…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Скругленный прямоугольник 3"/>
          <p:cNvSpPr/>
          <p:nvPr/>
        </p:nvSpPr>
        <p:spPr>
          <a:xfrm>
            <a:off x="6000840" y="2143080"/>
            <a:ext cx="278604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уба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Скругленный прямоугольник 12"/>
          <p:cNvSpPr/>
          <p:nvPr/>
        </p:nvSpPr>
        <p:spPr>
          <a:xfrm>
            <a:off x="357120" y="3929040"/>
            <a:ext cx="278604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ларнет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Скругленный прямоугольник 13"/>
          <p:cNvSpPr/>
          <p:nvPr/>
        </p:nvSpPr>
        <p:spPr>
          <a:xfrm>
            <a:off x="3286080" y="3143160"/>
            <a:ext cx="271476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Фаго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Скругленный прямоугольник 15"/>
          <p:cNvSpPr/>
          <p:nvPr/>
        </p:nvSpPr>
        <p:spPr>
          <a:xfrm>
            <a:off x="357120" y="2286000"/>
            <a:ext cx="278604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аян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Скругленный прямоугольник 16"/>
          <p:cNvSpPr/>
          <p:nvPr/>
        </p:nvSpPr>
        <p:spPr>
          <a:xfrm>
            <a:off x="6072120" y="3929040"/>
            <a:ext cx="278604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Гита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e66c7d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a6378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3" descr=""/>
          <p:cNvPicPr/>
          <p:nvPr/>
        </p:nvPicPr>
        <p:blipFill>
          <a:blip r:embed="rId2"/>
          <a:stretch/>
        </p:blipFill>
        <p:spPr>
          <a:xfrm>
            <a:off x="8002440" y="0"/>
            <a:ext cx="1141560" cy="130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234" nodeType="clickEffect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24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242" nodeType="clickEffect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24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250" nodeType="clickEffect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25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258" nodeType="clickEffect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26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266" nodeType="clickEffect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27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9900"/>
                </a:solidFill>
                <a:latin typeface="Arial"/>
                <a:ea typeface="Arial"/>
              </a:rPr>
              <a:t>Верно: 18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9900"/>
                </a:solidFill>
                <a:latin typeface="Arial"/>
                <a:ea typeface="Arial"/>
              </a:rPr>
              <a:t>Ошибки: 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9900"/>
                </a:solidFill>
                <a:latin typeface="Arial"/>
                <a:ea typeface="Arial"/>
              </a:rPr>
              <a:t>Отметка: 5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33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2"/>
          <a:stretch/>
        </p:blipFill>
        <p:spPr>
          <a:xfrm>
            <a:off x="6170760" y="1428840"/>
            <a:ext cx="268596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457200" y="85680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Для того чтобы музыка стала настоящим живым искусством нужны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Скругленный прямоугольник 3"/>
          <p:cNvSpPr/>
          <p:nvPr/>
        </p:nvSpPr>
        <p:spPr>
          <a:xfrm>
            <a:off x="357120" y="2500200"/>
            <a:ext cx="278604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омпози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Скругленный прямоугольник 12"/>
          <p:cNvSpPr/>
          <p:nvPr/>
        </p:nvSpPr>
        <p:spPr>
          <a:xfrm>
            <a:off x="357120" y="3929040"/>
            <a:ext cx="278604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Исполнитель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Скругленный прямоугольник 13"/>
          <p:cNvSpPr/>
          <p:nvPr/>
        </p:nvSpPr>
        <p:spPr>
          <a:xfrm>
            <a:off x="3286080" y="3429000"/>
            <a:ext cx="271476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луша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Скругленный прямоугольник 15"/>
          <p:cNvSpPr/>
          <p:nvPr/>
        </p:nvSpPr>
        <p:spPr>
          <a:xfrm>
            <a:off x="6072120" y="2428920"/>
            <a:ext cx="278604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Инструменты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Скругленный прямоугольник 16"/>
          <p:cNvSpPr/>
          <p:nvPr/>
        </p:nvSpPr>
        <p:spPr>
          <a:xfrm>
            <a:off x="6072120" y="3929040"/>
            <a:ext cx="278604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онцертный з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e66c7d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a6378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3" descr=""/>
          <p:cNvPicPr/>
          <p:nvPr/>
        </p:nvPicPr>
        <p:blipFill>
          <a:blip r:embed="rId2"/>
          <a:stretch/>
        </p:blipFill>
        <p:spPr>
          <a:xfrm>
            <a:off x="8002440" y="0"/>
            <a:ext cx="1141560" cy="130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" dur="indefinite" restart="never" nodeType="tmRoot">
          <p:childTnLst>
            <p:seq>
              <p:cTn id="274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275" nodeType="clickEffect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28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283" nodeType="clickEffect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28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291" nodeType="clickEffect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29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99" nodeType="clickEffect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30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307" nodeType="clickEffect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31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59984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357480" indent="-250200" algn="ctr">
              <a:lnSpc>
                <a:spcPct val="80000"/>
              </a:lnSpc>
              <a:buClr>
                <a:srgbClr val="e66c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57480" indent="-250200" algn="ctr">
              <a:lnSpc>
                <a:spcPct val="80000"/>
              </a:lnSpc>
              <a:buClr>
                <a:srgbClr val="e66c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то обозначает в музыке слово «пиано»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50200" algn="ctr">
              <a:lnSpc>
                <a:spcPct val="80000"/>
              </a:lnSpc>
              <a:buClr>
                <a:srgbClr val="e66c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ликните на правильный ответ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Скругленный прямоугольник 3"/>
          <p:cNvSpPr/>
          <p:nvPr/>
        </p:nvSpPr>
        <p:spPr>
          <a:xfrm>
            <a:off x="3286080" y="3000240"/>
            <a:ext cx="257184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тих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Скругленный прямоугольник 5"/>
          <p:cNvSpPr/>
          <p:nvPr/>
        </p:nvSpPr>
        <p:spPr>
          <a:xfrm>
            <a:off x="6000840" y="4500720"/>
            <a:ext cx="271440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Не очень  гром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Скругленный прямоугольник 6"/>
          <p:cNvSpPr/>
          <p:nvPr/>
        </p:nvSpPr>
        <p:spPr>
          <a:xfrm>
            <a:off x="642960" y="4286160"/>
            <a:ext cx="228600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гром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2"/>
          <a:stretch/>
        </p:blipFill>
        <p:spPr>
          <a:xfrm>
            <a:off x="8002440" y="0"/>
            <a:ext cx="1141560" cy="13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99972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зови части пьесы композитор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Д. Кабалевског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Скругленный прямоугольник 3"/>
          <p:cNvSpPr/>
          <p:nvPr/>
        </p:nvSpPr>
        <p:spPr>
          <a:xfrm>
            <a:off x="857160" y="250020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езву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Скругленный прямоугольник 12"/>
          <p:cNvSpPr/>
          <p:nvPr/>
        </p:nvSpPr>
        <p:spPr>
          <a:xfrm>
            <a:off x="857160" y="392904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Злю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Скругленный прямоугольник 13"/>
          <p:cNvSpPr/>
          <p:nvPr/>
        </p:nvSpPr>
        <p:spPr>
          <a:xfrm>
            <a:off x="3643200" y="250020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лак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Скругленный прямоугольник 14"/>
          <p:cNvSpPr/>
          <p:nvPr/>
        </p:nvSpPr>
        <p:spPr>
          <a:xfrm>
            <a:off x="3643200" y="392904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Яб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Скругленный прямоугольник 15"/>
          <p:cNvSpPr/>
          <p:nvPr/>
        </p:nvSpPr>
        <p:spPr>
          <a:xfrm>
            <a:off x="6286680" y="2428920"/>
            <a:ext cx="228600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разнил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Скругленный прямоугольник 16"/>
          <p:cNvSpPr/>
          <p:nvPr/>
        </p:nvSpPr>
        <p:spPr>
          <a:xfrm>
            <a:off x="6286680" y="3929040"/>
            <a:ext cx="235728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мешил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e66c7d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a6378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3" descr=""/>
          <p:cNvPicPr/>
          <p:nvPr/>
        </p:nvPicPr>
        <p:blipFill>
          <a:blip r:embed="rId2"/>
          <a:stretch/>
        </p:blipFill>
        <p:spPr>
          <a:xfrm>
            <a:off x="8002440" y="0"/>
            <a:ext cx="1141560" cy="130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4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4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264960" indent="-264960" algn="ctr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4960" indent="-264960" algn="ctr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Упрямый братишка», кто композитор 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64960" indent="-264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ликните на правильный ответ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Скругленный прямоугольник 3"/>
          <p:cNvSpPr/>
          <p:nvPr/>
        </p:nvSpPr>
        <p:spPr>
          <a:xfrm>
            <a:off x="1357200" y="4286160"/>
            <a:ext cx="3000600" cy="121464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. Кабале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Скругленный прямоугольник 5"/>
          <p:cNvSpPr/>
          <p:nvPr/>
        </p:nvSpPr>
        <p:spPr>
          <a:xfrm>
            <a:off x="5214960" y="4286160"/>
            <a:ext cx="300024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Чайк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" descr=""/>
          <p:cNvPicPr/>
          <p:nvPr/>
        </p:nvPicPr>
        <p:blipFill>
          <a:blip r:embed="rId2"/>
          <a:stretch/>
        </p:blipFill>
        <p:spPr>
          <a:xfrm>
            <a:off x="8002440" y="0"/>
            <a:ext cx="1141560" cy="13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0" y="1600200"/>
            <a:ext cx="9144000" cy="11145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редства музыкальной выразительност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Скругленный прямоугольник 3"/>
          <p:cNvSpPr/>
          <p:nvPr/>
        </p:nvSpPr>
        <p:spPr>
          <a:xfrm>
            <a:off x="500040" y="2500200"/>
            <a:ext cx="242892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ем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Скругленный прямоугольник 12"/>
          <p:cNvSpPr/>
          <p:nvPr/>
        </p:nvSpPr>
        <p:spPr>
          <a:xfrm>
            <a:off x="428760" y="3929040"/>
            <a:ext cx="250020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инам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Скругленный прямоугольник 13"/>
          <p:cNvSpPr/>
          <p:nvPr/>
        </p:nvSpPr>
        <p:spPr>
          <a:xfrm>
            <a:off x="3429000" y="2500200"/>
            <a:ext cx="221472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елодия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Скругленный прямоугольник 14"/>
          <p:cNvSpPr/>
          <p:nvPr/>
        </p:nvSpPr>
        <p:spPr>
          <a:xfrm>
            <a:off x="3429000" y="3929040"/>
            <a:ext cx="221472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уплет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Скругленный прямоугольник 15"/>
          <p:cNvSpPr/>
          <p:nvPr/>
        </p:nvSpPr>
        <p:spPr>
          <a:xfrm>
            <a:off x="6357960" y="2428920"/>
            <a:ext cx="242892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лова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Скругленный прямоугольник 16"/>
          <p:cNvSpPr/>
          <p:nvPr/>
        </p:nvSpPr>
        <p:spPr>
          <a:xfrm>
            <a:off x="6286680" y="3929040"/>
            <a:ext cx="242856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ступл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e66c7d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a6378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3" descr=""/>
          <p:cNvPicPr/>
          <p:nvPr/>
        </p:nvPicPr>
        <p:blipFill>
          <a:blip r:embed="rId2"/>
          <a:stretch/>
        </p:blipFill>
        <p:spPr>
          <a:xfrm>
            <a:off x="7786800" y="0"/>
            <a:ext cx="1141200" cy="130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7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84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9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92" nodeType="clickEffect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7200" y="121392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Кто композитор « Попутной песни»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Кликните на правильный ответ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Скругленный прямоугольник 3"/>
          <p:cNvSpPr/>
          <p:nvPr/>
        </p:nvSpPr>
        <p:spPr>
          <a:xfrm>
            <a:off x="3071880" y="2928960"/>
            <a:ext cx="314316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. Глин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Скругленный прямоугольник 4"/>
          <p:cNvSpPr/>
          <p:nvPr/>
        </p:nvSpPr>
        <p:spPr>
          <a:xfrm>
            <a:off x="428760" y="4286160"/>
            <a:ext cx="271440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Л. Бетхове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Скругленный прямоугольник 5"/>
          <p:cNvSpPr/>
          <p:nvPr/>
        </p:nvSpPr>
        <p:spPr>
          <a:xfrm>
            <a:off x="6000840" y="4286160"/>
            <a:ext cx="285732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. Кабалев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3" descr=""/>
          <p:cNvPicPr/>
          <p:nvPr/>
        </p:nvPicPr>
        <p:blipFill>
          <a:blip r:embed="rId2"/>
          <a:stretch/>
        </p:blipFill>
        <p:spPr>
          <a:xfrm>
            <a:off x="8002440" y="0"/>
            <a:ext cx="1141560" cy="13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0" y="1714680"/>
            <a:ext cx="9144000" cy="1428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омпозитор это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Скругленный прямоугольник 12"/>
          <p:cNvSpPr/>
          <p:nvPr/>
        </p:nvSpPr>
        <p:spPr>
          <a:xfrm>
            <a:off x="5214960" y="3929040"/>
            <a:ext cx="314316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то сочиняет музыку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Скругленный прямоугольник 14"/>
          <p:cNvSpPr/>
          <p:nvPr/>
        </p:nvSpPr>
        <p:spPr>
          <a:xfrm>
            <a:off x="714240" y="385776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то играет и поет музы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e66c7d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a6378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3" descr=""/>
          <p:cNvPicPr/>
          <p:nvPr/>
        </p:nvPicPr>
        <p:blipFill>
          <a:blip r:embed="rId2"/>
          <a:stretch/>
        </p:blipFill>
        <p:spPr>
          <a:xfrm>
            <a:off x="8002440" y="0"/>
            <a:ext cx="1141560" cy="130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109" nodeType="clickEffect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lnSpc>
                <a:spcPct val="100000"/>
              </a:lnSpc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Как называется в музыке знак молчания 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Кликните на правильный ответ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ау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инамика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Скругленный прямоугольник 6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ем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3" descr=""/>
          <p:cNvPicPr/>
          <p:nvPr/>
        </p:nvPicPr>
        <p:blipFill>
          <a:blip r:embed="rId2"/>
          <a:stretch/>
        </p:blipFill>
        <p:spPr>
          <a:xfrm>
            <a:off x="8002440" y="0"/>
            <a:ext cx="1141560" cy="1305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User</cp:lastModifiedBy>
  <dcterms:modified xsi:type="dcterms:W3CDTF">2013-12-10T08:37:12Z</dcterms:modified>
  <cp:revision>765</cp:revision>
  <dc:subject/>
  <dc:title>Слайд 1</dc:title>
</cp:coreProperties>
</file>