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774E-2ADD-48B2-A981-B22468696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4372-84C1-441B-A01D-6DFCC2A04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25D4-CB07-480A-941D-E5EFDC2B7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6DA1-3B01-45C5-A105-52954CF85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381D6-ED0D-4193-B029-BF2589E9F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C7D33-3D21-4E0E-BC43-2AD8DD680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5D594-4E2A-4C79-B432-5F4E9E04D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ACA3A-0042-4C32-B2E9-3A01651AB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AD4EB-22A9-406E-8D79-63D6E664C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82687-3C82-4000-B3A5-17A751E3F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B9BE8-FD20-42CA-B24B-213B0D7B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B215-5E15-4773-9EAD-B0178B615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53187-98F4-4403-A3AC-F6FC4ADD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B72F2-0C44-4091-9220-539CB682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7C978-6C45-4AB2-BCC9-8D73D8365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DCD02-26F2-49FF-8304-C1077C81D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20685-2717-437E-9D68-4866DC5A9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C9513-52FF-4900-BE90-81071F7EB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01165-1FE6-4236-9966-1DEB94CC5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A12D3-5C75-42B2-B932-530F3C256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0EF34-45C2-4E96-A407-FCBF669E0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D9A33-4327-4157-834B-9690BDF6C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835D-A43E-408C-A4A8-C4223D899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E4D2E-D117-4D13-831B-478E0F483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01C3D-36E1-4F80-A334-0A35C354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CA1A0-DAC2-4364-A9C1-0F3A8E73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0C94C-FD35-45D8-AAC7-D3F42947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30FD7-B7C9-4694-A422-01FA7AAEB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0DC33-AEF7-4593-AC7F-B115A6D23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8FA5D-C1A7-4654-85AC-7C8F1D028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8ED32-A336-40C7-A549-6B994BF85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C0D3C-630E-43B5-A148-01E5889E8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EB5DA-AF7A-4A75-9C57-C17BE2E08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BDA3-40D9-4B07-B9D4-68894B3AB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51F67-F255-4929-B5EA-6808050E7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A4D2B-F387-448A-9C1E-A79C14DE6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1AA4E-D394-4766-9B58-3855BFB99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BEA61-75BA-4390-86B3-61ED56F1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08BCE-8A04-411C-B4E0-A01213A7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914BD-2BAA-491A-A8FA-40682191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95DFD-C173-4B9B-8638-A46B13F9B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0DCC7-A142-417D-8C85-0D7E08002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5ABD1-F126-4ECB-846B-18DADF13D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B22C2-A23A-42A2-B7E4-85D159F3A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9F98-95D3-4548-995D-46558FCD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AAB98-EE96-4565-BBFD-CE20A3C69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7CC02-D9C6-4A24-9132-69E133A5C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20DF7-538C-4D9C-8120-442C2A3E1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C27E1-F9C3-4CD4-9615-464D7B8EF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5937E-F9E4-4846-971D-665E00F31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4C7D4-C9F5-4786-98B0-C831A431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9B67D-C827-40C1-AD21-AE9C8A36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DD98D-DB16-4F81-9F08-A777D0FB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51045-4F9C-4470-A568-82FD7F864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8E7EA-15C7-4357-93C9-B04FAEB80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C742-F323-4A0B-AB42-E3568564B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E321A-041A-4F10-A2EC-7D86E1991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174F8-EFBC-46F1-BC95-583B10CF1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F463B-1132-40A1-8BFD-B4604BA01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60211-88E1-4E7E-9E35-FFF59F81E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87D71-0D8D-4784-9CB0-B74A0DA10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88EF3-696A-4DD5-9EF5-16738237C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DF918-A7BD-4F4C-9AF9-CD89DD6B3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2DDEB-940A-41E2-B732-4275A0AC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EED14-129D-4F32-B033-5C20EDF1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FD0A1-E630-41BA-8684-4F6BD40F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BA4D-E163-44C1-A813-88F3DDEC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C1016-AD2E-44E8-AFEB-CB915D1B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0730F-A263-48D6-BA67-D3F1395B7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92E3C-DE47-4A71-88AF-BEE5A0EAF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C12D0-6D02-4346-AA45-AC681FE72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0AAE49-25E5-4F49-B029-A8F5840AF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5D2344-7BF8-4497-8CF6-BFC229ECF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0B017E-1222-4147-94C9-20EE19703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3ED9A-3FA7-45E5-8BB8-D9E2FD741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97B85-F77A-4C56-B127-216C6D8C4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51207-E376-465A-B809-59787BF9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F119-5573-4653-846A-F35E73D6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AE4B5F-B868-420C-BBB7-1839773B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D24BB-463B-4C73-BB12-1E739503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E755D-06A8-4397-91AA-8CA6E09E6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D8B93-16F2-4DE7-871A-90E6E863C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9113FE-42A1-4111-B514-458F5ED85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F1E1-6A72-4D67-99DE-E922EFD4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5C17-E4CF-457E-866F-999F85F0B829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A46DB-D1EE-47D1-828B-AB4D22E5881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CD166-3D6C-4855-8E1F-1D829C93DC5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12874-1EC7-4116-873C-5286C35382DC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85970-A936-40B2-98CB-941F16DF4140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8F01-DDAD-49D8-9535-CB2800DDFA02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D7701-02BB-40E3-B16E-E46B58B2DC5B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Заголовок 1" descr=""/>
          <p:cNvPicPr/>
          <p:nvPr/>
        </p:nvPicPr>
        <p:blipFill>
          <a:blip r:embed="rId1"/>
          <a:stretch/>
        </p:blipFill>
        <p:spPr>
          <a:xfrm>
            <a:off x="712800" y="360360"/>
            <a:ext cx="7772400" cy="12859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356760" y="1142640"/>
            <a:ext cx="8572680" cy="342900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 marL="633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Corbel"/>
            </a:endParaRPr>
          </a:p>
          <a:p>
            <a:pPr marL="633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Corbel"/>
            </a:endParaRPr>
          </a:p>
          <a:p>
            <a:pPr marL="633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Corbel"/>
            </a:endParaRPr>
          </a:p>
          <a:p>
            <a:pPr marL="633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Corbel"/>
            </a:endParaRPr>
          </a:p>
          <a:p>
            <a:pPr marL="633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Corbel"/>
            </a:endParaRPr>
          </a:p>
          <a:p>
            <a:pPr marL="633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Corbel"/>
            </a:endParaRPr>
          </a:p>
          <a:p>
            <a:pPr marL="633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Corbel"/>
            </a:endParaRPr>
          </a:p>
          <a:p>
            <a:pPr marL="633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Corbel"/>
            </a:endParaRPr>
          </a:p>
          <a:p>
            <a:pPr marL="633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Corbel"/>
            </a:endParaRPr>
          </a:p>
          <a:p>
            <a:pPr marL="633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Corbel"/>
            </a:endParaRPr>
          </a:p>
          <a:p>
            <a:pPr marL="633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Corbel"/>
            </a:endParaRPr>
          </a:p>
          <a:p>
            <a:pPr marL="633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Corbel"/>
            </a:endParaRPr>
          </a:p>
          <a:p>
            <a:pPr marL="633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Corbel"/>
            </a:endParaRPr>
          </a:p>
          <a:p>
            <a:pPr marL="633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Corbel"/>
            </a:endParaRPr>
          </a:p>
          <a:p>
            <a:pPr marL="633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Corbel"/>
            </a:endParaRPr>
          </a:p>
          <a:p>
            <a:pPr marL="633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Corbel"/>
            </a:endParaRPr>
          </a:p>
          <a:p>
            <a:pPr marL="633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Corbel"/>
            </a:endParaRPr>
          </a:p>
          <a:p>
            <a:pPr marL="633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Corbel"/>
            </a:endParaRPr>
          </a:p>
          <a:p>
            <a:pPr marL="633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633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f0"/>
                </a:solidFill>
                <a:latin typeface="Arial"/>
                <a:ea typeface="Arial"/>
              </a:rPr>
              <a:t>Тест по музыке для 2 класса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633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f0"/>
                </a:solidFill>
                <a:latin typeface="Arial"/>
                <a:ea typeface="Arial"/>
              </a:rPr>
              <a:t> </a:t>
            </a:r>
            <a:r>
              <a:rPr b="0" lang="ru-RU" sz="4000" spc="-1" strike="noStrike">
                <a:solidFill>
                  <a:srgbClr val="00b0f0"/>
                </a:solidFill>
                <a:latin typeface="Arial"/>
                <a:ea typeface="Arial"/>
              </a:rPr>
              <a:t>2 четверть.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633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 marL="633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Arial"/>
                <a:ea typeface="Arial"/>
              </a:rPr>
              <a:t>       </a:t>
            </a:r>
            <a:r>
              <a:rPr b="0" lang="ru-RU" sz="2400" spc="-1" strike="noStrike">
                <a:solidFill>
                  <a:srgbClr val="00b0f0"/>
                </a:solidFill>
                <a:latin typeface="Arial"/>
                <a:ea typeface="Arial"/>
              </a:rPr>
              <a:t>Составил учитель музыки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633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b0f0"/>
                </a:solidFill>
                <a:latin typeface="Arial"/>
                <a:ea typeface="Arial"/>
              </a:rPr>
              <a:t>Прокопенко Владимир Васильевич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Скругленный прямоугольник 3"/>
          <p:cNvSpPr/>
          <p:nvPr/>
        </p:nvSpPr>
        <p:spPr>
          <a:xfrm>
            <a:off x="1285920" y="5942160"/>
            <a:ext cx="2000160" cy="4284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ровень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Скругленный прямоугольник 5"/>
          <p:cNvSpPr/>
          <p:nvPr/>
        </p:nvSpPr>
        <p:spPr>
          <a:xfrm>
            <a:off x="5286240" y="5942160"/>
            <a:ext cx="2000520" cy="4284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ровень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Скругленный прямоугольник 7"/>
          <p:cNvSpPr/>
          <p:nvPr/>
        </p:nvSpPr>
        <p:spPr>
          <a:xfrm>
            <a:off x="3071880" y="5013360"/>
            <a:ext cx="3000240" cy="71424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одзаголовок 2"/>
          <p:cNvSpPr/>
          <p:nvPr/>
        </p:nvSpPr>
        <p:spPr>
          <a:xfrm>
            <a:off x="250920" y="6453360"/>
            <a:ext cx="85723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 txBox="1"/>
          <p:nvPr/>
        </p:nvSpPr>
        <p:spPr>
          <a:xfrm>
            <a:off x="457200" y="1285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309240" indent="-309240" algn="ctr">
              <a:lnSpc>
                <a:spcPct val="80000"/>
              </a:lnSpc>
              <a:buClr>
                <a:srgbClr val="e66c7d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09240" indent="-309240" algn="ctr">
              <a:lnSpc>
                <a:spcPct val="80000"/>
              </a:lnSpc>
              <a:buClr>
                <a:srgbClr val="e66c7d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  <a:ea typeface="Arial"/>
              </a:rPr>
              <a:t>Народные праздники ?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1" name="Скругленный прямоугольник 13"/>
          <p:cNvSpPr/>
          <p:nvPr/>
        </p:nvSpPr>
        <p:spPr>
          <a:xfrm>
            <a:off x="1214280" y="3857760"/>
            <a:ext cx="321480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Рожд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Скругленный прямоугольник 14"/>
          <p:cNvSpPr/>
          <p:nvPr/>
        </p:nvSpPr>
        <p:spPr>
          <a:xfrm>
            <a:off x="5072040" y="3929040"/>
            <a:ext cx="335772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овый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Скругленный прямоугольник 19"/>
          <p:cNvSpPr/>
          <p:nvPr/>
        </p:nvSpPr>
        <p:spPr>
          <a:xfrm>
            <a:off x="1714680" y="564372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e66c7d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a6378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Скругленный прямоугольник 20"/>
          <p:cNvSpPr/>
          <p:nvPr/>
        </p:nvSpPr>
        <p:spPr>
          <a:xfrm>
            <a:off x="4572000" y="564372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Скругленный прямоугольник 10"/>
          <p:cNvSpPr/>
          <p:nvPr/>
        </p:nvSpPr>
        <p:spPr>
          <a:xfrm>
            <a:off x="2857680" y="2357280"/>
            <a:ext cx="335736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8 мар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3" descr=""/>
          <p:cNvPicPr/>
          <p:nvPr/>
        </p:nvPicPr>
        <p:blipFill>
          <a:blip r:embed="rId2"/>
          <a:stretch/>
        </p:blipFill>
        <p:spPr>
          <a:xfrm>
            <a:off x="8002440" y="0"/>
            <a:ext cx="1141560" cy="130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118" nodeType="clickEffect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set>
                                      <p:cBhvr>
                                        <p:cTn id="12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126" nodeType="clickEffect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set>
                                      <p:cBhvr>
                                        <p:cTn id="13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134" nodeType="clickEffect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set>
                                      <p:cBhvr>
                                        <p:cTn id="14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ctr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то сочинил песню«Перепелочка» 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ликните на правильный ответ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Скругленный прямоугольник 3"/>
          <p:cNvSpPr/>
          <p:nvPr/>
        </p:nvSpPr>
        <p:spPr>
          <a:xfrm>
            <a:off x="714240" y="4357800"/>
            <a:ext cx="3286440" cy="121428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Беларусский на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Скругленный прямоугольник 5"/>
          <p:cNvSpPr/>
          <p:nvPr/>
        </p:nvSpPr>
        <p:spPr>
          <a:xfrm>
            <a:off x="5072040" y="4286160"/>
            <a:ext cx="342900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Чайко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3" descr=""/>
          <p:cNvPicPr/>
          <p:nvPr/>
        </p:nvPicPr>
        <p:blipFill>
          <a:blip r:embed="rId2"/>
          <a:stretch/>
        </p:blipFill>
        <p:spPr>
          <a:xfrm>
            <a:off x="8002440" y="0"/>
            <a:ext cx="1141560" cy="130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 txBox="1"/>
          <p:nvPr/>
        </p:nvSpPr>
        <p:spPr>
          <a:xfrm>
            <a:off x="457200" y="1213920"/>
            <a:ext cx="8229600" cy="13575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ctr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уда полез медведь на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Скругленный прямоугольник 13"/>
          <p:cNvSpPr/>
          <p:nvPr/>
        </p:nvSpPr>
        <p:spPr>
          <a:xfrm>
            <a:off x="3500280" y="2714760"/>
            <a:ext cx="228600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ос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Скругленный прямоугольник 15"/>
          <p:cNvSpPr/>
          <p:nvPr/>
        </p:nvSpPr>
        <p:spPr>
          <a:xfrm>
            <a:off x="500040" y="4000680"/>
            <a:ext cx="242892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Берез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Скругленный прямоугольник 16"/>
          <p:cNvSpPr/>
          <p:nvPr/>
        </p:nvSpPr>
        <p:spPr>
          <a:xfrm>
            <a:off x="6286680" y="3929040"/>
            <a:ext cx="250020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Ел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Скругленный прямоугольник 19"/>
          <p:cNvSpPr/>
          <p:nvPr/>
        </p:nvSpPr>
        <p:spPr>
          <a:xfrm>
            <a:off x="1714680" y="564372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e66c7d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a6378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Скругленный прямоугольник 20"/>
          <p:cNvSpPr/>
          <p:nvPr/>
        </p:nvSpPr>
        <p:spPr>
          <a:xfrm>
            <a:off x="4572000" y="564372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2"/>
          <a:stretch/>
        </p:blipFill>
        <p:spPr>
          <a:xfrm>
            <a:off x="8002440" y="0"/>
            <a:ext cx="1141560" cy="130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restart="whenNotActive" nodeType="interactiveSeq" fill="hold">
                <p:stCondLst>
                  <p:cond evt="onClick">
                    <p:tgtEl>
                      <p:spTgt spid="384"/>
                    </p:tgtEl>
                  </p:cond>
                </p:stCondLst>
                <p:childTnLst>
                  <p:par>
                    <p:cTn id="143" nodeType="clickEffect" fill="hold">
                      <p:stCondLst>
                        <p:cond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set>
                                      <p:cBhvr>
                                        <p:cTn id="14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385"/>
                    </p:tgtEl>
                  </p:cond>
                </p:stCondLst>
                <p:childTnLst>
                  <p:par>
                    <p:cTn id="151" nodeType="clickEffect" fill="hold">
                      <p:stCondLst>
                        <p:cond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set>
                                      <p:cBhvr>
                                        <p:cTn id="15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159" nodeType="clickEffect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set>
                                      <p:cBhvr>
                                        <p:cTn id="16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ctr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Как называется произведение  Д. Кабалевского в котором показаны девочки с разным характером ?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Кликните на правильный ответ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Скругленный прямоугольник 3"/>
          <p:cNvSpPr/>
          <p:nvPr/>
        </p:nvSpPr>
        <p:spPr>
          <a:xfrm>
            <a:off x="714240" y="4357800"/>
            <a:ext cx="3286440" cy="121428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Три подруж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Скругленный прямоугольник 5"/>
          <p:cNvSpPr/>
          <p:nvPr/>
        </p:nvSpPr>
        <p:spPr>
          <a:xfrm>
            <a:off x="5072040" y="4286160"/>
            <a:ext cx="342900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Три дев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3" descr=""/>
          <p:cNvPicPr/>
          <p:nvPr/>
        </p:nvPicPr>
        <p:blipFill>
          <a:blip r:embed="rId2"/>
          <a:stretch/>
        </p:blipFill>
        <p:spPr>
          <a:xfrm>
            <a:off x="8002440" y="0"/>
            <a:ext cx="1141560" cy="130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ctr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Динамика это 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ликните на правильный ответ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Скругленный прямоугольник 3"/>
          <p:cNvSpPr/>
          <p:nvPr/>
        </p:nvSpPr>
        <p:spPr>
          <a:xfrm>
            <a:off x="714240" y="4286160"/>
            <a:ext cx="3214800" cy="121464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Громкое и тих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звуч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Скругленный прямоугольник 5"/>
          <p:cNvSpPr/>
          <p:nvPr/>
        </p:nvSpPr>
        <p:spPr>
          <a:xfrm>
            <a:off x="5000760" y="4286160"/>
            <a:ext cx="335736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Медленное и быстрое движение музы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3" descr=""/>
          <p:cNvPicPr/>
          <p:nvPr/>
        </p:nvPicPr>
        <p:blipFill>
          <a:blip r:embed="rId2"/>
          <a:stretch/>
        </p:blipFill>
        <p:spPr>
          <a:xfrm>
            <a:off x="8002440" y="0"/>
            <a:ext cx="1141560" cy="130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0" y="1071360"/>
            <a:ext cx="9144000" cy="18572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то сочинил пьесу «Веселая. Грустная.»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ликните на правильный ответ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2" name="Скругленный прямоугольник 3"/>
          <p:cNvSpPr/>
          <p:nvPr/>
        </p:nvSpPr>
        <p:spPr>
          <a:xfrm>
            <a:off x="5286240" y="4643280"/>
            <a:ext cx="2928960" cy="121464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Бетхов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Скругленный прямоугольник 5"/>
          <p:cNvSpPr/>
          <p:nvPr/>
        </p:nvSpPr>
        <p:spPr>
          <a:xfrm>
            <a:off x="1071720" y="4643280"/>
            <a:ext cx="300024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Чайко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3" descr=""/>
          <p:cNvPicPr/>
          <p:nvPr/>
        </p:nvPicPr>
        <p:blipFill>
          <a:blip r:embed="rId2"/>
          <a:stretch/>
        </p:blipFill>
        <p:spPr>
          <a:xfrm>
            <a:off x="8002440" y="0"/>
            <a:ext cx="1141560" cy="130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85680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Исполнитель это то кто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Скругленный прямоугольник 13"/>
          <p:cNvSpPr/>
          <p:nvPr/>
        </p:nvSpPr>
        <p:spPr>
          <a:xfrm>
            <a:off x="500040" y="4000680"/>
            <a:ext cx="271476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то играет и поет музы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Скругленный прямоугольник 15"/>
          <p:cNvSpPr/>
          <p:nvPr/>
        </p:nvSpPr>
        <p:spPr>
          <a:xfrm>
            <a:off x="3286080" y="2571840"/>
            <a:ext cx="278604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нимательно слушае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Скругленный прямоугольник 16"/>
          <p:cNvSpPr/>
          <p:nvPr/>
        </p:nvSpPr>
        <p:spPr>
          <a:xfrm>
            <a:off x="6072120" y="3929040"/>
            <a:ext cx="278604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онимает музы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Скругленный прямоугольник 19"/>
          <p:cNvSpPr/>
          <p:nvPr/>
        </p:nvSpPr>
        <p:spPr>
          <a:xfrm>
            <a:off x="1714680" y="564372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e66c7d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a6378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Скругленный прямоугольник 20"/>
          <p:cNvSpPr/>
          <p:nvPr/>
        </p:nvSpPr>
        <p:spPr>
          <a:xfrm>
            <a:off x="4572000" y="564372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3" descr=""/>
          <p:cNvPicPr/>
          <p:nvPr/>
        </p:nvPicPr>
        <p:blipFill>
          <a:blip r:embed="rId2"/>
          <a:stretch/>
        </p:blipFill>
        <p:spPr>
          <a:xfrm>
            <a:off x="8002440" y="0"/>
            <a:ext cx="1141560" cy="130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" dur="indefinite" restart="never" nodeType="tmRoot">
          <p:childTnLst>
            <p:seq>
              <p:cTn id="167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168" nodeType="clickEffect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set>
                                      <p:cBhvr>
                                        <p:cTn id="17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408"/>
                    </p:tgtEl>
                  </p:cond>
                </p:stCondLst>
                <p:childTnLst>
                  <p:par>
                    <p:cTn id="176" nodeType="clickEffect" fill="hold">
                      <p:stCondLst>
                        <p:cond evt="onClick">
                          <p:tgtEl>
                            <p:spTgt spid="408"/>
                          </p:tgtEl>
                        </p:cond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set>
                                      <p:cBhvr>
                                        <p:cTn id="18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409"/>
                    </p:tgtEl>
                  </p:cond>
                </p:stCondLst>
                <p:childTnLst>
                  <p:par>
                    <p:cTn id="184" nodeType="clickEffect" fill="hold">
                      <p:stCondLst>
                        <p:cond evt="onClick">
                          <p:tgtEl>
                            <p:spTgt spid="409"/>
                          </p:tgtEl>
                        </p:cond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set>
                                      <p:cBhvr>
                                        <p:cTn id="19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0" y="1071360"/>
            <a:ext cx="9144000" cy="18572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ак называют маленькие песенки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ликните на правильный ответ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Скругленный прямоугольник 3"/>
          <p:cNvSpPr/>
          <p:nvPr/>
        </p:nvSpPr>
        <p:spPr>
          <a:xfrm>
            <a:off x="5286240" y="4643280"/>
            <a:ext cx="2928960" cy="121464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опев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Скругленный прямоугольник 5"/>
          <p:cNvSpPr/>
          <p:nvPr/>
        </p:nvSpPr>
        <p:spPr>
          <a:xfrm>
            <a:off x="1071720" y="4643280"/>
            <a:ext cx="300024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ипев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3" descr=""/>
          <p:cNvPicPr/>
          <p:nvPr/>
        </p:nvPicPr>
        <p:blipFill>
          <a:blip r:embed="rId2"/>
          <a:stretch/>
        </p:blipFill>
        <p:spPr>
          <a:xfrm>
            <a:off x="8002440" y="0"/>
            <a:ext cx="1141560" cy="130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45720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0000"/>
          </a:bodyPr>
          <a:p>
            <a:pPr marL="350280" indent="-254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-254880" algn="ctr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йдите лишнее- народные инструменты – это… 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Скругленный прямоугольник 3"/>
          <p:cNvSpPr/>
          <p:nvPr/>
        </p:nvSpPr>
        <p:spPr>
          <a:xfrm>
            <a:off x="357120" y="2500200"/>
            <a:ext cx="278604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Трещот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Скругленный прямоугольник 12"/>
          <p:cNvSpPr/>
          <p:nvPr/>
        </p:nvSpPr>
        <p:spPr>
          <a:xfrm>
            <a:off x="357120" y="3929040"/>
            <a:ext cx="278604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Гусли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Скругленный прямоугольник 13"/>
          <p:cNvSpPr/>
          <p:nvPr/>
        </p:nvSpPr>
        <p:spPr>
          <a:xfrm>
            <a:off x="3286080" y="3429000"/>
            <a:ext cx="271476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Балалай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Скругленный прямоугольник 15"/>
          <p:cNvSpPr/>
          <p:nvPr/>
        </p:nvSpPr>
        <p:spPr>
          <a:xfrm>
            <a:off x="6072120" y="2428920"/>
            <a:ext cx="278604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Флейта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Скругленный прямоугольник 16"/>
          <p:cNvSpPr/>
          <p:nvPr/>
        </p:nvSpPr>
        <p:spPr>
          <a:xfrm>
            <a:off x="6072120" y="3929040"/>
            <a:ext cx="278604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крип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Скругленный прямоугольник 19"/>
          <p:cNvSpPr/>
          <p:nvPr/>
        </p:nvSpPr>
        <p:spPr>
          <a:xfrm>
            <a:off x="1714680" y="564372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e66c7d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a6378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Скругленный прямоугольник 20"/>
          <p:cNvSpPr/>
          <p:nvPr/>
        </p:nvSpPr>
        <p:spPr>
          <a:xfrm>
            <a:off x="4572000" y="564372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3" descr=""/>
          <p:cNvPicPr/>
          <p:nvPr/>
        </p:nvPicPr>
        <p:blipFill>
          <a:blip r:embed="rId2"/>
          <a:stretch/>
        </p:blipFill>
        <p:spPr>
          <a:xfrm>
            <a:off x="8002440" y="0"/>
            <a:ext cx="1141560" cy="130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restart="whenNotActive" nodeType="interactiveSeq" fill="hold">
                <p:stCondLst>
                  <p:cond evt="onClick">
                    <p:tgtEl>
                      <p:spTgt spid="420"/>
                    </p:tgtEl>
                  </p:cond>
                </p:stCondLst>
                <p:childTnLst>
                  <p:par>
                    <p:cTn id="193" nodeType="clickEffect" fill="hold">
                      <p:stCondLst>
                        <p:cond evt="onClick">
                          <p:tgtEl>
                            <p:spTgt spid="420"/>
                          </p:tgtEl>
                        </p:cond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set>
                                      <p:cBhvr>
                                        <p:cTn id="19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" restart="whenNotActive" nodeType="interactiveSeq" fill="hold">
                <p:stCondLst>
                  <p:cond evt="onClick">
                    <p:tgtEl>
                      <p:spTgt spid="421"/>
                    </p:tgtEl>
                  </p:cond>
                </p:stCondLst>
                <p:childTnLst>
                  <p:par>
                    <p:cTn id="201" nodeType="clickEffect" fill="hold">
                      <p:stCondLst>
                        <p:cond evt="onClick">
                          <p:tgtEl>
                            <p:spTgt spid="421"/>
                          </p:tgtEl>
                        </p:cond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set>
                                      <p:cBhvr>
                                        <p:cTn id="20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422"/>
                    </p:tgtEl>
                  </p:cond>
                </p:stCondLst>
                <p:childTnLst>
                  <p:par>
                    <p:cTn id="209" nodeType="clickEffect" fill="hold">
                      <p:stCondLst>
                        <p:cond evt="onClick">
                          <p:tgtEl>
                            <p:spTgt spid="422"/>
                          </p:tgtEl>
                        </p:cond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set>
                                      <p:cBhvr>
                                        <p:cTn id="21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" restart="whenNotActive" nodeType="interactiveSeq" fill="hold">
                <p:stCondLst>
                  <p:cond evt="onClick">
                    <p:tgtEl>
                      <p:spTgt spid="423"/>
                    </p:tgtEl>
                  </p:cond>
                </p:stCondLst>
                <p:childTnLst>
                  <p:par>
                    <p:cTn id="217" nodeType="clickEffect" fill="hold">
                      <p:stCondLst>
                        <p:cond evt="onClick">
                          <p:tgtEl>
                            <p:spTgt spid="423"/>
                          </p:tgtEl>
                        </p:cond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set>
                                      <p:cBhvr>
                                        <p:cTn id="22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" restart="whenNotActive" nodeType="interactiveSeq" fill="hold">
                <p:stCondLst>
                  <p:cond evt="onClick">
                    <p:tgtEl>
                      <p:spTgt spid="424"/>
                    </p:tgtEl>
                  </p:cond>
                </p:stCondLst>
                <p:childTnLst>
                  <p:par>
                    <p:cTn id="225" nodeType="clickEffect" fill="hold">
                      <p:stCondLst>
                        <p:cond evt="onClick">
                          <p:tgtEl>
                            <p:spTgt spid="424"/>
                          </p:tgtEl>
                        </p:cond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set>
                                      <p:cBhvr>
                                        <p:cTn id="23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457200" y="85680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имфонические инструменты – это…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Скругленный прямоугольник 3"/>
          <p:cNvSpPr/>
          <p:nvPr/>
        </p:nvSpPr>
        <p:spPr>
          <a:xfrm>
            <a:off x="6000840" y="2143080"/>
            <a:ext cx="278604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Туба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Скругленный прямоугольник 12"/>
          <p:cNvSpPr/>
          <p:nvPr/>
        </p:nvSpPr>
        <p:spPr>
          <a:xfrm>
            <a:off x="357120" y="3929040"/>
            <a:ext cx="278604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ларнет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Скругленный прямоугольник 13"/>
          <p:cNvSpPr/>
          <p:nvPr/>
        </p:nvSpPr>
        <p:spPr>
          <a:xfrm>
            <a:off x="3286080" y="3143160"/>
            <a:ext cx="271476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Фаго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Скругленный прямоугольник 15"/>
          <p:cNvSpPr/>
          <p:nvPr/>
        </p:nvSpPr>
        <p:spPr>
          <a:xfrm>
            <a:off x="357120" y="2286000"/>
            <a:ext cx="278604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Баян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Скругленный прямоугольник 16"/>
          <p:cNvSpPr/>
          <p:nvPr/>
        </p:nvSpPr>
        <p:spPr>
          <a:xfrm>
            <a:off x="6072120" y="3929040"/>
            <a:ext cx="278604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Гита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Скругленный прямоугольник 19"/>
          <p:cNvSpPr/>
          <p:nvPr/>
        </p:nvSpPr>
        <p:spPr>
          <a:xfrm>
            <a:off x="1714680" y="564372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e66c7d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a6378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Скругленный прямоугольник 20"/>
          <p:cNvSpPr/>
          <p:nvPr/>
        </p:nvSpPr>
        <p:spPr>
          <a:xfrm>
            <a:off x="4572000" y="564372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3" descr=""/>
          <p:cNvPicPr/>
          <p:nvPr/>
        </p:nvPicPr>
        <p:blipFill>
          <a:blip r:embed="rId2"/>
          <a:stretch/>
        </p:blipFill>
        <p:spPr>
          <a:xfrm>
            <a:off x="8002440" y="0"/>
            <a:ext cx="1141560" cy="130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2" dur="indefinite" restart="never" nodeType="tmRoot">
          <p:childTnLst>
            <p:seq>
              <p:cTn id="233" restart="whenNotActive" nodeType="interactiveSeq" fill="hold">
                <p:stCondLst>
                  <p:cond evt="onClick">
                    <p:tgtEl>
                      <p:spTgt spid="430"/>
                    </p:tgtEl>
                  </p:cond>
                </p:stCondLst>
                <p:childTnLst>
                  <p:par>
                    <p:cTn id="234" nodeType="clickEffect" fill="hold">
                      <p:stCondLst>
                        <p:cond evt="onClick">
                          <p:tgtEl>
                            <p:spTgt spid="430"/>
                          </p:tgtEl>
                        </p:cond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set>
                                      <p:cBhvr>
                                        <p:cTn id="24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431"/>
                    </p:tgtEl>
                  </p:cond>
                </p:stCondLst>
                <p:childTnLst>
                  <p:par>
                    <p:cTn id="242" nodeType="clickEffect" fill="hold">
                      <p:stCondLst>
                        <p:cond evt="onClick">
                          <p:tgtEl>
                            <p:spTgt spid="431"/>
                          </p:tgtEl>
                        </p:cond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set>
                                      <p:cBhvr>
                                        <p:cTn id="248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432"/>
                    </p:tgtEl>
                  </p:cond>
                </p:stCondLst>
                <p:childTnLst>
                  <p:par>
                    <p:cTn id="250" nodeType="clickEffect" fill="hold">
                      <p:stCondLst>
                        <p:cond evt="onClick">
                          <p:tgtEl>
                            <p:spTgt spid="432"/>
                          </p:tgtEl>
                        </p:cond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set>
                                      <p:cBhvr>
                                        <p:cTn id="25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7" restart="whenNotActive" nodeType="interactiveSeq" fill="hold">
                <p:stCondLst>
                  <p:cond evt="onClick">
                    <p:tgtEl>
                      <p:spTgt spid="433"/>
                    </p:tgtEl>
                  </p:cond>
                </p:stCondLst>
                <p:childTnLst>
                  <p:par>
                    <p:cTn id="258" nodeType="clickEffect" fill="hold">
                      <p:stCondLst>
                        <p:cond evt="onClick">
                          <p:tgtEl>
                            <p:spTgt spid="433"/>
                          </p:tgtEl>
                        </p:cond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set>
                                      <p:cBhvr>
                                        <p:cTn id="26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5" restart="whenNotActive" nodeType="interactiveSeq" fill="hold">
                <p:stCondLst>
                  <p:cond evt="onClick">
                    <p:tgtEl>
                      <p:spTgt spid="434"/>
                    </p:tgtEl>
                  </p:cond>
                </p:stCondLst>
                <p:childTnLst>
                  <p:par>
                    <p:cTn id="266" nodeType="clickEffect" fill="hold">
                      <p:stCondLst>
                        <p:cond evt="onClick">
                          <p:tgtEl>
                            <p:spTgt spid="434"/>
                          </p:tgtEl>
                        </p:cond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set>
                                      <p:cBhvr>
                                        <p:cTn id="27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456840" y="2000160"/>
            <a:ext cx="5900760" cy="32860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9900"/>
                </a:solidFill>
                <a:latin typeface="Arial"/>
                <a:ea typeface="Arial"/>
              </a:rPr>
              <a:t>Верно: 18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9900"/>
                </a:solidFill>
                <a:latin typeface="Arial"/>
                <a:ea typeface="Arial"/>
              </a:rPr>
              <a:t>Ошибки: 0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9900"/>
                </a:solidFill>
                <a:latin typeface="Arial"/>
                <a:ea typeface="Arial"/>
              </a:rPr>
              <a:t>Отметка: 5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Содержимое 2"/>
          <p:cNvSpPr/>
          <p:nvPr/>
        </p:nvSpPr>
        <p:spPr>
          <a:xfrm>
            <a:off x="500040" y="557208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ремя: 0 мин. 33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Скругленный прямоугольник 4"/>
          <p:cNvSpPr/>
          <p:nvPr/>
        </p:nvSpPr>
        <p:spPr>
          <a:xfrm>
            <a:off x="6500880" y="55720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Скругленный прямоугольник 5" hidden="1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3" descr=""/>
          <p:cNvPicPr/>
          <p:nvPr/>
        </p:nvPicPr>
        <p:blipFill>
          <a:blip r:embed="rId2"/>
          <a:stretch/>
        </p:blipFill>
        <p:spPr>
          <a:xfrm>
            <a:off x="6170760" y="1428840"/>
            <a:ext cx="2685960" cy="30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 txBox="1"/>
          <p:nvPr/>
        </p:nvSpPr>
        <p:spPr>
          <a:xfrm>
            <a:off x="457200" y="85680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Для того чтобы музыка стала настоящим живым искусством нужны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Скругленный прямоугольник 3"/>
          <p:cNvSpPr/>
          <p:nvPr/>
        </p:nvSpPr>
        <p:spPr>
          <a:xfrm>
            <a:off x="357120" y="2500200"/>
            <a:ext cx="278604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омпози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Скругленный прямоугольник 12"/>
          <p:cNvSpPr/>
          <p:nvPr/>
        </p:nvSpPr>
        <p:spPr>
          <a:xfrm>
            <a:off x="357120" y="3929040"/>
            <a:ext cx="278604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Исполнитель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Скругленный прямоугольник 13"/>
          <p:cNvSpPr/>
          <p:nvPr/>
        </p:nvSpPr>
        <p:spPr>
          <a:xfrm>
            <a:off x="3286080" y="3429000"/>
            <a:ext cx="271476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луша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Скругленный прямоугольник 15"/>
          <p:cNvSpPr/>
          <p:nvPr/>
        </p:nvSpPr>
        <p:spPr>
          <a:xfrm>
            <a:off x="6072120" y="2428920"/>
            <a:ext cx="278604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Инструменты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Скругленный прямоугольник 16"/>
          <p:cNvSpPr/>
          <p:nvPr/>
        </p:nvSpPr>
        <p:spPr>
          <a:xfrm>
            <a:off x="6072120" y="3929040"/>
            <a:ext cx="278604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онцертный з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Скругленный прямоугольник 19"/>
          <p:cNvSpPr/>
          <p:nvPr/>
        </p:nvSpPr>
        <p:spPr>
          <a:xfrm>
            <a:off x="1714680" y="564372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e66c7d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a6378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Скругленный прямоугольник 20"/>
          <p:cNvSpPr/>
          <p:nvPr/>
        </p:nvSpPr>
        <p:spPr>
          <a:xfrm>
            <a:off x="4572000" y="564372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3" descr=""/>
          <p:cNvPicPr/>
          <p:nvPr/>
        </p:nvPicPr>
        <p:blipFill>
          <a:blip r:embed="rId2"/>
          <a:stretch/>
        </p:blipFill>
        <p:spPr>
          <a:xfrm>
            <a:off x="8002440" y="0"/>
            <a:ext cx="1141560" cy="130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3" dur="indefinite" restart="never" nodeType="tmRoot">
          <p:childTnLst>
            <p:seq>
              <p:cTn id="274" restart="whenNotActive" nodeType="interactiveSeq" fill="hold">
                <p:stCondLst>
                  <p:cond evt="onClick">
                    <p:tgtEl>
                      <p:spTgt spid="440"/>
                    </p:tgtEl>
                  </p:cond>
                </p:stCondLst>
                <p:childTnLst>
                  <p:par>
                    <p:cTn id="275" nodeType="clickEffect" fill="hold">
                      <p:stCondLst>
                        <p:cond evt="onClick">
                          <p:tgtEl>
                            <p:spTgt spid="440"/>
                          </p:tgtEl>
                        </p:cond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set>
                                      <p:cBhvr>
                                        <p:cTn id="28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" restart="whenNotActive" nodeType="interactiveSeq" fill="hold">
                <p:stCondLst>
                  <p:cond evt="onClick">
                    <p:tgtEl>
                      <p:spTgt spid="441"/>
                    </p:tgtEl>
                  </p:cond>
                </p:stCondLst>
                <p:childTnLst>
                  <p:par>
                    <p:cTn id="283" nodeType="clickEffect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set>
                                      <p:cBhvr>
                                        <p:cTn id="28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evt="onClick">
                    <p:tgtEl>
                      <p:spTgt spid="442"/>
                    </p:tgtEl>
                  </p:cond>
                </p:stCondLst>
                <p:childTnLst>
                  <p:par>
                    <p:cTn id="291" nodeType="clickEffect" fill="hold">
                      <p:stCondLst>
                        <p:cond evt="onClick">
                          <p:tgtEl>
                            <p:spTgt spid="442"/>
                          </p:tgtEl>
                        </p:cond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set>
                                      <p:cBhvr>
                                        <p:cTn id="29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99" nodeType="clickEffect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set>
                                      <p:cBhvr>
                                        <p:cTn id="30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6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307" nodeType="clickEffect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set>
                                      <p:cBhvr>
                                        <p:cTn id="31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599840"/>
            <a:ext cx="8229600" cy="9716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357480" indent="-250200" algn="ctr">
              <a:lnSpc>
                <a:spcPct val="80000"/>
              </a:lnSpc>
              <a:buClr>
                <a:srgbClr val="e66c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357480" indent="-250200" algn="ctr">
              <a:lnSpc>
                <a:spcPct val="80000"/>
              </a:lnSpc>
              <a:buClr>
                <a:srgbClr val="e66c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Что обозначает в музыке слово «пиано»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50200" algn="ctr">
              <a:lnSpc>
                <a:spcPct val="80000"/>
              </a:lnSpc>
              <a:buClr>
                <a:srgbClr val="e66c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ликните на правильный ответ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Скругленный прямоугольник 3"/>
          <p:cNvSpPr/>
          <p:nvPr/>
        </p:nvSpPr>
        <p:spPr>
          <a:xfrm>
            <a:off x="3286080" y="3000240"/>
            <a:ext cx="257184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тих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Скругленный прямоугольник 5"/>
          <p:cNvSpPr/>
          <p:nvPr/>
        </p:nvSpPr>
        <p:spPr>
          <a:xfrm>
            <a:off x="6000840" y="4500720"/>
            <a:ext cx="271440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Не очень  громк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Скругленный прямоугольник 6"/>
          <p:cNvSpPr/>
          <p:nvPr/>
        </p:nvSpPr>
        <p:spPr>
          <a:xfrm>
            <a:off x="642960" y="4286160"/>
            <a:ext cx="228600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громк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3" descr=""/>
          <p:cNvPicPr/>
          <p:nvPr/>
        </p:nvPicPr>
        <p:blipFill>
          <a:blip r:embed="rId2"/>
          <a:stretch/>
        </p:blipFill>
        <p:spPr>
          <a:xfrm>
            <a:off x="8002440" y="0"/>
            <a:ext cx="1141560" cy="130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99972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ctr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зови части пьесы композитор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Д. Кабалевского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Скругленный прямоугольник 3"/>
          <p:cNvSpPr/>
          <p:nvPr/>
        </p:nvSpPr>
        <p:spPr>
          <a:xfrm>
            <a:off x="857160" y="250020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Резву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Скругленный прямоугольник 12"/>
          <p:cNvSpPr/>
          <p:nvPr/>
        </p:nvSpPr>
        <p:spPr>
          <a:xfrm>
            <a:off x="857160" y="392904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Злю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Скругленный прямоугольник 13"/>
          <p:cNvSpPr/>
          <p:nvPr/>
        </p:nvSpPr>
        <p:spPr>
          <a:xfrm>
            <a:off x="3643200" y="250020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лак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Скругленный прямоугольник 14"/>
          <p:cNvSpPr/>
          <p:nvPr/>
        </p:nvSpPr>
        <p:spPr>
          <a:xfrm>
            <a:off x="3643200" y="392904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Ябе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Скругленный прямоугольник 15"/>
          <p:cNvSpPr/>
          <p:nvPr/>
        </p:nvSpPr>
        <p:spPr>
          <a:xfrm>
            <a:off x="6286680" y="2428920"/>
            <a:ext cx="228600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Дразнил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Скругленный прямоугольник 16"/>
          <p:cNvSpPr/>
          <p:nvPr/>
        </p:nvSpPr>
        <p:spPr>
          <a:xfrm>
            <a:off x="6286680" y="3929040"/>
            <a:ext cx="235728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мешил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Скругленный прямоугольник 19"/>
          <p:cNvSpPr/>
          <p:nvPr/>
        </p:nvSpPr>
        <p:spPr>
          <a:xfrm>
            <a:off x="1714680" y="564372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e66c7d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a6378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Скругленный прямоугольник 20"/>
          <p:cNvSpPr/>
          <p:nvPr/>
        </p:nvSpPr>
        <p:spPr>
          <a:xfrm>
            <a:off x="4572000" y="564372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3" descr=""/>
          <p:cNvPicPr/>
          <p:nvPr/>
        </p:nvPicPr>
        <p:blipFill>
          <a:blip r:embed="rId2"/>
          <a:stretch/>
        </p:blipFill>
        <p:spPr>
          <a:xfrm>
            <a:off x="8002440" y="0"/>
            <a:ext cx="1141560" cy="130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set>
                                      <p:cBhvr>
                                        <p:cTn id="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11" nodeType="clickEffect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set>
                                      <p:cBhvr>
                                        <p:cTn id="1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set>
                                      <p:cBhvr>
                                        <p:cTn id="2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set>
                                      <p:cBhvr>
                                        <p:cTn id="3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35" nodeType="clickEffect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set>
                                      <p:cBhvr>
                                        <p:cTn id="4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set>
                                      <p:cBhvr>
                                        <p:cTn id="4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264960" indent="-264960" algn="ctr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64960" indent="-264960" algn="ctr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«Упрямый братишка», кто композитор 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64960" indent="-2649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ликните на правильный ответ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Скругленный прямоугольник 3"/>
          <p:cNvSpPr/>
          <p:nvPr/>
        </p:nvSpPr>
        <p:spPr>
          <a:xfrm>
            <a:off x="1357200" y="4286160"/>
            <a:ext cx="3000600" cy="121464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Д. Кабале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Скругленный прямоугольник 5"/>
          <p:cNvSpPr/>
          <p:nvPr/>
        </p:nvSpPr>
        <p:spPr>
          <a:xfrm>
            <a:off x="5214960" y="4286160"/>
            <a:ext cx="300024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Чайко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3" descr=""/>
          <p:cNvPicPr/>
          <p:nvPr/>
        </p:nvPicPr>
        <p:blipFill>
          <a:blip r:embed="rId2"/>
          <a:stretch/>
        </p:blipFill>
        <p:spPr>
          <a:xfrm>
            <a:off x="8002440" y="0"/>
            <a:ext cx="1141560" cy="130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 txBox="1"/>
          <p:nvPr/>
        </p:nvSpPr>
        <p:spPr>
          <a:xfrm>
            <a:off x="0" y="1600200"/>
            <a:ext cx="9144000" cy="11145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ctr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редства музыкальной выразительности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Скругленный прямоугольник 3"/>
          <p:cNvSpPr/>
          <p:nvPr/>
        </p:nvSpPr>
        <p:spPr>
          <a:xfrm>
            <a:off x="500040" y="2500200"/>
            <a:ext cx="242892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Темп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Скругленный прямоугольник 12"/>
          <p:cNvSpPr/>
          <p:nvPr/>
        </p:nvSpPr>
        <p:spPr>
          <a:xfrm>
            <a:off x="428760" y="3929040"/>
            <a:ext cx="250020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Динами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Скругленный прямоугольник 13"/>
          <p:cNvSpPr/>
          <p:nvPr/>
        </p:nvSpPr>
        <p:spPr>
          <a:xfrm>
            <a:off x="3429000" y="2500200"/>
            <a:ext cx="221472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Мелодия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Скругленный прямоугольник 14"/>
          <p:cNvSpPr/>
          <p:nvPr/>
        </p:nvSpPr>
        <p:spPr>
          <a:xfrm>
            <a:off x="3429000" y="3929040"/>
            <a:ext cx="221472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уплет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Скругленный прямоугольник 15"/>
          <p:cNvSpPr/>
          <p:nvPr/>
        </p:nvSpPr>
        <p:spPr>
          <a:xfrm>
            <a:off x="6357960" y="2428920"/>
            <a:ext cx="242892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лова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Скругленный прямоугольник 16"/>
          <p:cNvSpPr/>
          <p:nvPr/>
        </p:nvSpPr>
        <p:spPr>
          <a:xfrm>
            <a:off x="6286680" y="3929040"/>
            <a:ext cx="242856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ступл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Скругленный прямоугольник 19"/>
          <p:cNvSpPr/>
          <p:nvPr/>
        </p:nvSpPr>
        <p:spPr>
          <a:xfrm>
            <a:off x="1714680" y="564372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e66c7d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a6378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Скругленный прямоугольник 20"/>
          <p:cNvSpPr/>
          <p:nvPr/>
        </p:nvSpPr>
        <p:spPr>
          <a:xfrm>
            <a:off x="4572000" y="564372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3" descr=""/>
          <p:cNvPicPr/>
          <p:nvPr/>
        </p:nvPicPr>
        <p:blipFill>
          <a:blip r:embed="rId2"/>
          <a:stretch/>
        </p:blipFill>
        <p:spPr>
          <a:xfrm>
            <a:off x="7786800" y="0"/>
            <a:ext cx="1141200" cy="130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restart="whenNotActive" nodeType="interactiveSeq" fill="hold">
                <p:stCondLst>
                  <p:cond evt="onClick">
                    <p:tgtEl>
                      <p:spTgt spid="340"/>
                    </p:tgtEl>
                  </p:cond>
                </p:stCondLst>
                <p:childTnLst>
                  <p:par>
                    <p:cTn id="52" nodeType="clickEffect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set>
                                      <p:cBhvr>
                                        <p:cTn id="5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60" nodeType="clickEffect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set>
                                      <p:cBhvr>
                                        <p:cTn id="6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342"/>
                    </p:tgtEl>
                  </p:cond>
                </p:stCondLst>
                <p:childTnLst>
                  <p:par>
                    <p:cTn id="68" nodeType="clickEffect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set>
                                      <p:cBhvr>
                                        <p:cTn id="7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343"/>
                    </p:tgtEl>
                  </p:cond>
                </p:stCondLst>
                <p:childTnLst>
                  <p:par>
                    <p:cTn id="76" nodeType="clickEffect" fill="hold">
                      <p:stCondLst>
                        <p:cond evt="onClick">
                          <p:tgtEl>
                            <p:spTgt spid="343"/>
                          </p:tgtEl>
                        </p:cond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84" nodeType="clickEffect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set>
                                      <p:cBhvr>
                                        <p:cTn id="9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92" nodeType="clickEffect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set>
                                      <p:cBhvr>
                                        <p:cTn id="9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457200" y="121392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Кто композитор « Попутной песни»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Кликните на правильный ответ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Скругленный прямоугольник 3"/>
          <p:cNvSpPr/>
          <p:nvPr/>
        </p:nvSpPr>
        <p:spPr>
          <a:xfrm>
            <a:off x="3071880" y="2928960"/>
            <a:ext cx="314316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М. Глин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Скругленный прямоугольник 4"/>
          <p:cNvSpPr/>
          <p:nvPr/>
        </p:nvSpPr>
        <p:spPr>
          <a:xfrm>
            <a:off x="428760" y="4286160"/>
            <a:ext cx="271440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Л. Бетхове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Скругленный прямоугольник 5"/>
          <p:cNvSpPr/>
          <p:nvPr/>
        </p:nvSpPr>
        <p:spPr>
          <a:xfrm>
            <a:off x="6000840" y="4286160"/>
            <a:ext cx="285732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Д. Кабалевс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3" descr=""/>
          <p:cNvPicPr/>
          <p:nvPr/>
        </p:nvPicPr>
        <p:blipFill>
          <a:blip r:embed="rId2"/>
          <a:stretch/>
        </p:blipFill>
        <p:spPr>
          <a:xfrm>
            <a:off x="8002440" y="0"/>
            <a:ext cx="1141560" cy="130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0" y="1714680"/>
            <a:ext cx="9144000" cy="1428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ctr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омпозитор это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Скругленный прямоугольник 12"/>
          <p:cNvSpPr/>
          <p:nvPr/>
        </p:nvSpPr>
        <p:spPr>
          <a:xfrm>
            <a:off x="5214960" y="3929040"/>
            <a:ext cx="314316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то сочиняет музыку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Скругленный прямоугольник 14"/>
          <p:cNvSpPr/>
          <p:nvPr/>
        </p:nvSpPr>
        <p:spPr>
          <a:xfrm>
            <a:off x="714240" y="3857760"/>
            <a:ext cx="292896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то играет и поет музы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Скругленный прямоугольник 19"/>
          <p:cNvSpPr/>
          <p:nvPr/>
        </p:nvSpPr>
        <p:spPr>
          <a:xfrm>
            <a:off x="1714680" y="564372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e66c7d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a6378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Скругленный прямоугольник 20"/>
          <p:cNvSpPr/>
          <p:nvPr/>
        </p:nvSpPr>
        <p:spPr>
          <a:xfrm>
            <a:off x="4572000" y="564372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3" descr=""/>
          <p:cNvPicPr/>
          <p:nvPr/>
        </p:nvPicPr>
        <p:blipFill>
          <a:blip r:embed="rId2"/>
          <a:stretch/>
        </p:blipFill>
        <p:spPr>
          <a:xfrm>
            <a:off x="8002440" y="0"/>
            <a:ext cx="1141560" cy="130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101" nodeType="clickEffect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set>
                                      <p:cBhvr>
                                        <p:cTn id="10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358"/>
                    </p:tgtEl>
                  </p:cond>
                </p:stCondLst>
                <p:childTnLst>
                  <p:par>
                    <p:cTn id="109" nodeType="clickEffect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set>
                                      <p:cBhvr>
                                        <p:cTn id="11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ctr">
              <a:lnSpc>
                <a:spcPct val="100000"/>
              </a:lnSpc>
              <a:buClr>
                <a:srgbClr val="f0ad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100000"/>
              </a:lnSpc>
              <a:buClr>
                <a:srgbClr val="f0ad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Как называется в музыке знак молчания ?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100000"/>
              </a:lnSpc>
              <a:buClr>
                <a:srgbClr val="f0ad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Кликните на правильный ответ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Скругленный прямоугольник 3"/>
          <p:cNvSpPr/>
          <p:nvPr/>
        </p:nvSpPr>
        <p:spPr>
          <a:xfrm>
            <a:off x="3643200" y="3143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ау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Динамика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Скругленный прямоугольник 6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Темп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3" descr=""/>
          <p:cNvPicPr/>
          <p:nvPr/>
        </p:nvPicPr>
        <p:blipFill>
          <a:blip r:embed="rId2"/>
          <a:stretch/>
        </p:blipFill>
        <p:spPr>
          <a:xfrm>
            <a:off x="8002440" y="0"/>
            <a:ext cx="1141560" cy="1305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User</cp:lastModifiedBy>
  <dcterms:modified xsi:type="dcterms:W3CDTF">2013-12-10T08:37:12Z</dcterms:modified>
  <cp:revision>765</cp:revision>
  <dc:subject/>
  <dc:title>Слайд 1</dc:title>
</cp:coreProperties>
</file>