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090A-7123-47CA-AAE3-32DC05FF8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F03C-B2D7-4DB8-8BFF-CDDE9D57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906A-9BC4-4180-B73A-BFAC5A238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DA42-BD35-4814-B346-502FF8F3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3997A-332E-4CDF-9BF4-08415654A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1D6DC-303D-4628-8DCC-F07639DC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8A470-F4ED-40DD-8249-F1618C10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82BEA-3C4E-4AA9-ACD0-AE44ECC4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596A1-F4CA-49EB-BCF1-A1F5C119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53D3C-93BB-4C28-B447-D219226C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C6BC7-770C-442E-9911-8D7830D2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8379-9F56-4145-BB5C-AC3122E9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26298-D01E-4EB6-A1D3-618866A9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61720-BDB4-4006-B7F7-B06C6561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5F674-5A64-4958-B9B3-14ED8D91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DA3D7-30D7-46BA-8E46-666869E52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06A7B-C3E3-4F8E-A895-E4AD2B96A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C890-A243-41D2-BF70-52D1B9D8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AC5C-F5DC-4E9E-8971-DF967E45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5DCE-8BDD-4D58-92F0-B8066A3C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65EE-ABF5-4714-973F-E2E9C4D4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E897-5150-43C5-8FBF-09C57B0A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C8F2-BEFA-49BB-AB47-7EF2B282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8C7F-A986-4395-B1E3-05C66DA4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2205-8C32-4DC8-B20D-9A357768A0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AD50-5D67-4DCF-B586-BA60D4809F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HE ENLISH COMPETITIO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ОДСКАЗК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k’s cat is bla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on your …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… is on the w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is a woman and he is a …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… are gentlem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me a pen, plea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l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ow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s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 ke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m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1476360" y="333360"/>
          <a:ext cx="6264360" cy="6524640"/>
        </p:xfrm>
        <a:graphic>
          <a:graphicData uri="http://schemas.openxmlformats.org/drawingml/2006/table">
            <a:tbl>
              <a:tblPr/>
              <a:tblGrid>
                <a:gridCol w="515880"/>
                <a:gridCol w="515880"/>
                <a:gridCol w="516240"/>
                <a:gridCol w="515880"/>
                <a:gridCol w="515880"/>
                <a:gridCol w="517320"/>
                <a:gridCol w="516240"/>
                <a:gridCol w="515880"/>
                <a:gridCol w="515880"/>
                <a:gridCol w="515880"/>
                <a:gridCol w="515880"/>
                <a:gridCol w="587520"/>
              </a:tblGrid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6:24:00Z</dcterms:created>
  <dc:creator>Алексей</dc:creator>
  <dc:description/>
  <dc:language>en-US</dc:language>
  <cp:lastModifiedBy>Алексей</cp:lastModifiedBy>
  <dcterms:modified xsi:type="dcterms:W3CDTF">2009-10-20T17:08:12Z</dcterms:modified>
  <cp:revision>2</cp:revision>
  <dc:subject/>
  <dc:title>THE ENLISH COMPETITION</dc:title>
</cp:coreProperties>
</file>