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F68-BA08-4C90-A8E2-BE126831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B99-CB32-44F4-9B77-C6B1C19B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15C-A3B3-4167-B9FD-ABD1CBF4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B1E-6CC3-4114-85DF-62FF3C8D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48034-4C0B-4C4A-A6E8-157398C1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8FB97-AE89-436F-A7C0-A4CF4E4B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6C434-0ED3-4DB5-B44B-6B1054BC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18686-8081-448B-BF5C-D16E14CD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02900-11A9-443F-AC66-496A0413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5CB6E-1AB4-42F5-9F92-EFF5B15D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EA158-6A2A-4613-87BA-21971F6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0B2-934A-449C-9DD5-E9FB6D0E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7181A-CBE6-48EB-BE64-47B5B22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1B379-53D9-42F5-9D5E-D1217E0C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FF423-6C88-4A67-AAF4-5D9DB886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092B2-61FC-4B83-BB54-62D7B86B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B420B-0C30-4970-8156-AA4CE907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359-60F0-4D4C-B397-A3F4D90C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88C-802D-4966-BFA4-E2050EB9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4AA-7170-463E-8779-FB3D7B5A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CA3-5EE8-49D5-A500-FE9471F0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603-BA83-47C8-8919-2D85AA42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220-25AE-4BF4-9FC7-16EF2E2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FEF-C1AC-48EA-B554-EA7604A2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B535-0AEF-4490-B138-F899B33C88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7892-F15A-478D-AFE0-76B1612AD8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ENLISH COMPETI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ДСКАЗ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k’s cat is bl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on your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… is on the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a woman and he is a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… are gentle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 pen, pl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k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476360" y="333360"/>
          <a:ext cx="6264360" cy="652464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6240"/>
                <a:gridCol w="515880"/>
                <a:gridCol w="515880"/>
                <a:gridCol w="517320"/>
                <a:gridCol w="516240"/>
                <a:gridCol w="515880"/>
                <a:gridCol w="515880"/>
                <a:gridCol w="515880"/>
                <a:gridCol w="515880"/>
                <a:gridCol w="5875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24:00Z</dcterms:created>
  <dc:creator>Алексей</dc:creator>
  <dc:description/>
  <dc:language>en-US</dc:language>
  <cp:lastModifiedBy>Алексей</cp:lastModifiedBy>
  <dcterms:modified xsi:type="dcterms:W3CDTF">2009-10-20T17:08:12Z</dcterms:modified>
  <cp:revision>2</cp:revision>
  <dc:subject/>
  <dc:title>THE ENLISH COMPETITION</dc:title>
</cp:coreProperties>
</file>