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4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F2B-391D-469E-8840-31F395EA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BFF-D71E-418A-93B7-17FC1C15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787-6135-481F-A8DC-BC569C19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413-22E2-4E2E-8369-00098A08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4D15-3DD4-4A51-916F-4A86FA4C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6F01-4366-4847-AF21-857421F9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EEF1-7929-4109-96B0-4251ACDE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C5F8-7DD4-45D9-A13A-CA26271E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54AA-2D66-4378-974B-F2440DF0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A37A-52A7-47CF-B2C2-8F3BC75E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92DE-F4BE-48D4-94B2-B04A143F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942-A72A-4824-8888-09F7408C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E6B3-63BB-460F-A868-1D10A5A5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B970-AC12-4503-A52B-3F9F715A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8FF2-9F9C-430D-A547-07DD88DB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6D25-0547-4B9B-94FD-A3392918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F8DE-FCA7-46E0-81C7-26BB2F76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53771-3C2E-4FF8-ADD0-7389528D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CA960-100E-4FBC-A124-F1877B43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2D619-F59D-4F92-B5B4-933CCEDD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74D74-146C-4A81-8D10-28007431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44B8-943D-4A59-9231-159A7173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8D9B-1E13-4CBE-BCCF-637BB51D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E119D-E2FC-4CD2-A42C-207B50DF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C6484-D640-43E2-B5EC-C03153B7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2E39A-1219-4394-A0B0-41AB6759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5B0A3-F1B9-45F6-AAE4-8E6BC0B7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6F0D5-2ACE-48B8-8527-1C539D69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989D1-6D49-4A88-AC35-A84FCFC0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628FD-1F2F-4C95-8DB4-EEFB0BA2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2451A-6730-4A9E-A902-CE9842DC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1BDA8-4711-427D-AF43-0AC11C6C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C9C1-086F-4DB8-83E4-5804B450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1AF-089C-4B44-9C23-4ECFC923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B83B4-E136-4B88-ADDC-9E53ACE0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32771-C6E2-4AE8-BAED-4E0AFF07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8C986-E81C-4B5D-920F-4DCB7037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5CDAF-8193-47AF-938F-35195166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C34A0-E26A-418C-AEBC-060D222A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F965D-6E55-4C1A-94F0-126E97E0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06766-E1AE-47B3-BCE4-54ABFF7D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92A0D-B425-45F1-A9C1-E1722E26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A967F-7652-49C8-A247-0D5EE84E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C86DD-638A-4B35-B571-2144C4D3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5D5-A3F7-49A0-A589-44635BA7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03147-A9CA-450B-8301-2192A8F0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7A4D1-E9D6-4683-B978-8E5B097B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5F1DB-D36F-451B-AEAB-849F07BE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91871-8AD7-4FED-8AA4-BB36965A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DA5DE-1CBB-437B-8B06-C209E30B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496D8-D19C-4DDD-AAFC-3A34ACFB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EF382-D961-4416-B118-7A5CF251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27547-866E-4245-B887-7BFB2EB0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657FE-F729-44D0-81DF-93BB5474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2F49F-D6AE-4946-B8A5-6FCE68E3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A50-F89E-4C02-82E8-65B28904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C60AD-3878-46C8-ACAB-2357EB61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FD611-376D-4808-B297-EFCD44A9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076CF-213C-4C8D-801C-B019AD80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C74B5-26B6-44A1-88B8-A2578DC6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B34D1-C8E0-4703-9C37-B38838BB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18523-B844-4829-BB5D-84EABD8F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1BF11-E994-476F-BC96-7DC31115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6ED70-2B08-436A-A563-3B317026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F0354-3242-411E-A09D-E49785CB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F0F4F-35C7-4556-90D4-5436176C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EAE-F2DA-446B-A57E-B8C434F5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56EC4-09FA-477B-A5FB-A1675340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F9C9C-214B-477A-BC96-5FC64BA0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078AF-E851-4382-BE1E-7E73D7FB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64DA4-CC83-4296-A294-26185546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037C0-1325-4BA2-9EFF-2EB3DB9F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3D62A-2294-40DA-8162-0BC116B9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F288C-8DF8-4631-9A97-D60F36A6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19103-3CC3-4D8F-8172-DDFF3FE2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332A4-0806-41E1-A6F8-BC577886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6EFC2-0F0B-4077-8AD3-58810A57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A87-E4FA-49CD-8C35-7D4EC923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394F0-6ADF-4C2D-BF9E-05BA665D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A406B-411C-4316-9605-477C2E1D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8B80B-963D-4E1D-81DD-575CC21E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D6B28-F0C4-4730-83EC-EA8D4429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72F51-F85A-427C-ABC2-1AF02485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943-35C5-4A95-AD81-FA286901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8345-CE73-496A-98FA-642FC17DCCAB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3e35"/>
            </a:gs>
            <a:gs pos="100000">
              <a:srgbClr val="3e3e35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5478480"/>
            <a:ext cx="9144000" cy="23652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314784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680b"/>
                </a:solidFill>
                <a:latin typeface="Wingdings"/>
                <a:ea typeface="Wingdings"/>
              </a:rPr>
              <a:t>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3"/>
          <p:cNvSpPr/>
          <p:nvPr/>
        </p:nvSpPr>
        <p:spPr>
          <a:xfrm>
            <a:off x="481968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680b"/>
                </a:solidFill>
                <a:latin typeface="Wingdings"/>
                <a:ea typeface="Wingdings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7da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7da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962520" y="4392720"/>
            <a:ext cx="121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7dae1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6E48-C408-4BDC-91E2-BD155494F89F}" type="slidenum">
              <a:rPr b="0" lang="ru-RU" sz="2400" spc="-1" strike="noStrike">
                <a:solidFill>
                  <a:srgbClr val="d7dae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3a8"/>
            </a:gs>
            <a:gs pos="100000">
              <a:srgbClr val="a0a3a8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5478480"/>
            <a:ext cx="9144000" cy="2365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481968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14784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3959280" y="4389480"/>
            <a:ext cx="121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6EAF-1E67-4098-9975-BE265330A8D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7844-47A5-4A09-A8B8-7E35A23BDB9A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172200" y="162000"/>
            <a:ext cx="2971800" cy="1152360"/>
          </a:xfrm>
          <a:prstGeom prst="rect">
            <a:avLst/>
          </a:prstGeom>
          <a:solidFill>
            <a:srgbClr val="948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5CD9-0BA2-4F73-9779-51EC9CD71128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6172200" y="162000"/>
            <a:ext cx="2971800" cy="1152360"/>
          </a:xfrm>
          <a:prstGeom prst="rect">
            <a:avLst/>
          </a:prstGeom>
          <a:solidFill>
            <a:srgbClr val="948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D778-F014-4EB4-80D1-0168AD7B81A3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 rot="5400000">
            <a:off x="4590720" y="2409840"/>
            <a:ext cx="6858000" cy="20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 rot="5400000">
            <a:off x="4667400" y="2570760"/>
            <a:ext cx="6858000" cy="17161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 rot="5400000">
            <a:off x="3681000" y="3354480"/>
            <a:ext cx="6858000" cy="14904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0955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AB97-79B2-4749-906C-9C9FF6260846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324000" y="-457200"/>
            <a:ext cx="1195992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"/>
          <p:cNvSpPr/>
          <p:nvPr/>
        </p:nvSpPr>
        <p:spPr>
          <a:xfrm>
            <a:off x="3643200" y="1369440"/>
            <a:ext cx="43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5554a"/>
                </a:solidFill>
                <a:latin typeface="Times New Roman"/>
                <a:ea typeface="Calibri"/>
              </a:rPr>
              <a:t>«навьючен чемоданами» </a:t>
            </a:r>
            <a:r>
              <a:rPr b="1" i="1" lang="ru-RU" sz="2800" spc="-1" strike="noStrike">
                <a:solidFill>
                  <a:srgbClr val="55554a"/>
                </a:solidFill>
                <a:latin typeface="Calibri"/>
                <a:ea typeface="Calibri"/>
              </a:rPr>
              <a:t>–</a:t>
            </a:r>
            <a:r>
              <a:rPr b="1" i="1" lang="ru-RU" sz="2800" spc="-1" strike="noStrike">
                <a:solidFill>
                  <a:srgbClr val="55554a"/>
                </a:solidFill>
                <a:latin typeface="Times New Roman"/>
                <a:ea typeface="Calibri"/>
              </a:rPr>
              <a:t> не может позволить себе нанять носильщ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5554a"/>
                </a:solidFill>
                <a:latin typeface="Times New Roman"/>
                <a:ea typeface="Calibri"/>
              </a:rPr>
              <a:t>Значит, Тонкий </a:t>
            </a:r>
            <a:r>
              <a:rPr b="1" i="1" lang="ru-RU" sz="2800" spc="-1" strike="noStrike">
                <a:solidFill>
                  <a:srgbClr val="55554a"/>
                </a:solidFill>
                <a:latin typeface="Calibri"/>
                <a:ea typeface="Calibri"/>
              </a:rPr>
              <a:t>–</a:t>
            </a:r>
            <a:r>
              <a:rPr b="1" i="1" lang="ru-RU" sz="2800" spc="-1" strike="noStrike">
                <a:solidFill>
                  <a:srgbClr val="55554a"/>
                </a:solidFill>
                <a:latin typeface="Times New Roman"/>
                <a:ea typeface="Calibri"/>
              </a:rPr>
              <a:t> бедный, человек, неуверенный в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" descr="D:\Documents and Settings\Администратор\Рабочий стол\тт2.jpg"/>
          <p:cNvPicPr/>
          <p:nvPr/>
        </p:nvPicPr>
        <p:blipFill>
          <a:blip r:embed="rId1"/>
          <a:stretch/>
        </p:blipFill>
        <p:spPr>
          <a:xfrm>
            <a:off x="428760" y="1357200"/>
            <a:ext cx="2463840" cy="530244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5"/>
          <p:cNvSpPr/>
          <p:nvPr/>
        </p:nvSpPr>
        <p:spPr>
          <a:xfrm>
            <a:off x="358560" y="279360"/>
            <a:ext cx="269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15851"/>
                </a:solidFill>
                <a:latin typeface="Arial"/>
              </a:rPr>
              <a:t>Навью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15851"/>
                </a:solidFill>
                <a:latin typeface="Arial"/>
              </a:rPr>
              <a:t>чемода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7467480" cy="1041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250920" y="1341360"/>
            <a:ext cx="820872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О чём говорят реплики Толстого и Тонкого в начале рассказа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50" name="Объект 2"/>
          <p:cNvSpPr/>
          <p:nvPr/>
        </p:nvSpPr>
        <p:spPr>
          <a:xfrm>
            <a:off x="250920" y="4508640"/>
            <a:ext cx="82818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Выводы:  </a:t>
            </a: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В начале рассказа Толстый и Тонкий равны, они встретились как друзья детства. «</a:t>
            </a:r>
            <a:r>
              <a:rPr b="1" i="1" lang="ru-RU" sz="2400" spc="-1" strike="noStrike">
                <a:solidFill>
                  <a:srgbClr val="55554a"/>
                </a:solidFill>
                <a:latin typeface="Arial"/>
              </a:rPr>
              <a:t>Приятели троекратно облобызались и устремили друг на друга глаза, полные слё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Текст 4"/>
          <p:cNvSpPr/>
          <p:nvPr/>
        </p:nvSpPr>
        <p:spPr>
          <a:xfrm>
            <a:off x="266760" y="2124000"/>
            <a:ext cx="3657600" cy="65736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Толс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Текст 5"/>
          <p:cNvSpPr/>
          <p:nvPr/>
        </p:nvSpPr>
        <p:spPr>
          <a:xfrm>
            <a:off x="4432320" y="2124000"/>
            <a:ext cx="3657600" cy="657360"/>
          </a:xfrm>
          <a:prstGeom prst="roundRect">
            <a:avLst>
              <a:gd name="adj" fmla="val 16667"/>
            </a:avLst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Тон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одержимое 2"/>
          <p:cNvSpPr/>
          <p:nvPr/>
        </p:nvSpPr>
        <p:spPr>
          <a:xfrm>
            <a:off x="457200" y="2781360"/>
            <a:ext cx="365760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5554a"/>
                </a:solidFill>
                <a:latin typeface="Century Schoolbook"/>
              </a:rPr>
              <a:t>«Порфирий!.. Ты ли это? Голубчик мой! Сколько зим, сколько ле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одержимое 2"/>
          <p:cNvSpPr/>
          <p:nvPr/>
        </p:nvSpPr>
        <p:spPr>
          <a:xfrm>
            <a:off x="4395960" y="2781360"/>
            <a:ext cx="365760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5554a"/>
                </a:solidFill>
                <a:latin typeface="Century Schoolbook"/>
              </a:rPr>
              <a:t>«Батюшки!.. Миша! Друг детства! Откуда ты взялся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7467480" cy="8413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6840" y="1628280"/>
            <a:ext cx="771516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Что изменилось в Тонком внешне и внутренне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Какова причина перемены настроения Тонкого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Является ли Толстый непосредственным начальником  Тонкого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Есть ли у Тонкого какие-либо причины угодничать перед Толстым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Зачем же он унижается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415800" y="500040"/>
            <a:ext cx="82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554a"/>
                </a:solidFill>
                <a:latin typeface="Century Schoolbook"/>
              </a:rPr>
              <a:t>Изменения в Тон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214200" y="1341360"/>
            <a:ext cx="84297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«съежился, сгорбился, сузился… Его чемоданы, узлы и картонки съежились, поморщились»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55554a"/>
                </a:solidFill>
                <a:latin typeface="Arial"/>
              </a:rPr>
              <a:t>гипербола -  стилистическая фигура явного и намеренного преувеличения, с целью усиления вырази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214200" y="3116160"/>
            <a:ext cx="8358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В конце слов приставляет «с»: «Хи-хи-с… Что вы-с…»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55554a"/>
                </a:solidFill>
                <a:latin typeface="Arial"/>
              </a:rPr>
              <a:t>раньше так было принято обращаться к высокопоставленным личност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357120" y="4572000"/>
            <a:ext cx="8143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Тонкий вдруг 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побледнел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окаменел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но скоро лицо его 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искривилось</a:t>
            </a: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во все стороны широчайшей улыбк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469800" y="92160"/>
            <a:ext cx="7467840" cy="9316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211640" y="1483920"/>
            <a:ext cx="4248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Найдите детали портрета жены и сына Тонкого.                             Что подчёркивает этими деталями автор в характере героев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Как ведёт себя сын? Какие жесты показывают его рабское воспитание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pic>
        <p:nvPicPr>
          <p:cNvPr id="363" name="Picture 2" descr="C:\Users\Администратор\Desktop\35295_html_2f8b160a.png"/>
          <p:cNvPicPr/>
          <p:nvPr/>
        </p:nvPicPr>
        <p:blipFill>
          <a:blip r:embed="rId2"/>
          <a:stretch/>
        </p:blipFill>
        <p:spPr>
          <a:xfrm>
            <a:off x="250920" y="1511280"/>
            <a:ext cx="37465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7467480" cy="8161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6840" y="1600200"/>
            <a:ext cx="74674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5554a"/>
                </a:solidFill>
                <a:latin typeface="Arial"/>
              </a:rPr>
              <a:t>Нафанаил немного подумал и снял шапку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5554a"/>
                </a:solidFill>
                <a:latin typeface="Arial"/>
              </a:rPr>
              <a:t>Нафанаил немного подумал и спрятался за спину отца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5554a"/>
                </a:solidFill>
                <a:latin typeface="Arial"/>
              </a:rPr>
              <a:t>Нафанаил вытянулся во фрунт и застегнул све пуговки своего мундира…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5554a"/>
                </a:solidFill>
                <a:latin typeface="Arial"/>
              </a:rPr>
              <a:t>Нафанаил шаркнул ногой и уронил фуражку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7467480" cy="9334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5270400" y="1628280"/>
            <a:ext cx="3456000" cy="26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4a"/>
                </a:solidFill>
                <a:latin typeface="Arial"/>
              </a:rPr>
              <a:t>Что изменилось в героях к концу рассказа?</a:t>
            </a: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</p:txBody>
      </p:sp>
      <p:pic>
        <p:nvPicPr>
          <p:cNvPr id="368" name="Picture 2" descr="C:\Users\Администратор\Desktop\0937f066c480.jpg"/>
          <p:cNvPicPr/>
          <p:nvPr/>
        </p:nvPicPr>
        <p:blipFill>
          <a:blip r:embed="rId2"/>
          <a:stretch/>
        </p:blipFill>
        <p:spPr>
          <a:xfrm>
            <a:off x="-27000" y="1916280"/>
            <a:ext cx="5462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Текст 4"/>
          <p:cNvSpPr/>
          <p:nvPr/>
        </p:nvSpPr>
        <p:spPr>
          <a:xfrm>
            <a:off x="328680" y="563400"/>
            <a:ext cx="3657600" cy="6588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Толс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Текст 4"/>
          <p:cNvSpPr/>
          <p:nvPr/>
        </p:nvSpPr>
        <p:spPr>
          <a:xfrm>
            <a:off x="4788000" y="581040"/>
            <a:ext cx="3657600" cy="6588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Тон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одержимое 2"/>
          <p:cNvSpPr/>
          <p:nvPr/>
        </p:nvSpPr>
        <p:spPr>
          <a:xfrm>
            <a:off x="250920" y="1557360"/>
            <a:ext cx="374472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5554a"/>
                </a:solidFill>
                <a:latin typeface="Century Schoolbook"/>
              </a:rPr>
              <a:t>«Для чего этот тон? Мы с тобой друзья детства – и к чему тут это чинопочитани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5554a"/>
                </a:solidFill>
                <a:latin typeface="Century Schoolbook"/>
              </a:rPr>
              <a:t>Тайного советника стошнило. Он отвернулся от тонкого и подал ему на прощанье рук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одержимое 2"/>
          <p:cNvSpPr/>
          <p:nvPr/>
        </p:nvSpPr>
        <p:spPr>
          <a:xfrm>
            <a:off x="3851280" y="1557360"/>
            <a:ext cx="5041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5554a"/>
                </a:solidFill>
                <a:latin typeface="Century Schoolbook"/>
              </a:rPr>
              <a:t>«Помилуйте… Что вы-с.. Милостивое внимание вашего   превосходи-тельства…  вроде как бы живительной влаг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5554a"/>
                </a:solidFill>
                <a:latin typeface="Century Schoolbook"/>
              </a:rPr>
              <a:t>На лице у тонкого было написано столько благоговения, сладости и почтительной кислоты…</a:t>
            </a:r>
            <a:r>
              <a:rPr b="1" lang="ru-RU" sz="2400" spc="-1" strike="noStrike">
                <a:solidFill>
                  <a:srgbClr val="55554a"/>
                </a:solidFill>
                <a:latin typeface="Century Schoolbook"/>
              </a:rPr>
              <a:t>                         </a:t>
            </a:r>
            <a:r>
              <a:rPr b="1" i="1" lang="ru-RU" sz="2400" spc="-1" strike="noStrike">
                <a:solidFill>
                  <a:srgbClr val="55554a"/>
                </a:solidFill>
                <a:latin typeface="Century Schoolbook"/>
              </a:rPr>
              <a:t>Пожал три пальца, поклонился всем туловищем и захихик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762120" y="378000"/>
            <a:ext cx="6784920" cy="10429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179280" y="141300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5554a"/>
                </a:solidFill>
                <a:latin typeface="Arial"/>
              </a:rPr>
              <a:t>В начале рассказа Толстый испытывает удовольствие от обеда. Он рад встрече с Тонким. В конце рассказа его «стошнило» от лицемерия бывшего друга, но при прощании он подал руку приятелю, т.е остался </a:t>
            </a:r>
            <a:r>
              <a:rPr b="1" lang="ru-RU" sz="2600" spc="-1" strike="noStrike">
                <a:solidFill>
                  <a:srgbClr val="55554a"/>
                </a:solidFill>
                <a:latin typeface="Arial"/>
              </a:rPr>
              <a:t>человеком</a:t>
            </a:r>
            <a:r>
              <a:rPr b="1" lang="ru-RU" sz="2200" spc="-1" strike="noStrike">
                <a:solidFill>
                  <a:srgbClr val="55554a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5554a"/>
                </a:solidFill>
                <a:latin typeface="Arial"/>
              </a:rPr>
              <a:t>Тонкий в начале рассказа показан человеком бедным, но он стремится похвастаться орденом Станислава, дополнительным доходом. В конце рассказа он раздавлен, ему «нечем крыть». Но он лишён чувства собственного достоинства, поэтому в его облике нет ничего человеческого. Он остался только мелким </a:t>
            </a:r>
            <a:r>
              <a:rPr b="1" lang="ru-RU" sz="2600" spc="-1" strike="noStrike">
                <a:solidFill>
                  <a:srgbClr val="55554a"/>
                </a:solidFill>
                <a:latin typeface="Arial"/>
              </a:rPr>
              <a:t>чиновником</a:t>
            </a:r>
            <a:r>
              <a:rPr b="1" lang="ru-RU" sz="2200" spc="-1" strike="noStrike">
                <a:solidFill>
                  <a:srgbClr val="55554a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77" name="Поле 15"/>
          <p:cNvSpPr/>
          <p:nvPr/>
        </p:nvSpPr>
        <p:spPr>
          <a:xfrm>
            <a:off x="-181080" y="1125360"/>
            <a:ext cx="932508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b74e08"/>
                </a:solidFill>
                <a:latin typeface="Times New Roman"/>
                <a:ea typeface="Times New Roman"/>
              </a:rPr>
              <a:t>Подобострастие</a:t>
            </a: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5554a"/>
                </a:solidFill>
                <a:latin typeface="Times New Roman"/>
                <a:ea typeface="Times New Roman"/>
              </a:rPr>
              <a:t>– льстивость,  угодливость.  </a:t>
            </a:r>
            <a:r>
              <a:rPr b="1" i="1" lang="ru-RU" sz="2800" spc="-1" strike="noStrike">
                <a:solidFill>
                  <a:srgbClr val="b74e08"/>
                </a:solidFill>
                <a:latin typeface="Times New Roman"/>
                <a:ea typeface="Times New Roman"/>
              </a:rPr>
              <a:t>Угодничество</a:t>
            </a:r>
            <a:r>
              <a:rPr b="1" lang="ru-RU" sz="2800" spc="-1" strike="noStrike">
                <a:solidFill>
                  <a:srgbClr val="b74e0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5554a"/>
                </a:solidFill>
                <a:latin typeface="Times New Roman"/>
                <a:ea typeface="Times New Roman"/>
              </a:rPr>
              <a:t>- льстивое поведение.                   </a:t>
            </a:r>
            <a:r>
              <a:rPr b="1" i="1" lang="ru-RU" sz="2800" spc="-1" strike="noStrike">
                <a:solidFill>
                  <a:srgbClr val="b74e08"/>
                </a:solidFill>
                <a:latin typeface="Times New Roman"/>
                <a:ea typeface="Times New Roman"/>
              </a:rPr>
              <a:t>Самоуничижение</a:t>
            </a:r>
            <a:r>
              <a:rPr b="1" lang="ru-RU" sz="2800" spc="-1" strike="noStrike">
                <a:solidFill>
                  <a:srgbClr val="55554a"/>
                </a:solidFill>
                <a:latin typeface="Times New Roman"/>
                <a:ea typeface="Times New Roman"/>
              </a:rPr>
              <a:t> - признание себя ничтожным.                                               </a:t>
            </a:r>
            <a:r>
              <a:rPr b="1" i="1" lang="ru-RU" sz="2800" spc="-1" strike="noStrike">
                <a:solidFill>
                  <a:srgbClr val="b74e08"/>
                </a:solidFill>
                <a:latin typeface="Times New Roman"/>
                <a:ea typeface="Times New Roman"/>
              </a:rPr>
              <a:t>Чинопочитание</a:t>
            </a:r>
            <a:r>
              <a:rPr b="1" lang="ru-RU" sz="2800" spc="-1" strike="noStrike">
                <a:solidFill>
                  <a:srgbClr val="55554a"/>
                </a:solidFill>
                <a:latin typeface="Times New Roman"/>
                <a:ea typeface="Times New Roman"/>
              </a:rPr>
              <a:t>– лицемерное       отношение к старшим по должности, званию.                  </a:t>
            </a:r>
            <a:r>
              <a:rPr b="1" i="1" lang="ru-RU" sz="2800" spc="-1" strike="noStrike">
                <a:solidFill>
                  <a:srgbClr val="b74e08"/>
                </a:solidFill>
                <a:latin typeface="Times New Roman"/>
                <a:ea typeface="Times New Roman"/>
              </a:rPr>
              <a:t>Подхалимство</a:t>
            </a: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5554a"/>
                </a:solidFill>
                <a:latin typeface="Times New Roman"/>
                <a:ea typeface="Times New Roman"/>
              </a:rPr>
              <a:t>– стремление расположить к себе кого-то ле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963720" y="487440"/>
            <a:ext cx="7076880" cy="1042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571320" y="1785600"/>
            <a:ext cx="74674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554a"/>
                </a:solidFill>
                <a:latin typeface="Arial"/>
              </a:rPr>
              <a:t>Короткое вступление.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8" name="Содержимое 2"/>
          <p:cNvSpPr/>
          <p:nvPr/>
        </p:nvSpPr>
        <p:spPr>
          <a:xfrm>
            <a:off x="571680" y="2643120"/>
            <a:ext cx="74674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554a"/>
                </a:solidFill>
                <a:latin typeface="Century Schoolbook"/>
              </a:rPr>
              <a:t>Нет подробного описания пейзажа, портр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одержимое 2"/>
          <p:cNvSpPr/>
          <p:nvPr/>
        </p:nvSpPr>
        <p:spPr>
          <a:xfrm>
            <a:off x="571680" y="3929040"/>
            <a:ext cx="74674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554a"/>
                </a:solidFill>
                <a:latin typeface="Century Schoolbook"/>
              </a:rPr>
              <a:t>Яркие художественные де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одержимое 2"/>
          <p:cNvSpPr/>
          <p:nvPr/>
        </p:nvSpPr>
        <p:spPr>
          <a:xfrm>
            <a:off x="642960" y="5286240"/>
            <a:ext cx="74674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554a"/>
                </a:solidFill>
                <a:latin typeface="Century Schoolbook"/>
              </a:rPr>
              <a:t>Основа рассказа – ди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139680" y="0"/>
            <a:ext cx="8461440" cy="14144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6840" y="2133720"/>
            <a:ext cx="80773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554a"/>
                </a:solidFill>
                <a:latin typeface="Arial"/>
              </a:rPr>
              <a:t>Как вы думаете, как вёл бы  себя на месте тонкого другой мелкий чиновник?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554a"/>
                </a:solidFill>
                <a:latin typeface="Arial"/>
              </a:rPr>
              <a:t>Что позволяет так думать? 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554a"/>
                </a:solidFill>
                <a:latin typeface="Arial"/>
              </a:rPr>
              <a:t>Почему персонажей рассказа автор не называет по именам, хотя с самого начала мы знаем, как их зовут?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176040" y="244440"/>
            <a:ext cx="8967960" cy="1346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324000" y="1628640"/>
            <a:ext cx="836280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554a"/>
                </a:solidFill>
                <a:latin typeface="Arial"/>
              </a:rPr>
              <a:t>Рассказ занимает всего 2 страницы, а по глубине обличения пресмыкательства равен крупному произведению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лаконизм)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554a"/>
                </a:solidFill>
                <a:latin typeface="Arial"/>
              </a:rPr>
              <a:t>Отдельный случай приобретает в рассказе значение общего, в котором  во всей уродливости раскрылас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нтитеза </a:t>
            </a:r>
            <a:r>
              <a:rPr b="1" lang="ru-RU" sz="3200" spc="-1" strike="noStrike">
                <a:solidFill>
                  <a:srgbClr val="55554a"/>
                </a:solidFill>
                <a:latin typeface="Arial"/>
              </a:rPr>
              <a:t>«начальствующей сферы» и подчинённых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609480" y="353880"/>
            <a:ext cx="7467840" cy="10414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152280" y="134100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4a"/>
                </a:solidFill>
                <a:latin typeface="Arial"/>
              </a:rPr>
              <a:t>Ситуация доведена писателем до абсурда, именно это и позволяет лучше увидеть нелепость самой жизни, в которой царят низкопоклонство, чинопочитание, обожествление начальства и панический страх перед ним. </a:t>
            </a: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4a"/>
                </a:solidFill>
                <a:latin typeface="Arial"/>
              </a:rPr>
              <a:t>Особую горечь и неприятие вызывают не просто отношения между чинами, но и добровольное самоуничижение, добровольное превращение в раба.</a:t>
            </a: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1"/>
          <p:cNvSpPr/>
          <p:nvPr/>
        </p:nvSpPr>
        <p:spPr>
          <a:xfrm>
            <a:off x="357120" y="1643040"/>
            <a:ext cx="8429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4a"/>
                </a:solidFill>
                <a:latin typeface="Arial"/>
              </a:rPr>
              <a:t>Чехов, изумительный мастер лаконичной речи, выразительного емкого штриха, словом, репликой, деталью умел сказать многое. У Чехова мы учимся меткому, точному слову. Проанализировав рассказ Чехова «Толстый и тонкий», мы можем определить емкость чеховской детали, ее удивительную выразительность, научиться вчитываться в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4"/>
          <p:cNvSpPr/>
          <p:nvPr/>
        </p:nvSpPr>
        <p:spPr>
          <a:xfrm>
            <a:off x="2554560" y="681120"/>
            <a:ext cx="39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Выводы по расск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384120" y="208080"/>
            <a:ext cx="7607520" cy="104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7" name=""/>
          <p:cNvGraphicFramePr/>
          <p:nvPr/>
        </p:nvGraphicFramePr>
        <p:xfrm>
          <a:off x="468360" y="1484280"/>
          <a:ext cx="8207280" cy="5018040"/>
        </p:xfrm>
        <a:graphic>
          <a:graphicData uri="http://schemas.openxmlformats.org/drawingml/2006/table">
            <a:tbl>
              <a:tblPr/>
              <a:tblGrid>
                <a:gridCol w="2735280"/>
                <a:gridCol w="2736720"/>
                <a:gridCol w="27352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ои и их характерис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680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лст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680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н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680b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Внешность в начале расск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Внешность в конце расск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Чем пахнут гер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Семейное по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Дол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Награ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</a:tr>
              <a:tr h="912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Поведение в начале и конце расск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762120" y="401760"/>
            <a:ext cx="6784920" cy="1055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684000" y="1699920"/>
            <a:ext cx="75438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Иллюстрации к рассказам А.П Чехова.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Подготовиться к внеклассному чтению по рассказам А.П Чехова «Смерть чиновника», «Пересолил» и другие.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5" descr="чехов.jpg"/>
          <p:cNvPicPr/>
          <p:nvPr/>
        </p:nvPicPr>
        <p:blipFill>
          <a:blip r:embed="rId1"/>
          <a:stretch/>
        </p:blipFill>
        <p:spPr>
          <a:xfrm>
            <a:off x="108000" y="1700280"/>
            <a:ext cx="3240000" cy="4248000"/>
          </a:xfrm>
          <a:prstGeom prst="rect">
            <a:avLst/>
          </a:prstGeom>
          <a:ln w="0">
            <a:noFill/>
          </a:ln>
          <a:effectLst>
            <a:outerShdw dist="38222" dir="3603258" blurRad="0" rotWithShape="0">
              <a:srgbClr val="000000">
                <a:alpha val="50000"/>
              </a:srgbClr>
            </a:outerShdw>
          </a:effectLst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140360" y="1557360"/>
            <a:ext cx="3860640" cy="24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f343f"/>
                </a:solidFill>
                <a:latin typeface="Arial"/>
              </a:rPr>
              <a:t>«Краткость - сестра таланта».</a:t>
            </a:r>
            <a:endParaRPr b="0" lang="en-US" sz="3600" spc="-1" strike="noStrike">
              <a:solidFill>
                <a:srgbClr val="55554a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f343f"/>
                </a:solidFill>
                <a:latin typeface="Arial"/>
              </a:rPr>
              <a:t>А.П. Чехов</a:t>
            </a:r>
            <a:endParaRPr b="0" lang="en-US" sz="36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23" name="Прямоугольник 6"/>
          <p:cNvSpPr/>
          <p:nvPr/>
        </p:nvSpPr>
        <p:spPr>
          <a:xfrm>
            <a:off x="3924360" y="4143240"/>
            <a:ext cx="471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343f"/>
                </a:solidFill>
                <a:latin typeface="Arial"/>
              </a:rPr>
              <a:t>А.П. Чехов – мастер слова. Одной деталью, репликой он может сказать мног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1860480"/>
            <a:ext cx="8643960" cy="33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15851"/>
                </a:solidFill>
                <a:latin typeface="Times New Roman"/>
                <a:ea typeface="Calibri"/>
              </a:rPr>
              <a:t>Деталь</a:t>
            </a:r>
            <a:r>
              <a:rPr b="1" i="1" lang="ru-RU" sz="3600" spc="-1" strike="noStrike">
                <a:solidFill>
                  <a:srgbClr val="2f343f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2f343f"/>
                </a:solidFill>
                <a:latin typeface="Calibri"/>
                <a:ea typeface="Calibri"/>
              </a:rPr>
              <a:t>–</a:t>
            </a:r>
            <a:r>
              <a:rPr b="1" i="1" lang="ru-RU" sz="3600" spc="-1" strike="noStrike">
                <a:solidFill>
                  <a:srgbClr val="2f343f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2f343f"/>
                </a:solidFill>
                <a:latin typeface="Times New Roman"/>
                <a:ea typeface="Calibri"/>
              </a:rPr>
              <a:t>одно из средств создания художественного образа, которое помогает представить изображаемую автором картину, предмет или характер героя. Деталь может воспроизводить черты внешности, одежды, обстан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433440" y="85680"/>
            <a:ext cx="8077320" cy="21211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07520" y="1557000"/>
            <a:ext cx="78598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54a"/>
                </a:solidFill>
                <a:latin typeface="Arial"/>
              </a:rPr>
              <a:t>Как вы думаете, почему в тексте нет указания на то, когда происходит действие?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27" name="Объект 2"/>
          <p:cNvSpPr/>
          <p:nvPr/>
        </p:nvSpPr>
        <p:spPr>
          <a:xfrm>
            <a:off x="468360" y="2997360"/>
            <a:ext cx="785808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54a"/>
                </a:solidFill>
                <a:latin typeface="Arial"/>
              </a:rPr>
              <a:t>По каким деталям текста можно определить историческое время</a:t>
            </a:r>
            <a:r>
              <a:rPr b="1" lang="ru-RU" sz="3200" spc="-1" strike="noStrike">
                <a:solidFill>
                  <a:srgbClr val="55554a"/>
                </a:solidFill>
                <a:latin typeface="Century School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бъект 2"/>
          <p:cNvSpPr/>
          <p:nvPr/>
        </p:nvSpPr>
        <p:spPr>
          <a:xfrm>
            <a:off x="609480" y="4076640"/>
            <a:ext cx="78598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54a"/>
                </a:solidFill>
                <a:latin typeface="Arial"/>
              </a:rPr>
              <a:t>Предположите, в каком городе происходит действие? Обоснуйте своё м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762120" y="476280"/>
            <a:ext cx="6784920" cy="1054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«Толстый и тонкий». Художник С. Алимов"/>
          <p:cNvPicPr/>
          <p:nvPr/>
        </p:nvPicPr>
        <p:blipFill>
          <a:blip r:embed="rId2"/>
          <a:stretch/>
        </p:blipFill>
        <p:spPr>
          <a:xfrm>
            <a:off x="4932360" y="1633680"/>
            <a:ext cx="3200400" cy="4525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C:\Users\Администратор\Desktop\000009.jpg"/>
          <p:cNvPicPr/>
          <p:nvPr/>
        </p:nvPicPr>
        <p:blipFill>
          <a:blip r:embed="rId3"/>
          <a:stretch/>
        </p:blipFill>
        <p:spPr>
          <a:xfrm>
            <a:off x="831960" y="1628640"/>
            <a:ext cx="35528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324000" y="596880"/>
            <a:ext cx="7467480" cy="10368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6840" y="1600200"/>
            <a:ext cx="74674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Найдите портрет Толстого. Какие детали портрета говорят о его высоком уровне на социальной лестнице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34" name="Объект 2"/>
          <p:cNvSpPr/>
          <p:nvPr/>
        </p:nvSpPr>
        <p:spPr>
          <a:xfrm>
            <a:off x="609480" y="3238560"/>
            <a:ext cx="746784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Century Schoolbook"/>
              </a:rPr>
              <a:t>Найдите портрет Тонкого. Какие детали портрета говорят о его невысоком уровне на социальной лестни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7547040" cy="1043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26920" y="1557000"/>
            <a:ext cx="3657600" cy="639720"/>
          </a:xfrm>
          <a:prstGeom prst="rect">
            <a:avLst/>
          </a:prstGeom>
          <a:solidFill>
            <a:srgbClr val="b74e08">
              <a:alpha val="99000"/>
            </a:srgbClr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олстый</a:t>
            </a:r>
            <a:endParaRPr b="0" lang="en-US" sz="36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55640" y="2349000"/>
            <a:ext cx="3657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5554a"/>
                </a:solidFill>
                <a:latin typeface="Arial"/>
              </a:rPr>
              <a:t>Толстый только что пообедал на вокзале, и губы его, подернутые маслом, лоснились, как спелые вишни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5554a"/>
                </a:solidFill>
                <a:latin typeface="Arial"/>
              </a:rPr>
              <a:t>Пахло от него хересом и флёрдоранжем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716360" y="1628280"/>
            <a:ext cx="3657600" cy="639720"/>
          </a:xfrm>
          <a:prstGeom prst="rect">
            <a:avLst/>
          </a:prstGeom>
          <a:solidFill>
            <a:srgbClr val="b74e0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онкий</a:t>
            </a:r>
            <a:endParaRPr b="0" lang="en-US" sz="36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00720" y="2565000"/>
            <a:ext cx="3657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5554a"/>
                </a:solidFill>
                <a:latin typeface="Arial"/>
              </a:rPr>
              <a:t>Тонкий же только что вышел из вагона и был навьючен чемоданами, узлами и картонками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5554a"/>
                </a:solidFill>
                <a:latin typeface="Arial"/>
              </a:rPr>
              <a:t>Пахло от него ветчиной и кофейной гущей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Картинка 1 из 67575"/>
          <p:cNvPicPr/>
          <p:nvPr/>
        </p:nvPicPr>
        <p:blipFill>
          <a:blip r:embed="rId1"/>
          <a:stretch/>
        </p:blipFill>
        <p:spPr>
          <a:xfrm>
            <a:off x="571680" y="928800"/>
            <a:ext cx="2847960" cy="357660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5"/>
          <p:cNvSpPr/>
          <p:nvPr/>
        </p:nvSpPr>
        <p:spPr>
          <a:xfrm>
            <a:off x="30240" y="4692600"/>
            <a:ext cx="892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5554a"/>
                </a:solidFill>
                <a:latin typeface="Century Schoolbook"/>
              </a:rPr>
              <a:t>Херес и флердоранж могли себе позволить только богатые люди. Значит Толстый – самостоятельный, богатый, довольный жизнью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Картинка 6 из 3186"/>
          <p:cNvPicPr/>
          <p:nvPr/>
        </p:nvPicPr>
        <p:blipFill>
          <a:blip r:embed="rId2"/>
          <a:stretch/>
        </p:blipFill>
        <p:spPr>
          <a:xfrm>
            <a:off x="5003640" y="928800"/>
            <a:ext cx="3283200" cy="375120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8"/>
          <p:cNvSpPr/>
          <p:nvPr/>
        </p:nvSpPr>
        <p:spPr>
          <a:xfrm>
            <a:off x="4786200" y="282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15851"/>
                </a:solidFill>
                <a:latin typeface="Arial"/>
              </a:rPr>
              <a:t>Флёрдоран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9"/>
          <p:cNvSpPr/>
          <p:nvPr/>
        </p:nvSpPr>
        <p:spPr>
          <a:xfrm>
            <a:off x="285840" y="282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15851"/>
                </a:solidFill>
                <a:latin typeface="Arial"/>
              </a:rPr>
              <a:t>Хер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4:14:16Z</dcterms:created>
  <dc:creator>Юзер</dc:creator>
  <dc:description/>
  <dc:language>en-US</dc:language>
  <cp:lastModifiedBy>DNA7 X86</cp:lastModifiedBy>
  <dcterms:modified xsi:type="dcterms:W3CDTF">2014-01-29T01:54:24Z</dcterms:modified>
  <cp:revision>46</cp:revision>
  <dc:subject/>
  <dc:title>Слайд 1</dc:title>
</cp:coreProperties>
</file>