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4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E12-A13C-4254-ACF9-3CAAF44F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02D-A0E1-45F3-80BA-79E53F4B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FEC-9EF8-4540-BC3A-A6CFA379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9EA-1C8C-4252-A1C0-FB1B6945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5DB9-6D20-4852-BB53-9B5D7C20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CFD-BE95-48ED-984D-A32A75C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4BE2-197E-4C69-9442-6EF9383A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7F10-1AAF-4475-8192-890359F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1924-CF84-43D4-BAAA-C14FF45E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00AC-9088-4428-93BE-68F7890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17A9-55E9-4EF6-AA86-3AEF807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0A0-BA47-459D-A49E-1E6A46E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3D5-58F0-413F-BA32-EAA624B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CD04-AAD5-4743-8AAB-1A7D6C2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884-8BD8-4D9D-B339-B4FF72E1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C7CA-9B73-49D3-920A-18CFE243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42B-1F2B-4169-8839-4B79F5CC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A82F-B856-4C38-BE41-6F5829C1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DCE4-F68E-4508-9A7E-30DB4764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EA3E-208F-421C-950B-40036AC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687F-8DE7-46E2-9741-47C0B65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EC26-DC6C-4EEC-AB54-43B7687C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E0E-3D1A-433D-8E5C-A4C0A69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3576-F141-4372-AC25-D5BDC16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B632-D849-423D-AF08-8DEA4C6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A493-3828-48F9-A7D4-811DD9C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7239-AE55-4921-97D9-A5C6DBF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AC72-F87A-4874-BC75-DEDBC5F9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4C9D-BB55-44DB-932A-2E5E39BF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2CD6-BEFB-40CA-A58B-51EFC61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882C2-5CCB-40D7-9077-5C0CEE75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590E-2A49-49EE-805A-2E18F94D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1E26-3CDE-4027-BE08-B617CD2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A14-BBE6-4E5C-B5D8-6147272D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BC67-09DA-4CA0-AF25-197C86E2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0629-68CA-4C52-AD69-63013CC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9154-C86B-4D10-BBE0-CBB833A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83AF-604C-4017-83CD-FBC265A3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6AFE-41AB-4F1E-87DE-DEA170C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F6E2-9F68-498E-B23B-0897EE1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B0F9E-91FE-41B1-83A4-EA1D9E62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C015-B1CE-44E9-AB5B-34450702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E457-9A7E-47D8-A717-C41CD0C2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4DEE-DE82-43E0-8620-B605D091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BD6-ABB0-4D37-B5D3-CFC900ED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9D81-5821-4CAD-B42F-403E9AE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24720-E1EC-4A26-94D5-9024FAC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D63E-AB8E-4B4E-9ED4-691F0AA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A9A0-2244-4C87-A9FE-75DBB879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3187F-7C2C-4A7C-B560-6D095F5B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FD17-CC17-4F4A-9105-8CDD76DF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7DF5-2506-4F72-8C7B-B3A2EFF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56AD-08FD-4823-87F7-DD17A57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5B52-940C-40E4-A926-97727373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18B9-AEEB-4B4A-A1F5-E89C18AF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702-1C97-4E87-96AC-63210A6D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9FCE-9336-4811-AF3A-5F6757B3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73EB-C473-4146-A96B-13754582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35D51-4723-48EF-81BC-FBF472E9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3028-9E09-4B82-BB24-AFFD6F5A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1A58-3F92-48A1-B74B-010A0ED0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2A2C-E7D7-4DCE-BA82-219F447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B4F0-4317-4139-8191-8881DCE9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FA246-0B05-4B38-917D-E9A977A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385F-F374-43B7-ADC3-13B64B3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5121-688B-4FB3-9C10-CB97A4FF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D36-447A-4156-9C44-3B2F535C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2710-9FA4-4E29-857D-0218D40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AA7F-F2EC-4085-B689-D0B388F2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9D51-0972-4A23-975F-E4AFB78A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F6DA-1D13-487C-9AE5-05D5FE18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3CDF-57C6-45A9-A356-974F2D7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3435-985A-43F2-8D22-1630CE3C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3171-AD5F-47AB-AFC7-5589C725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B0C0-113A-470C-B301-D731DA7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D0C33-6C41-45AB-880E-6C3A9B6C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48FF-0AD0-4630-829A-D0C09BB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6D4-A75E-4DA9-915A-2FFF145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3E3F-1098-448E-82FA-C00EF0B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09C05-F9CA-4A71-83F4-AFC058B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7440E-22D9-4D68-ABC6-F71A227D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1CFA-C545-492C-9030-0C671210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78ACA-0A75-4EFE-BCC0-8404ABA5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54E-3F92-4AEC-BA7E-979CDAC8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07DC-2F52-4EE5-B2ED-83951B95AD14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B57-B457-422F-916C-DCB1B6C1DAD5}" type="slidenum">
              <a:rPr b="0" lang="ru-RU" sz="2400" spc="-1" strike="noStrike">
                <a:solidFill>
                  <a:srgbClr val="d7dae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59B9-ECD5-4E10-8172-9559DFA39E5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1D6-BE3E-4180-A7F0-DAC9B253821F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5872-0453-4CF7-AAE5-44352563BAE8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A4F-C008-45BF-BC59-E924DEE1EDB5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3AB-EE75-48F2-B5DC-ED3E36C3C152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324000" y="-457200"/>
            <a:ext cx="119599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"/>
          <p:cNvSpPr/>
          <p:nvPr/>
        </p:nvSpPr>
        <p:spPr>
          <a:xfrm>
            <a:off x="3643200" y="1369440"/>
            <a:ext cx="43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«навьючен чемоданами» </a:t>
            </a:r>
            <a:r>
              <a:rPr b="1" i="1" lang="ru-RU" sz="2800" spc="-1" strike="noStrike">
                <a:solidFill>
                  <a:srgbClr val="55554a"/>
                </a:solidFill>
                <a:latin typeface="Calibri"/>
                <a:ea typeface="Calibri"/>
              </a:rPr>
              <a:t>–</a:t>
            </a: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 не может позволить себе нанять носиль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Значит, Тонкий </a:t>
            </a:r>
            <a:r>
              <a:rPr b="1" i="1" lang="ru-RU" sz="2800" spc="-1" strike="noStrike">
                <a:solidFill>
                  <a:srgbClr val="55554a"/>
                </a:solidFill>
                <a:latin typeface="Calibri"/>
                <a:ea typeface="Calibri"/>
              </a:rPr>
              <a:t>–</a:t>
            </a:r>
            <a:r>
              <a:rPr b="1" i="1" lang="ru-RU" sz="2800" spc="-1" strike="noStrike">
                <a:solidFill>
                  <a:srgbClr val="55554a"/>
                </a:solidFill>
                <a:latin typeface="Times New Roman"/>
                <a:ea typeface="Calibri"/>
              </a:rPr>
              <a:t> бедный, человек, неуверенный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" descr="D:\Documents and Settings\Администратор\Рабочий стол\тт2.jpg"/>
          <p:cNvPicPr/>
          <p:nvPr/>
        </p:nvPicPr>
        <p:blipFill>
          <a:blip r:embed="rId1"/>
          <a:stretch/>
        </p:blipFill>
        <p:spPr>
          <a:xfrm>
            <a:off x="428760" y="1357200"/>
            <a:ext cx="2463840" cy="53024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5"/>
          <p:cNvSpPr/>
          <p:nvPr/>
        </p:nvSpPr>
        <p:spPr>
          <a:xfrm>
            <a:off x="358560" y="279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5851"/>
                </a:solidFill>
                <a:latin typeface="Arial"/>
              </a:rPr>
              <a:t>Навью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5851"/>
                </a:solidFill>
                <a:latin typeface="Arial"/>
              </a:rPr>
              <a:t>чемода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7467480" cy="1041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250920" y="1341360"/>
            <a:ext cx="820872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О чём говорят реплики Толстого и Тонкого в начале рассказа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0" name="Объект 2"/>
          <p:cNvSpPr/>
          <p:nvPr/>
        </p:nvSpPr>
        <p:spPr>
          <a:xfrm>
            <a:off x="250920" y="4508640"/>
            <a:ext cx="8281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Выводы: 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В начале рассказа Толстый и Тонкий равны, они встретились как друзья детства. «</a:t>
            </a:r>
            <a:r>
              <a:rPr b="1" i="1" lang="ru-RU" sz="2400" spc="-1" strike="noStrike">
                <a:solidFill>
                  <a:srgbClr val="55554a"/>
                </a:solidFill>
                <a:latin typeface="Arial"/>
              </a:rPr>
              <a:t>Приятели троекратно облобызались и устремили друг на друга глаза, полные слё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Текст 4"/>
          <p:cNvSpPr/>
          <p:nvPr/>
        </p:nvSpPr>
        <p:spPr>
          <a:xfrm>
            <a:off x="266760" y="2124000"/>
            <a:ext cx="3657600" cy="65736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лс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Текст 5"/>
          <p:cNvSpPr/>
          <p:nvPr/>
        </p:nvSpPr>
        <p:spPr>
          <a:xfrm>
            <a:off x="4432320" y="2124000"/>
            <a:ext cx="3657600" cy="657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одержимое 2"/>
          <p:cNvSpPr/>
          <p:nvPr/>
        </p:nvSpPr>
        <p:spPr>
          <a:xfrm>
            <a:off x="457200" y="2781360"/>
            <a:ext cx="3657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Порфирий!.. Ты ли это? Голубчик мой! Сколько зим, сколько л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4395960" y="2781360"/>
            <a:ext cx="365760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Батюшки!.. Миша! Друг детства! Откуда ты взялс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7467480" cy="841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6840" y="1628280"/>
            <a:ext cx="77151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Что изменилось в Тонком внешне и внутренн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Какова причина перемены настроения Тонкого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Является ли Толстый непосредственным начальником  Тонкого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Есть ли у Тонкого какие-либо причины угодничать перед Толстым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Зачем же он унижается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415800" y="500040"/>
            <a:ext cx="82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Century Schoolbook"/>
              </a:rPr>
              <a:t>Изменения в То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214200" y="1341360"/>
            <a:ext cx="8429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«съежился, сгорбился, сузился… Его чемоданы, узлы и картонки съежились, поморщились»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55554a"/>
                </a:solidFill>
                <a:latin typeface="Arial"/>
              </a:rPr>
              <a:t>гипербола -  стилистическая фигура явного и намеренного преувеличения, с целью усиления выраз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214200" y="3116160"/>
            <a:ext cx="8358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В конце слов приставляет «с»: «Хи-хи-с… Что вы-с…»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55554a"/>
                </a:solidFill>
                <a:latin typeface="Arial"/>
              </a:rPr>
              <a:t>раньше так было принято обращаться к высокопоставленным личностя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357120" y="4572000"/>
            <a:ext cx="8143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Тонкий вдруг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побледнел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каменел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но скоро лицо его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искривилось</a:t>
            </a: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о все стороны широчайшей улыбк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69800" y="92160"/>
            <a:ext cx="7467840" cy="931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211640" y="1483920"/>
            <a:ext cx="4248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Найдите детали портрета жены и сына Тонкого.                             Что подчёркивает этими деталями автор в характере героев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Как ведёт себя сын? Какие жесты показывают его рабское воспитани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63" name="Picture 2" descr="C:\Users\Администратор\Desktop\35295_html_2f8b160a.png"/>
          <p:cNvPicPr/>
          <p:nvPr/>
        </p:nvPicPr>
        <p:blipFill>
          <a:blip r:embed="rId2"/>
          <a:stretch/>
        </p:blipFill>
        <p:spPr>
          <a:xfrm>
            <a:off x="250920" y="1511280"/>
            <a:ext cx="3746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467480" cy="816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немного подумал и снял шапку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немного подумал и спрятался за спину отца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вытянулся во фрунт и застегнул све пуговки своего мундира…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Нафанаил шаркнул ногой и уронил фуражку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467480" cy="9334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5270400" y="1628280"/>
            <a:ext cx="3456000" cy="26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Что изменилось в героях к концу рассказа?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68" name="Picture 2" descr="C:\Users\Администратор\Desktop\0937f066c480.jpg"/>
          <p:cNvPicPr/>
          <p:nvPr/>
        </p:nvPicPr>
        <p:blipFill>
          <a:blip r:embed="rId2"/>
          <a:stretch/>
        </p:blipFill>
        <p:spPr>
          <a:xfrm>
            <a:off x="-27000" y="1916280"/>
            <a:ext cx="5462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Текст 4"/>
          <p:cNvSpPr/>
          <p:nvPr/>
        </p:nvSpPr>
        <p:spPr>
          <a:xfrm>
            <a:off x="328680" y="563400"/>
            <a:ext cx="3657600" cy="6588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лс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Текст 4"/>
          <p:cNvSpPr/>
          <p:nvPr/>
        </p:nvSpPr>
        <p:spPr>
          <a:xfrm>
            <a:off x="4788000" y="581040"/>
            <a:ext cx="3657600" cy="6588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Тон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одержимое 2"/>
          <p:cNvSpPr/>
          <p:nvPr/>
        </p:nvSpPr>
        <p:spPr>
          <a:xfrm>
            <a:off x="250920" y="1557360"/>
            <a:ext cx="37447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Для чего этот тон? Мы с тобой друзья детства – и к чему тут это чинопочитани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Тайного советника стошнило. Он отвернулся от тонкого и подал ему на прощанье ру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одержимое 2"/>
          <p:cNvSpPr/>
          <p:nvPr/>
        </p:nvSpPr>
        <p:spPr>
          <a:xfrm>
            <a:off x="3851280" y="1557360"/>
            <a:ext cx="504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«Помилуйте… Что вы-с.. Милостивое внимание вашего   превосходи-тельства…  вроде как бы живительной влаг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На лице у тонкого было написано столько благоговения, сладости и почтительной кислоты…</a:t>
            </a:r>
            <a:r>
              <a:rPr b="1" lang="ru-RU" sz="2400" spc="-1" strike="noStrike">
                <a:solidFill>
                  <a:srgbClr val="55554a"/>
                </a:solidFill>
                <a:latin typeface="Century Schoolbook"/>
              </a:rPr>
              <a:t>                         </a:t>
            </a:r>
            <a:r>
              <a:rPr b="1" i="1" lang="ru-RU" sz="2400" spc="-1" strike="noStrike">
                <a:solidFill>
                  <a:srgbClr val="55554a"/>
                </a:solidFill>
                <a:latin typeface="Century Schoolbook"/>
              </a:rPr>
              <a:t>Пожал три пальца, поклонился всем туловищем и захихик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762120" y="378000"/>
            <a:ext cx="6784920" cy="10429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79280" y="1413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В начале рассказа Толстый испытывает удовольствие от обеда. Он рад встрече с Тонким. В конце рассказа его «стошнило» от лицемерия бывшего друга, но при прощании он подал руку приятелю, т.е остался </a:t>
            </a:r>
            <a:r>
              <a:rPr b="1" lang="ru-RU" sz="2600" spc="-1" strike="noStrike">
                <a:solidFill>
                  <a:srgbClr val="55554a"/>
                </a:solidFill>
                <a:latin typeface="Arial"/>
              </a:rPr>
              <a:t>человеком</a:t>
            </a: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Тонкий в начале рассказа показан человеком бедным, но он стремится похвастаться орденом Станислава, дополнительным доходом. В конце рассказа он раздавлен, ему «нечем крыть». Но он лишён чувства собственного достоинства, поэтому в его облике нет ничего человеческого. Он остался только мелким </a:t>
            </a:r>
            <a:r>
              <a:rPr b="1" lang="ru-RU" sz="2600" spc="-1" strike="noStrike">
                <a:solidFill>
                  <a:srgbClr val="55554a"/>
                </a:solidFill>
                <a:latin typeface="Arial"/>
              </a:rPr>
              <a:t>чиновником</a:t>
            </a:r>
            <a:r>
              <a:rPr b="1" lang="ru-RU" sz="2200" spc="-1" strike="noStrike">
                <a:solidFill>
                  <a:srgbClr val="55554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77" name="Поле 15"/>
          <p:cNvSpPr/>
          <p:nvPr/>
        </p:nvSpPr>
        <p:spPr>
          <a:xfrm>
            <a:off x="-181080" y="1125360"/>
            <a:ext cx="932508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Подобострастие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льстивость,  угодливость.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Угодничество</a:t>
            </a:r>
            <a:r>
              <a:rPr b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- льстивое поведение. 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Самоуничижение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 - признание себя ничтожным.                             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Чинопочитание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лицемерное       отношение к старшим по должности, званию.                  </a:t>
            </a:r>
            <a:r>
              <a:rPr b="1" i="1" lang="ru-RU" sz="2800" spc="-1" strike="noStrike">
                <a:solidFill>
                  <a:srgbClr val="b74e08"/>
                </a:solidFill>
                <a:latin typeface="Times New Roman"/>
                <a:ea typeface="Times New Roman"/>
              </a:rPr>
              <a:t>Подхалимство</a:t>
            </a:r>
            <a:r>
              <a:rPr b="1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5554a"/>
                </a:solidFill>
                <a:latin typeface="Times New Roman"/>
                <a:ea typeface="Times New Roman"/>
              </a:rPr>
              <a:t>– стремление расположить к себе кого-то ле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963720" y="487440"/>
            <a:ext cx="7076880" cy="1042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571320" y="1785600"/>
            <a:ext cx="746748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Короткое вступление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8" name="Содержимое 2"/>
          <p:cNvSpPr/>
          <p:nvPr/>
        </p:nvSpPr>
        <p:spPr>
          <a:xfrm>
            <a:off x="571680" y="264312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Нет подробного описания пейзажа, портр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одержимое 2"/>
          <p:cNvSpPr/>
          <p:nvPr/>
        </p:nvSpPr>
        <p:spPr>
          <a:xfrm>
            <a:off x="571680" y="392904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Яркие художественны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одержимое 2"/>
          <p:cNvSpPr/>
          <p:nvPr/>
        </p:nvSpPr>
        <p:spPr>
          <a:xfrm>
            <a:off x="642960" y="5286240"/>
            <a:ext cx="7467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Основа рассказа – ди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8461440" cy="1414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Как вы думаете, как вёл бы  себя на месте тонкого другой мелкий чиновник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Что позволяет так думать?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554a"/>
                </a:solidFill>
                <a:latin typeface="Arial"/>
              </a:rPr>
              <a:t>Почему персонажей рассказа автор не называет по именам, хотя с самого начала мы знаем, как их зовут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76040" y="244440"/>
            <a:ext cx="8967960" cy="1346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4000" y="1628640"/>
            <a:ext cx="83628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Рассказ занимает всего 2 страницы, а по глубине обличения пресмыкательства равен крупному произведению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лаконизм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Отдельный случай приобретает в рассказе значение общего, в котором  во всей уродливости раскрылась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нтитеза </a:t>
            </a:r>
            <a:r>
              <a:rPr b="1" lang="ru-RU" sz="3200" spc="-1" strike="noStrike">
                <a:solidFill>
                  <a:srgbClr val="55554a"/>
                </a:solidFill>
                <a:latin typeface="Arial"/>
              </a:rPr>
              <a:t>«начальствующей сферы» и подчинённых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609480" y="353880"/>
            <a:ext cx="7467840" cy="1041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152280" y="134100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Ситуация доведена писателем до абсурда, именно это и позволяет лучше увидеть нелепость самой жизни, в которой царят низкопоклонство, чинопочитание, обожествление начальства и панический страх перед ним. 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Особую горечь и неприятие вызывают не просто отношения между чинами, но и добровольное самоуничижение, добровольное превращение в раба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357120" y="164304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Чехов, изумительный мастер лаконичной речи, выразительного емкого штриха, словом, репликой, деталью умел сказать многое. У Чехова мы учимся меткому, точному слову. Проанализировав рассказ Чехова «Толстый и тонкий», мы можем определить емкость чеховской детали, ее удивительную выразительность, научиться вчитываться в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2554560" y="681120"/>
            <a:ext cx="39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Выводы по расск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7607520" cy="10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468360" y="1484280"/>
          <a:ext cx="8207280" cy="501804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52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 и их характерис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680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Внешность в начал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Внешность в конц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Чем пахнут гер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Семейное 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Нагр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4cc"/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Поведение в начале и конце расск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b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6784920" cy="1055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84000" y="1699920"/>
            <a:ext cx="75438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Иллюстрации к рассказам А.П Чехова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Arial"/>
              </a:rPr>
              <a:t>Подготовиться к внеклассному чтению по рассказам А.П Чехова «Смерть чиновника», «Пересолил» и другие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5" descr="чехов.jpg"/>
          <p:cNvPicPr/>
          <p:nvPr/>
        </p:nvPicPr>
        <p:blipFill>
          <a:blip r:embed="rId1"/>
          <a:stretch/>
        </p:blipFill>
        <p:spPr>
          <a:xfrm>
            <a:off x="108000" y="1700280"/>
            <a:ext cx="3240000" cy="4248000"/>
          </a:xfrm>
          <a:prstGeom prst="rect">
            <a:avLst/>
          </a:prstGeom>
          <a:ln w="0">
            <a:noFill/>
          </a:ln>
          <a:effectLst>
            <a:outerShdw dist="38222" dir="3603258" blurRad="0" rotWithShape="0">
              <a:srgbClr val="000000">
                <a:alpha val="50000"/>
              </a:srgbClr>
            </a:outerShdw>
          </a:effectLst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140360" y="1557360"/>
            <a:ext cx="386064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343f"/>
                </a:solidFill>
                <a:latin typeface="Arial"/>
              </a:rPr>
              <a:t>«Краткость - сестра таланта».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343f"/>
                </a:solidFill>
                <a:latin typeface="Arial"/>
              </a:rPr>
              <a:t>А.П. Чехов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23" name="Прямоугольник 6"/>
          <p:cNvSpPr/>
          <p:nvPr/>
        </p:nvSpPr>
        <p:spPr>
          <a:xfrm>
            <a:off x="3924360" y="4143240"/>
            <a:ext cx="47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343f"/>
                </a:solidFill>
                <a:latin typeface="Arial"/>
              </a:rPr>
              <a:t>А.П. Чехов – мастер слова. Одной деталью, репликой он может сказать мног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0" y="1860480"/>
            <a:ext cx="864396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15851"/>
                </a:solidFill>
                <a:latin typeface="Times New Roman"/>
                <a:ea typeface="Calibri"/>
              </a:rPr>
              <a:t>Деталь</a:t>
            </a:r>
            <a:r>
              <a:rPr b="1" i="1" lang="ru-RU" sz="3600" spc="-1" strike="noStrike">
                <a:solidFill>
                  <a:srgbClr val="2f343f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2f343f"/>
                </a:solidFill>
                <a:latin typeface="Calibri"/>
                <a:ea typeface="Calibri"/>
              </a:rPr>
              <a:t>–</a:t>
            </a:r>
            <a:r>
              <a:rPr b="1" i="1" lang="ru-RU" sz="3600" spc="-1" strike="noStrike">
                <a:solidFill>
                  <a:srgbClr val="2f343f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2f343f"/>
                </a:solidFill>
                <a:latin typeface="Times New Roman"/>
                <a:ea typeface="Calibri"/>
              </a:rPr>
              <a:t>одно из средств создания художественного образа, которое помогает представить изображаемую автором картину, предмет или характер героя. Деталь может воспроизводить черты внешности, одежды,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33440" y="85680"/>
            <a:ext cx="8077320" cy="2121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07520" y="1557000"/>
            <a:ext cx="7859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Как вы думаете, почему в тексте нет указания на то, когда происходит действие?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27" name="Объект 2"/>
          <p:cNvSpPr/>
          <p:nvPr/>
        </p:nvSpPr>
        <p:spPr>
          <a:xfrm>
            <a:off x="468360" y="2997360"/>
            <a:ext cx="78580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По каким деталям текста можно определить историческое время</a:t>
            </a:r>
            <a:r>
              <a:rPr b="1" lang="ru-RU" sz="3200" spc="-1" strike="noStrike">
                <a:solidFill>
                  <a:srgbClr val="55554a"/>
                </a:solidFill>
                <a:latin typeface="Century School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бъект 2"/>
          <p:cNvSpPr/>
          <p:nvPr/>
        </p:nvSpPr>
        <p:spPr>
          <a:xfrm>
            <a:off x="609480" y="4076640"/>
            <a:ext cx="78598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Предположите, в каком городе происходит действие? Обоснуйте своё м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762120" y="476280"/>
            <a:ext cx="6784920" cy="1054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«Толстый и тонкий». Художник С. Алимов"/>
          <p:cNvPicPr/>
          <p:nvPr/>
        </p:nvPicPr>
        <p:blipFill>
          <a:blip r:embed="rId2"/>
          <a:stretch/>
        </p:blipFill>
        <p:spPr>
          <a:xfrm>
            <a:off x="4932360" y="1633680"/>
            <a:ext cx="3200400" cy="4525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Администратор\Desktop\000009.jpg"/>
          <p:cNvPicPr/>
          <p:nvPr/>
        </p:nvPicPr>
        <p:blipFill>
          <a:blip r:embed="rId3"/>
          <a:stretch/>
        </p:blipFill>
        <p:spPr>
          <a:xfrm>
            <a:off x="831960" y="1628640"/>
            <a:ext cx="3552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324000" y="596880"/>
            <a:ext cx="7467480" cy="1036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6840" y="1600200"/>
            <a:ext cx="74674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Найдите портрет Толстого. Какие детали портрета говорят о его высоком уровне на социальной лестнице?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4" name="Объект 2"/>
          <p:cNvSpPr/>
          <p:nvPr/>
        </p:nvSpPr>
        <p:spPr>
          <a:xfrm>
            <a:off x="609480" y="3238560"/>
            <a:ext cx="746784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554a"/>
                </a:solidFill>
                <a:latin typeface="Century Schoolbook"/>
              </a:rPr>
              <a:t>Найдите портрет Тонкого. Какие детали портрета говорят о его невысоком уровне на социальной лестн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043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26920" y="1557000"/>
            <a:ext cx="3657600" cy="639720"/>
          </a:xfrm>
          <a:prstGeom prst="rect">
            <a:avLst/>
          </a:prstGeom>
          <a:solidFill>
            <a:srgbClr val="b74e08">
              <a:alpha val="99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лстый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55640" y="234900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Толстый только что пообедал на вокзале, и губы его, подернутые маслом, лоснились, как спелые вишни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Пахло от него хересом и флёрдоранжем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716360" y="1628280"/>
            <a:ext cx="3657600" cy="639720"/>
          </a:xfrm>
          <a:prstGeom prst="rect">
            <a:avLst/>
          </a:prstGeom>
          <a:solidFill>
            <a:srgbClr val="b74e0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нкий</a:t>
            </a:r>
            <a:endParaRPr b="0" lang="en-US" sz="36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00720" y="256500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Тонкий же только что вышел из вагона и был навьючен чемоданами, узлами и картонками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5554a"/>
                </a:solidFill>
                <a:latin typeface="Arial"/>
              </a:rPr>
              <a:t>Пахло от него ветчиной и кофейной гущей.</a:t>
            </a:r>
            <a:endParaRPr b="0" lang="en-US" sz="22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Картинка 1 из 67575"/>
          <p:cNvPicPr/>
          <p:nvPr/>
        </p:nvPicPr>
        <p:blipFill>
          <a:blip r:embed="rId1"/>
          <a:stretch/>
        </p:blipFill>
        <p:spPr>
          <a:xfrm>
            <a:off x="571680" y="928800"/>
            <a:ext cx="2847960" cy="357660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30240" y="4692600"/>
            <a:ext cx="89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Century Schoolbook"/>
              </a:rPr>
              <a:t>Херес и флердоранж могли себе позволить только богатые люди. Значит Толстый – самостоятельный, богатый, довольный жизнью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Картинка 6 из 3186"/>
          <p:cNvPicPr/>
          <p:nvPr/>
        </p:nvPicPr>
        <p:blipFill>
          <a:blip r:embed="rId2"/>
          <a:stretch/>
        </p:blipFill>
        <p:spPr>
          <a:xfrm>
            <a:off x="5003640" y="928800"/>
            <a:ext cx="3283200" cy="37512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8"/>
          <p:cNvSpPr/>
          <p:nvPr/>
        </p:nvSpPr>
        <p:spPr>
          <a:xfrm>
            <a:off x="4786200" y="28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15851"/>
                </a:solidFill>
                <a:latin typeface="Arial"/>
              </a:rPr>
              <a:t>Флёрдоран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285840" y="282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15851"/>
                </a:solidFill>
                <a:latin typeface="Arial"/>
              </a:rPr>
              <a:t>Хер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4:14:16Z</dcterms:created>
  <dc:creator>Юзер</dc:creator>
  <dc:description/>
  <dc:language>en-US</dc:language>
  <cp:lastModifiedBy>DNA7 X86</cp:lastModifiedBy>
  <dcterms:modified xsi:type="dcterms:W3CDTF">2014-01-29T01:54:24Z</dcterms:modified>
  <cp:revision>46</cp:revision>
  <dc:subject/>
  <dc:title>Слайд 1</dc:title>
</cp:coreProperties>
</file>