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8A64-C9DD-49A0-B3C4-9BD8C7D4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9F71-1D71-4DC2-A97A-A4E81206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C610-ADD5-4CFE-BA6B-B0A755FC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15D9-AFC3-4CEA-A226-723808CF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B2AC-D4AE-45BB-84AC-D81B45B8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65AD-11D7-488D-AFB6-24DDE963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3DE-46B1-44C2-9A76-DC891FB3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B9C8-3C07-4388-A1DD-D87E51FA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D52A-35A4-483A-A6AD-2963B885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5A7-0492-4B97-904A-8E0DA58A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B0C-6928-44BF-836A-34568250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19EE-C7B7-4F51-87ED-05190E5A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2B55-8C67-462F-8A1C-C8E485C43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autospies.com/images/users/Agent00R/main/458italia.jpg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46022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09960" y="2793960"/>
            <a:ext cx="692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Из чего наш мир состоит, из дубка, что в поле стоит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Из высоких гор с сединой, и ещё, и ещё из тебя со мной.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Из мальчиков и девочек, из книжек и затей,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А главное, а главное, из взрослых и детей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5120" y="838080"/>
            <a:ext cx="49528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ассный час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45640" y="1310040"/>
            <a:ext cx="62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Какие человеческие качества ценя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мальчики в девочках и девочки - в мальчик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Портрет идеального мальчика составят девоч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а портрет идеальной девочки составят мальчик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3657600"/>
            <a:ext cx="213372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3581280"/>
            <a:ext cx="2133720" cy="198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62080" y="3716280"/>
            <a:ext cx="1119240" cy="290520"/>
          </a:xfrm>
          <a:custGeom>
            <a:avLst/>
            <a:gdLst/>
            <a:ahLst/>
            <a:rect l="l" t="t" r="r" b="b"/>
            <a:pathLst>
              <a:path w="705" h="183">
                <a:moveTo>
                  <a:pt x="246" y="0"/>
                </a:moveTo>
                <a:cubicBezTo>
                  <a:pt x="219" y="10"/>
                  <a:pt x="189" y="13"/>
                  <a:pt x="164" y="27"/>
                </a:cubicBezTo>
                <a:cubicBezTo>
                  <a:pt x="132" y="45"/>
                  <a:pt x="119" y="70"/>
                  <a:pt x="82" y="82"/>
                </a:cubicBezTo>
                <a:cubicBezTo>
                  <a:pt x="76" y="88"/>
                  <a:pt x="70" y="95"/>
                  <a:pt x="63" y="100"/>
                </a:cubicBezTo>
                <a:cubicBezTo>
                  <a:pt x="49" y="110"/>
                  <a:pt x="0" y="128"/>
                  <a:pt x="18" y="128"/>
                </a:cubicBezTo>
                <a:cubicBezTo>
                  <a:pt x="44" y="128"/>
                  <a:pt x="67" y="109"/>
                  <a:pt x="91" y="100"/>
                </a:cubicBezTo>
                <a:cubicBezTo>
                  <a:pt x="108" y="93"/>
                  <a:pt x="128" y="94"/>
                  <a:pt x="146" y="91"/>
                </a:cubicBezTo>
                <a:cubicBezTo>
                  <a:pt x="170" y="82"/>
                  <a:pt x="194" y="71"/>
                  <a:pt x="219" y="64"/>
                </a:cubicBezTo>
                <a:cubicBezTo>
                  <a:pt x="237" y="59"/>
                  <a:pt x="256" y="60"/>
                  <a:pt x="274" y="54"/>
                </a:cubicBezTo>
                <a:cubicBezTo>
                  <a:pt x="284" y="51"/>
                  <a:pt x="291" y="40"/>
                  <a:pt x="301" y="36"/>
                </a:cubicBezTo>
                <a:cubicBezTo>
                  <a:pt x="313" y="31"/>
                  <a:pt x="326" y="30"/>
                  <a:pt x="338" y="27"/>
                </a:cubicBezTo>
                <a:cubicBezTo>
                  <a:pt x="335" y="45"/>
                  <a:pt x="328" y="63"/>
                  <a:pt x="328" y="82"/>
                </a:cubicBezTo>
                <a:cubicBezTo>
                  <a:pt x="328" y="95"/>
                  <a:pt x="335" y="57"/>
                  <a:pt x="338" y="45"/>
                </a:cubicBezTo>
                <a:cubicBezTo>
                  <a:pt x="341" y="30"/>
                  <a:pt x="344" y="15"/>
                  <a:pt x="347" y="0"/>
                </a:cubicBezTo>
                <a:cubicBezTo>
                  <a:pt x="353" y="18"/>
                  <a:pt x="359" y="36"/>
                  <a:pt x="365" y="54"/>
                </a:cubicBezTo>
                <a:cubicBezTo>
                  <a:pt x="368" y="63"/>
                  <a:pt x="374" y="82"/>
                  <a:pt x="374" y="82"/>
                </a:cubicBezTo>
                <a:cubicBezTo>
                  <a:pt x="392" y="25"/>
                  <a:pt x="374" y="64"/>
                  <a:pt x="392" y="82"/>
                </a:cubicBezTo>
                <a:cubicBezTo>
                  <a:pt x="399" y="89"/>
                  <a:pt x="411" y="88"/>
                  <a:pt x="420" y="91"/>
                </a:cubicBezTo>
                <a:cubicBezTo>
                  <a:pt x="423" y="82"/>
                  <a:pt x="421" y="68"/>
                  <a:pt x="429" y="64"/>
                </a:cubicBezTo>
                <a:cubicBezTo>
                  <a:pt x="450" y="53"/>
                  <a:pt x="469" y="92"/>
                  <a:pt x="475" y="100"/>
                </a:cubicBezTo>
                <a:cubicBezTo>
                  <a:pt x="472" y="85"/>
                  <a:pt x="470" y="69"/>
                  <a:pt x="466" y="54"/>
                </a:cubicBezTo>
                <a:cubicBezTo>
                  <a:pt x="463" y="42"/>
                  <a:pt x="447" y="9"/>
                  <a:pt x="456" y="18"/>
                </a:cubicBezTo>
                <a:cubicBezTo>
                  <a:pt x="470" y="33"/>
                  <a:pt x="476" y="54"/>
                  <a:pt x="484" y="73"/>
                </a:cubicBezTo>
                <a:cubicBezTo>
                  <a:pt x="495" y="100"/>
                  <a:pt x="518" y="183"/>
                  <a:pt x="511" y="155"/>
                </a:cubicBezTo>
                <a:cubicBezTo>
                  <a:pt x="505" y="131"/>
                  <a:pt x="493" y="82"/>
                  <a:pt x="493" y="82"/>
                </a:cubicBezTo>
                <a:cubicBezTo>
                  <a:pt x="516" y="11"/>
                  <a:pt x="480" y="92"/>
                  <a:pt x="539" y="73"/>
                </a:cubicBezTo>
                <a:cubicBezTo>
                  <a:pt x="548" y="70"/>
                  <a:pt x="533" y="54"/>
                  <a:pt x="530" y="45"/>
                </a:cubicBezTo>
                <a:cubicBezTo>
                  <a:pt x="527" y="34"/>
                  <a:pt x="540" y="65"/>
                  <a:pt x="548" y="73"/>
                </a:cubicBezTo>
                <a:cubicBezTo>
                  <a:pt x="556" y="81"/>
                  <a:pt x="566" y="84"/>
                  <a:pt x="575" y="91"/>
                </a:cubicBezTo>
                <a:cubicBezTo>
                  <a:pt x="612" y="119"/>
                  <a:pt x="647" y="139"/>
                  <a:pt x="685" y="164"/>
                </a:cubicBezTo>
                <a:cubicBezTo>
                  <a:pt x="688" y="155"/>
                  <a:pt x="705" y="106"/>
                  <a:pt x="703" y="100"/>
                </a:cubicBezTo>
                <a:cubicBezTo>
                  <a:pt x="700" y="90"/>
                  <a:pt x="684" y="89"/>
                  <a:pt x="676" y="82"/>
                </a:cubicBezTo>
                <a:cubicBezTo>
                  <a:pt x="666" y="74"/>
                  <a:pt x="648" y="54"/>
                  <a:pt x="648" y="54"/>
                </a:cubicBezTo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50000" y="3584520"/>
            <a:ext cx="1406520" cy="536760"/>
          </a:xfrm>
          <a:custGeom>
            <a:avLst/>
            <a:gdLst/>
            <a:ahLst/>
            <a:rect l="l" t="t" r="r" b="b"/>
            <a:pathLst>
              <a:path w="886" h="338">
                <a:moveTo>
                  <a:pt x="384" y="28"/>
                </a:moveTo>
                <a:cubicBezTo>
                  <a:pt x="363" y="35"/>
                  <a:pt x="340" y="37"/>
                  <a:pt x="320" y="46"/>
                </a:cubicBezTo>
                <a:cubicBezTo>
                  <a:pt x="304" y="53"/>
                  <a:pt x="291" y="67"/>
                  <a:pt x="274" y="73"/>
                </a:cubicBezTo>
                <a:cubicBezTo>
                  <a:pt x="256" y="79"/>
                  <a:pt x="155" y="92"/>
                  <a:pt x="128" y="110"/>
                </a:cubicBezTo>
                <a:cubicBezTo>
                  <a:pt x="101" y="127"/>
                  <a:pt x="81" y="148"/>
                  <a:pt x="54" y="165"/>
                </a:cubicBezTo>
                <a:cubicBezTo>
                  <a:pt x="48" y="174"/>
                  <a:pt x="44" y="185"/>
                  <a:pt x="36" y="192"/>
                </a:cubicBezTo>
                <a:cubicBezTo>
                  <a:pt x="29" y="198"/>
                  <a:pt x="0" y="205"/>
                  <a:pt x="9" y="201"/>
                </a:cubicBezTo>
                <a:cubicBezTo>
                  <a:pt x="39" y="188"/>
                  <a:pt x="70" y="177"/>
                  <a:pt x="100" y="165"/>
                </a:cubicBezTo>
                <a:cubicBezTo>
                  <a:pt x="125" y="155"/>
                  <a:pt x="173" y="128"/>
                  <a:pt x="173" y="128"/>
                </a:cubicBezTo>
                <a:cubicBezTo>
                  <a:pt x="167" y="140"/>
                  <a:pt x="162" y="153"/>
                  <a:pt x="155" y="165"/>
                </a:cubicBezTo>
                <a:cubicBezTo>
                  <a:pt x="88" y="275"/>
                  <a:pt x="78" y="263"/>
                  <a:pt x="137" y="211"/>
                </a:cubicBezTo>
                <a:cubicBezTo>
                  <a:pt x="178" y="175"/>
                  <a:pt x="218" y="139"/>
                  <a:pt x="256" y="101"/>
                </a:cubicBezTo>
                <a:cubicBezTo>
                  <a:pt x="262" y="95"/>
                  <a:pt x="241" y="111"/>
                  <a:pt x="237" y="119"/>
                </a:cubicBezTo>
                <a:cubicBezTo>
                  <a:pt x="228" y="134"/>
                  <a:pt x="218" y="149"/>
                  <a:pt x="210" y="165"/>
                </a:cubicBezTo>
                <a:cubicBezTo>
                  <a:pt x="206" y="174"/>
                  <a:pt x="206" y="184"/>
                  <a:pt x="201" y="192"/>
                </a:cubicBezTo>
                <a:cubicBezTo>
                  <a:pt x="188" y="215"/>
                  <a:pt x="170" y="234"/>
                  <a:pt x="155" y="256"/>
                </a:cubicBezTo>
                <a:cubicBezTo>
                  <a:pt x="152" y="271"/>
                  <a:pt x="151" y="287"/>
                  <a:pt x="146" y="302"/>
                </a:cubicBezTo>
                <a:cubicBezTo>
                  <a:pt x="142" y="312"/>
                  <a:pt x="117" y="329"/>
                  <a:pt x="128" y="329"/>
                </a:cubicBezTo>
                <a:cubicBezTo>
                  <a:pt x="148" y="329"/>
                  <a:pt x="166" y="315"/>
                  <a:pt x="182" y="302"/>
                </a:cubicBezTo>
                <a:cubicBezTo>
                  <a:pt x="241" y="254"/>
                  <a:pt x="271" y="198"/>
                  <a:pt x="329" y="156"/>
                </a:cubicBezTo>
                <a:cubicBezTo>
                  <a:pt x="332" y="147"/>
                  <a:pt x="328" y="128"/>
                  <a:pt x="338" y="128"/>
                </a:cubicBezTo>
                <a:cubicBezTo>
                  <a:pt x="348" y="128"/>
                  <a:pt x="346" y="146"/>
                  <a:pt x="347" y="156"/>
                </a:cubicBezTo>
                <a:cubicBezTo>
                  <a:pt x="352" y="195"/>
                  <a:pt x="353" y="235"/>
                  <a:pt x="356" y="275"/>
                </a:cubicBezTo>
                <a:cubicBezTo>
                  <a:pt x="372" y="195"/>
                  <a:pt x="403" y="123"/>
                  <a:pt x="429" y="46"/>
                </a:cubicBezTo>
                <a:cubicBezTo>
                  <a:pt x="443" y="98"/>
                  <a:pt x="452" y="136"/>
                  <a:pt x="475" y="183"/>
                </a:cubicBezTo>
                <a:cubicBezTo>
                  <a:pt x="496" y="291"/>
                  <a:pt x="489" y="338"/>
                  <a:pt x="502" y="64"/>
                </a:cubicBezTo>
                <a:cubicBezTo>
                  <a:pt x="518" y="108"/>
                  <a:pt x="528" y="127"/>
                  <a:pt x="566" y="156"/>
                </a:cubicBezTo>
                <a:cubicBezTo>
                  <a:pt x="572" y="171"/>
                  <a:pt x="576" y="187"/>
                  <a:pt x="585" y="201"/>
                </a:cubicBezTo>
                <a:cubicBezTo>
                  <a:pt x="592" y="212"/>
                  <a:pt x="605" y="218"/>
                  <a:pt x="612" y="229"/>
                </a:cubicBezTo>
                <a:cubicBezTo>
                  <a:pt x="661" y="309"/>
                  <a:pt x="603" y="250"/>
                  <a:pt x="649" y="293"/>
                </a:cubicBezTo>
                <a:cubicBezTo>
                  <a:pt x="643" y="256"/>
                  <a:pt x="640" y="219"/>
                  <a:pt x="630" y="183"/>
                </a:cubicBezTo>
                <a:cubicBezTo>
                  <a:pt x="621" y="152"/>
                  <a:pt x="616" y="116"/>
                  <a:pt x="594" y="92"/>
                </a:cubicBezTo>
                <a:cubicBezTo>
                  <a:pt x="588" y="86"/>
                  <a:pt x="576" y="64"/>
                  <a:pt x="576" y="73"/>
                </a:cubicBezTo>
                <a:cubicBezTo>
                  <a:pt x="576" y="110"/>
                  <a:pt x="639" y="137"/>
                  <a:pt x="667" y="147"/>
                </a:cubicBezTo>
                <a:cubicBezTo>
                  <a:pt x="680" y="212"/>
                  <a:pt x="675" y="190"/>
                  <a:pt x="731" y="211"/>
                </a:cubicBezTo>
                <a:cubicBezTo>
                  <a:pt x="712" y="172"/>
                  <a:pt x="711" y="152"/>
                  <a:pt x="676" y="128"/>
                </a:cubicBezTo>
                <a:cubicBezTo>
                  <a:pt x="673" y="113"/>
                  <a:pt x="675" y="96"/>
                  <a:pt x="667" y="83"/>
                </a:cubicBezTo>
                <a:cubicBezTo>
                  <a:pt x="614" y="0"/>
                  <a:pt x="583" y="27"/>
                  <a:pt x="649" y="46"/>
                </a:cubicBezTo>
                <a:cubicBezTo>
                  <a:pt x="667" y="51"/>
                  <a:pt x="686" y="52"/>
                  <a:pt x="704" y="55"/>
                </a:cubicBezTo>
                <a:cubicBezTo>
                  <a:pt x="762" y="74"/>
                  <a:pt x="730" y="115"/>
                  <a:pt x="768" y="147"/>
                </a:cubicBezTo>
                <a:cubicBezTo>
                  <a:pt x="778" y="156"/>
                  <a:pt x="792" y="158"/>
                  <a:pt x="804" y="165"/>
                </a:cubicBezTo>
                <a:cubicBezTo>
                  <a:pt x="823" y="176"/>
                  <a:pt x="841" y="189"/>
                  <a:pt x="859" y="201"/>
                </a:cubicBezTo>
                <a:cubicBezTo>
                  <a:pt x="870" y="209"/>
                  <a:pt x="834" y="190"/>
                  <a:pt x="822" y="183"/>
                </a:cubicBezTo>
                <a:cubicBezTo>
                  <a:pt x="809" y="175"/>
                  <a:pt x="798" y="165"/>
                  <a:pt x="786" y="156"/>
                </a:cubicBezTo>
                <a:cubicBezTo>
                  <a:pt x="789" y="147"/>
                  <a:pt x="785" y="130"/>
                  <a:pt x="795" y="128"/>
                </a:cubicBezTo>
                <a:cubicBezTo>
                  <a:pt x="809" y="125"/>
                  <a:pt x="819" y="143"/>
                  <a:pt x="832" y="147"/>
                </a:cubicBezTo>
                <a:cubicBezTo>
                  <a:pt x="860" y="157"/>
                  <a:pt x="866" y="156"/>
                  <a:pt x="886" y="156"/>
                </a:cubicBezTo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3664200">
            <a:off x="7124400" y="3314520"/>
            <a:ext cx="685800" cy="457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777200">
            <a:off x="7467120" y="3733560"/>
            <a:ext cx="685800" cy="457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8697800">
            <a:off x="5295600" y="3390480"/>
            <a:ext cx="685800" cy="457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8697800">
            <a:off x="4838400" y="3923640"/>
            <a:ext cx="685800" cy="457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81040" y="4119480"/>
            <a:ext cx="144720" cy="322200"/>
          </a:xfrm>
          <a:custGeom>
            <a:avLst/>
            <a:gdLst/>
            <a:ahLst/>
            <a:rect l="l" t="t" r="r" b="b"/>
            <a:pathLst>
              <a:path w="91" h="203">
                <a:moveTo>
                  <a:pt x="91" y="38"/>
                </a:moveTo>
                <a:cubicBezTo>
                  <a:pt x="88" y="29"/>
                  <a:pt x="91" y="15"/>
                  <a:pt x="82" y="11"/>
                </a:cubicBezTo>
                <a:cubicBezTo>
                  <a:pt x="59" y="0"/>
                  <a:pt x="42" y="38"/>
                  <a:pt x="36" y="47"/>
                </a:cubicBezTo>
                <a:cubicBezTo>
                  <a:pt x="28" y="87"/>
                  <a:pt x="27" y="110"/>
                  <a:pt x="0" y="139"/>
                </a:cubicBezTo>
                <a:cubicBezTo>
                  <a:pt x="4" y="153"/>
                  <a:pt x="7" y="203"/>
                  <a:pt x="27" y="20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41680" y="4127400"/>
            <a:ext cx="165240" cy="416160"/>
          </a:xfrm>
          <a:custGeom>
            <a:avLst/>
            <a:gdLst/>
            <a:ahLst/>
            <a:rect l="l" t="t" r="r" b="b"/>
            <a:pathLst>
              <a:path w="104" h="262">
                <a:moveTo>
                  <a:pt x="0" y="33"/>
                </a:moveTo>
                <a:cubicBezTo>
                  <a:pt x="3" y="24"/>
                  <a:pt x="0" y="8"/>
                  <a:pt x="9" y="6"/>
                </a:cubicBezTo>
                <a:cubicBezTo>
                  <a:pt x="33" y="0"/>
                  <a:pt x="42" y="40"/>
                  <a:pt x="46" y="51"/>
                </a:cubicBezTo>
                <a:cubicBezTo>
                  <a:pt x="54" y="101"/>
                  <a:pt x="41" y="144"/>
                  <a:pt x="91" y="161"/>
                </a:cubicBezTo>
                <a:cubicBezTo>
                  <a:pt x="82" y="257"/>
                  <a:pt x="104" y="231"/>
                  <a:pt x="73" y="2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455040"/>
            <a:ext cx="8839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Идеальный мальчик - не задирается до девочек, хороший, добрый, смешной, веселый, джентльмен, красивый, сильный, умный, высокий, мужественный, работящий, с чувством юмора, заботливый, семей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Идеальный мальчик - это тот мальчик, который должен уважать и не обзываться, с который никогда не будет скуч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Идеальный мальчик - ...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умный, добрый, благородный, уважает девочек, защищает их, никого не дразнит, самостоятельный, независимый, не курит, не ругается матом, хорошо танцует, занимается спортом, играет на гитаре, вежливый, культур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Идеальная девочка - не злая, терпеливая, добрая, спортивная, веселая, умная, трудолюбивая, красивая, образова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Идеальная девочка: добрая, не страшная, веселая, дружелюб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Идеальная девочка - </a:t>
            </a: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умная, добрая, аккуратная, воспитанная, культурная, красивая, со вкусом одевается, не строит из себя принцессу, скромная, умеет выслушать и посочувствовать, уважает других, нежная, романтичная, возвышенная, хорошо танцует, много зн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2"/>
          <p:cNvSpPr/>
          <p:nvPr/>
        </p:nvSpPr>
        <p:spPr>
          <a:xfrm>
            <a:off x="2057400" y="4572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Times New Roman"/>
                <a:ea typeface="Arial"/>
              </a:rPr>
              <a:t>Кач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Times New Roman"/>
                <a:ea typeface="Arial"/>
              </a:rPr>
              <a:t>мальч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4643280" y="404640"/>
            <a:ext cx="38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Качества  девоч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1143000" y="1981080"/>
            <a:ext cx="30481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Муже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Реш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Храбр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Интеллиге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Роман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Вежл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Самосто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Уважение к девуш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4932360" y="1341360"/>
            <a:ext cx="26640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Крас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Оба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Н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Хозяй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Доб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Ст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Аккура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Н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З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9999"/>
                </a:solidFill>
                <a:latin typeface="Times New Roman"/>
                <a:ea typeface="Arial"/>
              </a:rPr>
              <a:t>Загадо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http://4put.ru/pictures/small/204/629664.jpg"/>
          <p:cNvPicPr/>
          <p:nvPr/>
        </p:nvPicPr>
        <p:blipFill>
          <a:blip r:embed="rId1"/>
          <a:srcRect l="0" t="0" r="0" b="7918"/>
          <a:stretch/>
        </p:blipFill>
        <p:spPr>
          <a:xfrm>
            <a:off x="7840800" y="0"/>
            <a:ext cx="130320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http://cs10878.vkontakte.ru/u82745251/148424839/x_4077c9db.jpg"/>
          <p:cNvPicPr/>
          <p:nvPr/>
        </p:nvPicPr>
        <p:blipFill>
          <a:blip r:embed="rId2"/>
          <a:stretch/>
        </p:blipFill>
        <p:spPr>
          <a:xfrm>
            <a:off x="0" y="0"/>
            <a:ext cx="138276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30600" y="564120"/>
            <a:ext cx="513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«Учимся выра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позитивные чувства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7000" y="2284560"/>
            <a:ext cx="5894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ы сегодня прекрасно выглядиш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 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ы сегодня очень красива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 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ебе эта прическа очень к лиц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 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С тобой поговорить - одно удовольств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 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ак я рад тебя виде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  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ы, как всегда, очаровательн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ы очень умна и красив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Улыбнись, у тебя такая светлая улыб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вои глаза сияют, как лу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акой у тебя красивый, певучий голос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 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акая ты аккуратная, просто вся блестиш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ы просто замечательная девоч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553080" y="1752480"/>
            <a:ext cx="21034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02240" y="609480"/>
            <a:ext cx="62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«Способность к сочувств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87480" y="1147680"/>
            <a:ext cx="9318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1. Я тебе очень сочувствую, чем я могу помоч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2. Не унывай, с каждым может случ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3. Бедненький! Как мне тебя жалко! Руки-ноги целы? Это самое глав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4. Что-нибудь болит? Вставай, помогу тебе дойти до медпун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5. А пуговицы на месте? Могу пришить, если ч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6. За тетрадки не переживай, у меня есть запасные - поделю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7. Давай свой рюкзак и куртку, мы их с девочками на батарее просуш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8. Да ведь у тебя ноги совсем мокрые! Запросто можно простудитьс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Садись к батарее и грейся, а мы попросим, чтобы тебя не вызывали к дос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9. Ну, как дела, если что понадобится, проси, не стесняй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Мы с девочками помож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10. Подсох немножко? Тебе нужно согреть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мы принесли тебе горячего чайку из стол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11. Ну что, полегчало? Не падай духом, мы с тоб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12. Держись, друзья тебя не оставя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62560" y="1175040"/>
            <a:ext cx="773208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Двойственность повед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Некоторые детские формы поведения - уже неприемл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В то же время взрослые формы поведения ещё не разреш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или разрешены, но не знакомы е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Он стремится поскорее стать взрослы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но решать сложные и ответственные зада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которые по плечу взрослы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он ещё не уме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1873080"/>
            <a:ext cx="647676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«Трудная жизн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А сколько неразрешимых проблем накапливается в повседневной жизни подростк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Кто-то не захотел сесть рядом с ним за парт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Его не пригласили на коллективное мероприятие, которое проводилось его школьными друзь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Над ним посмеялись знакомые ребя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Утром, проснувшись, он обнаружил у себя на лице новые прыщи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96640" y="226440"/>
            <a:ext cx="8409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Жизненные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зрослея, подростку приходится решать массу непростых зада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х так и зовут – </a:t>
            </a:r>
            <a:r>
              <a:rPr b="0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жизненные зада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х выявил американский психолог Роберт Хэвигхер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своей книге «Задачи развития и образования» он выдел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дачи развития юности, которые посчитал обязатель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инятие свое внешности и умение эффективно владеть т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Формирование новых и более зрелых отношений со сверст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боего п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инятие мужской или женской р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стижение эмоциональной независимости от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 других взросл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дготовка к трудовой деятельности, которая могла бы обеспеч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экономическую независим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дготовка к вступлению в брак и к семей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явление желания нести ответственность за себя и об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бретение системы ценностей и этических принцип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торыми можно руководствоваться в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6840" y="989280"/>
            <a:ext cx="836748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От решения этих задач никуда не уй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Чуть запоздал, отложил напоследок, как это мы привыкли дел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пиши проп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Не выполнил 8 задач, считай, что не успел на поез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под названием «Взрослая жизн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Какой же ты взрослый если не умеешь устанавли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со сверстниками серьёзных отношений, если повзрослевшие друз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держат тебя за малолетнег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Все задачи жизни надо решать в своё врем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Таково неписаное правило обществен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192200" y="913320"/>
            <a:ext cx="372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Изуча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одноклассников.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3880" y="4495680"/>
          <a:ext cx="6076800" cy="1549440"/>
        </p:xfrm>
        <a:graphic>
          <a:graphicData uri="http://schemas.openxmlformats.org/drawingml/2006/table">
            <a:tbl>
              <a:tblPr/>
              <a:tblGrid>
                <a:gridCol w="2025720"/>
                <a:gridCol w="2025360"/>
                <a:gridCol w="20257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то жил когда-то в другом город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то играет на музыкальных инструментах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то занимается спортом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У кого есть необычное домашнее животно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то любит читать по ночам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то поздно ложится спать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то любит овощи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то любит поспать утром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то занимается коллекционированием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225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275280"/>
            <a:ext cx="8001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Ты – подросток.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Это особенный возраст для каждого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Ты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обнаруживаешь перемены в себе, в своих мыслях, чувствах, пережива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Ты – подросток.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Это прекрасный период в жизни каждого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Это некий переход между детством и взрослой жизн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Часто </a:t>
            </a: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ты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испытываешь чувства ребенка и взрослого одновременно.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76520" y="1143000"/>
            <a:ext cx="5867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ТЫ - ПОДРОСТОК"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772400" y="457200"/>
            <a:ext cx="10000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29800" y="959400"/>
            <a:ext cx="71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Хорошо ли мы знаем друг друг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1528920"/>
            <a:ext cx="457200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День р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Любимая кни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Любимый филь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Любимая пес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Любимый вид 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Любимый предмет в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Любимая 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Любимое заня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Желание в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Наиболее важный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Что ты думаешь о … (одно предлож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4302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62360" y="1554840"/>
            <a:ext cx="2384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В классе я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Дома я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Среди друзей я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038480"/>
            <a:ext cx="805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се карточки с ответами перемешиваются и складываются в короб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лассный руководитель вытягивает карточ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ачитывает ответы и дает учащимся право определить, о ком идет реч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45040" y="1845360"/>
            <a:ext cx="805536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редставь себя выпускником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Что будут говорить обо мне другие люд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Какие люди будут для меня важ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Что существенного я смогу достич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Какие планы у меня на дальнейшую жизн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Какие у меня цели и мечт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Чем я буду отличаться от меня сегодняшне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608040"/>
            <a:ext cx="8686800" cy="55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+ Подростком быть легко, так к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1.Нет материальных проблем. Пока их решают родител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2.В день бывает 6-7 уроков, а у родителей восьмичасовой рабочий день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3.Никаких забот, кроме учё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 Подростком быть трудно, так к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1.Материально зависишь от взрослых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2.Больше стало обязанностей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3.Много разных соблазнов, всё хочется попробовать, а жизненного опыта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776520"/>
            <a:ext cx="8001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Давайте Жить, Любить и удивляться,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Давайте верить, помнить и жалеть,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От Счастья плакать, от Души смеяться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Давайте Жить, чтоб Сердцем не стареть.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Давайте будем просто восхищаться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Полями, небом, серебром росы,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И если трудно, все же не сдаваться —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Идти вперед, не опуская головы.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Давайте будем искренни в общении,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Честны в словах, поступках и дел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Давайте Верить, Свято, без сомнений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Жить наяву, открыто, а не в снах!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Давайте будем честно признаваться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В своих ошибках, зависти и лжи,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Давайте Жить, Любить и восхищаться — 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Расправьте крылья у своей Души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446120"/>
            <a:ext cx="81536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Какой возраст считается подростковы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В психологии и педагогике принято под подростковым возрастом понимать возраст от 10 до 15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63680" y="794160"/>
            <a:ext cx="68436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Граница между двумя ми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Подростковый возраст считают переходным период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подросток частично принадлежит к группе дет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а частично – к группе взросл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В одних случаях к подросткам относятся как к детя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а в других – как к взросл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8080" y="3734280"/>
            <a:ext cx="8667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ростковый возра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ремя бурного и во многом противоречивого развит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еняющего период сравнительно спокойного ро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накопления сил у младших школь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это врем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оисходят  значительные измен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в организм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в психике ребёнка, играющие исключительно важную ро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формировании личности ребё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случайно французский философ Ж. Ж.Руссо назвал подростковый возра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вторым рождение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09480" y="533520"/>
            <a:ext cx="8077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МЕНЕНИЯ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ПОДРОСТКОВОМ ПЕРИОДЕ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4120" y="16765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ПСИХОЛ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84720" y="175248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ФИЗИОЛ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560" y="5410080"/>
            <a:ext cx="29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МИРОВОЗЗРЕН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4600" y="2362320"/>
            <a:ext cx="19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порции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05880" y="2209680"/>
            <a:ext cx="340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лечение к другому п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лонность к рис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емление к независим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сто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г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2360" y="5029200"/>
            <a:ext cx="530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емление считаться взрос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ование убеж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явление параллельной системы цен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ование самосознания, самооцен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никновение потребности в самовоспита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33720" y="4418640"/>
            <a:ext cx="655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Что бы вы поместили в мир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мальчиков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А из чего состоит мир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девочек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438280"/>
            <a:ext cx="2590920" cy="25146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880" y="3352680"/>
            <a:ext cx="3124440" cy="76320"/>
          </a:xfrm>
          <a:prstGeom prst="rect">
            <a:avLst/>
          </a:prstGeom>
        </p:spPr>
        <p:txBody>
          <a:bodyPr wrap="none" fromWordArt="1" lIns="90000" rIns="90000" tIns="29520" bIns="2952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99"/>
                </a:solidFill>
                <a:latin typeface="Arial"/>
              </a:rPr>
              <a:t>МИР 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99"/>
                </a:solidFill>
                <a:latin typeface="Arial"/>
              </a:rPr>
              <a:t>МАЛЬЧИКОВ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191120" y="3276720"/>
            <a:ext cx="259056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МИР 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ДЕВОЧЕК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2286000"/>
            <a:ext cx="2590560" cy="25146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71280" y="441720"/>
            <a:ext cx="920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Девочки и мальчики - этот два разных мира. Девочки и мальчики раз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с самого рождения и развиваются тоже по-разному. Ученые установи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что у них разный мозг, разная психика, разные пути разви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Мальчик и девочка по-разному смотрят и видя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слушают и слышат, по-разному говорят и молчат, чувствуют и пережив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17"/>
          <p:cNvSpPr txBox="1"/>
          <p:nvPr/>
        </p:nvSpPr>
        <p:spPr>
          <a:xfrm>
            <a:off x="1042920" y="333360"/>
            <a:ext cx="748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Из чего же, из чего же сделаны наши мальчишки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64" name="Picture 16" descr="PSP 2008-3008 Прошивка на 5.03 GEN-C, 5.50GEN-D3. ИДЕТ ВСЕ! Новая с гарантией!"/>
          <p:cNvPicPr/>
          <p:nvPr/>
        </p:nvPicPr>
        <p:blipFill>
          <a:blip r:embed="rId1"/>
          <a:stretch/>
        </p:blipFill>
        <p:spPr>
          <a:xfrm>
            <a:off x="468360" y="1844640"/>
            <a:ext cx="1905120" cy="104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http://img.sotmarket.ru/resized/img/photo/panasonic/panasonic_lumix_dmc_g10_kit_1.jpg"/>
          <p:cNvPicPr/>
          <p:nvPr/>
        </p:nvPicPr>
        <p:blipFill>
          <a:blip r:embed="rId2"/>
          <a:stretch/>
        </p:blipFill>
        <p:spPr>
          <a:xfrm>
            <a:off x="3708360" y="2781360"/>
            <a:ext cx="1295280" cy="107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http://i6.rozetka.ua/goods/2098/2098073.jpg"/>
          <p:cNvPicPr/>
          <p:nvPr/>
        </p:nvPicPr>
        <p:blipFill>
          <a:blip r:embed="rId3"/>
          <a:stretch/>
        </p:blipFill>
        <p:spPr>
          <a:xfrm>
            <a:off x="6084720" y="1700280"/>
            <a:ext cx="1621080" cy="72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4" descr="http://stat18.privet.ru/ab/0a1796e7234d3e9f8c4ee565b55cfa3a"/>
          <p:cNvPicPr/>
          <p:nvPr/>
        </p:nvPicPr>
        <p:blipFill>
          <a:blip r:embed="rId4"/>
          <a:stretch/>
        </p:blipFill>
        <p:spPr>
          <a:xfrm>
            <a:off x="971640" y="3645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http://im7-tub-ru.yandex.net/i?id=577750720-26-72"/>
          <p:cNvPicPr/>
          <p:nvPr/>
        </p:nvPicPr>
        <p:blipFill>
          <a:blip r:embed="rId5"/>
          <a:stretch/>
        </p:blipFill>
        <p:spPr>
          <a:xfrm>
            <a:off x="6300720" y="38606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8" descr="http://g-ecx.images-amazon.com/images/G/01/askville/82411411_profile/45_82411411_profile._V01__SY65_.jpg"/>
          <p:cNvPicPr/>
          <p:nvPr/>
        </p:nvPicPr>
        <p:blipFill>
          <a:blip r:embed="rId6"/>
          <a:stretch/>
        </p:blipFill>
        <p:spPr>
          <a:xfrm>
            <a:off x="3564000" y="4653000"/>
            <a:ext cx="1224000" cy="1123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http://www.vorle.ru/pic10913843x80.jpg"/>
          <p:cNvPicPr/>
          <p:nvPr/>
        </p:nvPicPr>
        <p:blipFill>
          <a:blip r:embed="rId7"/>
          <a:stretch/>
        </p:blipFill>
        <p:spPr>
          <a:xfrm>
            <a:off x="3924360" y="1484280"/>
            <a:ext cx="1655640" cy="936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http://img03.avito.ru/images/thumb/89180851.jpg"/>
          <p:cNvPicPr/>
          <p:nvPr/>
        </p:nvPicPr>
        <p:blipFill>
          <a:blip r:embed="rId8"/>
          <a:stretch/>
        </p:blipFill>
        <p:spPr>
          <a:xfrm>
            <a:off x="1692360" y="5589720"/>
            <a:ext cx="838080" cy="100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5335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3295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971640" y="189000"/>
            <a:ext cx="7416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Из чего же из чего же сделаны наши девчонки: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pic>
        <p:nvPicPr>
          <p:cNvPr id="74" name="Picture 15" descr="http://is.mixmarket.biz/images/of/3551/9817792.jpg"/>
          <p:cNvPicPr/>
          <p:nvPr/>
        </p:nvPicPr>
        <p:blipFill>
          <a:blip r:embed="rId1"/>
          <a:stretch/>
        </p:blipFill>
        <p:spPr>
          <a:xfrm>
            <a:off x="539640" y="1844640"/>
            <a:ext cx="792360" cy="1513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http://www.autospies.com/images/users/Agent00R/main/458itali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1700280"/>
            <a:ext cx="1727280" cy="1293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9" descr="http://img-fotki.yandex.ru/get/4013/botova-mascha.1/0_2fb04_51d60c1f_S"/>
          <p:cNvPicPr/>
          <p:nvPr/>
        </p:nvPicPr>
        <p:blipFill>
          <a:blip r:embed="rId4"/>
          <a:stretch/>
        </p:blipFill>
        <p:spPr>
          <a:xfrm>
            <a:off x="2700360" y="4869000"/>
            <a:ext cx="933480" cy="1428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1" descr="http://www.photoshare.ru/data/66/66841/2/4qusn1-ft7.jpg?1"/>
          <p:cNvPicPr/>
          <p:nvPr/>
        </p:nvPicPr>
        <p:blipFill>
          <a:blip r:embed="rId5"/>
          <a:stretch/>
        </p:blipFill>
        <p:spPr>
          <a:xfrm>
            <a:off x="6588000" y="3573360"/>
            <a:ext cx="1513080" cy="151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3" descr="http://cs9825.vkontakte.ru/u95971471/-14/m_ff70ee51.jpg"/>
          <p:cNvPicPr/>
          <p:nvPr/>
        </p:nvPicPr>
        <p:blipFill>
          <a:blip r:embed="rId6"/>
          <a:stretch/>
        </p:blipFill>
        <p:spPr>
          <a:xfrm>
            <a:off x="1979640" y="1916280"/>
            <a:ext cx="1833480" cy="1368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5" descr="Барби"/>
          <p:cNvPicPr/>
          <p:nvPr/>
        </p:nvPicPr>
        <p:blipFill>
          <a:blip r:embed="rId7"/>
          <a:stretch/>
        </p:blipFill>
        <p:spPr>
          <a:xfrm>
            <a:off x="4140360" y="1844640"/>
            <a:ext cx="1871640" cy="2808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" descr="http://cs4312.vkontakte.ru/g19641402/b_97df5a72.jpg"/>
          <p:cNvPicPr/>
          <p:nvPr/>
        </p:nvPicPr>
        <p:blipFill>
          <a:blip r:embed="rId8"/>
          <a:stretch/>
        </p:blipFill>
        <p:spPr>
          <a:xfrm>
            <a:off x="4716360" y="5084640"/>
            <a:ext cx="1727280" cy="1590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9" descr="http://ua.all.biz/img/ua/catalog/small/1071728.jpeg"/>
          <p:cNvPicPr/>
          <p:nvPr/>
        </p:nvPicPr>
        <p:blipFill>
          <a:blip r:embed="rId9"/>
          <a:stretch/>
        </p:blipFill>
        <p:spPr>
          <a:xfrm>
            <a:off x="971640" y="4076640"/>
            <a:ext cx="1008000" cy="18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43000" y="762120"/>
            <a:ext cx="6172200" cy="5638680"/>
          </a:xfrm>
          <a:prstGeom prst="ellipse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1447920"/>
            <a:ext cx="2590920" cy="25146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3124080"/>
            <a:ext cx="2590920" cy="25146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47920" y="2438280"/>
            <a:ext cx="3124080" cy="76320"/>
          </a:xfrm>
          <a:prstGeom prst="rect">
            <a:avLst/>
          </a:prstGeom>
        </p:spPr>
        <p:txBody>
          <a:bodyPr wrap="none" fromWordArt="1" lIns="90000" rIns="90000" tIns="29520" bIns="2952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МИР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МАЛЬЧ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67080" y="4267080"/>
            <a:ext cx="2286000" cy="76320"/>
          </a:xfrm>
          <a:prstGeom prst="rect">
            <a:avLst/>
          </a:prstGeom>
        </p:spPr>
        <p:txBody>
          <a:bodyPr wrap="none" fromWordArt="1" lIns="90000" rIns="90000" tIns="29520" bIns="2952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Р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ЕВОЧ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/>
          <p:nvPr/>
        </p:nvSpPr>
        <p:spPr>
          <a:xfrm rot="19225200">
            <a:off x="5943600" y="1904760"/>
            <a:ext cx="1219320" cy="304560"/>
          </a:xfrm>
          <a:prstGeom prst="leftArrow">
            <a:avLst>
              <a:gd name="adj1" fmla="val 50000"/>
              <a:gd name="adj2" fmla="val 10008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360" y="861840"/>
            <a:ext cx="38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Мир, в котором хорош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мальчикам, и девоч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01-29T06:55:2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