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2DA-9810-4787-AD96-89553E46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869-CF50-43AF-A0BA-F134BA15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250-FA8D-474D-81AC-B8AAB2EA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117-22AA-427A-A43B-FA2A59C6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6DC-6286-44ED-AFC7-9869D539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050-DADF-4452-83B6-9E14C3C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138-5E26-4F8E-AED7-0A50F80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5BB-CE31-4CF1-B6F3-76DD699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258-EB32-41D4-A055-86727727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ABA-5C8A-49C9-BED9-EEC2B8C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F2B-0928-45FE-A53F-C498B41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0AF-A677-4DC8-8146-0AC6191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2A4-822B-41CD-8B51-C3FFA46D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utospies.com/images/users/Agent00R/main/458italia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60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09960" y="2793960"/>
            <a:ext cx="692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чего наш мир состоит, из дубка, что в поле стоит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высоких гор с сединой, и ещё, и ещё из тебя со мной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мальчиков и девочек, из книжек и затей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главное, а главное, из взрослых и детей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8380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45640" y="1310040"/>
            <a:ext cx="62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акие человеческие качества цен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альчики в девочках и девочки - в мальчи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ртрет идеального мальчика составят дево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а портрет идеальной девочки составят мальчи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657600"/>
            <a:ext cx="21337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581280"/>
            <a:ext cx="213372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080" y="3716280"/>
            <a:ext cx="1119240" cy="290520"/>
          </a:xfrm>
          <a:custGeom>
            <a:avLst/>
            <a:gdLst/>
            <a:ahLst/>
            <a:rect l="l" t="t" r="r" b="b"/>
            <a:pathLst>
              <a:path w="705" h="183">
                <a:moveTo>
                  <a:pt x="246" y="0"/>
                </a:moveTo>
                <a:cubicBezTo>
                  <a:pt x="219" y="10"/>
                  <a:pt x="189" y="13"/>
                  <a:pt x="164" y="27"/>
                </a:cubicBezTo>
                <a:cubicBezTo>
                  <a:pt x="132" y="45"/>
                  <a:pt x="119" y="70"/>
                  <a:pt x="82" y="82"/>
                </a:cubicBezTo>
                <a:cubicBezTo>
                  <a:pt x="76" y="88"/>
                  <a:pt x="70" y="95"/>
                  <a:pt x="63" y="100"/>
                </a:cubicBezTo>
                <a:cubicBezTo>
                  <a:pt x="49" y="110"/>
                  <a:pt x="0" y="128"/>
                  <a:pt x="18" y="128"/>
                </a:cubicBezTo>
                <a:cubicBezTo>
                  <a:pt x="44" y="128"/>
                  <a:pt x="67" y="109"/>
                  <a:pt x="91" y="100"/>
                </a:cubicBezTo>
                <a:cubicBezTo>
                  <a:pt x="108" y="93"/>
                  <a:pt x="128" y="94"/>
                  <a:pt x="146" y="91"/>
                </a:cubicBezTo>
                <a:cubicBezTo>
                  <a:pt x="170" y="82"/>
                  <a:pt x="194" y="71"/>
                  <a:pt x="219" y="64"/>
                </a:cubicBezTo>
                <a:cubicBezTo>
                  <a:pt x="237" y="59"/>
                  <a:pt x="256" y="60"/>
                  <a:pt x="274" y="54"/>
                </a:cubicBezTo>
                <a:cubicBezTo>
                  <a:pt x="284" y="51"/>
                  <a:pt x="291" y="40"/>
                  <a:pt x="301" y="36"/>
                </a:cubicBezTo>
                <a:cubicBezTo>
                  <a:pt x="313" y="31"/>
                  <a:pt x="326" y="30"/>
                  <a:pt x="338" y="27"/>
                </a:cubicBezTo>
                <a:cubicBezTo>
                  <a:pt x="335" y="45"/>
                  <a:pt x="328" y="63"/>
                  <a:pt x="328" y="82"/>
                </a:cubicBezTo>
                <a:cubicBezTo>
                  <a:pt x="328" y="95"/>
                  <a:pt x="335" y="57"/>
                  <a:pt x="338" y="45"/>
                </a:cubicBezTo>
                <a:cubicBezTo>
                  <a:pt x="341" y="30"/>
                  <a:pt x="344" y="15"/>
                  <a:pt x="347" y="0"/>
                </a:cubicBezTo>
                <a:cubicBezTo>
                  <a:pt x="353" y="18"/>
                  <a:pt x="359" y="36"/>
                  <a:pt x="365" y="54"/>
                </a:cubicBezTo>
                <a:cubicBezTo>
                  <a:pt x="368" y="63"/>
                  <a:pt x="374" y="82"/>
                  <a:pt x="374" y="82"/>
                </a:cubicBezTo>
                <a:cubicBezTo>
                  <a:pt x="392" y="25"/>
                  <a:pt x="374" y="64"/>
                  <a:pt x="392" y="82"/>
                </a:cubicBezTo>
                <a:cubicBezTo>
                  <a:pt x="399" y="89"/>
                  <a:pt x="411" y="88"/>
                  <a:pt x="420" y="91"/>
                </a:cubicBezTo>
                <a:cubicBezTo>
                  <a:pt x="423" y="82"/>
                  <a:pt x="421" y="68"/>
                  <a:pt x="429" y="64"/>
                </a:cubicBezTo>
                <a:cubicBezTo>
                  <a:pt x="450" y="53"/>
                  <a:pt x="469" y="92"/>
                  <a:pt x="475" y="100"/>
                </a:cubicBezTo>
                <a:cubicBezTo>
                  <a:pt x="472" y="85"/>
                  <a:pt x="470" y="69"/>
                  <a:pt x="466" y="54"/>
                </a:cubicBezTo>
                <a:cubicBezTo>
                  <a:pt x="463" y="42"/>
                  <a:pt x="447" y="9"/>
                  <a:pt x="456" y="18"/>
                </a:cubicBezTo>
                <a:cubicBezTo>
                  <a:pt x="470" y="33"/>
                  <a:pt x="476" y="54"/>
                  <a:pt x="484" y="73"/>
                </a:cubicBezTo>
                <a:cubicBezTo>
                  <a:pt x="495" y="100"/>
                  <a:pt x="518" y="183"/>
                  <a:pt x="511" y="155"/>
                </a:cubicBezTo>
                <a:cubicBezTo>
                  <a:pt x="505" y="131"/>
                  <a:pt x="493" y="82"/>
                  <a:pt x="493" y="82"/>
                </a:cubicBezTo>
                <a:cubicBezTo>
                  <a:pt x="516" y="11"/>
                  <a:pt x="480" y="92"/>
                  <a:pt x="539" y="73"/>
                </a:cubicBezTo>
                <a:cubicBezTo>
                  <a:pt x="548" y="70"/>
                  <a:pt x="533" y="54"/>
                  <a:pt x="530" y="45"/>
                </a:cubicBezTo>
                <a:cubicBezTo>
                  <a:pt x="527" y="34"/>
                  <a:pt x="540" y="65"/>
                  <a:pt x="548" y="73"/>
                </a:cubicBezTo>
                <a:cubicBezTo>
                  <a:pt x="556" y="81"/>
                  <a:pt x="566" y="84"/>
                  <a:pt x="575" y="91"/>
                </a:cubicBezTo>
                <a:cubicBezTo>
                  <a:pt x="612" y="119"/>
                  <a:pt x="647" y="139"/>
                  <a:pt x="685" y="164"/>
                </a:cubicBezTo>
                <a:cubicBezTo>
                  <a:pt x="688" y="155"/>
                  <a:pt x="705" y="106"/>
                  <a:pt x="703" y="100"/>
                </a:cubicBezTo>
                <a:cubicBezTo>
                  <a:pt x="700" y="90"/>
                  <a:pt x="684" y="89"/>
                  <a:pt x="676" y="82"/>
                </a:cubicBezTo>
                <a:cubicBezTo>
                  <a:pt x="666" y="74"/>
                  <a:pt x="648" y="54"/>
                  <a:pt x="648" y="54"/>
                </a:cubicBez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50000" y="3584520"/>
            <a:ext cx="1406520" cy="536760"/>
          </a:xfrm>
          <a:custGeom>
            <a:avLst/>
            <a:gdLst/>
            <a:ahLst/>
            <a:rect l="l" t="t" r="r" b="b"/>
            <a:pathLst>
              <a:path w="886" h="338">
                <a:moveTo>
                  <a:pt x="384" y="28"/>
                </a:moveTo>
                <a:cubicBezTo>
                  <a:pt x="363" y="35"/>
                  <a:pt x="340" y="37"/>
                  <a:pt x="320" y="46"/>
                </a:cubicBezTo>
                <a:cubicBezTo>
                  <a:pt x="304" y="53"/>
                  <a:pt x="291" y="67"/>
                  <a:pt x="274" y="73"/>
                </a:cubicBezTo>
                <a:cubicBezTo>
                  <a:pt x="256" y="79"/>
                  <a:pt x="155" y="92"/>
                  <a:pt x="128" y="110"/>
                </a:cubicBezTo>
                <a:cubicBezTo>
                  <a:pt x="101" y="127"/>
                  <a:pt x="81" y="148"/>
                  <a:pt x="54" y="165"/>
                </a:cubicBezTo>
                <a:cubicBezTo>
                  <a:pt x="48" y="174"/>
                  <a:pt x="44" y="185"/>
                  <a:pt x="36" y="192"/>
                </a:cubicBezTo>
                <a:cubicBezTo>
                  <a:pt x="29" y="198"/>
                  <a:pt x="0" y="205"/>
                  <a:pt x="9" y="201"/>
                </a:cubicBezTo>
                <a:cubicBezTo>
                  <a:pt x="39" y="188"/>
                  <a:pt x="70" y="177"/>
                  <a:pt x="100" y="165"/>
                </a:cubicBezTo>
                <a:cubicBezTo>
                  <a:pt x="125" y="155"/>
                  <a:pt x="173" y="128"/>
                  <a:pt x="173" y="128"/>
                </a:cubicBezTo>
                <a:cubicBezTo>
                  <a:pt x="167" y="140"/>
                  <a:pt x="162" y="153"/>
                  <a:pt x="155" y="165"/>
                </a:cubicBezTo>
                <a:cubicBezTo>
                  <a:pt x="88" y="275"/>
                  <a:pt x="78" y="263"/>
                  <a:pt x="137" y="211"/>
                </a:cubicBezTo>
                <a:cubicBezTo>
                  <a:pt x="178" y="175"/>
                  <a:pt x="218" y="139"/>
                  <a:pt x="256" y="101"/>
                </a:cubicBezTo>
                <a:cubicBezTo>
                  <a:pt x="262" y="95"/>
                  <a:pt x="241" y="111"/>
                  <a:pt x="237" y="119"/>
                </a:cubicBezTo>
                <a:cubicBezTo>
                  <a:pt x="228" y="134"/>
                  <a:pt x="218" y="149"/>
                  <a:pt x="210" y="165"/>
                </a:cubicBezTo>
                <a:cubicBezTo>
                  <a:pt x="206" y="174"/>
                  <a:pt x="206" y="184"/>
                  <a:pt x="201" y="192"/>
                </a:cubicBezTo>
                <a:cubicBezTo>
                  <a:pt x="188" y="215"/>
                  <a:pt x="170" y="234"/>
                  <a:pt x="155" y="256"/>
                </a:cubicBezTo>
                <a:cubicBezTo>
                  <a:pt x="152" y="271"/>
                  <a:pt x="151" y="287"/>
                  <a:pt x="146" y="302"/>
                </a:cubicBezTo>
                <a:cubicBezTo>
                  <a:pt x="142" y="312"/>
                  <a:pt x="117" y="329"/>
                  <a:pt x="128" y="329"/>
                </a:cubicBezTo>
                <a:cubicBezTo>
                  <a:pt x="148" y="329"/>
                  <a:pt x="166" y="315"/>
                  <a:pt x="182" y="302"/>
                </a:cubicBezTo>
                <a:cubicBezTo>
                  <a:pt x="241" y="254"/>
                  <a:pt x="271" y="198"/>
                  <a:pt x="329" y="156"/>
                </a:cubicBezTo>
                <a:cubicBezTo>
                  <a:pt x="332" y="147"/>
                  <a:pt x="328" y="128"/>
                  <a:pt x="338" y="128"/>
                </a:cubicBezTo>
                <a:cubicBezTo>
                  <a:pt x="348" y="128"/>
                  <a:pt x="346" y="146"/>
                  <a:pt x="347" y="156"/>
                </a:cubicBezTo>
                <a:cubicBezTo>
                  <a:pt x="352" y="195"/>
                  <a:pt x="353" y="235"/>
                  <a:pt x="356" y="275"/>
                </a:cubicBezTo>
                <a:cubicBezTo>
                  <a:pt x="372" y="195"/>
                  <a:pt x="403" y="123"/>
                  <a:pt x="429" y="46"/>
                </a:cubicBezTo>
                <a:cubicBezTo>
                  <a:pt x="443" y="98"/>
                  <a:pt x="452" y="136"/>
                  <a:pt x="475" y="183"/>
                </a:cubicBezTo>
                <a:cubicBezTo>
                  <a:pt x="496" y="291"/>
                  <a:pt x="489" y="338"/>
                  <a:pt x="502" y="64"/>
                </a:cubicBezTo>
                <a:cubicBezTo>
                  <a:pt x="518" y="108"/>
                  <a:pt x="528" y="127"/>
                  <a:pt x="566" y="156"/>
                </a:cubicBezTo>
                <a:cubicBezTo>
                  <a:pt x="572" y="171"/>
                  <a:pt x="576" y="187"/>
                  <a:pt x="585" y="201"/>
                </a:cubicBezTo>
                <a:cubicBezTo>
                  <a:pt x="592" y="212"/>
                  <a:pt x="605" y="218"/>
                  <a:pt x="612" y="229"/>
                </a:cubicBezTo>
                <a:cubicBezTo>
                  <a:pt x="661" y="309"/>
                  <a:pt x="603" y="250"/>
                  <a:pt x="649" y="293"/>
                </a:cubicBezTo>
                <a:cubicBezTo>
                  <a:pt x="643" y="256"/>
                  <a:pt x="640" y="219"/>
                  <a:pt x="630" y="183"/>
                </a:cubicBezTo>
                <a:cubicBezTo>
                  <a:pt x="621" y="152"/>
                  <a:pt x="616" y="116"/>
                  <a:pt x="594" y="92"/>
                </a:cubicBezTo>
                <a:cubicBezTo>
                  <a:pt x="588" y="86"/>
                  <a:pt x="576" y="64"/>
                  <a:pt x="576" y="73"/>
                </a:cubicBezTo>
                <a:cubicBezTo>
                  <a:pt x="576" y="110"/>
                  <a:pt x="639" y="137"/>
                  <a:pt x="667" y="147"/>
                </a:cubicBezTo>
                <a:cubicBezTo>
                  <a:pt x="680" y="212"/>
                  <a:pt x="675" y="190"/>
                  <a:pt x="731" y="211"/>
                </a:cubicBezTo>
                <a:cubicBezTo>
                  <a:pt x="712" y="172"/>
                  <a:pt x="711" y="152"/>
                  <a:pt x="676" y="128"/>
                </a:cubicBezTo>
                <a:cubicBezTo>
                  <a:pt x="673" y="113"/>
                  <a:pt x="675" y="96"/>
                  <a:pt x="667" y="83"/>
                </a:cubicBezTo>
                <a:cubicBezTo>
                  <a:pt x="614" y="0"/>
                  <a:pt x="583" y="27"/>
                  <a:pt x="649" y="46"/>
                </a:cubicBezTo>
                <a:cubicBezTo>
                  <a:pt x="667" y="51"/>
                  <a:pt x="686" y="52"/>
                  <a:pt x="704" y="55"/>
                </a:cubicBezTo>
                <a:cubicBezTo>
                  <a:pt x="762" y="74"/>
                  <a:pt x="730" y="115"/>
                  <a:pt x="768" y="147"/>
                </a:cubicBezTo>
                <a:cubicBezTo>
                  <a:pt x="778" y="156"/>
                  <a:pt x="792" y="158"/>
                  <a:pt x="804" y="165"/>
                </a:cubicBezTo>
                <a:cubicBezTo>
                  <a:pt x="823" y="176"/>
                  <a:pt x="841" y="189"/>
                  <a:pt x="859" y="201"/>
                </a:cubicBezTo>
                <a:cubicBezTo>
                  <a:pt x="870" y="209"/>
                  <a:pt x="834" y="190"/>
                  <a:pt x="822" y="183"/>
                </a:cubicBezTo>
                <a:cubicBezTo>
                  <a:pt x="809" y="175"/>
                  <a:pt x="798" y="165"/>
                  <a:pt x="786" y="156"/>
                </a:cubicBezTo>
                <a:cubicBezTo>
                  <a:pt x="789" y="147"/>
                  <a:pt x="785" y="130"/>
                  <a:pt x="795" y="128"/>
                </a:cubicBezTo>
                <a:cubicBezTo>
                  <a:pt x="809" y="125"/>
                  <a:pt x="819" y="143"/>
                  <a:pt x="832" y="147"/>
                </a:cubicBezTo>
                <a:cubicBezTo>
                  <a:pt x="860" y="157"/>
                  <a:pt x="866" y="156"/>
                  <a:pt x="886" y="156"/>
                </a:cubicBez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3664200">
            <a:off x="7124400" y="331452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777200">
            <a:off x="7467120" y="373356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697800">
            <a:off x="5295600" y="339048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697800">
            <a:off x="4838400" y="392364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81040" y="4119480"/>
            <a:ext cx="144720" cy="322200"/>
          </a:xfrm>
          <a:custGeom>
            <a:avLst/>
            <a:gdLst/>
            <a:ahLst/>
            <a:rect l="l" t="t" r="r" b="b"/>
            <a:pathLst>
              <a:path w="91" h="203">
                <a:moveTo>
                  <a:pt x="91" y="38"/>
                </a:moveTo>
                <a:cubicBezTo>
                  <a:pt x="88" y="29"/>
                  <a:pt x="91" y="15"/>
                  <a:pt x="82" y="11"/>
                </a:cubicBezTo>
                <a:cubicBezTo>
                  <a:pt x="59" y="0"/>
                  <a:pt x="42" y="38"/>
                  <a:pt x="36" y="47"/>
                </a:cubicBezTo>
                <a:cubicBezTo>
                  <a:pt x="28" y="87"/>
                  <a:pt x="27" y="110"/>
                  <a:pt x="0" y="139"/>
                </a:cubicBezTo>
                <a:cubicBezTo>
                  <a:pt x="4" y="153"/>
                  <a:pt x="7" y="203"/>
                  <a:pt x="27" y="2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1680" y="4127400"/>
            <a:ext cx="165240" cy="416160"/>
          </a:xfrm>
          <a:custGeom>
            <a:avLst/>
            <a:gdLst/>
            <a:ahLst/>
            <a:rect l="l" t="t" r="r" b="b"/>
            <a:pathLst>
              <a:path w="104" h="262">
                <a:moveTo>
                  <a:pt x="0" y="33"/>
                </a:moveTo>
                <a:cubicBezTo>
                  <a:pt x="3" y="24"/>
                  <a:pt x="0" y="8"/>
                  <a:pt x="9" y="6"/>
                </a:cubicBezTo>
                <a:cubicBezTo>
                  <a:pt x="33" y="0"/>
                  <a:pt x="42" y="40"/>
                  <a:pt x="46" y="51"/>
                </a:cubicBezTo>
                <a:cubicBezTo>
                  <a:pt x="54" y="101"/>
                  <a:pt x="41" y="144"/>
                  <a:pt x="91" y="161"/>
                </a:cubicBezTo>
                <a:cubicBezTo>
                  <a:pt x="82" y="257"/>
                  <a:pt x="104" y="231"/>
                  <a:pt x="73" y="2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55040"/>
            <a:ext cx="883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не задирается до девочек, хороший, добрый, смешной, веселый, джентльмен, красивый, сильный, умный, высокий, мужественный, работящий, с чувством юмора, заботливый, семей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это тот мальчик, который должен уважать и не обзываться, с который никогда не будет ску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...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умный, добрый, благородный, уважает девочек, защищает их, никого не дразнит, самостоятельный, независимый, не курит, не ругается матом, хорошо танцует, занимается спортом, играет на гитаре, вежливый, культу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 - не злая, терпеливая, добрая, спортивная, веселая, умная, трудолюбивая, красивая, образов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: добрая, не страшная, веселая, дружелюб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 -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умная, добрая, аккуратная, воспитанная, культурная, красивая, со вкусом одевается, не строит из себя принцессу, скромная, умеет выслушать и посочувствовать, уважает других, нежная, романтичная, возвышенная, хорошо танцует, много зн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2"/>
          <p:cNvSpPr/>
          <p:nvPr/>
        </p:nvSpPr>
        <p:spPr>
          <a:xfrm>
            <a:off x="2057400" y="4572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маль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643280" y="404640"/>
            <a:ext cx="38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Качества  дев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143000" y="1981080"/>
            <a:ext cx="304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Муже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Реш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Храб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Интеллиг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Веж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Уважение к деву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932360" y="1341360"/>
            <a:ext cx="266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Оба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Хозяй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Аккур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З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Загад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://4put.ru/pictures/small/204/629664.jpg"/>
          <p:cNvPicPr/>
          <p:nvPr/>
        </p:nvPicPr>
        <p:blipFill>
          <a:blip r:embed="rId1"/>
          <a:srcRect l="0" t="0" r="0" b="7918"/>
          <a:stretch/>
        </p:blipFill>
        <p:spPr>
          <a:xfrm>
            <a:off x="7840800" y="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cs10878.vkontakte.ru/u82745251/148424839/x_4077c9db.jpg"/>
          <p:cNvPicPr/>
          <p:nvPr/>
        </p:nvPicPr>
        <p:blipFill>
          <a:blip r:embed="rId2"/>
          <a:stretch/>
        </p:blipFill>
        <p:spPr>
          <a:xfrm>
            <a:off x="0" y="0"/>
            <a:ext cx="13827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0600" y="564120"/>
            <a:ext cx="51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«Учимся вы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позитивные чувств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000" y="2284560"/>
            <a:ext cx="589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сегодня прекрасно выгляди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сегодня очень красив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бе эта прическа очень к лиц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 тобой поговорить - одно удовольств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 я рад тебя виде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, как всегда, очарователь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очень умна и краси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лыбнись, у тебя такая светлая улыб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вои глаза сияют, как лу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ой у тебя красивый, певучий голо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ая ты аккуратная, просто вся блести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просто замечательная девоч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103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2240" y="60948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Способность к сочувств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87480" y="1147680"/>
            <a:ext cx="931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 Я тебе очень сочувствую, чем я могу пом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 Не унывай, с каждым может сл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 Бедненький! Как мне тебя жалко! Руки-ноги целы? Это самое гла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4. Что-нибудь болит? Вставай, помогу тебе дойти до медпун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5. А пуговицы на месте? Могу пришить, если ч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6. За тетрадки не переживай, у меня есть запасные - подел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7. Давай свой рюкзак и куртку, мы их с девочками на батарее просу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8. Да ведь у тебя ноги совсем мокрые! Запросто можно простудить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адись к батарее и грейся, а мы попросим, чтобы тебя не вызывали к до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9. Ну, как дела, если что понадобится, проси, не стесня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ы с девочками помо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0. Подсох немножко? Тебе нужно согре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ы принесли тебе горячего чайку из ст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1. Ну что, полегчало? Не падай духом, мы с т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2. Держись, друзья тебя не оставя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62560" y="1175040"/>
            <a:ext cx="7732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Двойственность пове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екоторые детские формы поведения - уже неприем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то же время взрослые формы поведения ещё не разреш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ли разрешены, но не знакомы 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 стремится поскорее стать взрос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о решать сложные и ответственные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оторые по плечу взрос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 ещё не у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73080"/>
            <a:ext cx="64767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Трудная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сколько неразрешимых проблем накапливается в повседневной жизни подрост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то-то не захотел сесть рядом с ним за пар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Его не пригласили на коллективное мероприятие, которое проводилось его школьными друз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ад ним посмеялись знакомые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Утром, проснувшись, он обнаружил у себя на лице новые прыщ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6640" y="226440"/>
            <a:ext cx="8409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Жизненны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зрослея, подростку приходится решать массу непрост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х так и зовут – </a:t>
            </a:r>
            <a:r>
              <a:rPr b="0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жизненные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х выявил американский психолог Роберт Хэвигхер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воей книге «Задачи развития и образования» он выдел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чи развития юности, которые посчитал обяз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ятие свое внешности и умение эффективно владеть т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новых и более зрелых отношений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оего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ятие мужской или женск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стижение эмоциональной независимости от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 других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дготовка к трудовой деятельности, которая могла бы обеспе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экономическую независ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дготовка к вступлению в брак и к семей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явление желания нести ответственность за себя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ретение системы ценностей и этических принц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торыми можно руководствоваться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840" y="989280"/>
            <a:ext cx="83674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т решения этих задач никуда не уй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уть запоздал, отложил напоследок, как это мы привыкли дел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иши проп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е выполнил 8 задач, считай, что не успел на поез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 названием «Взрослая жиз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ой же ты взрослый если не умеешь устанавл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о сверстниками серьёзных отношений, если повзрослевшие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ржат тебя за малолетне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Все задачи жизни надо решать в своё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Таково неписаное правило обществен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92200" y="913320"/>
            <a:ext cx="372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Изуч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одноклассников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4495680"/>
          <a:ext cx="6076800" cy="154944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5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жил когда-то в другом город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играет на музыкальных инструмента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занимается спорт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 кого есть необычное домашнее животно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читать по ноча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поздно ложится спа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овощ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поспать утр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занимается коллекционировани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25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27528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– подросток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Это особенный возраст для кажд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обнаруживаешь перемены в себе, в своих мыслях, чувствах, пережи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– подросток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Это прекрасный период в жизни кажд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Это некий переход между детством и взрослой жиз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асто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спытываешь чувства ребенка и взрослого одновременно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114300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Ы - ПОДРОСТОК"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000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9800" y="959400"/>
            <a:ext cx="71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Хорошо ли мы знаем друг друг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528920"/>
            <a:ext cx="4572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нь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филь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пес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предмет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ое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Желание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аиболее важны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ты думаешь о … (одно пред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4302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2360" y="1554840"/>
            <a:ext cx="238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классе я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ома я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реди друзей я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03848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се карточки с ответами перемешиваются и складываются в коро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лассный руководитель вытягивает карточ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читывает ответы и дает учащимся право определить, о ком идет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45040" y="1845360"/>
            <a:ext cx="80553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ставь себя выпускником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будут говорить обо мне другие лю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люди будут для меня важ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существенного я смогу дости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планы у меня на дальнейшую жиз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у меня цели и меч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ем я буду отличаться от меня сегодняшн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608040"/>
            <a:ext cx="86868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 Подростком быть легко, так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Нет материальных проблем. Пока их решают родит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В день бывает 6-7 уроков, а у родителей восьмичасовой рабочий ден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Никаких забот, кроме учё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Подростком быть трудно, так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Материально зависишь от взрослы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Больше стало обязанност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Много разных соблазнов, всё хочется попробовать, а жизненного опыт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77652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Любить и удивляться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верить, помнить и жалеть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От Счастья плакать, от Души смея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чтоб Сердцем не стареть.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просто восхища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лями, небом, серебром росы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И если трудно, все же не сдаваться —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Идти вперед, не опуская головы.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искренни в общении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Честны в словах, поступках и дел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Верить, Свято, без сомнений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Жить наяву, открыто, а не в снах!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честно признава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В своих ошибках, зависти и лжи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Любить и восхищаться —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Расправьте крылья у своей Душ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6120"/>
            <a:ext cx="8153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акой возраст считается подростков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 психологии и педагогике принято под подростковым возрастом понимать возраст от 10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63680" y="794160"/>
            <a:ext cx="6843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Граница между двумя ми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ростковый возраст считают переходным период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росток частично принадлежит к группе де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частично – к группе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одних случаях к подросткам относятся как к дет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в других – как к взросл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080" y="3734280"/>
            <a:ext cx="866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остковый возр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ремя бурного и во многом противоречивого разви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няющего период сравнительно спокойного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акопления сил у младших 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 врем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исходят  значительные изме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 организм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психике ребёнка, играющие исключительно важную р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ормировании личности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лучайно французский философ Ж. Ж.Руссо назвал подростковый возр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вторым рожден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533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ЕНИЯ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ОДРОСТКОВОМ ПЕРИОД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120" y="16765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1752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560" y="541008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МИРОВОЗЗР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4600" y="23623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орци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880" y="2209680"/>
            <a:ext cx="34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ечение к другому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онность к р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к независим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г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2360" y="5029200"/>
            <a:ext cx="530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считаться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бе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ление параллельной системы ц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амосознания, самооцен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новение потребности в самовоспит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441864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Что бы вы поместили в мир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мальчиков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А из чего состоит мир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девочек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43828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3352680"/>
            <a:ext cx="312444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Arial"/>
              </a:rPr>
              <a:t>МИР 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Arial"/>
              </a:rPr>
              <a:t>МАЛЬЧИКОВ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91120" y="3276720"/>
            <a:ext cx="259056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МИР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ДЕВОЧЕК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286000"/>
            <a:ext cx="259056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1280" y="441720"/>
            <a:ext cx="920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вочки и мальчики - этот два разных мира. Девочки и мальчики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 самого рождения и развиваются тоже по-разному. Ученые установ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у них разный мозг, разная психика, разные пути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альчик и девочка по-разному смотрят и видя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лушают и слышат, по-разному говорят и молчат, чувствуют и пережи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17"/>
          <p:cNvSpPr txBox="1"/>
          <p:nvPr/>
        </p:nvSpPr>
        <p:spPr>
          <a:xfrm>
            <a:off x="1042920" y="333360"/>
            <a:ext cx="748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Из чего же, из чего же сделаны наши мальчишки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64" name="Picture 16" descr="PSP 2008-3008 Прошивка на 5.03 GEN-C, 5.50GEN-D3. ИДЕТ ВСЕ! Новая с гарантией!"/>
          <p:cNvPicPr/>
          <p:nvPr/>
        </p:nvPicPr>
        <p:blipFill>
          <a:blip r:embed="rId1"/>
          <a:stretch/>
        </p:blipFill>
        <p:spPr>
          <a:xfrm>
            <a:off x="468360" y="1844640"/>
            <a:ext cx="190512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://img.sotmarket.ru/resized/img/photo/panasonic/panasonic_lumix_dmc_g10_kit_1.jpg"/>
          <p:cNvPicPr/>
          <p:nvPr/>
        </p:nvPicPr>
        <p:blipFill>
          <a:blip r:embed="rId2"/>
          <a:stretch/>
        </p:blipFill>
        <p:spPr>
          <a:xfrm>
            <a:off x="3708360" y="2781360"/>
            <a:ext cx="1295280" cy="107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http://i6.rozetka.ua/goods/2098/2098073.jpg"/>
          <p:cNvPicPr/>
          <p:nvPr/>
        </p:nvPicPr>
        <p:blipFill>
          <a:blip r:embed="rId3"/>
          <a:stretch/>
        </p:blipFill>
        <p:spPr>
          <a:xfrm>
            <a:off x="6084720" y="1700280"/>
            <a:ext cx="162108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http://stat18.privet.ru/ab/0a1796e7234d3e9f8c4ee565b55cfa3a"/>
          <p:cNvPicPr/>
          <p:nvPr/>
        </p:nvPicPr>
        <p:blipFill>
          <a:blip r:embed="rId4"/>
          <a:stretch/>
        </p:blipFill>
        <p:spPr>
          <a:xfrm>
            <a:off x="971640" y="3645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http://im7-tub-ru.yandex.net/i?id=577750720-26-72"/>
          <p:cNvPicPr/>
          <p:nvPr/>
        </p:nvPicPr>
        <p:blipFill>
          <a:blip r:embed="rId5"/>
          <a:stretch/>
        </p:blipFill>
        <p:spPr>
          <a:xfrm>
            <a:off x="6300720" y="386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http://g-ecx.images-amazon.com/images/G/01/askville/82411411_profile/45_82411411_profile._V01__SY65_.jpg"/>
          <p:cNvPicPr/>
          <p:nvPr/>
        </p:nvPicPr>
        <p:blipFill>
          <a:blip r:embed="rId6"/>
          <a:stretch/>
        </p:blipFill>
        <p:spPr>
          <a:xfrm>
            <a:off x="3564000" y="4653000"/>
            <a:ext cx="1224000" cy="112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http://www.vorle.ru/pic10913843x80.jpg"/>
          <p:cNvPicPr/>
          <p:nvPr/>
        </p:nvPicPr>
        <p:blipFill>
          <a:blip r:embed="rId7"/>
          <a:stretch/>
        </p:blipFill>
        <p:spPr>
          <a:xfrm>
            <a:off x="3924360" y="1484280"/>
            <a:ext cx="165564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http://img03.avito.ru/images/thumb/89180851.jpg"/>
          <p:cNvPicPr/>
          <p:nvPr/>
        </p:nvPicPr>
        <p:blipFill>
          <a:blip r:embed="rId8"/>
          <a:stretch/>
        </p:blipFill>
        <p:spPr>
          <a:xfrm>
            <a:off x="1692360" y="5589720"/>
            <a:ext cx="838080" cy="100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295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971640" y="189000"/>
            <a:ext cx="74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чего же из чего же сделаны наши девчонки: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74" name="Picture 15" descr="http://is.mixmarket.biz/images/of/3551/9817792.jpg"/>
          <p:cNvPicPr/>
          <p:nvPr/>
        </p:nvPicPr>
        <p:blipFill>
          <a:blip r:embed="rId1"/>
          <a:stretch/>
        </p:blipFill>
        <p:spPr>
          <a:xfrm>
            <a:off x="539640" y="1844640"/>
            <a:ext cx="792360" cy="151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http://www.autospies.com/images/users/Agent00R/main/458ital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70028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http://img-fotki.yandex.ru/get/4013/botova-mascha.1/0_2fb04_51d60c1f_S"/>
          <p:cNvPicPr/>
          <p:nvPr/>
        </p:nvPicPr>
        <p:blipFill>
          <a:blip r:embed="rId4"/>
          <a:stretch/>
        </p:blipFill>
        <p:spPr>
          <a:xfrm>
            <a:off x="2700360" y="486900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http://www.photoshare.ru/data/66/66841/2/4qusn1-ft7.jpg?1"/>
          <p:cNvPicPr/>
          <p:nvPr/>
        </p:nvPicPr>
        <p:blipFill>
          <a:blip r:embed="rId5"/>
          <a:stretch/>
        </p:blipFill>
        <p:spPr>
          <a:xfrm>
            <a:off x="6588000" y="357336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http://cs9825.vkontakte.ru/u95971471/-14/m_ff70ee51.jpg"/>
          <p:cNvPicPr/>
          <p:nvPr/>
        </p:nvPicPr>
        <p:blipFill>
          <a:blip r:embed="rId6"/>
          <a:stretch/>
        </p:blipFill>
        <p:spPr>
          <a:xfrm>
            <a:off x="1979640" y="1916280"/>
            <a:ext cx="183348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Барби"/>
          <p:cNvPicPr/>
          <p:nvPr/>
        </p:nvPicPr>
        <p:blipFill>
          <a:blip r:embed="rId7"/>
          <a:stretch/>
        </p:blipFill>
        <p:spPr>
          <a:xfrm>
            <a:off x="4140360" y="184464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http://cs4312.vkontakte.ru/g19641402/b_97df5a72.jpg"/>
          <p:cNvPicPr/>
          <p:nvPr/>
        </p:nvPicPr>
        <p:blipFill>
          <a:blip r:embed="rId8"/>
          <a:stretch/>
        </p:blipFill>
        <p:spPr>
          <a:xfrm>
            <a:off x="4716360" y="5084640"/>
            <a:ext cx="1727280" cy="159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http://ua.all.biz/img/ua/catalog/small/1071728.jpeg"/>
          <p:cNvPicPr/>
          <p:nvPr/>
        </p:nvPicPr>
        <p:blipFill>
          <a:blip r:embed="rId9"/>
          <a:stretch/>
        </p:blipFill>
        <p:spPr>
          <a:xfrm>
            <a:off x="971640" y="4076640"/>
            <a:ext cx="100800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762120"/>
            <a:ext cx="6172200" cy="563868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44792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12408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2438280"/>
            <a:ext cx="312408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И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АЛЬЧ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67080" y="4267080"/>
            <a:ext cx="228600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ОЧ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 rot="19225200">
            <a:off x="5943600" y="1904760"/>
            <a:ext cx="1219320" cy="304560"/>
          </a:xfrm>
          <a:prstGeom prst="leftArrow">
            <a:avLst>
              <a:gd name="adj1" fmla="val 50000"/>
              <a:gd name="adj2" fmla="val 1000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360" y="86184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ир, в котором хорош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альчикам, и дев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9T06:55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