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F07-7D5F-4E87-B8CD-FB2BD43D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B8F-A11F-4997-ABAC-35FB4CC2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650-6AEB-4DCC-ABD3-D7283960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CAB-B2D4-4D4A-8A1E-6A562849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027-6BE6-4CC0-B00A-6DBBE0D7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4A3-252E-4A65-B946-BCF40841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BE6-436F-46B5-B3BC-FFA34D23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FC2-D660-4EAF-AFFE-88ECF821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B37-BD47-46C2-B8B5-5C519AC7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083-48FC-48AF-9B65-BF62E88D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F44-7265-4473-BFC2-70077BD8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148-07E6-4EC7-BBBB-493925A5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F02B-A8F2-481F-AE7E-A17F6345E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 «ЧТО ТАКОЕ ЛУКОМОРЬЕ» 5 «Б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37"/>
          <p:cNvPicPr/>
          <p:nvPr/>
        </p:nvPicPr>
        <p:blipFill>
          <a:blip r:embed="rId1"/>
          <a:stretch/>
        </p:blipFill>
        <p:spPr>
          <a:xfrm>
            <a:off x="1523880" y="1905120"/>
            <a:ext cx="2971800" cy="3886200"/>
          </a:xfrm>
          <a:prstGeom prst="rect">
            <a:avLst/>
          </a:prstGeom>
          <a:ln w="0">
            <a:noFill/>
          </a:ln>
        </p:spPr>
      </p:pic>
      <p:pic>
        <p:nvPicPr>
          <p:cNvPr id="43" name="j021287.wav" descr=""/>
          <p:cNvPicPr/>
          <p:nvPr/>
        </p:nvPicPr>
        <p:blipFill>
          <a:blip r:embed="rId2"/>
          <a:stretch/>
        </p:blipFill>
        <p:spPr>
          <a:xfrm>
            <a:off x="4419720" y="390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обсу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другие вер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учи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, А.С.Пушкин создал слово Лукоморье по аналогии со словом Беловодье – легендарной тайной страной света и благодати, скрытой где-то на территории России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теперь обсудим другие тайны Лукомор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45"/>
          <p:cNvPicPr/>
          <p:nvPr/>
        </p:nvPicPr>
        <p:blipFill>
          <a:blip r:embed="rId1"/>
          <a:stretch/>
        </p:blipFill>
        <p:spPr>
          <a:xfrm>
            <a:off x="2666880" y="2133720"/>
            <a:ext cx="3886200" cy="327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учител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ученый кот ходит именно вокруг дуба, а не березы и не клена, наприм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му что дуб – священное дерево древних славян, связанное с представлении древних о строении вселенной – «Мировое дерево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округ дуба ходит именно кот, а не любое друго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 учащихся: от «он самый умный и симпатичный» до «мог быть и слон, но дуб бы его не удержа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8"/>
          <p:cNvPicPr/>
          <p:nvPr/>
        </p:nvPicPr>
        <p:blipFill>
          <a:blip r:embed="rId1"/>
          <a:stretch/>
        </p:blipFill>
        <p:spPr>
          <a:xfrm>
            <a:off x="5791320" y="38862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ходится задавать наводящие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животное напрямую связано с нечистой сил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ы делаем, если черный кот перебежал дорог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кот волшебным в русских сказках? ( Да, например, он – помощник Бабы-Яг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диал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 фильмы с участием котов в качестве героев (вспоминают «Алису в стране чудес» и «Мастера и Маргариту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ечно, именно кот – САМОЕ сказочное волшебное животн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t11"/>
          <p:cNvPicPr/>
          <p:nvPr/>
        </p:nvPicPr>
        <p:blipFill>
          <a:blip r:embed="rId1"/>
          <a:stretch/>
        </p:blipFill>
        <p:spPr>
          <a:xfrm>
            <a:off x="2590920" y="1905120"/>
            <a:ext cx="3657600" cy="3352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диал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кот идет сначала направо, а потом нале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ем ответы : «чтобы не запутаться в цепи», «чтобы у кота не закружилась голова»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водящие вопросы учител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7"/>
          <p:cNvPicPr/>
          <p:nvPr/>
        </p:nvPicPr>
        <p:blipFill>
          <a:blip r:embed="rId1"/>
          <a:stretch/>
        </p:blipFill>
        <p:spPr>
          <a:xfrm>
            <a:off x="2286000" y="2057400"/>
            <a:ext cx="4800600" cy="3352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слова «право» и «правда» - однокорен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имо, 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 учителя: после того, как власть в древнем обществе перешла к мужчинам, их стали считать «правыми» и «правильными», поэтому до сих пор застежка в мужской одежде на правую сторону, а в женской – на левую, «неправильную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творческого видения мира на основе анализа текста вступления к поэме А.С.Пушкина «Руслан и Людми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ит, когда кот идет направо, он говорит прав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можно догадаться, почему кот «…идет налево – сказку говорит…, левая сторона – «неправильная», здесь можно и пофантазир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ское сказочное Лукоморье очень правильно с точки зрения внутренней логики образ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2"/>
          <p:cNvPicPr/>
          <p:nvPr/>
        </p:nvPicPr>
        <p:blipFill>
          <a:blip r:embed="rId1"/>
          <a:stretch/>
        </p:blipFill>
        <p:spPr>
          <a:xfrm>
            <a:off x="4572000" y="304812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тоговое тестирование по сказкам А.С.Пуш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учебного диска по литературе за 5-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решен на «отлич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УУД сформированы в ходе уро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иверсаль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ые действия – мотивация на учебную и познавательную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ятив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ниверсальные учебный действ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ация учебных целей и задач, контроль и оценка своих действий, коррективы в выполнение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вательны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иверсальные учебные действ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иятие и анализ текста, использование знаков и символов, логические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ниверсальные учебные действ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учитывать позицию собеседника, сотрудничество и кооперация с учителем и одноклассниками, отображение содержания и интерпретация тест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2"/>
          <p:cNvPicPr/>
          <p:nvPr/>
        </p:nvPicPr>
        <p:blipFill>
          <a:blip r:embed="rId1"/>
          <a:stretch/>
        </p:blipFill>
        <p:spPr>
          <a:xfrm>
            <a:off x="2819520" y="2362320"/>
            <a:ext cx="266688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од урока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Повторение теоретического материала ( тема, идея, сюжет, композиция, олицетворение, эпитет, метафора, гипербол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и"/>
          <p:cNvPicPr/>
          <p:nvPr/>
        </p:nvPicPr>
        <p:blipFill>
          <a:blip r:embed="rId1"/>
          <a:stretch/>
        </p:blipFill>
        <p:spPr>
          <a:xfrm>
            <a:off x="3200400" y="3505320"/>
            <a:ext cx="2362320" cy="2209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 выписать художественные средства: олицетворения, эпитеты, метафоры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38"/>
          <p:cNvPicPr/>
          <p:nvPr/>
        </p:nvPicPr>
        <p:blipFill>
          <a:blip r:embed="rId1"/>
          <a:stretch/>
        </p:blipFill>
        <p:spPr>
          <a:xfrm>
            <a:off x="3124080" y="3352680"/>
            <a:ext cx="2590920" cy="251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ос учащихся с комментариями учителя и самих учащихся, исправление ошибок, добавление пропуще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"/>
          <p:cNvPicPr/>
          <p:nvPr/>
        </p:nvPicPr>
        <p:blipFill>
          <a:blip r:embed="rId1"/>
          <a:stretch/>
        </p:blipFill>
        <p:spPr>
          <a:xfrm>
            <a:off x="2895480" y="365760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ение учителем «У Лукоморья дуб зелены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АЛОГ (Учитель-ученик, ученик-учени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 вы думаете, какова тема данного отрывка? (Групповое обсуждение) Вывод: прекрасный мир русских сказ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идея данного отрывка ?(групповое обсужд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идея похожа на тему: мир русских сказок чудесен, волшебен, интересен, прекрасен и т.д.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ДИАЛ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 поняли, что же такое Лукомор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тим внимание сначала на структуру слова, разберем его по составу (работа в пар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в слове два корня – лук- и –морь-, соединительная гласная -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: что можно предположить , исходя из данной структур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овое обсу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скорее  всего, Лукоморье – это сказочное место на берегу моря, имеющее форму залива в виде изогнутого л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t04"/>
          <p:cNvPicPr/>
          <p:nvPr/>
        </p:nvPicPr>
        <p:blipFill>
          <a:blip r:embed="rId1"/>
          <a:stretch/>
        </p:blipFill>
        <p:spPr>
          <a:xfrm>
            <a:off x="5867280" y="4114800"/>
            <a:ext cx="170496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age&amp;Matros™</cp:lastModifiedBy>
  <dcterms:modified xsi:type="dcterms:W3CDTF">2014-01-28T13:11:3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