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E51D-B3FD-4B39-9885-A14DC4F1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8BDA-43F2-43B1-89F1-9D65014C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2B25-20CA-4656-955F-C32B7043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9887-D883-4405-AC9D-25A8770F9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F998-F2C3-4108-AC91-0E267AB6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F96D-9970-4141-97E5-79E42886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FD9F-7147-455E-B560-43C2276B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8759-B3C3-481F-A655-FA0B5042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E1B2-23CE-470D-B93E-9B973309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ED13-6B79-4436-B4A1-EBDA1291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87BD-6DB0-464E-82C1-76555595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F7BA-26FA-45BB-B756-1F731BF1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193D-2B6E-429C-91D7-2A6B665A31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РОК «ЧТО ТАКОЕ ЛУКОМОРЬЕ» 5 «Б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37"/>
          <p:cNvPicPr/>
          <p:nvPr/>
        </p:nvPicPr>
        <p:blipFill>
          <a:blip r:embed="rId1"/>
          <a:stretch/>
        </p:blipFill>
        <p:spPr>
          <a:xfrm>
            <a:off x="1523880" y="1905120"/>
            <a:ext cx="2971800" cy="3886200"/>
          </a:xfrm>
          <a:prstGeom prst="rect">
            <a:avLst/>
          </a:prstGeom>
          <a:ln w="0">
            <a:noFill/>
          </a:ln>
        </p:spPr>
      </p:pic>
      <p:pic>
        <p:nvPicPr>
          <p:cNvPr id="43" name="j021287.wav" descr=""/>
          <p:cNvPicPr/>
          <p:nvPr/>
        </p:nvPicPr>
        <p:blipFill>
          <a:blip r:embed="rId2"/>
          <a:stretch/>
        </p:blipFill>
        <p:spPr>
          <a:xfrm>
            <a:off x="4419720" y="390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должение обсуж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ли другие верс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о учите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можно, А.С.Пушкин создал слово Лукоморье по аналогии со словом Беловодье – легендарной тайной страной света и благодати, скрытой где-то на территории России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 теперь обсудим другие тайны Лукомор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45"/>
          <p:cNvPicPr/>
          <p:nvPr/>
        </p:nvPicPr>
        <p:blipFill>
          <a:blip r:embed="rId1"/>
          <a:stretch/>
        </p:blipFill>
        <p:spPr>
          <a:xfrm>
            <a:off x="2666880" y="2133720"/>
            <a:ext cx="3886200" cy="3276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 учител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ученый кот ходит именно вокруг дуба, а не березы и не клена, наприме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ому что дуб – священное дерево древних славян, связанное с представлении древних о строении вселенной – «Мировое дерево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вокруг дуба ходит именно кот, а не любое другое животн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ы учащихся: от «он самый умный и симпатичный» до «мог быть и слон, но дуб бы его не удержал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28"/>
          <p:cNvPicPr/>
          <p:nvPr/>
        </p:nvPicPr>
        <p:blipFill>
          <a:blip r:embed="rId1"/>
          <a:stretch/>
        </p:blipFill>
        <p:spPr>
          <a:xfrm>
            <a:off x="5791320" y="3886200"/>
            <a:ext cx="2514600" cy="2438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ходится задавать наводящие вопро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животное напрямую связано с нечистой сил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мы делаем, если черный кот перебежал дорог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ли кот волшебным в русских сказках? ( Да, например, он – помощник Бабы-Яг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должение диало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ните фильмы с участием котов в качестве героев (вспоминают «Алису в стране чудес» и «Мастера и Маргариту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ечно, именно кот – САМОЕ сказочное волшебное животно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КУЛЬТМИНУТК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t11"/>
          <p:cNvPicPr/>
          <p:nvPr/>
        </p:nvPicPr>
        <p:blipFill>
          <a:blip r:embed="rId1"/>
          <a:stretch/>
        </p:blipFill>
        <p:spPr>
          <a:xfrm>
            <a:off x="2590920" y="1905120"/>
            <a:ext cx="3657600" cy="3352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должение диало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кот идет сначала направо, а потом нале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аем ответы : «чтобы не запутаться в цепи», «чтобы у кота не закружилась голова» и т.п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водящие вопросы учител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7"/>
          <p:cNvPicPr/>
          <p:nvPr/>
        </p:nvPicPr>
        <p:blipFill>
          <a:blip r:embed="rId1"/>
          <a:stretch/>
        </p:blipFill>
        <p:spPr>
          <a:xfrm>
            <a:off x="2286000" y="2057400"/>
            <a:ext cx="4800600" cy="3352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ы думаете, слова «право» и «правда» - однокоренн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имо, д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ментарий учителя: после того, как власть в древнем обществе перешла к мужчинам, их стали считать «правыми» и «правильными», поэтому до сих пор застежка в мужской одежде на правую сторону, а в женской – на левую, «неправильную»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творческого видения мира на основе анализа текста вступления к поэме А.С.Пушкина «Руслан и Людми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чит, когда кот идет направо, он говорит прав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перь можно догадаться, почему кот «…идет налево – сказку говорит…, левая сторона – «неправильная», здесь можно и пофантазиров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шкинское сказочное Лукоморье очень правильно с точки зрения внутренней логики образ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42"/>
          <p:cNvPicPr/>
          <p:nvPr/>
        </p:nvPicPr>
        <p:blipFill>
          <a:blip r:embed="rId1"/>
          <a:stretch/>
        </p:blipFill>
        <p:spPr>
          <a:xfrm>
            <a:off x="4572000" y="3048120"/>
            <a:ext cx="3276720" cy="3276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тоговое тестирование по сказкам А.С.Пушк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ие учебного диска по литературе за 5-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ст решен на «отличн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тог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ценка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ИЕ УУД сформированы в ходе урок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ниверсаль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чебные действия – мотивация на учебную и познавательную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гулятив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ниверсальные учебный действия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ализация учебных целей и задач, контроль и оценка своих действий, коррективы в выполнение дейст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знавательны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ниверсальные учебные действия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риятие и анализ текста, использование знаков и символов, логические оп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муникатив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ниверсальные учебные действия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ие учитывать позицию собеседника, сотрудничество и кооперация с учителем и одноклассниками, отображение содержания и интерпретация тестов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12"/>
          <p:cNvPicPr/>
          <p:nvPr/>
        </p:nvPicPr>
        <p:blipFill>
          <a:blip r:embed="rId1"/>
          <a:stretch/>
        </p:blipFill>
        <p:spPr>
          <a:xfrm>
            <a:off x="2819520" y="2362320"/>
            <a:ext cx="2666880" cy="2971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од урока: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Повторение теоретического материала ( тема, идея, сюжет, композиция, олицетворение, эпитет, метафора, гипербол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и"/>
          <p:cNvPicPr/>
          <p:nvPr/>
        </p:nvPicPr>
        <p:blipFill>
          <a:blip r:embed="rId1"/>
          <a:stretch/>
        </p:blipFill>
        <p:spPr>
          <a:xfrm>
            <a:off x="3200400" y="3505320"/>
            <a:ext cx="2362320" cy="2209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рка домашнего задани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 выписать художественные средства: олицетворения, эпитеты, метафоры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38"/>
          <p:cNvPicPr/>
          <p:nvPr/>
        </p:nvPicPr>
        <p:blipFill>
          <a:blip r:embed="rId1"/>
          <a:stretch/>
        </p:blipFill>
        <p:spPr>
          <a:xfrm>
            <a:off x="3124080" y="3352680"/>
            <a:ext cx="2590920" cy="251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рос учащихся с комментариями учителя и самих учащихся, исправление ошибок, добавление пропущен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12"/>
          <p:cNvPicPr/>
          <p:nvPr/>
        </p:nvPicPr>
        <p:blipFill>
          <a:blip r:embed="rId1"/>
          <a:stretch/>
        </p:blipFill>
        <p:spPr>
          <a:xfrm>
            <a:off x="2895480" y="365760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ение учителем «У Лукоморья дуб зеленый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ИАЛОГ (Учитель-ученик, ученик-ученик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как вы думаете, какова тема данного отрывка? (Групповое обсуждение) Вывод: прекрасный мир русских сказ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ва идея данного отрывка ?(групповое обсужд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: идея похожа на тему: мир русских сказок чудесен, волшебен, интересен, прекрасен и т.д.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ДОЛЖЕНИЕ ДИАЛО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ы поняли, что же такое Лукоморь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тим внимание сначала на структуру слова, разберем его по составу (работа в пара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: в слове два корня – лук- и –морь-, соединительная гласная - 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: что можно предположить , исходя из данной структур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пповое обсуж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: скорее  всего, Лукоморье – это сказочное место на берегу моря, имеющее форму залива в виде изогнутого л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t04"/>
          <p:cNvPicPr/>
          <p:nvPr/>
        </p:nvPicPr>
        <p:blipFill>
          <a:blip r:embed="rId1"/>
          <a:stretch/>
        </p:blipFill>
        <p:spPr>
          <a:xfrm>
            <a:off x="5867280" y="4114800"/>
            <a:ext cx="1704960" cy="2133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mage&amp;Matros™</cp:lastModifiedBy>
  <dcterms:modified xsi:type="dcterms:W3CDTF">2014-01-28T13:11:3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