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422-5A5D-4A65-A871-A92D582D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350-4EF1-4CC4-B030-8A794E73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03D-BBFD-450B-BCCA-EB23EBB7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7C3-24BD-4E18-AC52-EAB7771D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004-0A6A-4DBA-8B30-DF0B7F55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25F-9BE3-477A-90D4-52F8BB3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AB4-E3BF-4565-A6F5-F78089AA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951-6170-4FB3-8C25-2612A88A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9BE-F9DA-461B-BE7D-89BC43C4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079-0E5A-4BD2-9E89-9B991BF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597-4D0F-4DFA-AEFB-C341283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AFE-B68C-4972-A945-4A0DF995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B8E8-C86F-495A-84C8-C898384490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vsyaanimaciya.ru/" TargetMode="External"/><Relationship Id="rId3" Type="http://schemas.openxmlformats.org/officeDocument/2006/relationships/hyperlink" Target="http://www.rubukkit.org/threads/" TargetMode="External"/><Relationship Id="rId4" Type="http://schemas.openxmlformats.org/officeDocument/2006/relationships/hyperlink" Target="http://www.rubukkit.org/threads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360" y="530028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КОУ Бутурлиновская СОШ №7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Козлова Елена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762120" y="1322280"/>
            <a:ext cx="7540560" cy="139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826920" y="2637000"/>
            <a:ext cx="28069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826920" y="692280"/>
            <a:ext cx="4694400" cy="54734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3"/>
          <p:cNvSpPr/>
          <p:nvPr/>
        </p:nvSpPr>
        <p:spPr>
          <a:xfrm>
            <a:off x="1767600" y="537372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Фантаз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Users\1\Desktop\новая\624229.gif"/>
          <p:cNvPicPr/>
          <p:nvPr/>
        </p:nvPicPr>
        <p:blipFill>
          <a:blip r:embed="rId2"/>
          <a:stretch/>
        </p:blipFill>
        <p:spPr>
          <a:xfrm>
            <a:off x="5334120" y="2565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97 0.02824 C -0.09497 0.08658 0.03455 0.13172 0.19184 0.13172 C 0.35416 0.13172 0.4835 0.08658 0.4835 0.02824 C 0.4835 -0.03032 0.61284 -0.07523 0.77517 -0.07523 C 0.93264 -0.07523 1.06215 -0.03032 1.06215 0.02824 E">
                                      <p:cBhvr>
                                        <p:cTn id="8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Физкультмину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9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1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2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3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7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857240" y="642960"/>
            <a:ext cx="4613400" cy="53784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3"/>
          <p:cNvSpPr/>
          <p:nvPr/>
        </p:nvSpPr>
        <p:spPr>
          <a:xfrm>
            <a:off x="2570760" y="528624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Ум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:\Users\1\Desktop\новая\624229.gif"/>
          <p:cNvPicPr/>
          <p:nvPr/>
        </p:nvPicPr>
        <p:blipFill>
          <a:blip r:embed="rId2"/>
          <a:stretch/>
        </p:blipFill>
        <p:spPr>
          <a:xfrm>
            <a:off x="5076720" y="26370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0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1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2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3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4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8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979640" y="620640"/>
            <a:ext cx="4321080" cy="50418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13"/>
          <p:cNvSpPr/>
          <p:nvPr/>
        </p:nvSpPr>
        <p:spPr>
          <a:xfrm>
            <a:off x="2772720" y="501336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1\Desktop\новая\624229.gif"/>
          <p:cNvPicPr/>
          <p:nvPr/>
        </p:nvPicPr>
        <p:blipFill>
          <a:blip r:embed="rId2"/>
          <a:stretch/>
        </p:blipFill>
        <p:spPr>
          <a:xfrm>
            <a:off x="-3809880" y="27147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Users\1\Desktop\новая\624229.gif"/>
          <p:cNvPicPr/>
          <p:nvPr/>
        </p:nvPicPr>
        <p:blipFill>
          <a:blip r:embed="rId3"/>
          <a:stretch/>
        </p:blipFill>
        <p:spPr>
          <a:xfrm>
            <a:off x="5334120" y="2708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На севере Гималаи, на востоке Индийский океан, на западе Индийский океан, на юге Индийский океан. Что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На севере Индийский океан, на юге Индийский океан, на западе Индийский океан, на востоке Индийский океан. Что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2569680" y="2349360"/>
            <a:ext cx="34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о.Мадагаск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2481480" y="4797360"/>
            <a:ext cx="36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п-ов Индос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3077280" y="549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Отгадай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7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8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79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0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1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979640" y="620640"/>
            <a:ext cx="4321080" cy="504180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13"/>
          <p:cNvSpPr/>
          <p:nvPr/>
        </p:nvSpPr>
        <p:spPr>
          <a:xfrm>
            <a:off x="2475000" y="5013360"/>
            <a:ext cx="29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«Капитан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C:\Users\1\Desktop\новая\624229.gif"/>
          <p:cNvPicPr/>
          <p:nvPr/>
        </p:nvPicPr>
        <p:blipFill>
          <a:blip r:embed="rId2"/>
          <a:stretch/>
        </p:blipFill>
        <p:spPr>
          <a:xfrm>
            <a:off x="-3809880" y="271476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C:\Users\1\Desktop\новая\624229.gif"/>
          <p:cNvPicPr/>
          <p:nvPr/>
        </p:nvPicPr>
        <p:blipFill>
          <a:blip r:embed="rId3"/>
          <a:stretch/>
        </p:blipFill>
        <p:spPr>
          <a:xfrm>
            <a:off x="5334120" y="2708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9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0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1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2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03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07" name="Прямоугольник 23"/>
          <p:cNvSpPr/>
          <p:nvPr/>
        </p:nvSpPr>
        <p:spPr>
          <a:xfrm>
            <a:off x="162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От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0" y="1643040"/>
            <a:ext cx="4468680" cy="521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4214880" y="785880"/>
            <a:ext cx="4024080" cy="40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1\Desktop\i (3).jpg"/>
          <p:cNvPicPr/>
          <p:nvPr/>
        </p:nvPicPr>
        <p:blipFill>
          <a:blip r:embed="rId3"/>
          <a:stretch/>
        </p:blipFill>
        <p:spPr>
          <a:xfrm>
            <a:off x="-1928880" y="5143680"/>
            <a:ext cx="115272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VN850037.WMA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814 C 4.16667E-006 0.00648 0.11823 0.07632 0.26215 0.07632 C 0.41041 0.07632 0.52864 0.00648 0.52864 -0.0814 C 0.52864 -0.1716 0.64687 -0.23843 0.79513 -0.23843 C 0.93923 -0.23843 1.05763 -0.1716 1.05763 -0.0814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35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979640" y="620640"/>
            <a:ext cx="4321080" cy="50418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3"/>
          <p:cNvSpPr/>
          <p:nvPr/>
        </p:nvSpPr>
        <p:spPr>
          <a:xfrm>
            <a:off x="2608560" y="501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От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C:\Users\1\Desktop\новая\624229.gif"/>
          <p:cNvPicPr/>
          <p:nvPr/>
        </p:nvPicPr>
        <p:blipFill>
          <a:blip r:embed="rId2"/>
          <a:stretch/>
        </p:blipFill>
        <p:spPr>
          <a:xfrm>
            <a:off x="5334120" y="2637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1\Desktop\новая\624229.gif"/>
          <p:cNvPicPr/>
          <p:nvPr/>
        </p:nvPicPr>
        <p:blipFill>
          <a:blip r:embed="rId3"/>
          <a:stretch/>
        </p:blipFill>
        <p:spPr>
          <a:xfrm>
            <a:off x="5334120" y="2637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Ответ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Крас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Индос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о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Беринг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ах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3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4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5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6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27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1" name="Прямоугольник 23"/>
          <p:cNvSpPr/>
          <p:nvPr/>
        </p:nvSpPr>
        <p:spPr>
          <a:xfrm>
            <a:off x="16200" y="1341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От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3071880" y="0"/>
            <a:ext cx="607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0" y="2000160"/>
            <a:ext cx="4024440" cy="4024440"/>
          </a:xfrm>
          <a:prstGeom prst="rect">
            <a:avLst/>
          </a:prstGeom>
          <a:ln w="0">
            <a:noFill/>
          </a:ln>
        </p:spPr>
      </p:pic>
      <p:pic>
        <p:nvPicPr>
          <p:cNvPr id="235" name="VN850040.WMA" descr=""/>
          <p:cNvPicPr/>
          <p:nvPr/>
        </p:nvPicPr>
        <p:blipFill>
          <a:blip r:embed="rId3"/>
          <a:stretch/>
        </p:blipFill>
        <p:spPr>
          <a:xfrm>
            <a:off x="857268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4218120" y="566100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стров  Сокрови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Прямоугольник 1" descr=""/>
          <p:cNvPicPr/>
          <p:nvPr/>
        </p:nvPicPr>
        <p:blipFill>
          <a:blip r:embed="rId1"/>
          <a:stretch/>
        </p:blipFill>
        <p:spPr>
          <a:xfrm>
            <a:off x="2298600" y="2779560"/>
            <a:ext cx="453564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Используем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ages.yandex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т, корабл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vsyaanimaciya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68360" y="2492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rubukkit.org/threads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6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8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9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0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4" name="Прямоугольник 23"/>
          <p:cNvSpPr/>
          <p:nvPr/>
        </p:nvSpPr>
        <p:spPr>
          <a:xfrm>
            <a:off x="-52200" y="1341360"/>
            <a:ext cx="26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755640" y="692280"/>
            <a:ext cx="4786200" cy="5584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3"/>
          <p:cNvSpPr/>
          <p:nvPr/>
        </p:nvSpPr>
        <p:spPr>
          <a:xfrm>
            <a:off x="1951560" y="54450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Остров Зна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1\Desktop\новая\624229.gif"/>
          <p:cNvPicPr/>
          <p:nvPr/>
        </p:nvPicPr>
        <p:blipFill>
          <a:blip r:embed="rId2"/>
          <a:stretch/>
        </p:blipFill>
        <p:spPr>
          <a:xfrm>
            <a:off x="521964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28 -0.03704 C 0.08628 0.02778 0.1908 0.07847 0.3184 0.07847 C 0.44982 0.07847 0.55434 0.02778 0.55434 -0.03704 C 0.55434 -0.10301 0.65885 -0.15255 0.79062 -0.15255 C 0.91823 -0.15255 1.02326 -0.10301 1.02326 -0.03704 E">
                                      <p:cBhvr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137680" y="476280"/>
            <a:ext cx="46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Дай общее наз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79280" y="1484280"/>
            <a:ext cx="648036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Индийский, Тихий, Северный Ледовитый, 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редиземное, Баренцево, Чё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Мадагаскар, Гренландия, Сах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Флорида, Сомали, Арав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6768360" y="17733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оке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6940440" y="270828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6680160" y="386064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ос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6443640" y="4797360"/>
            <a:ext cx="249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полуос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3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4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6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7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1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home\Desktop\ebbeda573de5t.jpg"/>
          <p:cNvPicPr/>
          <p:nvPr/>
        </p:nvPicPr>
        <p:blipFill>
          <a:blip r:embed="rId1"/>
          <a:srcRect l="11809" t="4653" r="9231" b="4628"/>
          <a:stretch/>
        </p:blipFill>
        <p:spPr>
          <a:xfrm>
            <a:off x="1042920" y="476280"/>
            <a:ext cx="4786560" cy="5584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3"/>
          <p:cNvSpPr/>
          <p:nvPr/>
        </p:nvSpPr>
        <p:spPr>
          <a:xfrm>
            <a:off x="1732680" y="522936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onotype Corsiva"/>
              </a:rPr>
              <a:t>Остров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1\Desktop\новая\624229.gif"/>
          <p:cNvPicPr/>
          <p:nvPr/>
        </p:nvPicPr>
        <p:blipFill>
          <a:blip r:embed="rId2"/>
          <a:stretch/>
        </p:blipFill>
        <p:spPr>
          <a:xfrm>
            <a:off x="5334120" y="285264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28 -0.03704 C 0.08628 0.02778 0.1908 0.07847 0.3184 0.07847 C 0.44982 0.07847 0.55434 0.02778 0.55434 -0.03704 C 0.55434 -0.10301 0.65885 -0.15255 0.79062 -0.15255 C 0.91823 -0.15255 1.02326 -0.10301 1.02326 -0.03704 E">
                                      <p:cBhvr>
                                        <p:cTn id="6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Дай 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7499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Что такое остров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Что такое полуостров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395280" y="393372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тров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участок суши, со всех сторон окружённый в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луостро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участок суши, выдающийся в море или озеро и с трёх сторон окружён в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868720" cy="500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1\Desktop\новая\624229.gif"/>
          <p:cNvPicPr/>
          <p:nvPr/>
        </p:nvPicPr>
        <p:blipFill>
          <a:blip r:embed="rId2"/>
          <a:stretch/>
        </p:blipFill>
        <p:spPr>
          <a:xfrm>
            <a:off x="5003640" y="2492280"/>
            <a:ext cx="4024440" cy="40244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468360" y="34290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на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930240" y="450072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1890720" y="52149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Фантаз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3419640" y="386064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Ум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2531160" y="300024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Заг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14"/>
          <p:cNvCxnSpPr/>
          <p:nvPr/>
        </p:nvCxnSpPr>
        <p:spPr>
          <a:xfrm>
            <a:off x="1428840" y="4071600"/>
            <a:ext cx="64332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7" name="Прямая со стрелкой 15"/>
          <p:cNvCxnSpPr/>
          <p:nvPr/>
        </p:nvCxnSpPr>
        <p:spPr>
          <a:xfrm>
            <a:off x="2143080" y="4857840"/>
            <a:ext cx="64332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Прямая со стрелкой 17"/>
          <p:cNvCxnSpPr/>
          <p:nvPr/>
        </p:nvCxnSpPr>
        <p:spPr>
          <a:xfrm flipV="1">
            <a:off x="3561840" y="4436280"/>
            <a:ext cx="289440" cy="786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3850560" y="3428280"/>
            <a:ext cx="1054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0" name="Прямая со стрелкой 16"/>
          <p:cNvCxnSpPr/>
          <p:nvPr/>
        </p:nvCxnSpPr>
        <p:spPr>
          <a:xfrm flipH="1" flipV="1">
            <a:off x="3348000" y="263664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1" name="Прямоугольник 9"/>
          <p:cNvSpPr/>
          <p:nvPr/>
        </p:nvSpPr>
        <p:spPr>
          <a:xfrm>
            <a:off x="3924360" y="14130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Сокров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1483920"/>
            <a:ext cx="46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1"/>
          <p:cNvSpPr/>
          <p:nvPr/>
        </p:nvSpPr>
        <p:spPr>
          <a:xfrm>
            <a:off x="2411280" y="19890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22"/>
          <p:cNvCxnSpPr/>
          <p:nvPr/>
        </p:nvCxnSpPr>
        <p:spPr>
          <a:xfrm flipH="1" flipV="1">
            <a:off x="2124000" y="1773000"/>
            <a:ext cx="31788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" name="Прямоугольник 23"/>
          <p:cNvSpPr/>
          <p:nvPr/>
        </p:nvSpPr>
        <p:spPr>
          <a:xfrm>
            <a:off x="-20160" y="134136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Остров Капит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24"/>
          <p:cNvCxnSpPr/>
          <p:nvPr/>
        </p:nvCxnSpPr>
        <p:spPr>
          <a:xfrm>
            <a:off x="2555640" y="1557000"/>
            <a:ext cx="937080" cy="14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1:07:47Z</dcterms:created>
  <dc:creator>home</dc:creator>
  <dc:description/>
  <dc:language>en-US</dc:language>
  <cp:lastModifiedBy>Admin</cp:lastModifiedBy>
  <dcterms:modified xsi:type="dcterms:W3CDTF">2014-01-29T17:36:54Z</dcterms:modified>
  <cp:revision>86</cp:revision>
  <dc:subject/>
  <dc:title>Морское путешествие</dc:title>
</cp:coreProperties>
</file>