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3C9B-2AEA-453B-BB33-5B27A822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56EF-E213-4055-89FA-C6C9AE67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AE4-8323-433D-A559-E178CF2C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F575-D7C8-4D76-AB2F-A9944BAA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E22F-2D5E-4FFC-9712-E8D61842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96F2-9BFC-4CCB-AD51-676667D0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9AE6-AD23-4C12-8955-63A496CD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655C-16A2-499F-A9BA-F5E47A32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83E4-92A9-45E2-A6EF-A28FA4B4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579D-4320-4882-8C54-4D3511FB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97FF-E3E2-421F-B9BA-734D3F13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05FB-ECE4-4594-85FF-37780952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24A2-B4A0-4CAF-9E6F-4C3A73BF0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4876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38f"/>
                </a:solidFill>
                <a:latin typeface="Arial"/>
              </a:rPr>
              <a:t>Выполнил: ученик 3 «Г» класса Абдуллин Айна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838080" y="609480"/>
            <a:ext cx="7620120" cy="410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емля - уникальная планета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590920" y="525780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Наша Земля прекрасна. Космонавты говорят, что из космоса она выглядит как драгоценный камень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Уникальность  Земли состоит в том, что только на ней из всех планет Солнечной системы есть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Первая особенность, благодаря которой на Земле возможна жизнь – это </a:t>
            </a: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оптимальный температурный режим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Наша планета обладает атмосферой, которая отличается от атмосферы других планет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Только Земля обладает </a:t>
            </a:r>
            <a:r>
              <a:rPr b="0" i="1" lang="en-US" sz="2400" spc="-1" strike="noStrike">
                <a:solidFill>
                  <a:srgbClr val="cc00cc"/>
                </a:solidFill>
                <a:latin typeface="Arial"/>
              </a:rPr>
              <a:t>огромными запасами воды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. А ведь это удивительное вещество. Оно входит в состав всех живых организмов, выполняя самую разнообразную работу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бходимая для жизни вода перемещается в результате 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постоянного круговоро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Каждую секунду миллионы кубометров воды превращаются в пар. Поднимаясь в воздух, они образуют облака, которые вместе с воздушными потоками перемешаются на сотни километров, перенося с собой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живительную влаг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3591000" cy="3568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5181480" y="2590920"/>
            <a:ext cx="358164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Только наша планета имеет </a:t>
            </a: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почву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, этот верхний плодородный слой земли.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Почва содержит вещества, необходимые для роста и развития растений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. Зеленые растения соединяют питательные вещества и воду из почвы с углекислым газом из воз­духа и при участии солнечного света образуют вещества, необходимые для их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3-09-29T14:17:1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