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2FB-EDEB-4A3E-A49C-788BED9F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6B8-D523-4C21-80A7-561A407B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0D1-765C-4700-8DE9-9C84DCBE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72B-B5D2-48F3-80B8-26DAD41D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A75-6701-4072-8B79-6E33287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587-A2AA-4F3A-B639-EFAAFE2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370-5124-473C-A548-2502B4F2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CD1-0FC4-42B7-A848-DCAD0E8F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3DE-D344-44AF-AB43-75844B8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07F-CE58-40EE-B846-34C77D8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144-F4D7-4B6D-B541-3C007DA9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BD6-0097-4A9E-B7EA-DE3F59BD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9DC2-6017-4A9B-BBCF-D44E684E3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38f"/>
                </a:solidFill>
                <a:latin typeface="Arial"/>
              </a:rPr>
              <a:t>Выполнил: ученик 3 «Г» класса Абдуллин Айн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838080" y="609480"/>
            <a:ext cx="7620120" cy="410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 - уникальная планет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en-US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9-29T14:17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