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30F-ABC9-4A78-8039-285C56D2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097-C3D2-4B88-8548-3FA67441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600-B524-4941-99FC-7F26363A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18E-57A9-4D72-93DB-CDD55572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3CE-DA9A-49B6-A675-51D77D45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8C8-3057-4C89-B41E-777F7771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431-CCB4-40D4-869B-AD90702A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D04-568C-4E35-AB8C-606BDE4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FF6-66ED-4888-8D9E-C1015FB2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604-138D-41A1-9D86-48795CB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519-C8AE-45C6-9609-6C78AB9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F9C-DF06-4EE6-BC9C-1B38E12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F9B-3D54-4D72-923D-4E5F5CFD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ши зимни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живопись - жанровая картина, купить картину Рождественские колядки"/>
          <p:cNvPicPr/>
          <p:nvPr/>
        </p:nvPicPr>
        <p:blipFill>
          <a:blip r:embed="rId1"/>
          <a:stretch/>
        </p:blipFill>
        <p:spPr>
          <a:xfrm>
            <a:off x="380880" y="1295280"/>
            <a:ext cx="8572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пликация. Хокк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105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333399"/>
                </a:solidFill>
                <a:latin typeface="Blackadder ITC"/>
              </a:rPr>
              <a:t>Попробуй  нарисовать  любую зимнюю забаву или сделай аппликаци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15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20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48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39337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ы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191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29T14:30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