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6693-4D43-406A-AC75-A0526FC1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F10D-C5C0-463E-9A9E-7CEB164E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DFB-BEE4-4EF8-9E20-2BCB53CE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F093-0BB2-4F6E-AAE9-244FFC67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1EDE-86FC-430B-B392-1B2B99EA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967-E52D-4B38-8BD4-0426340D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6A1-51F8-457F-9E73-72D4F2EB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27E-F16C-4956-AA1B-15C982E7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E76-5EAE-41C3-92F9-7441C137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CA6-5F59-421B-B2AD-84FD0AA0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5F8-344B-4739-8A9E-6CB40F63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C725-10FC-4D09-85B9-4F79EF38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4DCC-6759-423B-BA5E-0ADF17BBA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Наши зимние заб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живопись - жанровая картина, купить картину Рождественские колядки"/>
          <p:cNvPicPr/>
          <p:nvPr/>
        </p:nvPicPr>
        <p:blipFill>
          <a:blip r:embed="rId1"/>
          <a:stretch/>
        </p:blipFill>
        <p:spPr>
          <a:xfrm>
            <a:off x="380880" y="1295280"/>
            <a:ext cx="85726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ппликация. Хокк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5105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333399"/>
                </a:solidFill>
                <a:latin typeface="Blackadder ITC"/>
              </a:rPr>
              <a:t>Попробуй  нарисовать  любую зимнюю забаву или сделай аппликацию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315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62320" y="533520"/>
            <a:ext cx="42004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248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393372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486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3911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010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ы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191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1-29T14:30:2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