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420-8612-4C40-A9D6-2305BE97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3D1-C6B8-4DE9-AB54-ECEA8F81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7161A-856D-4858-B9DF-D4714696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E6EB5-9AB1-4E43-A758-8B6234E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68CF4-71DF-4F13-AF80-45FAA351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47A15-BEEB-41F1-B6E4-B567B2AE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AB992-D9EA-4DB8-BC22-434D2AA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4D7F4-1A04-42F9-A243-E59F5AA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C0EC2-B96A-4A3E-83FE-9A4508D2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90EBF-65D1-443E-A750-9C9949C7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56314-9D59-47AA-82FE-70778C4E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3AA6F-B14C-4AF2-A406-B44E2019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BC6-2D16-4DF9-A41E-42C05307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E38ED-937E-4C92-AC75-97958557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83CFC-C3CE-4C55-ABB9-4FD80F6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B9C40-8272-4115-9FB4-A26C1833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1C5B0-C0BA-41E4-BC52-8CB37FD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F684-8ED8-4DC8-8EC4-2C8127DF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469F7-0E51-4DB7-A366-8306542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10AAB-EE8E-4D75-B6A3-652B757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DC1A9-5772-40A1-A53C-C9CD702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66C27-9214-4004-8F99-8840BB90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81688-5901-40AF-B749-CE69F4E4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A77-3317-46CF-A366-4F566CE7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7AC75-77AF-44EC-97A2-6AE346F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10584-172A-4609-9454-673620A5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8657A-A1ED-4F13-921F-2D2884F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D4B53-D707-4199-84E6-51F2DAF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080EE-372A-49E5-A750-F7D2C62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40FD-A3E1-44FC-AA2D-548833AA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FCC98-FBD3-4717-BAEC-1C4039F4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8B4F6-CE6F-4734-B565-E4DE9E8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C4A92-DABB-4B84-86C6-04BF3A7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9E6F0-9DC6-48B6-A1E3-DA5548C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A9A9D-3810-43C3-A5B6-7DD8BE3A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40579-5E50-4F29-B564-1F6A8FC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AB44D-F6DB-44A3-AECC-549B0C42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1A3F0-7E8B-4925-90BA-569B9E82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87F49-0CAE-44D1-A703-77FADF36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70D7C-236E-4620-A17C-444A7EAF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024F8-FCBD-4791-BC32-40ADF14A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CD9D4-DDD0-4D48-A2D4-7309D8C1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EE606-73FB-49FE-9CEF-C37FA84F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65C3D-7A2F-473B-8B9E-5F64131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44D8F-8F7B-442A-903B-4F52563D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1550B-694A-430C-AC5F-DC4A14D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0F2A8-6851-4C01-B39F-FB2FDAB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FD57F-7258-4BE3-8980-D377B22A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76E8B-B0BD-433C-9BEC-AD81B0A9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55404-C7BB-49EA-B408-CF180E74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83FB2-843C-4385-9477-3185D59B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1B013-305F-4A65-AF91-9E8C5BA4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EE9BA-816A-466C-9B3B-B9435FB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2D5CE-5C14-4248-85F1-47F8554B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2414B-09A1-4086-AFAE-CC328F6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013BE-5C8D-4C38-8AA9-5F75B19F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69FD-910F-47EB-99A4-C1EB607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810B4-4964-438A-90FC-C2247E1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375DF-73D4-48C5-8ED9-5C5218E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1B7AB-1F12-43BA-BA80-75237D5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AE8A3-65E8-4794-AF48-55B2BD10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FA192-365C-4CF6-B89B-891469A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3B9E7-AAB7-4680-9E58-57484B28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15FEB-8E77-4FD7-A6DD-F3ADC2C6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60AE2-09C7-40DC-9943-75A2CA00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A4DB4-38F3-452B-884B-268AE02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64F09-49E1-4924-BA24-06E52099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448CF-9B7E-4858-B211-90B79E5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37AD7-4985-435D-80A2-4957814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6B9E8-579F-40D6-9C48-D74B27F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21B4E-520B-4CE2-ACD5-BA24A03A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FC6B0-2088-4841-B052-2CAA9878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7C8DA-48F6-41FF-BC39-DD33ECC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55AF5-63D1-4DAE-88DC-BB11B98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05443-7FB2-4CD8-80EA-7E56A4D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F1518-9F3C-4947-BB2F-0C2E6255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02FED-00C5-439F-A2E2-A8B7908E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6D5B7-A0EC-45C3-A467-E409D8C8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9ADD5-297E-4F71-A9AB-9488605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7607E-168C-436A-857C-EECAC955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93944-72D8-4465-90BC-389FDE8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B60F3-8025-4A6B-A331-8922A61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EAED4-9F70-48F3-9BAA-02F7D244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E9E53-C56B-4C00-B3FE-39AE936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B4735-4057-4019-A783-E88C49C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C1CB8-8403-47AC-AFDD-2F14FE8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95C92-B7F1-4B6E-9146-B5677871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9524C-67C3-4571-ABE4-764840F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7456A-63C4-4875-8D5F-41A08A13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77C40-DDA0-4E5D-B675-2523E43E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7306C-AB4D-48FE-A51A-683C3001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B63AC-F8B2-4BCB-AFA6-F6B40C0D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29E18-EA49-442F-A9FC-AA7E454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25B0D-1BBC-4165-91DB-5086C7FB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3A84F-EBAD-4BA1-91D7-BD21A4DF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A6886-2126-458F-9FA2-7BC13D39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D9407-79D3-493C-807A-8412E5E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ADB3B-CE59-4ED6-BC33-A41F251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C0E41-4640-4EFB-876E-D6B0D84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215E2-E6FC-4064-8BB8-8554F69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E13FB-668E-46FD-9950-7C97360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29D6A-BA05-4471-9D50-492DEC6D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D56B4-559A-48D5-AA3A-9BA8E543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09E49-7D0B-4201-AB3D-2F4DFE3F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A965E-1B54-42F2-8C32-180730BF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6A2DA-2223-4C0A-A758-D364389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A54F2-F24F-45E2-AF66-3EEBB5A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997925-53D6-4CCB-99A8-F3A83A71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2E5C2-6835-44CA-87CC-914C6385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A06A6-6F50-497D-9BE3-D6BB101E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AE8FE-7625-43D5-937D-BF3B995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851-2999-49E8-831F-9BB42D1D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73C35-19A7-410F-A2B0-107DEF2A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6BCF7-F2E8-45D2-8F64-F857C0AB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76DCD-8D8F-4FFB-AE59-644A614F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97701-D335-4D61-8032-E5539F2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B6920-A4AB-4E5A-87F3-1531619C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0A364-8CEF-48F5-B4FE-1DAD0108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19F64-A692-4760-AEE6-78634892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E5509-66A5-4A89-819C-4030A02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8D10A-C7E8-438F-B015-DF06E37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2EC82-9C09-4F4D-AD18-050AFC6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C7CF2-A237-41CE-94EA-C18D6CC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EB26-1ED4-4146-864B-1C56DF3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4743C-1A1E-41FC-BFBF-F12AA1E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9820C-CADE-40C0-9776-FD4DD77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4FE54-1AED-4721-9B9C-2BBCE2CE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DF22F-2C7C-4695-B8CC-DF59BEF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1B400-2CA7-41D8-998B-CA79248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F8DF3-2D3E-40E0-AD7D-85DB39E8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24ED99-FBAB-4F5D-9813-AAC68EDD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719DE-C024-4AFD-9052-A4EF9395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2EE80-5D87-4D36-8A59-78F2094F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00CDA-2EED-4687-817D-F007F73C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82AE-03D9-49A9-ABB2-41E6CA57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CF42-354C-47BC-8F8A-21DA4AFE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C01D-1EC8-4F5D-98E4-81206B7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347F-C181-4025-B9CC-678B669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1D7D-1501-4D7B-829A-904DD912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5B-F068-497F-91AA-2B1656BA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98AE-6EDA-416F-8A1D-CFAC21BE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E312-226B-4C36-80A2-B5C84DB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725D-5569-4C1A-9A94-35D756C9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589B-B910-42FF-80A4-01F09242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0AED-F732-4552-8E3B-1F7A9C8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385F-D8E2-430B-95B0-CF9015C3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CD4D-5C17-413D-8E8F-6F5C875C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1C504-68AB-47D4-ACAF-F6D53D00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654D-1CFB-4F5C-8134-F50933A4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F2D6-C28F-4E56-BD08-8347E61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42E-CD8B-42DD-9337-E987E219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4915-2242-45E1-80D9-47892BA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227E-913E-400D-8932-5C0B4EE8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B3EB-571E-4B02-9D17-48FF3A05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27E8-4BEB-4991-BDF1-4CBA84C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C2BC-8A5B-4185-BBCF-9E0AC3F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E5E4-C87D-45D8-AAEB-9DD3134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4CDCC-9786-404E-BD2B-FB316B37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78EE-2281-4331-BA2D-F92F6E4C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968D-8FC3-46E6-B962-E712AAAE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3500-CD57-42B3-A5A6-23ED1607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194-6F34-4535-8E1D-ECEA88B2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9DCF-1F09-4EF5-AF0D-52EB1137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B645-AE0B-4B76-83AF-9FD03CFA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0DA4-9BA4-4592-86E3-14A5C3F4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47B7-DA67-4917-91AE-FE51E44F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B444-A5B1-4F6A-A51A-3CFEAB52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8B61-8E5B-416E-8426-9DD9DC9A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2362B-8C67-40BE-9104-B9BE8600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F504-23CD-4578-85C3-3E6D1E6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E0F0C-C6B2-414B-9D2A-1B57A08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2AB6C-52D8-4DA6-97F9-0E90E3CC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9B1-1C3F-42F0-A527-3EF7A5F3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73CE-03AC-47D6-8C17-341E6A99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35D5-F037-4F6A-A66A-D3CFE9B3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A9D1-7B51-4174-83B6-0DADD1E0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F076-3D0A-4000-876B-2900263F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1B20-9757-4AEA-92B2-12AA57BA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850F1-0A80-410F-9FD5-951C8D6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4116-3824-480B-8E24-BC0E122F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0B350-63BC-4B17-8F39-39436EC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8257D-2966-4AF2-8115-AC04D8A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8117A-C782-4217-9433-2BD607C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97B-3798-4ED3-8D73-ACAB313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1A9B-9B81-4A45-A5DA-916B495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3FFB-6BFE-4177-9BB7-6ED0E3AB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5E30-54AE-42AD-A1D0-96991868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25473-B7DF-4B51-B4B7-9CBCEE67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7253-469A-4FA4-B354-F42EC814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E4816-1D56-4170-BD28-6DBF965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EE5E4-0044-40B5-AC29-CAD728E4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80686-960F-4FD0-A1F8-82A4ACE1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8D71-0105-4A4E-896F-1AA15E3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F892-68A2-430C-8DBF-7BF5F8B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A7E-1170-481D-BF1D-60D3B79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1A11-A908-471D-B0FC-6ED3489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884C-E1B0-44D4-AE0E-BC7C0186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FEB4-CBAA-4E13-BA15-17B2956C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4B54-66EE-4040-B614-F05F1123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4EEB-985D-4BAB-A97D-247A771C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9667C-F2E4-47EB-8270-4851D3F1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965F-3A08-4722-8EEB-6990CD5F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185A0-BB3B-4956-BBBE-90A9CFF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7B430-36D5-440F-B8F0-E31AB07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1524E-C1D3-4C37-A8C8-01DF4DA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AD6-564D-425F-B128-E9E1834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3D7D-02E2-4AC9-86F3-E9FA9E6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5D7C5-4534-4747-85FE-EC10DF4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029B-4976-46CD-A79D-C203C29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687B-0565-46F6-AB59-D7EDD42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E57E5-E23C-4A4D-BF68-3D50F1AC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A2118-B45B-4207-982C-821CC7A3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B6169-DCFA-4456-8BBB-E4774712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1D383-D798-45C2-942A-04B91B6E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E0BCF-D6F1-4ECD-BD5D-C204068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6E39D-F675-49D0-B9D8-06F3F38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5F47-9778-416C-8BFB-232C2EDFB8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C0F8-822B-436D-9354-5847EDB17E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2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4E32-3D94-48B0-AA21-6222112CE1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8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61B-9EBE-4256-AF12-95F2F4DF48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52A-4BDA-42C1-96B9-691CB8EAD0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03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BB43-532C-48E0-9114-1C8EAB82DE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6DD-14EF-4C40-93E3-C7FFC9253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1108-F579-4077-A184-39A35768D3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4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828-592F-4CE7-9180-7F8D378C8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79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80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894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898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902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906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910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108C-6233-45D2-94F8-D3F92B54BEA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FD6-64D5-4EF3-9999-AB601F22D2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DDB6-D2D1-4335-A801-4FABBB4E97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7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5ECE-A305-4794-B542-77BECA81AC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18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C0F-4D48-4A71-8888-4D9DC2F1F8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A0E3-23BE-4373-8EB4-CB8AAFFCC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68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79A-E378-4288-83BB-4928D08E67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311-404D-4174-9A94-5640E098C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95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9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0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408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41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1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20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E26-1A65-4D36-8BB0-AD21EF5E5D2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WordArt 4"/>
          <p:cNvSpPr txBox="1"/>
          <p:nvPr/>
        </p:nvSpPr>
        <p:spPr>
          <a:xfrm>
            <a:off x="685800" y="1523880"/>
            <a:ext cx="7348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модернизм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2" name="Text Box 5"/>
          <p:cNvSpPr/>
          <p:nvPr/>
        </p:nvSpPr>
        <p:spPr>
          <a:xfrm>
            <a:off x="3581280" y="3962520"/>
            <a:ext cx="4648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Презентацию выполнил ученик 11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Б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 класса: Тимофеев Иго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-2057760" y="837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WordArt 9"/>
          <p:cNvSpPr txBox="1"/>
          <p:nvPr/>
        </p:nvSpPr>
        <p:spPr>
          <a:xfrm rot="5400000">
            <a:off x="-2143080" y="2905200"/>
            <a:ext cx="640080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Интерьер постмодерн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2" name="Picture 10" descr="3"/>
          <p:cNvPicPr/>
          <p:nvPr/>
        </p:nvPicPr>
        <p:blipFill>
          <a:blip r:embed="rId1"/>
          <a:stretch/>
        </p:blipFill>
        <p:spPr>
          <a:xfrm>
            <a:off x="2428920" y="380880"/>
            <a:ext cx="2193840" cy="281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1" descr="0_1624_a2eab4c2_L"/>
          <p:cNvPicPr/>
          <p:nvPr/>
        </p:nvPicPr>
        <p:blipFill>
          <a:blip r:embed="rId2"/>
          <a:stretch/>
        </p:blipFill>
        <p:spPr>
          <a:xfrm>
            <a:off x="5334120" y="3808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6" descr="extra-image-566"/>
          <p:cNvPicPr/>
          <p:nvPr/>
        </p:nvPicPr>
        <p:blipFill>
          <a:blip r:embed="rId3"/>
          <a:stretch/>
        </p:blipFill>
        <p:spPr>
          <a:xfrm>
            <a:off x="1905120" y="3505320"/>
            <a:ext cx="2730240" cy="27432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7" descr="NEO_20"/>
          <p:cNvPicPr/>
          <p:nvPr/>
        </p:nvPicPr>
        <p:blipFill>
          <a:blip r:embed="rId4"/>
          <a:stretch/>
        </p:blipFill>
        <p:spPr>
          <a:xfrm>
            <a:off x="5334120" y="350532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  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stmodernism was the first ( and last ) direction of the twentieth century, which has openly admitted that the text does not display reality, and creates a new reality , or rather even many realities are often not independent of each other . For any story , in accordance with the understanding of postmodernism - is the story of creation and interpretation of the text . Whence, then, take the reality ? Reality is not there. If anything , there is a variety of virtual reality - no wonder blossomed in the era of postmodernism personal computers, mass video , the Internet, through which now not only rewritten and conduct scientific conference, but even engaged in a virtual love. Because the reality is no more, postmodernism thus destroyed the most important opposition to classical modernism - neomifologicheskuyu opposition between text and reality, making it unnecessary to search for , and usually painful search for the boundaries between them . Now search for discontinued : Reality finally discovered, there is only text. However, some argue that the era of postmodernism is over and we are living in a new cultural era , but what is its essence , we can not yet articul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 u="sng">
                <a:solidFill>
                  <a:srgbClr val="9900ff"/>
                </a:solidFill>
                <a:uFillTx/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9900ff"/>
                </a:solidFill>
                <a:uFillTx/>
                <a:latin typeface="Verdana"/>
              </a:rPr>
              <a:t>The emergence of</a:t>
            </a:r>
            <a:r>
              <a:rPr b="1" i="1" lang="ru-RU" sz="3200" spc="-1" strike="noStrike" u="sng">
                <a:solidFill>
                  <a:srgbClr val="9900ff"/>
                </a:solidFill>
                <a:uFillTx/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9900ff"/>
                </a:solidFill>
                <a:uFillTx/>
                <a:latin typeface="Verdana"/>
              </a:rPr>
              <a:t>postmodern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660066"/>
                </a:solidFill>
                <a:latin typeface="Verdana"/>
              </a:rPr>
              <a:t>The emergence of postmodernism can be dated from the time of the postwar boom in the United States (from the late 1940s - early 1950s . ) , And in France - with the establishment of the Fifth Republic ( 1958 ) . The concept of "postmodernism" in the sense approximate to today and traded in 1946, Arnold Toynbee . German philosopher Wolfgang Welsch, exploring the genealogy of the concept notes and other instances of its use : in 1917 in the book Rudolf Pannvittsa "The crisis of European culture ", which refers to " postmodern man ", in 1934 the Spanish literary critic Federico de Onis , where postmodernism is seen as a transitional phase in the development of literature (1905-1914) between modernism and so-called " ultramodernizmom ." All these cases show the ambiguity of interpretations of this concept , because we are talking about different periods and characterization of heterogeneous phenomena , and only over time it begins to acquire clearer shape, acquiring a fixed mean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10"/>
          <p:cNvSpPr/>
          <p:nvPr/>
        </p:nvSpPr>
        <p:spPr>
          <a:xfrm>
            <a:off x="380880" y="685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ostmodernism is more a state of mind, intellectual style. Postmodernism as the type of mentality - it hyperreflexia, which arose under the religious and philosophical vacuum discredit ideological concepts, total relativism, overproduction of immediate consumption items. Postmodernism as a creative setting is maximum intellectual game, heuristic, reflexive, destructive and least semantic, ethical, aesthetic, constru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12" descr="цепь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4"/>
          <p:cNvSpPr/>
          <p:nvPr/>
        </p:nvSpPr>
        <p:spPr>
          <a:xfrm>
            <a:off x="609480" y="533520"/>
            <a:ext cx="72392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Arial"/>
              </a:rPr>
              <a:t>Postmodernism means "after modernism ", continuity and shows a definite relation to contemporary trends in culture. For postmodernism evolved in the late 60s , in an era of cultural crisis in the United States . Overall , postmodernism - an expression of ideology , the transition to a new round in the culture , the blurring of boundaries , borders between forms of cultural activity. In the era of postmodernism occurs eclectic integration is not the arts and the arts and sciences , philosophy, religion . All this reminds return to syncretism , but at a higher level of worldview . Postmodernism deprived desire to study the underlying issues and processes of life, he strives for simplicity and clarity, to reconcile cultural epochs . A final word of his postmodernism has not sai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762120" y="533520"/>
            <a:ext cx="76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ostmodernism emerged in the mid 50s . 20th century in the United States as an artistic phenomenon in the field of architecture, sculpture and painting. Then came the literary and musical forms of postmodernism , including in Europe , primarily in France. Postmodernism as an artistic style is characterized by such features as a conscious focus on eclecticism , mosaic , irony , play style , burlesque rethinking traditions rejection division art on elite and mass , overcoming the boundaries between art and everyday life 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3300" spc="-1" strike="noStrike">
                <a:solidFill>
                  <a:srgbClr val="ff3300"/>
                </a:solidFill>
                <a:latin typeface="Arial Black"/>
              </a:rPr>
              <a:t>Differences of postmodernism</a:t>
            </a:r>
            <a:r>
              <a:rPr b="1" i="1" lang="ru-RU" sz="33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i="1" lang="en-US" sz="3300" spc="-1" strike="noStrike">
                <a:solidFill>
                  <a:srgbClr val="ff3300"/>
                </a:solidFill>
                <a:latin typeface="Arial Black"/>
              </a:rPr>
              <a:t> modernis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difference with modernity is that postmodern one abandoned modernism - in a paradoxical communication exclusivity ahead . Secondly, the fact that modernity was achieved only in specific areas , he carried up to everyday life. Instead of opposing the wrong now is the difference , the next pair of categorical " esoteric - exoteric " : postmodern implements in breadth reality ( exoteric - Externalizing ) that in modernity was tested primarily specifically ( esoteric - inwardly directed ) . He is the exoteric form once daily esoteric moder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Postmodernism in philosoph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3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philosophy of postmodernism celebrated its convergence is not science , and the arts . Thus philosophical thought is not only in the area of ​​marginality in relation to science , but also in a state of chaos individualistic concepts, approaches , types of reflection, which is observed in the artistic culture of the late twentieth century. True ideal postmodernists - this chaos called haosmosom Deleuze , the initial state is not ordering , the state is not chained opportunities. In the world reigns two principles : the beginning of schizoid and paranoid creative formation start suffocating order. While postmodernists argue the idea of ​​" death of the author " , followed by Foucault and Barthes . Any semblance of order needs immediate deconstruction - liberation meaning by inverting the basic ideological concepts that permeated the entire 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WordArt 5"/>
          <p:cNvSpPr txBox="1"/>
          <p:nvPr/>
        </p:nvSpPr>
        <p:spPr>
          <a:xfrm rot="5400000">
            <a:off x="5338440" y="3195720"/>
            <a:ext cx="640080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рхитектура постмодерн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4" descr="20_2"/>
          <p:cNvPicPr/>
          <p:nvPr/>
        </p:nvPicPr>
        <p:blipFill>
          <a:blip r:embed="rId1"/>
          <a:stretch/>
        </p:blipFill>
        <p:spPr>
          <a:xfrm>
            <a:off x="1600200" y="457200"/>
            <a:ext cx="3032280" cy="22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5" descr="800px-Sydney_Opera_House_Sails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22176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x4"/>
          <p:cNvPicPr/>
          <p:nvPr/>
        </p:nvPicPr>
        <p:blipFill>
          <a:blip r:embed="rId3"/>
          <a:stretch/>
        </p:blipFill>
        <p:spPr>
          <a:xfrm>
            <a:off x="990720" y="3124080"/>
            <a:ext cx="2514600" cy="33530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7" descr="x93"/>
          <p:cNvPicPr/>
          <p:nvPr/>
        </p:nvPicPr>
        <p:blipFill>
          <a:blip r:embed="rId4"/>
          <a:stretch/>
        </p:blipFill>
        <p:spPr>
          <a:xfrm>
            <a:off x="4572000" y="4038480"/>
            <a:ext cx="33526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9" descr="дэвид салле"/>
          <p:cNvPicPr/>
          <p:nvPr/>
        </p:nvPicPr>
        <p:blipFill>
          <a:blip r:embed="rId1"/>
          <a:stretch/>
        </p:blipFill>
        <p:spPr>
          <a:xfrm>
            <a:off x="1523880" y="1371600"/>
            <a:ext cx="2733840" cy="1981080"/>
          </a:xfrm>
          <a:prstGeom prst="rect">
            <a:avLst/>
          </a:prstGeom>
          <a:ln w="0">
            <a:noFill/>
          </a:ln>
        </p:spPr>
      </p:pic>
      <p:sp>
        <p:nvSpPr>
          <p:cNvPr id="981" name="Text Box 10"/>
          <p:cNvSpPr/>
          <p:nvPr/>
        </p:nvSpPr>
        <p:spPr>
          <a:xfrm>
            <a:off x="1600200" y="335268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эвид Салле.Ангелы под дождем. 1998, масло и акрил по холсту, 244 x 335 c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2" descr="clem"/>
          <p:cNvPicPr/>
          <p:nvPr/>
        </p:nvPicPr>
        <p:blipFill>
          <a:blip r:embed="rId2"/>
          <a:stretch/>
        </p:blipFill>
        <p:spPr>
          <a:xfrm>
            <a:off x="1447920" y="4191120"/>
            <a:ext cx="2830320" cy="198108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13"/>
          <p:cNvSpPr/>
          <p:nvPr/>
        </p:nvSpPr>
        <p:spPr>
          <a:xfrm>
            <a:off x="1600200" y="621828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mente, Francesco. Atlas. Watercolor on Arches paper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15" descr="09"/>
          <p:cNvPicPr/>
          <p:nvPr/>
        </p:nvPicPr>
        <p:blipFill>
          <a:blip r:embed="rId3"/>
          <a:stretch/>
        </p:blipFill>
        <p:spPr>
          <a:xfrm>
            <a:off x="5181480" y="990720"/>
            <a:ext cx="1866960" cy="251460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16"/>
          <p:cNvSpPr/>
          <p:nvPr/>
        </p:nvSpPr>
        <p:spPr>
          <a:xfrm>
            <a:off x="5029200" y="3505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шко Е. В. «Мотыль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WordArt 17"/>
          <p:cNvSpPr txBox="1"/>
          <p:nvPr/>
        </p:nvSpPr>
        <p:spPr>
          <a:xfrm rot="5400000">
            <a:off x="5247720" y="2981160"/>
            <a:ext cx="6400800" cy="104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Живопись постмодернизм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7" name="Picture 18" descr="larionova_02"/>
          <p:cNvPicPr/>
          <p:nvPr/>
        </p:nvPicPr>
        <p:blipFill>
          <a:blip r:embed="rId4"/>
          <a:stretch/>
        </p:blipFill>
        <p:spPr>
          <a:xfrm>
            <a:off x="5257800" y="3962520"/>
            <a:ext cx="2077920" cy="23619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19"/>
          <p:cNvSpPr/>
          <p:nvPr/>
        </p:nvSpPr>
        <p:spPr>
          <a:xfrm>
            <a:off x="5410080" y="6400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онова Оль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лнечная девуш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WordArt 20"/>
          <p:cNvSpPr txBox="1"/>
          <p:nvPr/>
        </p:nvSpPr>
        <p:spPr>
          <a:xfrm rot="5400000">
            <a:off x="-2476800" y="293364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Живопись постмодернизм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11T15:41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