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D86-227F-45FA-85E6-69A0FEEC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264-5D65-4700-80D8-90B466F4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A62C0-2995-4A13-9047-65BBC2D4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07E82-42F9-4EB7-AC6C-2B66C08E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654CF-8069-4711-B329-345762EE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8CEAD-AD0F-48CE-B8FE-F5664058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3372D-343F-407A-A235-36B0907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A3ABB-5FC6-4F02-84A1-0CE388E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F6991-1109-4404-B814-F201C9B5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2655C-A358-48C7-9B3A-F4681F9C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A2AF0-C31A-4AE4-AF66-9A4F349A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57A05-65EA-4D56-B09A-2A267A51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514-2078-42DE-BD9E-549C05D6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79332-96F0-425B-B658-94BF9552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CBB46-1180-4271-A784-6EE90682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645F4-3B15-4F33-BDA8-A860EFBA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F3DBB-7EEB-4493-8A12-37448AD2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E41AF-4636-43E5-8EA6-969BCF69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10515-E9BF-4048-991E-B6A6AF8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060EB-2617-4A68-BFAF-724461F8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581E1-8D01-41EF-A5C9-782ADBFA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609BF-6B6C-4901-B3A0-64D84B73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17D1E-F046-488C-A66E-70F329FD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709-C221-4F23-9246-CEFAE01D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CF172-F7EC-4E2D-AD3C-6FAF4F1D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3E116-CB2C-4A2F-B1A6-C4EB21BA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1CAA8-0501-4621-9CD9-AB8AD2EF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FFEC8-5844-47CF-B05F-8DB70AB4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CA80C-2375-4CAA-BBA7-3C5FFAB6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22B54-C831-4DBB-A325-552BCD4D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8DCC9-A10C-4AED-BAAD-91A55D00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86B91-F671-4882-8AE9-47DBA168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2C12C-A246-42F1-919B-335DF6F9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DED3D-E2C1-4A23-9D3C-E9869319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175F5-C850-44E9-9A94-27386514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1EFA3-5494-4349-8642-85ED2CBE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2FF22-21F7-4203-ADEF-57481737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99660-210A-41F5-BD6B-1FA3245B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090FF-65AF-454F-8F84-3EAA93DD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84064-606F-4939-A65D-0B0D9BD7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AD3BE-A922-4FE0-88E3-CF00EC49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E8EEA-C150-4359-A955-AB8D9043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B4B1B-4373-4933-B1DD-4252F693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F61D7-3192-40B3-995A-F969E5AF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C1AEE-013F-446A-8F00-6F6E95C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F71C4-F53F-4600-B038-DD9D975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AAA40-98C0-4CCB-9268-E35A480B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04435-FA67-475C-ADE0-FFB9EA96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8271D-D890-4398-B53B-8AC45203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A8035-765F-4D24-9D04-94844762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AF0D1-C71C-4803-B19D-87207592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58556-5A7C-4336-9F16-4D92031F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DCA47-F09B-44F3-93EF-16AB1516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078A7-AE28-418E-A2D4-D286A5DA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B4644-A75D-49EB-837F-E5DAB3DD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7F235-0E37-414E-9036-0365E084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168FA-7ABF-4FD3-BD1E-7A575AF2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338B6-6409-42B9-9C8D-D2E3339E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959FE-32DA-437E-AA9D-0D72DE16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055D8-8981-4159-AAC1-A58D644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A1A74-9D35-4822-9C78-F7219868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BE490-ADA7-43A3-86BB-5383F430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F4BC1-93D6-43E3-81BE-3A5CE2D0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AA81A-D8E2-4C32-880E-6F932DBD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474AA-2F4A-44A4-AF5E-E68372EE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DD6DF-E538-497C-87D3-5D46C364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CD49A-866E-493D-9420-E01A7216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00DE4-EFEC-4ED2-8CB6-D36A9AA5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2F2D1-F32C-47FC-904C-CCA0305A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F73D1-E4B3-45A5-9F0F-B3B117DB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1DE35E-8DFD-458E-8F79-56AB06D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A7284-FCA4-4EEE-970C-1F40CB49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98FDC-036C-4F2E-AB99-EDCCE190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FDD9E-A733-4F7E-A70D-F06A2282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2A853-015A-4B89-BB80-BF70F5ED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290A8-B59E-4387-975B-35384C46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7FD57-310C-4B59-B1EE-24682A3A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37D16-9F7B-4969-99C0-B3039899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AC4C4-C252-4D8B-B3D4-1018D9CB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6F824-C2C0-43BF-9B0C-538AA902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0329C-CD64-4B96-A654-D1736A18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EE8E2-5E86-4072-B694-182E64BA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9FF41-E9A2-446A-BF95-89FB6734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56181-389E-41C6-833E-FC0A730E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60C11-900B-4799-95AF-7D6A2329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4BCF4-2AEC-4932-AC23-1097BF90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A4E50-962B-423B-B225-2A9523B8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63E84-5322-4578-A1FC-0B3EC15F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0EB68-3A48-4336-B946-2D5E2326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E80FF-AA7F-42D6-A4E2-BECA128E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6C30B-449B-456D-8EE0-910047F6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C9695-15C5-4844-9077-7C57DD60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88316-9C4F-46F0-95F8-70108C96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8A96A-A00B-4E2D-A3D2-C10B4BE7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AAEEFB-96C9-4826-8F19-132B3D5B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53D3D-4F42-40B8-9B13-262A71FD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2F80A-5847-4820-9362-E11AADB0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A1E2B-2F38-4F58-8029-EFF4E4B5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8448F-7225-46DD-B3EF-502E3734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A2133-9F38-4123-AE41-58338078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78959-53C9-4263-82A3-43B51DF7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99EAE-7DF9-40FC-8890-4972D52D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7324F-7AE2-4DDE-86CC-58A71766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8B93D-AD59-4DF5-B3E7-46EF7D20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29C35-984A-4859-97F1-1F66DFD4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9D355-9F81-426B-BD1B-E8672652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11B1E6-AAC1-4A28-A6CA-C5F91716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F99F9-D817-491D-BFEB-9932EFC1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4AB7B-9AA4-4B43-8CB8-FCF7EF5E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8D2D59-7878-4880-BC0F-287D1149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83EAC-8CA8-4B64-89CB-F03EFB7F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6EC-CCFA-4C5B-BA56-C05AC85F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232E3-E967-4A0B-A4FA-588CCF39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0F490-E3F1-4B03-8CA0-4FA0A3D5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0BBA4-FB8D-4C05-99BD-F6178E14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B44C7-2810-402C-AADE-1A9274D6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6364F-731F-4595-93AA-BFD18BB4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46448-ABF7-4F88-840A-53B5CF8D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9BA3C6-CAD5-4297-B706-16A3C8CD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158FE-3C79-4178-A230-59C6370F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6D7D3-A7B6-4784-B666-D2CA1C33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78524-E60C-46EE-8F37-7CE23E11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981641-56C1-43B6-B601-D9166671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B70A8-5D7B-4183-AA10-0FB20157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DC508A-32D9-451E-9134-FFF44287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29B0B-4C09-4E90-AE3A-7C16EB0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02755F-068C-4F44-92A1-4E3BC177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91AFB-9310-46DF-988E-8A2F469F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3228D-4866-4F40-92E7-0EC0D983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6D629-89AD-4A19-96D9-FEF32636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6CB15-D17A-41F8-AFA3-9B0C0E0F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E6296-D65F-476B-B7CD-4F761FD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E17C5-A2A7-4145-A4A8-640977BD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6AB39-488D-4511-B563-3FDCBD45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0755-A8FB-4A0A-8DC3-33613AD6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36C7-616F-4A3B-B59B-E90C0546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EBC2-ABD3-4A19-AC85-F39AF3AC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D713-8F16-4763-AE31-9647920E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DAA9-CC05-4580-9FBB-8299CA3F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F0F-3867-424D-A1D5-EB863FD5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42342-0679-4982-9292-D56CAA20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ABB0-194E-447E-A999-1704EF5A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915E-4EFE-4FA7-82FB-92AFE35E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BE5E-7429-4486-9157-2DFB1A30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18BBD-BF2D-4236-8944-76C061C5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0746-38F6-4A94-B341-123D2ABF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1C9E-B113-426A-92DA-DE189E0D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CD19E-2A2A-41C7-988A-EB5FFC4F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6CDBB-25BA-44DB-9AE4-5EA9B56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8DB9-6A5B-4310-80DA-7E0E46E3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193-8A12-4CA3-9703-3FCF2AEA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75B86-8EF4-4162-9D08-2BE61A8A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D3F98-C2AA-4827-8D88-120D5C01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EB2C-4F0D-4878-9B8D-58597687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EE2A-5887-4333-90A5-009DD3D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D4D7-ECB5-47BF-A98C-BEA1A973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9D6B-5D8D-40E3-9B61-BBF7A369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D7700-ADE3-4B2D-8713-A0CF49C3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C7518-70F5-4A23-BBCA-0039A483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ABCB-1FE9-4A1F-8467-86A59B7A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9C6C0-1FA2-4FE3-99F6-3B2286BE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BE7-9870-4695-8C76-1E4AED3E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976B0-6834-46BA-A927-2516D876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FB31-C33D-44EE-A1AC-5F5542C3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4FFDC-9517-4842-BB3D-505C7182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E81EB-6C50-4CAA-BAAA-7AC48C3A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AB39-6D54-4861-A500-788124CF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8C338-EE3A-4BBC-B1D4-51F65224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F9F79-7826-4608-B1B8-C272A47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CBB4A-2AF2-49BB-BC65-B6AD6EAA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69E0B-F408-499C-BD86-C4C2EBAF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38C3D-6546-466E-AE70-F946382B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76A-485B-45BA-B2B9-1CD112A4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52FF0-62F0-4DB6-AAA4-2909A7B4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430B1-F6AD-4B08-948D-BDA52A9D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48ECC-5CB6-4BBF-99D5-438AD45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0ADC3-226F-4D82-8588-C89613F8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E0972-B089-4C5C-8444-5EF03977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17C8E-7D6A-47AF-8B25-D5DB83F7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46EC7-E24F-4E1D-9B4C-7B791745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484ED-5BF7-4AC0-B3C7-D7358968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AC35-62BF-416A-840B-69400F18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07FB6-C215-430C-8DC5-166C9FB5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614-B093-4641-88DE-1C52DF29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E6E70-5A74-4B9B-AC02-54DE06D1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4C93-4F9A-4913-9450-EDE0FD89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04112-7DBD-4D2C-85F5-FA4C4F06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2931C-347B-465B-9078-CF71EB53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63776-0E34-49AC-B95B-4B9D4988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65120-C221-487C-80B9-4FA9AD39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1477-8807-4E21-9019-FB4FBB39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625EE-F95B-4837-9FD5-65CDA6C9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245C7-2E38-4B50-BFE4-08A42AED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97EA5-7CE0-416D-B290-35894156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FB7-1AB2-432D-BA7A-B68A96BA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722FE-40DB-4408-BD58-8FF0E139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EE420-CAF8-4968-82DB-FA7BC0E0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65A07-DE7F-4B10-8FD2-97AB2415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FE508-1C44-41AC-823B-C43A3CA3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4753F-8E06-41F5-98A2-C110DF60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220B2-8ACC-4E49-986E-177CEF0A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51A64-44BC-488E-BAF7-B0380AE5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37548-4067-4A70-925B-4256BA9F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5D81F-E3F0-434A-9E7A-76EEE861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225FD-82AF-4DC6-BA61-E4D5B31F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68A-C866-4D0E-9BFB-350DE72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76336-3A6E-4CF3-A9CD-2A3C88A3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BAA3C-0B1B-4086-86BB-9DCAF201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3BA81-DC87-456D-89B4-5F30FB2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3D490-98C8-470C-A9D9-765E4318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FD6F9-47B8-4D65-9878-43DDC08E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35C7F-2402-41F5-8E05-B49EF3FA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158B1-8194-4A72-82F2-C2E84C69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E9329-9213-49DE-BA65-C95C2741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0417F-0524-4302-A262-55F89360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6B8D1-76A9-4789-B564-AB4B20C1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EBC7-CF3B-4FC1-A3DF-EA3940B556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B7ED-1F0F-44B1-8F79-ED4C48A9F5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27F8-C0CB-4068-A08D-496E96688E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8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CDE3-7B9C-4ECB-8ACA-6BA528316C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5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983B-20B8-45E7-ADC4-FFC2F5BE5D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03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25EC-66BC-4C73-8C78-81675336D7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4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4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C625-5032-4A35-9D57-D8D64AD56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C619-C751-47EA-9F8D-0E6F245E37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49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0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51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B7A-79DE-47EF-A7DB-F78B3282B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79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80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89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898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902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906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910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014A-0057-47B7-BCEA-7B54E213E1F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5AF9-D572-4989-A022-1A3BDA4647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43C-09D8-402B-BD1F-07AA8D158B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20A-5A4F-4078-A666-68F3B7F2AF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18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230A-9984-42AD-871B-5FC1D18876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9EA3-CF0E-4B7B-B2D8-E0D5CBDE2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68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8049-CD25-45EE-BF62-62A44E546E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5FA4-F807-4CF8-B2B2-2461C779B1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95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9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0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408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41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1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20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E65F-84A1-4611-BBC1-38E3721DE60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WordArt 4"/>
          <p:cNvSpPr txBox="1"/>
          <p:nvPr/>
        </p:nvSpPr>
        <p:spPr>
          <a:xfrm>
            <a:off x="685800" y="1523880"/>
            <a:ext cx="7348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модернизм</a:t>
            </a:r>
            <a:endParaRPr b="1" i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2" name="Text Box 5"/>
          <p:cNvSpPr/>
          <p:nvPr/>
        </p:nvSpPr>
        <p:spPr>
          <a:xfrm>
            <a:off x="3581280" y="396252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Презентацию выполнил ученик 11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Б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 класса: Тимофеев Иго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-2057760" y="837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WordArt 9"/>
          <p:cNvSpPr txBox="1"/>
          <p:nvPr/>
        </p:nvSpPr>
        <p:spPr>
          <a:xfrm rot="5400000">
            <a:off x="-2143080" y="2905200"/>
            <a:ext cx="6400800" cy="1047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Интерьер постмодерна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2" name="Picture 10" descr="3"/>
          <p:cNvPicPr/>
          <p:nvPr/>
        </p:nvPicPr>
        <p:blipFill>
          <a:blip r:embed="rId1"/>
          <a:stretch/>
        </p:blipFill>
        <p:spPr>
          <a:xfrm>
            <a:off x="2428920" y="380880"/>
            <a:ext cx="2193840" cy="28195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1" descr="0_1624_a2eab4c2_L"/>
          <p:cNvPicPr/>
          <p:nvPr/>
        </p:nvPicPr>
        <p:blipFill>
          <a:blip r:embed="rId2"/>
          <a:stretch/>
        </p:blipFill>
        <p:spPr>
          <a:xfrm>
            <a:off x="5334120" y="38088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6" descr="extra-image-566"/>
          <p:cNvPicPr/>
          <p:nvPr/>
        </p:nvPicPr>
        <p:blipFill>
          <a:blip r:embed="rId3"/>
          <a:stretch/>
        </p:blipFill>
        <p:spPr>
          <a:xfrm>
            <a:off x="1905120" y="3505320"/>
            <a:ext cx="2730240" cy="274320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7" descr="NEO_20"/>
          <p:cNvPicPr/>
          <p:nvPr/>
        </p:nvPicPr>
        <p:blipFill>
          <a:blip r:embed="rId4"/>
          <a:stretch/>
        </p:blipFill>
        <p:spPr>
          <a:xfrm>
            <a:off x="5334120" y="3505320"/>
            <a:ext cx="312408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  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stmodernism was the first ( and last ) direction of the twentieth century, which has openly admitted that the text does not display reality, and creates a new reality , or rather even many realities are often not independent of each other . For any story , in accordance with the understanding of postmodernism - is the story of creation and interpretation of the text . Whence, then, take the reality ? Reality is not there. If anything , there is a variety of virtual reality - no wonder blossomed in the era of postmodernism personal computers, mass video , the Internet, through which now not only rewritten and conduct scientific conference, but even engaged in a virtual love. Because the reality is no more, postmodernism thus destroyed the most important opposition to classical modernism - neomifologicheskuyu opposition between text and reality, making it unnecessary to search for , and usually painful search for the boundaries between them . Now search for discontinued : Reality finally discovered, there is only text. However, some argue that the era of postmodernism is over and we are living in a new cultural era , but what is its essence , we can not yet articul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 u="sng">
                <a:solidFill>
                  <a:srgbClr val="9900ff"/>
                </a:solidFill>
                <a:uFillTx/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9900ff"/>
                </a:solidFill>
                <a:uFillTx/>
                <a:latin typeface="Verdana"/>
              </a:rPr>
              <a:t>The emergence of</a:t>
            </a:r>
            <a:r>
              <a:rPr b="1" i="1" lang="ru-RU" sz="3200" spc="-1" strike="noStrike" u="sng">
                <a:solidFill>
                  <a:srgbClr val="9900ff"/>
                </a:solidFill>
                <a:uFillTx/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9900ff"/>
                </a:solidFill>
                <a:uFillTx/>
                <a:latin typeface="Verdana"/>
              </a:rPr>
              <a:t>postmodern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660066"/>
                </a:solidFill>
                <a:latin typeface="Verdana"/>
              </a:rPr>
              <a:t>The emergence of postmodernism can be dated from the time of the postwar boom in the United States (from the late 1940s - early 1950s . ) , And in France - with the establishment of the Fifth Republic ( 1958 ) . The concept of "postmodernism" in the sense approximate to today and traded in 1946, Arnold Toynbee . German philosopher Wolfgang Welsch, exploring the genealogy of the concept notes and other instances of its use : in 1917 in the book Rudolf Pannvittsa "The crisis of European culture ", which refers to " postmodern man ", in 1934 the Spanish literary critic Federico de Onis , where postmodernism is seen as a transitional phase in the development of literature (1905-1914) between modernism and so-called " ultramodernizmom ." All these cases show the ambiguity of interpretations of this concept , because we are talking about different periods and characterization of heterogeneous phenomena , and only over time it begins to acquire clearer shape, acquiring a fixed mean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10"/>
          <p:cNvSpPr/>
          <p:nvPr/>
        </p:nvSpPr>
        <p:spPr>
          <a:xfrm>
            <a:off x="380880" y="6858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ostmodernism is more a state of mind, intellectual style. Postmodernism as the type of mentality - it hyperreflexia, which arose under the religious and philosophical vacuum discredit ideological concepts, total relativism, overproduction of immediate consumption items. Postmodernism as a creative setting is maximum intellectual game, heuristic, reflexive, destructive and least semantic, ethical, aesthetic, constru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Picture 12" descr="цепь"/>
          <p:cNvPicPr/>
          <p:nvPr/>
        </p:nvPicPr>
        <p:blipFill>
          <a:blip r:embed="rId1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4"/>
          <p:cNvSpPr/>
          <p:nvPr/>
        </p:nvSpPr>
        <p:spPr>
          <a:xfrm>
            <a:off x="609480" y="533520"/>
            <a:ext cx="72392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3300"/>
                </a:solidFill>
                <a:latin typeface="Arial"/>
              </a:rPr>
              <a:t>Postmodernism means "after modernism ", continuity and shows a definite relation to contemporary trends in culture. For postmodernism evolved in the late 60s , in an era of cultural crisis in the United States . Overall , postmodernism - an expression of ideology , the transition to a new round in the culture , the blurring of boundaries , borders between forms of cultural activity. In the era of postmodernism occurs eclectic integration is not the arts and the arts and sciences , philosophy, religion . All this reminds return to syncretism , but at a higher level of worldview . Postmodernism deprived desire to study the underlying issues and processes of life, he strives for simplicity and clarity, to reconcile cultural epochs . A final word of his postmodernism has not sai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762120" y="533520"/>
            <a:ext cx="761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ostmodernism emerged in the mid 50s . 20th century in the United States as an artistic phenomenon in the field of architecture, sculpture and painting. Then came the literary and musical forms of postmodernism , including in Europe , primarily in France. Postmodernism as an artistic style is characterized by such features as a conscious focus on eclecticism , mosaic , irony , play style , burlesque rethinking traditions rejection division art on elite and mass , overcoming the boundaries between art and everyday life 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3300" spc="-1" strike="noStrike">
                <a:solidFill>
                  <a:srgbClr val="ff3300"/>
                </a:solidFill>
                <a:latin typeface="Arial Black"/>
              </a:rPr>
              <a:t>Differences of postmodernism</a:t>
            </a:r>
            <a:r>
              <a:rPr b="1" i="1" lang="ru-RU" sz="33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3300" spc="-1" strike="noStrike">
                <a:solidFill>
                  <a:srgbClr val="ff3300"/>
                </a:solidFill>
                <a:latin typeface="Arial Black"/>
              </a:rPr>
              <a:t> modernis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difference with modernity is that postmodern one abandoned modernism - in a paradoxical communication exclusivity ahead . Secondly, the fact that modernity was achieved only in specific areas , he carried up to everyday life. Instead of opposing the wrong now is the difference , the next pair of categorical " esoteric - exoteric " : postmodern implements in breadth reality ( exoteric - Externalizing ) that in modernity was tested primarily specifically ( esoteric - inwardly directed ) . He is the exoteric form once daily esoteric moder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Arial"/>
              </a:rPr>
              <a:t>Postmodernism in philosop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3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philosophy of postmodernism celebrated its convergence is not science , and the arts . Thus philosophical thought is not only in the area of ​​marginality in relation to science , but also in a state of chaos individualistic concepts, approaches , types of reflection, which is observed in the artistic culture of the late twentieth century. True ideal postmodernists - this chaos called haosmosom Deleuze , the initial state is not ordering , the state is not chained opportunities. In the world reigns two principles : the beginning of schizoid and paranoid creative formation start suffocating order. While postmodernists argue the idea of ​​" death of the author " , followed by Foucault and Barthes . Any semblance of order needs immediate deconstruction - liberation meaning by inverting the basic ideological concepts that permeated the entire 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WordArt 5"/>
          <p:cNvSpPr txBox="1"/>
          <p:nvPr/>
        </p:nvSpPr>
        <p:spPr>
          <a:xfrm rot="5400000">
            <a:off x="5338440" y="3195720"/>
            <a:ext cx="640080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рхитектура постмодерн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4" descr="20_2"/>
          <p:cNvPicPr/>
          <p:nvPr/>
        </p:nvPicPr>
        <p:blipFill>
          <a:blip r:embed="rId1"/>
          <a:stretch/>
        </p:blipFill>
        <p:spPr>
          <a:xfrm>
            <a:off x="1600200" y="457200"/>
            <a:ext cx="3032280" cy="2279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5" descr="800px-Sydney_Opera_House_Sails"/>
          <p:cNvPicPr/>
          <p:nvPr/>
        </p:nvPicPr>
        <p:blipFill>
          <a:blip r:embed="rId2"/>
          <a:stretch/>
        </p:blipFill>
        <p:spPr>
          <a:xfrm>
            <a:off x="4876920" y="1371600"/>
            <a:ext cx="3352680" cy="22176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x4"/>
          <p:cNvPicPr/>
          <p:nvPr/>
        </p:nvPicPr>
        <p:blipFill>
          <a:blip r:embed="rId3"/>
          <a:stretch/>
        </p:blipFill>
        <p:spPr>
          <a:xfrm>
            <a:off x="990720" y="3124080"/>
            <a:ext cx="2514600" cy="33530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7" descr="x93"/>
          <p:cNvPicPr/>
          <p:nvPr/>
        </p:nvPicPr>
        <p:blipFill>
          <a:blip r:embed="rId4"/>
          <a:stretch/>
        </p:blipFill>
        <p:spPr>
          <a:xfrm>
            <a:off x="4572000" y="4038480"/>
            <a:ext cx="33526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9" descr="дэвид салле"/>
          <p:cNvPicPr/>
          <p:nvPr/>
        </p:nvPicPr>
        <p:blipFill>
          <a:blip r:embed="rId1"/>
          <a:stretch/>
        </p:blipFill>
        <p:spPr>
          <a:xfrm>
            <a:off x="1523880" y="1371600"/>
            <a:ext cx="2733840" cy="1981080"/>
          </a:xfrm>
          <a:prstGeom prst="rect">
            <a:avLst/>
          </a:prstGeom>
          <a:ln w="0">
            <a:noFill/>
          </a:ln>
        </p:spPr>
      </p:pic>
      <p:sp>
        <p:nvSpPr>
          <p:cNvPr id="981" name="Text Box 10"/>
          <p:cNvSpPr/>
          <p:nvPr/>
        </p:nvSpPr>
        <p:spPr>
          <a:xfrm>
            <a:off x="1600200" y="335268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эвид Салле.Ангелы под дождем. 1998, масло и акрил по холсту, 244 x 335 c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2" descr="clem"/>
          <p:cNvPicPr/>
          <p:nvPr/>
        </p:nvPicPr>
        <p:blipFill>
          <a:blip r:embed="rId2"/>
          <a:stretch/>
        </p:blipFill>
        <p:spPr>
          <a:xfrm>
            <a:off x="1447920" y="4191120"/>
            <a:ext cx="2830320" cy="198108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13"/>
          <p:cNvSpPr/>
          <p:nvPr/>
        </p:nvSpPr>
        <p:spPr>
          <a:xfrm>
            <a:off x="1600200" y="621828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mente, Francesco. Atlas. Watercolor on Arches paper. 198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15" descr="09"/>
          <p:cNvPicPr/>
          <p:nvPr/>
        </p:nvPicPr>
        <p:blipFill>
          <a:blip r:embed="rId3"/>
          <a:stretch/>
        </p:blipFill>
        <p:spPr>
          <a:xfrm>
            <a:off x="5181480" y="990720"/>
            <a:ext cx="1866960" cy="251460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16"/>
          <p:cNvSpPr/>
          <p:nvPr/>
        </p:nvSpPr>
        <p:spPr>
          <a:xfrm>
            <a:off x="5029200" y="3505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яшко Е. В. «Мотыль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WordArt 17"/>
          <p:cNvSpPr txBox="1"/>
          <p:nvPr/>
        </p:nvSpPr>
        <p:spPr>
          <a:xfrm rot="5400000">
            <a:off x="5247720" y="2981160"/>
            <a:ext cx="6400800" cy="104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Живопись постмодернизма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7" name="Picture 18" descr="larionova_02"/>
          <p:cNvPicPr/>
          <p:nvPr/>
        </p:nvPicPr>
        <p:blipFill>
          <a:blip r:embed="rId4"/>
          <a:stretch/>
        </p:blipFill>
        <p:spPr>
          <a:xfrm>
            <a:off x="5257800" y="3962520"/>
            <a:ext cx="2077920" cy="23619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19"/>
          <p:cNvSpPr/>
          <p:nvPr/>
        </p:nvSpPr>
        <p:spPr>
          <a:xfrm>
            <a:off x="5410080" y="64008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онова Оль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лнечная девуш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WordArt 20"/>
          <p:cNvSpPr txBox="1"/>
          <p:nvPr/>
        </p:nvSpPr>
        <p:spPr>
          <a:xfrm rot="5400000">
            <a:off x="-2476800" y="293364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Живопись постмодернизма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11T15:41:3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