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68880-B7F2-4236-A7A4-07E662545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D5D80-1B94-4293-B25B-957ABFB70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80FD1-F057-43C9-BA2C-EF3075317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75144-42E5-4DEF-B346-63EE63A40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6BDE1-F2E5-401A-920B-642F9AEF43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C8B35-B69B-4FAF-9091-FBEDFF763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D769C-F4B1-4596-8BA8-C9C9FA543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23DE4-F293-4A3C-9CE8-9A0D89C7C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195CC-02F3-47BE-A609-5A413E5AD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04318-3A4B-4BE3-B320-0624E3976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F6091-A543-412B-914A-C0F33135E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A08B4-F07F-47DE-B04A-2BFBB6BF2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D304C-E024-481F-B39E-2CBA66593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0A611-65E1-429E-85E1-19709D9F1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BAAB0-7AB0-433E-AC2D-A73911D11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27706-CADF-45CF-AE08-1742FCCF67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72FA95-9C8D-4535-9784-AA4325C38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57676-4CE5-4CCD-9988-7BF172FA3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D8087-1797-44BA-A4D8-0D4B8A7F2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5B962-0404-47FF-A14E-E679CBEDD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8D979-E470-4FA6-B9DC-DA83FB588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B3012-3663-4870-8B1B-5AE3663E0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F276B-09D5-4960-8F94-AA2276A9A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D9EEB-A684-4FDD-A1B4-613EC047F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821CA-6843-4845-93AF-5AE9AE1228DA}"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4C5E-3746-4775-80BF-9A11BBE5C967}"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00" name="Picture 4" descr="11711fb697ca"/>
          <p:cNvPicPr/>
          <p:nvPr/>
        </p:nvPicPr>
        <p:blipFill>
          <a:blip r:embed="rId1"/>
          <a:stretch/>
        </p:blipFill>
        <p:spPr>
          <a:xfrm>
            <a:off x="0" y="0"/>
            <a:ext cx="9144000" cy="6858000"/>
          </a:xfrm>
          <a:prstGeom prst="rect">
            <a:avLst/>
          </a:prstGeom>
          <a:ln w="0">
            <a:noFill/>
          </a:ln>
        </p:spPr>
      </p:pic>
      <p:sp>
        <p:nvSpPr>
          <p:cNvPr id="101" name="Text Box 5"/>
          <p:cNvSpPr/>
          <p:nvPr/>
        </p:nvSpPr>
        <p:spPr>
          <a:xfrm>
            <a:off x="380880" y="812880"/>
            <a:ext cx="84582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99"/>
                </a:solidFill>
                <a:latin typeface="Arial"/>
              </a:rPr>
              <a:t>Atlantis - a civilization which is not!</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tlantis. What is this?</a:t>
            </a:r>
            <a:endParaRPr b="0" lang="en-US" sz="4400" spc="-1" strike="noStrike">
              <a:solidFill>
                <a:srgbClr val="b2b2b2"/>
              </a:solidFill>
              <a:latin typeface="Arial"/>
            </a:endParaRPr>
          </a:p>
        </p:txBody>
      </p:sp>
      <p:sp>
        <p:nvSpPr>
          <p:cNvPr id="103" name="PlaceHolder 2"/>
          <p:cNvSpPr>
            <a:spLocks noGrp="1"/>
          </p:cNvSpPr>
          <p:nvPr>
            <p:ph/>
          </p:nvPr>
        </p:nvSpPr>
        <p:spPr>
          <a:xfrm>
            <a:off x="533520" y="1523520"/>
            <a:ext cx="8229600" cy="480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lantis is a legendary island (archipelago or even continent) , situated in the modern Atlantic Ocean and fallen in one day on the seabed as a result of earthquakes and floods, along with its inhabitants - the Atlanteans . First , this legend is presented in Plato . Plato indicates the time of the disaster as " 9000 years ago ", that is in the middle of X millennium BC. e . At this point the story of Atlantis is considered by most scholars or philosophical myth invented by Plato , or the myth that may have formed on the basis of any real memories of the ancient catastrophe. Atlantis is the subject of a variety of hypotheses. Was declared the creation of a special scientific discipline - atlantology though atlantology called the people involved in the search and summarize any information about Atlantis. Atlantis has also become a popular subject of ar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04920" y="6854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February 2012, the U.S. National Academy of Sciences published a report confirming the meteorite falling in Mexico 13 thousand years ago, caused the Younger Dryas (the sharp end of the last glacial maximum), catastrophic climate change and mass extinction of fauna. Subsequently, continued melting of glaciers and rising sea levels. This finding does not coincide with dating the destruction of Atlantis, according to Plato, which is currently considered the most reliable.</a:t>
            </a:r>
            <a:endParaRPr b="0" lang="en-US" sz="2000" spc="-1" strike="noStrike">
              <a:solidFill>
                <a:srgbClr val="ffffff"/>
              </a:solidFill>
              <a:latin typeface="Arial"/>
            </a:endParaRPr>
          </a:p>
        </p:txBody>
      </p:sp>
      <p:pic>
        <p:nvPicPr>
          <p:cNvPr id="105" name="Picture 5" descr="83073919"/>
          <p:cNvPicPr/>
          <p:nvPr/>
        </p:nvPicPr>
        <p:blipFill>
          <a:blip r:embed="rId1"/>
          <a:stretch/>
        </p:blipFill>
        <p:spPr>
          <a:xfrm>
            <a:off x="1981080" y="3276720"/>
            <a:ext cx="5029200" cy="309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tory is myth. The dialogues of Plato</a:t>
            </a:r>
            <a:r>
              <a:rPr b="0" lang="ru-RU" sz="4000" spc="-1" strike="noStrike">
                <a:solidFill>
                  <a:srgbClr val="b2b2b2"/>
                </a:solidFill>
                <a:latin typeface="Arial"/>
              </a:rPr>
              <a:t>.</a:t>
            </a:r>
            <a:endParaRPr b="0" lang="en-US" sz="4000" spc="-1" strike="noStrike">
              <a:solidFill>
                <a:srgbClr val="b2b2b2"/>
              </a:solidFill>
              <a:latin typeface="Arial"/>
            </a:endParaRPr>
          </a:p>
        </p:txBody>
      </p:sp>
      <p:sp>
        <p:nvSpPr>
          <p:cNvPr id="107" name="PlaceHolder 2"/>
          <p:cNvSpPr>
            <a:spLocks noGrp="1"/>
          </p:cNvSpPr>
          <p:nvPr>
            <p:ph/>
          </p:nvPr>
        </p:nvSpPr>
        <p:spPr>
          <a:xfrm>
            <a:off x="304920" y="1371240"/>
            <a:ext cx="8686800" cy="4530600"/>
          </a:xfrm>
          <a:prstGeom prst="rect">
            <a:avLst/>
          </a:prstGeom>
          <a:noFill/>
          <a:ln w="0">
            <a:noFill/>
          </a:ln>
        </p:spPr>
        <p:txBody>
          <a:bodyPr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en-US" sz="2000" spc="-1" strike="noStrike">
                <a:solidFill>
                  <a:srgbClr val="ffffff"/>
                </a:solidFill>
                <a:latin typeface="Arial"/>
              </a:rPr>
              <a:t>The most common among historians and philologists especially opinion: the story about Atlantis - a typical philosophical myth, which are full of examples of Plato's dialogues. All information contained about Atlantis in two dialogues "Timaeus" and "Critia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8" name="Picture 4" descr="platon"/>
          <p:cNvPicPr/>
          <p:nvPr/>
        </p:nvPicPr>
        <p:blipFill>
          <a:blip r:embed="rId1"/>
          <a:stretch/>
        </p:blipFill>
        <p:spPr>
          <a:xfrm>
            <a:off x="5715000" y="3276720"/>
            <a:ext cx="2590920" cy="3371760"/>
          </a:xfrm>
          <a:prstGeom prst="rect">
            <a:avLst/>
          </a:prstGeom>
          <a:ln w="0">
            <a:noFill/>
          </a:ln>
        </p:spPr>
      </p:pic>
      <p:pic>
        <p:nvPicPr>
          <p:cNvPr id="109" name="Picture 5" descr="46639276_1248324849_img_37744038_2548_1"/>
          <p:cNvPicPr/>
          <p:nvPr/>
        </p:nvPicPr>
        <p:blipFill>
          <a:blip r:embed="rId2"/>
          <a:stretch/>
        </p:blipFill>
        <p:spPr>
          <a:xfrm>
            <a:off x="609480" y="3505320"/>
            <a:ext cx="4496040" cy="305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1036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ircumpontic region (Black Sea) </a:t>
            </a:r>
            <a:br>
              <a:rPr sz="4000"/>
            </a:br>
            <a:endParaRPr b="0" lang="en-US" sz="40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ack Sea deluge theory : The prototype for the legend of Atlantis event could serve as a catastrophic level rise of the Black Sea, which may have occurred in the sixth millennium BC . It is assumed that during this Black Sea flood in less than a year of sea level has risen by 60 meters ( other estimates - from 10 to 80 meters) . In connection with the breakthrough of the Bosphorus Mediterranean waters , flooding large areas of the northern Black Sea region could , in turn, give a boost to the propagation from the region to Europe and Asia different cultural and technological innovation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2" name="Picture 4" descr="Black-sea-hist"/>
          <p:cNvPicPr/>
          <p:nvPr/>
        </p:nvPicPr>
        <p:blipFill>
          <a:blip r:embed="rId1"/>
          <a:stretch/>
        </p:blipFill>
        <p:spPr>
          <a:xfrm>
            <a:off x="5410080" y="3962520"/>
            <a:ext cx="2981520" cy="189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80880" y="6854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do-European expansion: Connected with a legend about the prospering Atlantis and its death can be and such events, as formation and the disintegration of the Indo-European community which has brought to the beginning of large-scale Indo-European expansion at the end of the IV millennium BC. Geographically these events are attached to the regions adjacent to the Black Sea. So, one of hypotheses of location of the homeland of the people carriers of the praindoyevropeysky language, the offered of V.A.Safronov belongs to the Danube (North Balkan) region. The hypothesis assumes also a binding to this community emergence of the writing, the strengthened cities, the divisions of labor, the centralized management, emergence of social classes and emergence of the first civilization on the basis of culture of Vincha. By comparison of a legend of Plato to events of the IV millennium BC. coincidence on time is reached by the interpretation of the term specified by Platon offered A.Y.Anopriyenko in 9000 years as 9000 seasons for 121 — 122 day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228600" y="456840"/>
            <a:ext cx="8610480" cy="662940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reference to the region</a:t>
            </a:r>
            <a:br>
              <a:rPr sz="2000"/>
            </a:br>
            <a:r>
              <a:rPr b="0" lang="en-US" sz="2000" spc="-1" strike="noStrike">
                <a:solidFill>
                  <a:srgbClr val="ffffff"/>
                </a:solidFill>
                <a:latin typeface="Arial"/>
              </a:rPr>
              <a:t>     Romanian researcher Nikolai Densushyanu in his " Prehistoric Dacia " (1913) identified the Atlas Mountains to the southern Carpathian Mountains in the region of Oltenia , and Atlantis in the whole of Romania , noting match the size and location of Lower Danube plain description of the central plain of Atlantis , and introducing the assumption of mixing Plato terms " river " - " sea " - " ocean " on the one hand , and the" island " - " country " with the other. With this binding occurs with difficulty finding a matching capital of Atlantis , which , according to Plato, was in the 9-10 km from the coast and in the center of town was a low mountain . In the Danube Delta there is no seamounts , and the only island - o.Zmeiny.</a:t>
            </a:r>
            <a:endParaRPr b="0" lang="en-US" sz="2000" spc="-1" strike="noStrike">
              <a:solidFill>
                <a:srgbClr val="ffffff"/>
              </a:solidFill>
              <a:latin typeface="Arial"/>
            </a:endParaRPr>
          </a:p>
        </p:txBody>
      </p:sp>
      <p:pic>
        <p:nvPicPr>
          <p:cNvPr id="115" name="Picture 4" descr="800px-Schwarzes_Meer_und_Umgebung(Dacia)"/>
          <p:cNvPicPr/>
          <p:nvPr/>
        </p:nvPicPr>
        <p:blipFill>
          <a:blip r:embed="rId1"/>
          <a:stretch/>
        </p:blipFill>
        <p:spPr>
          <a:xfrm>
            <a:off x="4267080" y="4038480"/>
            <a:ext cx="4419720" cy="266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Atlantis in fiction literature </a:t>
            </a:r>
            <a:br>
              <a:rPr sz="4000"/>
            </a:br>
            <a:endParaRPr b="0" lang="en-US" sz="40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Jules Verne's novel "Twenty Thousand underwater" Captain Nemo shows Aronnax Atlantis remains of buildings at the bottom of the Atlantic Ocean, and they make a walk on the ocean floor in diving suit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er Wolfgang Holbayn continue the topic of Atlantis in his books in the series "Children of Captain Nemo" ("Girl from Atlantis" and other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ntast Alexander Belyaev in the story "The Last Person from Atlantis" described existence and death of Atlantis as a result of tectonic accident. The civilization of a bronze age described in the story worships to the sun.</a:t>
            </a:r>
            <a:r>
              <a:rPr b="0" lang="ru-RU"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science fiction novel George Martynov "Time Spiral" (1966) describes a visit to Atlantis (the "country Moor") space aliens about twelve thousand years ago. In the novel, described Atlantis as a society to the level of development and the type of government, resembling an ancient Egyptian.</a:t>
            </a:r>
            <a:endParaRPr b="0" lang="en-US" sz="2000" spc="-1" strike="noStrike">
              <a:solidFill>
                <a:srgbClr val="ffffff"/>
              </a:solidFill>
              <a:latin typeface="Arial"/>
            </a:endParaRPr>
          </a:p>
        </p:txBody>
      </p:sp>
      <p:sp>
        <p:nvSpPr>
          <p:cNvPr id="118" name="Text Box 4"/>
          <p:cNvSpPr/>
          <p:nvPr/>
        </p:nvSpPr>
        <p:spPr>
          <a:xfrm>
            <a:off x="3363840" y="6095880"/>
            <a:ext cx="185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many more</a:t>
            </a:r>
            <a:r>
              <a:rPr b="0" lang="ru-RU"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Динар</cp:lastModifiedBy>
  <dcterms:modified xsi:type="dcterms:W3CDTF">2013-12-03T14:10:09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