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FDCF-67E4-4393-AE38-68072D258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26E1-992C-4525-A1C9-E5FE8171A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7582-F74A-4F3B-BAFF-1E453C1CD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E86B-E178-469A-8CB2-028CC2A08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E15DD-0E47-4F02-BB22-47A22AA95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E4CB3-A6E0-4870-A394-4CA4A1E9F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B7D72-5AC0-44B8-9FA3-39AE5B3B5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ADEF6-20C9-4B8D-9271-003873734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C454E-7752-4F7B-9465-007890FFD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0295F-BEB2-45F8-AEA6-7F2E7722C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0E311-6A36-4B71-86FC-510A6087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0DE4-1047-492F-9B32-EACC35EF6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23090-BF1C-48C0-AB61-9A28CB65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EDF03-C4B6-4F17-A771-3E76E9F8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551DD-90A1-4DD3-B4D6-36328F3EB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37CAF-3D6F-40A9-A2D1-CFEFA5E14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74ADB-C536-42B9-B275-27DADE460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5BB7-0967-4891-BC51-B34C6A367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A079-28CC-421A-8B46-D8B10124F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275C-9CA1-47B8-BE9D-247F2A2A2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BBBA-D9B9-4737-A8D9-D27C4EB07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663A-87FA-4083-BA6D-9EA89365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7A81-A256-4F40-8416-EA4FF04F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1DC1-413F-4AB5-A33A-28A8183E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F14FF-7935-4446-80B6-85E94ECA442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BFBD8-09FB-4E97-9365-FD6496EEDDE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1628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cc"/>
                </a:solidFill>
                <a:latin typeface="Bookman Old Style"/>
              </a:rPr>
              <a:t>«Золотой век»</a:t>
            </a:r>
            <a:br>
              <a:rPr sz="5400"/>
            </a:br>
            <a:r>
              <a:rPr b="1" i="1" lang="en-US" sz="5400" spc="-1" strike="noStrike">
                <a:solidFill>
                  <a:srgbClr val="ffffcc"/>
                </a:solidFill>
                <a:latin typeface="Bookman Old Style"/>
              </a:rPr>
              <a:t>русского бисер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03280" y="5660640"/>
            <a:ext cx="64008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0" name=""/>
          <p:cNvSpPr/>
          <p:nvPr/>
        </p:nvSpPr>
        <p:spPr>
          <a:xfrm>
            <a:off x="1037880" y="536760"/>
            <a:ext cx="664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Презентация к </a:t>
            </a: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 заняти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творческого объединения «Умелые руки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484360" y="3429000"/>
            <a:ext cx="392436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таринные работ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6012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ак красивы и так не похожи 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о, что окружает нас сегодня!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ни служат неиссякаемым ис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очником новых идей и вдохно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ния. Заимствование отдельны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емов, техники исполнения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лементов орнамента прида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временным вещам необыч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лори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rcRect l="0" t="28393" r="0" b="0"/>
          <a:stretch/>
        </p:blipFill>
        <p:spPr>
          <a:xfrm>
            <a:off x="5796000" y="4292640"/>
            <a:ext cx="3348000" cy="19447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796000" y="1916280"/>
            <a:ext cx="3348000" cy="20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История возникновения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843588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Bookman Old Style"/>
              </a:rPr>
              <a:t>В конце XVIII — XIX в. увлечение бисер- ными ремеслами в аристократических кругах было столь значительным, что стало неотъемлемой частью культу-ры и быта России. Чаще всего бисер использовали для вышивки, вязания крючком и спицам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724360" y="5229360"/>
            <a:ext cx="1811520" cy="1484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24000" y="476280"/>
            <a:ext cx="153504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979280" y="907920"/>
            <a:ext cx="46083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ысканный узор и очен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лкий, ровный, разнообраз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ый по цвету материал выда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ют авторов из обеспеченн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реды. Они могли себе позво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ить приобрести дорогой би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ер в нужном количестве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ончайшие английские игол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ля него, заграничные трафа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ты с рисункам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50920" y="2708280"/>
            <a:ext cx="1584360" cy="1441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Авторская работа Елены Ганич "/>
          <p:cNvPicPr/>
          <p:nvPr/>
        </p:nvPicPr>
        <p:blipFill>
          <a:blip r:embed="rId2"/>
          <a:stretch/>
        </p:blipFill>
        <p:spPr>
          <a:xfrm>
            <a:off x="395280" y="260280"/>
            <a:ext cx="1297080" cy="18478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908000" y="260280"/>
            <a:ext cx="6912000" cy="432000"/>
          </a:xfrm>
          <a:prstGeom prst="rect">
            <a:avLst/>
          </a:prstGeom>
          <a:ln w="0">
            <a:noFill/>
          </a:ln>
        </p:spPr>
      </p:pic>
      <p:pic>
        <p:nvPicPr>
          <p:cNvPr id="100" name="011" descr="Бисер. Бисерная чернильница 1797 г. Россия"/>
          <p:cNvPicPr/>
          <p:nvPr/>
        </p:nvPicPr>
        <p:blipFill>
          <a:blip r:embed="rId4"/>
          <a:stretch/>
        </p:blipFill>
        <p:spPr>
          <a:xfrm>
            <a:off x="6804000" y="3933720"/>
            <a:ext cx="2340000" cy="25146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6588000" y="1484280"/>
            <a:ext cx="2400480" cy="1800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179280" y="4581360"/>
            <a:ext cx="1800360" cy="1889280"/>
          </a:xfrm>
          <a:prstGeom prst="rect">
            <a:avLst/>
          </a:prstGeom>
          <a:ln w="0">
            <a:noFill/>
          </a:ln>
        </p:spPr>
      </p:pic>
      <p:pic>
        <p:nvPicPr>
          <p:cNvPr id="103" name="005" descr="Бисер. Бисерные безделушки"/>
          <p:cNvPicPr/>
          <p:nvPr/>
        </p:nvPicPr>
        <p:blipFill>
          <a:blip r:embed="rId7"/>
          <a:stretch/>
        </p:blipFill>
        <p:spPr>
          <a:xfrm>
            <a:off x="4572000" y="5084640"/>
            <a:ext cx="1927080" cy="1366920"/>
          </a:xfrm>
          <a:prstGeom prst="rect">
            <a:avLst/>
          </a:prstGeom>
          <a:ln w="0">
            <a:noFill/>
          </a:ln>
        </p:spPr>
      </p:pic>
      <p:pic>
        <p:nvPicPr>
          <p:cNvPr id="104" name="006" descr="Бисер. Бисерные кошельки 1820 - 1830-е гг"/>
          <p:cNvPicPr/>
          <p:nvPr/>
        </p:nvPicPr>
        <p:blipFill>
          <a:blip r:embed="rId8"/>
          <a:stretch/>
        </p:blipFill>
        <p:spPr>
          <a:xfrm>
            <a:off x="2124000" y="5084640"/>
            <a:ext cx="234000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536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тересовались бисер-ным рукоделием и муж-чины. Юный Лермонтов в 1827 г. пишет своей тете Н. А. Шангирей: «Катюше в знак благо-дарности за подвязку посылаю (...) бисерный ящик моей работы»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148360" y="1268280"/>
            <a:ext cx="377496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Область примене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63374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его только не делали наши предки из бисера, стекляруса и бусин! Область применения этого материала оказалась очень широкой — от основы для клубка и детской игрушки до гобеленов для стен царского дворца. Этот красивый и прочный материал использовали при изготовлении кошельков, чехлов для зонтов, обложек для записных книжек и альбомов, футляров для карт, коробо-чек для табака. Вышивали иконы, кар-тины с жанровыми сценками или рос-кошными букетами и птицами. Бисером обвязывали трости, курительные труб-ки, шкатулки, вазы, подстаканники, рожки для кормления дете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005" descr="Бисер. Бисерные безделушки"/>
          <p:cNvPicPr/>
          <p:nvPr/>
        </p:nvPicPr>
        <p:blipFill>
          <a:blip r:embed="rId1"/>
          <a:stretch/>
        </p:blipFill>
        <p:spPr>
          <a:xfrm>
            <a:off x="6351480" y="1773360"/>
            <a:ext cx="2792520" cy="2089080"/>
          </a:xfrm>
          <a:prstGeom prst="rect">
            <a:avLst/>
          </a:prstGeom>
          <a:ln w="0">
            <a:noFill/>
          </a:ln>
        </p:spPr>
      </p:pic>
      <p:pic>
        <p:nvPicPr>
          <p:cNvPr id="110" name="006" descr="Бисер. Бисерные кошельки 1820 - 1830-е гг"/>
          <p:cNvPicPr/>
          <p:nvPr/>
        </p:nvPicPr>
        <p:blipFill>
          <a:blip r:embed="rId2"/>
          <a:stretch/>
        </p:blipFill>
        <p:spPr>
          <a:xfrm>
            <a:off x="6372360" y="4076640"/>
            <a:ext cx="27716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Bookman Old Style"/>
              </a:rPr>
              <a:t>Среди этого разнообразия встречаются удивительные предметы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7640" y="4149360"/>
            <a:ext cx="57610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апример, чехольчик для мела. Оденешь бисерный чехольчик на мелок — и красиво, и руки не пачкаются. Или грецкий орех, покрытый бисерным орнаментом, — основа для клубка, которую и под нитками-то не видно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003" descr="Бисер. Русские головные уборы. XIX в."/>
          <p:cNvPicPr/>
          <p:nvPr/>
        </p:nvPicPr>
        <p:blipFill>
          <a:blip r:embed="rId1"/>
          <a:stretch/>
        </p:blipFill>
        <p:spPr>
          <a:xfrm>
            <a:off x="6012000" y="1773360"/>
            <a:ext cx="3132000" cy="3600360"/>
          </a:xfrm>
          <a:prstGeom prst="rect">
            <a:avLst/>
          </a:prstGeom>
          <a:ln w="0">
            <a:noFill/>
          </a:ln>
        </p:spPr>
      </p:pic>
      <p:pic>
        <p:nvPicPr>
          <p:cNvPr id="114" name="004" descr="Бисер. Бисерный чехольчик"/>
          <p:cNvPicPr/>
          <p:nvPr/>
        </p:nvPicPr>
        <p:blipFill>
          <a:blip r:embed="rId2"/>
          <a:stretch/>
        </p:blipFill>
        <p:spPr>
          <a:xfrm>
            <a:off x="1476360" y="1413000"/>
            <a:ext cx="3184560" cy="27255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797720" y="5877000"/>
            <a:ext cx="407916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ли необыкновенное сооруж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—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одставка для чепчи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Часто бисерные безделушки предназначались мужчинам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036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Л. Н. Толстой в «Чудаках» пишет: «Алексей Алексеевич, довольный миром, сидел дома в вышитых бисером туфлях и курил трубки». Да и чубук трубки тоже мог быть украшен бисеро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 М. Ю. Лермонтова в «Тамбовской казначейше» читаем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 окну поспешно он садится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дев персидский архалук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устах его едва дымитс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зорный бисерный чубу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59280" y="836280"/>
            <a:ext cx="590544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делия, выполненные светскими дамами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истине великолепны. Но не меньшее впе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атление производят бусы и подвески, ожере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ья и воротники крестьянок. Их произвед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деланы из крупного, тусклого бисера и дале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 не так изящны. Но сколько фантазии и твор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еской смекалки проявляли мастерицы, созда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ая свои изделия из подручного материал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единяя, казалось бы, несовместимо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2733480" cy="20876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50920" y="4149720"/>
            <a:ext cx="2233440" cy="22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ход шло все, что было под рукой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 жемчуга и экзо-тических раков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ури до пуговиц, цветных ниток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усочков ткан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059280" y="3933720"/>
            <a:ext cx="2670120" cy="2089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rcRect l="0" t="17059" r="0" b="0"/>
          <a:stretch/>
        </p:blipFill>
        <p:spPr>
          <a:xfrm>
            <a:off x="5867280" y="3933720"/>
            <a:ext cx="30974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91440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ольшая удача — возможность подержать и рассмотреть старинные изделия из бисера. В некоторых семьях хранят-ся такие реликвии. Можно взять в руки и предметы, выста-вленные на продажу в антикварных магазинах. Разгляды-вая узор, технику исполнения, чувствуешь руку мастерицы. Видно, из какого она сословия, каков был ее достаток, уро-вень мастерства. Бывают заметны возникшие в работе трудности и интересные решения по их преодолению. Как ни странно, огрехи в работе не портят общего впечатле-ния. Они подчеркивают рукотворность изделия, неповтори-мость. Это работа для души, на радость себе и близки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79280" y="4292640"/>
            <a:ext cx="3851280" cy="2205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211640" y="4292640"/>
            <a:ext cx="4932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2T11:14:52Z</dcterms:created>
  <dc:creator>Степанова Светлана Ивановна</dc:creator>
  <dc:description/>
  <dc:language>en-US</dc:language>
  <cp:lastModifiedBy>1</cp:lastModifiedBy>
  <dcterms:modified xsi:type="dcterms:W3CDTF">2013-02-06T18:43:06Z</dcterms:modified>
  <cp:revision>15</cp:revision>
  <dc:subject/>
  <dc:title>«Золотой век» русского бисера</dc:title>
</cp:coreProperties>
</file>