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7AB-DC55-4E30-91B6-0F380A0B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558-43BF-41BD-B352-9B16BEF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B02-C3EA-49FA-82C5-B309D5B8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952-5173-4EC0-BB2F-763E5E4C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C57B-2648-4ED4-9185-35882A2E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03E9-A4F3-4B08-BC40-3D102D0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67AF-F87D-4428-BFBF-0F3B0E8E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6456-8BD5-406C-8DD5-71397D6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1A2E-01D6-43B8-88B5-C4B421F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6C29-3A62-4F53-BC08-595EB7A4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0F8F-76B4-4BDB-8C55-619A8286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CEC-14EE-4DF2-999B-3010D4DD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4D9C-BA7B-4883-8260-C9AC16F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F886-FAF4-41AB-A08D-60F3AFA5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1F4E-8CC7-4342-90C9-347486C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9096-550D-44C7-A912-9A01A450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52B8-27AF-4C5E-872B-513ADB94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CF3-04EE-4FD1-808B-1A64D8FF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0A5-67C7-45A0-9183-14EF6904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BD7-9E40-4602-9A59-0B04C30A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8A5-0AB5-4865-A242-5FE20328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73E-3B5F-4494-99D1-EC0C269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A2C-B4E5-4C2F-B8EE-F98CC8CA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E2C-4DE7-48C6-9DDA-B2525B2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EC83-BF0B-4003-BA36-99E1A3D715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E4F1-EF81-4742-B7D3-AC43401ED5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Bookman Old Style"/>
              </a:rPr>
              <a:t>«Золотой век»</a:t>
            </a:r>
            <a:br>
              <a:rPr sz="5400"/>
            </a:br>
            <a:r>
              <a:rPr b="1" i="1" lang="en-US" sz="5400" spc="-1" strike="noStrike">
                <a:solidFill>
                  <a:srgbClr val="ffffcc"/>
                </a:solidFill>
                <a:latin typeface="Bookman Old Style"/>
              </a:rPr>
              <a:t>русского бисе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56606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"/>
          <p:cNvSpPr/>
          <p:nvPr/>
        </p:nvSpPr>
        <p:spPr>
          <a:xfrm>
            <a:off x="1037880" y="536760"/>
            <a:ext cx="66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Презентация к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занят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творческого объединения «Умелые ру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84360" y="3429000"/>
            <a:ext cx="3924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ринные раб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012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 красивы и так не похожи 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, что окружает нас сегодня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служат неиссякаемым ис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чником новых идей и вдохн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ния. Заимствование отдель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емов, техники исполне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ментов орнамента прид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м вещам необыч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ори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28393" r="0" b="0"/>
          <a:stretch/>
        </p:blipFill>
        <p:spPr>
          <a:xfrm>
            <a:off x="5796000" y="4292640"/>
            <a:ext cx="3348000" cy="194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348000" cy="2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стория возникновения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358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Bookman Old Style"/>
              </a:rPr>
              <a:t>В конце XVIII — XIX в. увлечение бисер- ными ремеслами в аристократических кругах было столь значительным, что стало неотъемлемой частью культу-ры и быта России. Чаще всего бисер использовали для вышивки, вязания крючком и спиц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24360" y="5229360"/>
            <a:ext cx="1811520" cy="1484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15350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79280" y="90792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ысканный узор и оч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кий, ровный, разнообраз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ый по цвету материал выд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ют авторов из обеспеч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ы. Они могли себе позв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ь приобрести дорогой б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 в нужном количеств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нчайшие английские игол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него, заграничные траф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ты с рисун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584360" cy="144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Авторская работа Елены Ганич "/>
          <p:cNvPicPr/>
          <p:nvPr/>
        </p:nvPicPr>
        <p:blipFill>
          <a:blip r:embed="rId2"/>
          <a:stretch/>
        </p:blipFill>
        <p:spPr>
          <a:xfrm>
            <a:off x="395280" y="260280"/>
            <a:ext cx="1297080" cy="1847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6912000" cy="432000"/>
          </a:xfrm>
          <a:prstGeom prst="rect">
            <a:avLst/>
          </a:prstGeom>
          <a:ln w="0">
            <a:noFill/>
          </a:ln>
        </p:spPr>
      </p:pic>
      <p:pic>
        <p:nvPicPr>
          <p:cNvPr id="100" name="011" descr="Бисер. Бисерная чернильница 1797 г. Россия"/>
          <p:cNvPicPr/>
          <p:nvPr/>
        </p:nvPicPr>
        <p:blipFill>
          <a:blip r:embed="rId4"/>
          <a:stretch/>
        </p:blipFill>
        <p:spPr>
          <a:xfrm>
            <a:off x="6804000" y="3933720"/>
            <a:ext cx="234000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588000" y="14842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179280" y="4581360"/>
            <a:ext cx="1800360" cy="1889280"/>
          </a:xfrm>
          <a:prstGeom prst="rect">
            <a:avLst/>
          </a:prstGeom>
          <a:ln w="0">
            <a:noFill/>
          </a:ln>
        </p:spPr>
      </p:pic>
      <p:pic>
        <p:nvPicPr>
          <p:cNvPr id="103" name="005" descr="Бисер. Бисерные безделушки"/>
          <p:cNvPicPr/>
          <p:nvPr/>
        </p:nvPicPr>
        <p:blipFill>
          <a:blip r:embed="rId7"/>
          <a:stretch/>
        </p:blipFill>
        <p:spPr>
          <a:xfrm>
            <a:off x="4572000" y="5084640"/>
            <a:ext cx="1927080" cy="1366920"/>
          </a:xfrm>
          <a:prstGeom prst="rect">
            <a:avLst/>
          </a:prstGeom>
          <a:ln w="0">
            <a:noFill/>
          </a:ln>
        </p:spPr>
      </p:pic>
      <p:pic>
        <p:nvPicPr>
          <p:cNvPr id="104" name="006" descr="Бисер. Бисерные кошельки 1820 - 1830-е гг"/>
          <p:cNvPicPr/>
          <p:nvPr/>
        </p:nvPicPr>
        <p:blipFill>
          <a:blip r:embed="rId8"/>
          <a:stretch/>
        </p:blipFill>
        <p:spPr>
          <a:xfrm>
            <a:off x="2124000" y="5084640"/>
            <a:ext cx="2340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536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овались бисер-ным рукоделием и муж-чины. Юный Лермонтов в 1827 г. пишет своей тете Н. А. Шангирей: «Катюше в знак благо-дарности за подвязку посылаю (...) бисерный ящик моей работы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7749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ласть примен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6337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го только не делали наши предки из бисера, стекляруса и бусин! Область применения этого материала оказалась очень широкой — от основы для клубка и детской игрушки до гобеленов для стен царского дворца. Этот красивый и прочный материал использовали при изготовлении кошельков, чехлов для зонтов, обложек для записных книжек и альбомов, футляров для карт, коробо-чек для табака. Вышивали иконы, кар-тины с жанровыми сценками или рос-кошными букетами и птицами. Бисером обвязывали трости, курительные труб-ки, шкатулки, вазы, подстаканники, рожки для кормления де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005" descr="Бисер. Бисерные безделушки"/>
          <p:cNvPicPr/>
          <p:nvPr/>
        </p:nvPicPr>
        <p:blipFill>
          <a:blip r:embed="rId1"/>
          <a:stretch/>
        </p:blipFill>
        <p:spPr>
          <a:xfrm>
            <a:off x="6351480" y="1773360"/>
            <a:ext cx="2792520" cy="2089080"/>
          </a:xfrm>
          <a:prstGeom prst="rect">
            <a:avLst/>
          </a:prstGeom>
          <a:ln w="0">
            <a:noFill/>
          </a:ln>
        </p:spPr>
      </p:pic>
      <p:pic>
        <p:nvPicPr>
          <p:cNvPr id="110" name="006" descr="Бисер. Бисерные кошельки 1820 - 1830-е гг"/>
          <p:cNvPicPr/>
          <p:nvPr/>
        </p:nvPicPr>
        <p:blipFill>
          <a:blip r:embed="rId2"/>
          <a:stretch/>
        </p:blipFill>
        <p:spPr>
          <a:xfrm>
            <a:off x="6372360" y="4076640"/>
            <a:ext cx="2771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Bookman Old Style"/>
              </a:rPr>
              <a:t>Среди этого разнообразия встречаются удивительные предметы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640" y="4149360"/>
            <a:ext cx="576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пример, чехольчик для мела. Оденешь бисерный чехольчик на мелок — и красиво, и руки не пачкаются. Или грецкий орех, покрытый бисерным орнаментом, — основа для клубка, которую и под нитками-то не вид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003" descr="Бисер. Русские головные уборы. XIX в."/>
          <p:cNvPicPr/>
          <p:nvPr/>
        </p:nvPicPr>
        <p:blipFill>
          <a:blip r:embed="rId1"/>
          <a:stretch/>
        </p:blipFill>
        <p:spPr>
          <a:xfrm>
            <a:off x="6012000" y="1773360"/>
            <a:ext cx="3132000" cy="3600360"/>
          </a:xfrm>
          <a:prstGeom prst="rect">
            <a:avLst/>
          </a:prstGeom>
          <a:ln w="0">
            <a:noFill/>
          </a:ln>
        </p:spPr>
      </p:pic>
      <p:pic>
        <p:nvPicPr>
          <p:cNvPr id="114" name="004" descr="Бисер. Бисерный чехольчик"/>
          <p:cNvPicPr/>
          <p:nvPr/>
        </p:nvPicPr>
        <p:blipFill>
          <a:blip r:embed="rId2"/>
          <a:stretch/>
        </p:blipFill>
        <p:spPr>
          <a:xfrm>
            <a:off x="1476360" y="1413000"/>
            <a:ext cx="3184560" cy="2725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97720" y="5877000"/>
            <a:ext cx="407916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ли необыкновенное соору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ставка для чепч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асто бисерные безделушки предназначались мужчина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. Н. Толстой в «Чудаках» пишет: «Алексей Алексеевич, довольный миром, сидел дома в вышитых бисером туфлях и курил трубки». Да и чубук трубки тоже мог быть украшен бис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М. Ю. Лермонтова в «Тамбовской казначейше» читае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 окну поспешно он сади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дев персидский архалу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устах его едва дыми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зорный бисерный чуб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59280" y="836280"/>
            <a:ext cx="5905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делия, выполненные светскими дама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истине великолепны. Но не меньшее вп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тление производят бусы и подвески, ожер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ья и воротники крестьянок. Их произве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деланы из крупного, тусклого бисера и дал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 не так изящны. Но сколько фантазии и тво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ской смекалки проявляли мастерицы, созда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я свои изделия из подручного материал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единяя, казалось бы, несовместимо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733480" cy="208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4149720"/>
            <a:ext cx="223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ход шло все, что было под рук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жемчуга и экзо-тических рако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ури до пуговиц, цветных ниток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сочков тка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59280" y="3933720"/>
            <a:ext cx="2670120" cy="208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0" t="17059" r="0" b="0"/>
          <a:stretch/>
        </p:blipFill>
        <p:spPr>
          <a:xfrm>
            <a:off x="5867280" y="3933720"/>
            <a:ext cx="3097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ая удача — возможность подержать и рассмотреть старинные изделия из бисера. В некоторых семьях хранят-ся такие реликвии. Можно взять в руки и предметы, выста-вленные на продажу в антикварных магазинах. Разгляды-вая узор, технику исполнения, чувствуешь руку мастерицы. Видно, из какого она сословия, каков был ее достаток, уро-вень мастерства. Бывают заметны возникшие в работе трудности и интересные решения по их преодолению. Как ни странно, огрехи в работе не портят общего впечатле-ния. Они подчеркивают рукотворность изделия, неповтори-мость. Это работа для души, на радость себе и близки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3851280" cy="220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4292640"/>
            <a:ext cx="49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1:14:52Z</dcterms:created>
  <dc:creator>Степанова Светлана Ивановна</dc:creator>
  <dc:description/>
  <dc:language>en-US</dc:language>
  <cp:lastModifiedBy>1</cp:lastModifiedBy>
  <dcterms:modified xsi:type="dcterms:W3CDTF">2013-02-06T18:43:06Z</dcterms:modified>
  <cp:revision>15</cp:revision>
  <dc:subject/>
  <dc:title>«Золотой век» русского бисера</dc:title>
</cp:coreProperties>
</file>