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74FD-DFC8-4D8C-A821-7DAECC68B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09A3-CFE2-4534-979A-604110D9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90C2-BD8A-4E0B-9A7C-B6252BAF0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81B2-3D79-496D-88EB-F00821D7E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301B-7DE6-4DA0-85A5-1665DF6D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97B0-4080-4862-814B-655FAA26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4263-2E40-4535-833A-855E8664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03FA-AF0C-4339-AE44-B79EBE3F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3934-00C2-4AFA-B5C4-CF1E0A16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C9B3-15E1-498C-ADF8-8C16C29E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0D11-BC7B-4AA4-AE28-2F0E4A1E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B771-1385-406B-968C-77120380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27B1-D086-46F8-AC97-AF5290025E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Золотое Сече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676600"/>
            <a:ext cx="7632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zs_p05"/>
          <p:cNvPicPr/>
          <p:nvPr/>
        </p:nvPicPr>
        <p:blipFill>
          <a:blip r:embed="rId1"/>
          <a:stretch/>
        </p:blipFill>
        <p:spPr>
          <a:xfrm>
            <a:off x="1523880" y="2514600"/>
            <a:ext cx="601992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991360" y="-5265360"/>
            <a:ext cx="152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067680" y="678168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609480" y="76212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олотое сечение - деление величины (например, длины отрезка) на две части таким образом, при котором отношение большей части к меньшей равно отношению всей величины к её большей части. Или, если использовать вычисленную величину золотого сечения, — это деление величины на две части — 62 % и 38 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Gold&amp;kadr"/>
          <p:cNvPicPr/>
          <p:nvPr/>
        </p:nvPicPr>
        <p:blipFill>
          <a:blip r:embed="rId1"/>
          <a:stretch/>
        </p:blipFill>
        <p:spPr>
          <a:xfrm>
            <a:off x="533520" y="2971800"/>
            <a:ext cx="3047760" cy="2540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576px-Pentagram-phi"/>
          <p:cNvPicPr/>
          <p:nvPr/>
        </p:nvPicPr>
        <p:blipFill>
          <a:blip r:embed="rId2"/>
          <a:stretch/>
        </p:blipFill>
        <p:spPr>
          <a:xfrm>
            <a:off x="4495680" y="2286000"/>
            <a:ext cx="403884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торое Золотое Сеч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гарский журнал «Отечество» (№10, 1983 г.) опубликовал статью Цветана Цекова-Карандаша «О втором золотом сечении», которое вытекает из основного сечения и дает другое отношение 44 : 5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ая пропорция обнаружена в архитектуре, а также имеет место при построении композиций изображений удлиненного горизонтального форм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zs_p03"/>
          <p:cNvPicPr/>
          <p:nvPr/>
        </p:nvPicPr>
        <p:blipFill>
          <a:blip r:embed="rId1"/>
          <a:stretch/>
        </p:blipFill>
        <p:spPr>
          <a:xfrm>
            <a:off x="4648320" y="4038480"/>
            <a:ext cx="27334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исла Фибоначч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а Фибоначчи — элементы числовой последовательности, в которой каждое последующее число равно сумме двух предыдущих чисел. Название по имени средневекового математика Леонардо Пизанского (известного как Фибоначчи). Иногда число 0 не рассматривается как член последова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pinball5"/>
          <p:cNvPicPr/>
          <p:nvPr/>
        </p:nvPicPr>
        <p:blipFill>
          <a:blip r:embed="rId1"/>
          <a:stretch/>
        </p:blipFill>
        <p:spPr>
          <a:xfrm>
            <a:off x="3962520" y="3429000"/>
            <a:ext cx="43434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67680" y="-534240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а Фибоначчи вскрывают математическую основу многих природных явлений. Следы последовательности Фибоначчи можно обнаружить и в биологии, и в физике, и в астрономии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-5448960" y="3245400"/>
            <a:ext cx="20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а Фибоначчи вскрывают математическую основу многих природных явлений. Следы последовательности Фибоначчи можно обнаружить и в биологии, и в физике, и в астрономии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-5448960" y="3245400"/>
            <a:ext cx="20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а Фибоначчи вскрывают математическую основу многих природных явлений. Следы последовательности Фибоначчи можно обнаружить и в биологии, и в физике, и в астрономии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tmp1B-30"/>
          <p:cNvPicPr/>
          <p:nvPr/>
        </p:nvPicPr>
        <p:blipFill>
          <a:blip r:embed="rId1"/>
          <a:stretch/>
        </p:blipFill>
        <p:spPr>
          <a:xfrm>
            <a:off x="1981080" y="2514600"/>
            <a:ext cx="486756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1T13:23:51Z</dcterms:created>
  <dc:creator>Yuliya</dc:creator>
  <dc:description/>
  <dc:language>en-US</dc:language>
  <cp:lastModifiedBy>Сивалкин</cp:lastModifiedBy>
  <dcterms:modified xsi:type="dcterms:W3CDTF">2014-01-21T18:28:12Z</dcterms:modified>
  <cp:revision>2</cp:revision>
  <dc:subject/>
  <dc:title>Золотое Сечение</dc:title>
</cp:coreProperties>
</file>