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785-9300-4BAF-9B1B-490FA094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584-9687-4557-8EAD-3E421195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85C-E666-4A34-B8CD-01EF7855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B40-83EE-4684-8127-A7F9C2CD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487-A057-4513-A195-6B31F884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DFD-8A93-49B7-94C6-3F9FBB1E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93C-9063-4077-974F-CFB72339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1C5-1161-4E94-9A6D-C9B65E43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B22-5BE1-4CA4-97B8-83855E4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F3A-9B18-49B1-910B-C18F7CB1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8B5-ED2E-4EA8-96B1-ED96C558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F0A-A9BE-4DFA-ADB8-6458DA8A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A093-2003-46D2-A959-91EB3359C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Золотое Се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7660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zs_p05"/>
          <p:cNvPicPr/>
          <p:nvPr/>
        </p:nvPicPr>
        <p:blipFill>
          <a:blip r:embed="rId1"/>
          <a:stretch/>
        </p:blipFill>
        <p:spPr>
          <a:xfrm>
            <a:off x="1523880" y="2514600"/>
            <a:ext cx="60199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91360" y="-52653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67680" y="67816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7621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е сечение - деление величины (например, длины отрезка) на две части таким образом, при котором отношение большей части к меньшей равно отношению всей величины к её большей части. Или, если использовать вычисленную величину золотого сечения, — это деление величины на две части — 62 % и 38 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Gold&amp;kadr"/>
          <p:cNvPicPr/>
          <p:nvPr/>
        </p:nvPicPr>
        <p:blipFill>
          <a:blip r:embed="rId1"/>
          <a:stretch/>
        </p:blipFill>
        <p:spPr>
          <a:xfrm>
            <a:off x="533520" y="2971800"/>
            <a:ext cx="3047760" cy="254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576px-Pentagram-phi"/>
          <p:cNvPicPr/>
          <p:nvPr/>
        </p:nvPicPr>
        <p:blipFill>
          <a:blip r:embed="rId2"/>
          <a:stretch/>
        </p:blipFill>
        <p:spPr>
          <a:xfrm>
            <a:off x="4495680" y="2286000"/>
            <a:ext cx="40388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торое Золотое С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гарский журнал «Отечество» (№10, 1983 г.) опубликовал статью Цветана Цекова-Карандаша «О втором золотом сечении», которое вытекает из основного сечения и дает другое отношение 44 : 5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ая пропорция обнаружена в архитектуре, а также имеет место при построении композиций изображений удлиненного горизонтального фор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zs_p03"/>
          <p:cNvPicPr/>
          <p:nvPr/>
        </p:nvPicPr>
        <p:blipFill>
          <a:blip r:embed="rId1"/>
          <a:stretch/>
        </p:blipFill>
        <p:spPr>
          <a:xfrm>
            <a:off x="4648320" y="4038480"/>
            <a:ext cx="2733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а Фибоначч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Фибоначчи — элементы числовой последовательности, в которой каждое последующее число равно сумме двух предыдущих чисел. Название по имени средневекового математика Леонардо Пизанского (известного как Фибоначчи). Иногда число 0 не рассматривается как член последова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inball5"/>
          <p:cNvPicPr/>
          <p:nvPr/>
        </p:nvPicPr>
        <p:blipFill>
          <a:blip r:embed="rId1"/>
          <a:stretch/>
        </p:blipFill>
        <p:spPr>
          <a:xfrm>
            <a:off x="3962520" y="3429000"/>
            <a:ext cx="4343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67680" y="-53424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Фибоначчи вскрывают математическую основу многих природных явлений. Следы последовательности Фибоначчи можно обнаружить и в биологии, и в физике, и в астрономии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-5448960" y="3245400"/>
            <a:ext cx="20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Фибоначчи вскрывают математическую основу многих природных явлений. Следы последовательности Фибоначчи можно обнаружить и в биологии, и в физике, и в астрономи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-5448960" y="3245400"/>
            <a:ext cx="20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Фибоначчи вскрывают математическую основу многих природных явлений. Следы последовательности Фибоначчи можно обнаружить и в биологии, и в физике, и в астрономи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tmp1B-30"/>
          <p:cNvPicPr/>
          <p:nvPr/>
        </p:nvPicPr>
        <p:blipFill>
          <a:blip r:embed="rId1"/>
          <a:stretch/>
        </p:blipFill>
        <p:spPr>
          <a:xfrm>
            <a:off x="1981080" y="2514600"/>
            <a:ext cx="48675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3:23:51Z</dcterms:created>
  <dc:creator>Yuliya</dc:creator>
  <dc:description/>
  <dc:language>en-US</dc:language>
  <cp:lastModifiedBy>Сивалкин</cp:lastModifiedBy>
  <dcterms:modified xsi:type="dcterms:W3CDTF">2014-01-21T18:28:12Z</dcterms:modified>
  <cp:revision>2</cp:revision>
  <dc:subject/>
  <dc:title>Золотое Сечение</dc:title>
</cp:coreProperties>
</file>