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BA3-8EF2-4B76-9E99-1FE4A5573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4F0-0D6C-475D-98CF-C305D0B6F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4753-06D4-4A5D-AB86-07D5A0876E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9257-C6DB-4995-906E-33C096A1A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E67-3AC2-4C1E-94A3-F94E45BD3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C12-D3E9-450A-A456-BEE8D8CD9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ее, выше, сильне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ига Родина жд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янем все вместе, дру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! Россия! Впере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DFA5-675A-4EED-BB7B-19C410A9C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0C5D-F737-4E8D-A253-9CE19C69D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1DE-6438-46B9-B62C-493ED486F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7C0-24CB-4F4F-8CCC-C4B17CA3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B06-4D02-4AC2-BA11-EA392C9E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42B-9F00-457D-A169-1CF69D0D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895-4697-4EA9-95B8-322A6610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244-5412-43C0-9543-EEC92CF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8D8-1AF1-4585-8629-5CC09BC1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86C-4724-42A6-8AA2-937888E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540-F9FE-40D4-8678-13A63294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AA2-9FF9-4FED-9594-3149E1A4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D96-C8BF-4747-91CF-81971FA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254-2E72-4B81-AEAE-2391D161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C7F-9251-43AB-8AF0-9C75BA1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839-D0C7-4FA6-B163-AEA1A6675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ru.wikipedia.org/wiki/&#1055;&#1088;&#1099;&#1078;&#1082;&#1080;_&#1089;_&#1090;&#1088;&#1072;&#1084;&#1087;&#1083;&#1080;&#1085;&#1072;" TargetMode="External"/><Relationship Id="rId4" Type="http://schemas.openxmlformats.org/officeDocument/2006/relationships/hyperlink" Target="http://ru.wikipedia.org/wiki/&#1051;&#1099;&#1078;&#1085;&#1099;&#1077;_&#1075;&#1086;&#1085;&#1082;&#1080;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57;&#1072;&#1085;&#1080;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42;&#1080;&#1076;_&#1089;&#1087;&#1086;&#1088;&#1090;&#1072;" TargetMode="External"/><Relationship Id="rId4" Type="http://schemas.openxmlformats.org/officeDocument/2006/relationships/hyperlink" Target="http://ru.wikipedia.org/wiki/&#1057;&#1085;&#1086;&#1091;&#1073;&#1086;&#1088;&#1076;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57;&#1087;&#1086;&#1088;&#1090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http://ru.wikipedia.org/wiki/&#1051;&#1099;&#1078;&#1085;&#1099;&#1081;_&#1089;&#1087;&#1086;&#1088;&#1090;" TargetMode="External"/><Relationship Id="rId4" Type="http://schemas.openxmlformats.org/officeDocument/2006/relationships/hyperlink" Target="http://ru.wikipedia.org/wiki/&#1057;&#1085;&#1086;&#1091;&#1073;&#1086;&#1088;&#1076;&#1080;&#1085;&#1075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57;&#1080;&#1084;&#1074;&#1086;&#1083;" TargetMode="External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1924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5" Type="http://schemas.openxmlformats.org/officeDocument/2006/relationships/hyperlink" Target="http://www.brand-news.ru/images/news/_o_494452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ИМПИЙ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43600" y="12139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59c"/>
                </a:solidFill>
                <a:latin typeface="Calibri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dis121.gif"/>
          <p:cNvPicPr/>
          <p:nvPr/>
        </p:nvPicPr>
        <p:blipFill>
          <a:blip r:embed="rId1"/>
          <a:stretch/>
        </p:blipFill>
        <p:spPr>
          <a:xfrm>
            <a:off x="1143000" y="47862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dis128.gif"/>
          <p:cNvPicPr/>
          <p:nvPr/>
        </p:nvPicPr>
        <p:blipFill>
          <a:blip r:embed="rId2"/>
          <a:stretch/>
        </p:blipFill>
        <p:spPr>
          <a:xfrm>
            <a:off x="3500280" y="5000760"/>
            <a:ext cx="104796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16231.jpg"/>
          <p:cNvPicPr/>
          <p:nvPr/>
        </p:nvPicPr>
        <p:blipFill>
          <a:blip r:embed="rId3"/>
          <a:stretch/>
        </p:blipFill>
        <p:spPr>
          <a:xfrm>
            <a:off x="6357960" y="4000680"/>
            <a:ext cx="2247840" cy="1928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88ea9cedfc3bd5334be8e2c2c56.jpg"/>
          <p:cNvPicPr/>
          <p:nvPr/>
        </p:nvPicPr>
        <p:blipFill>
          <a:blip r:embed="rId4"/>
          <a:stretch/>
        </p:blipFill>
        <p:spPr>
          <a:xfrm>
            <a:off x="214200" y="928800"/>
            <a:ext cx="5857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ecc06-13694.jpg"/>
          <p:cNvPicPr/>
          <p:nvPr/>
        </p:nvPicPr>
        <p:blipFill>
          <a:blip r:embed="rId1"/>
          <a:stretch/>
        </p:blipFill>
        <p:spPr>
          <a:xfrm>
            <a:off x="3881520" y="3214800"/>
            <a:ext cx="526248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642960" y="428760"/>
            <a:ext cx="1905120" cy="1272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31840" y="2500200"/>
            <a:ext cx="365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Это кёрлин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омандная спортив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ледяной площ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Участники двух коман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оочерёдно пускают по ль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пециальные грани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наряды («камни» )в стор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размеченной на льду миш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250px-Olympic_flag_svg.png"/>
          <p:cNvPicPr/>
          <p:nvPr/>
        </p:nvPicPr>
        <p:blipFill>
          <a:blip r:embed="rId3"/>
          <a:stretch/>
        </p:blipFill>
        <p:spPr>
          <a:xfrm>
            <a:off x="642960" y="428760"/>
            <a:ext cx="190512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41262506_1237492431_610x.jpg"/>
          <p:cNvPicPr/>
          <p:nvPr/>
        </p:nvPicPr>
        <p:blipFill>
          <a:blip r:embed="rId1"/>
          <a:stretch/>
        </p:blipFill>
        <p:spPr>
          <a:xfrm>
            <a:off x="0" y="0"/>
            <a:ext cx="4143240" cy="3559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300px-michal_malak_at_tour_de_ski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080600" y="4071960"/>
            <a:ext cx="273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Лыжное двоебор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154320" y="4572000"/>
            <a:ext cx="57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ключает в себя следующие дисципл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рыжки с 90-метрового трамплин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(2 попытки)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лыжная гонк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на 15 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4318.jpg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2714400" cy="1812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29480" y="371484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анный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663720" y="4286160"/>
            <a:ext cx="566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Это соревнования в скоростном спу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одноместных или двухместных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анях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о заранее подготовленной тр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портсмены располагаются на санях на спи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огами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Управление санями производится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изменения положения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22023.jpg"/>
          <p:cNvPicPr/>
          <p:nvPr/>
        </p:nvPicPr>
        <p:blipFill>
          <a:blip r:embed="rId4"/>
          <a:stretch/>
        </p:blipFill>
        <p:spPr>
          <a:xfrm>
            <a:off x="335772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dcba926214db.jpg"/>
          <p:cNvPicPr/>
          <p:nvPr/>
        </p:nvPicPr>
        <p:blipFill>
          <a:blip r:embed="rId1"/>
          <a:stretch/>
        </p:blipFill>
        <p:spPr>
          <a:xfrm>
            <a:off x="2606760" y="0"/>
            <a:ext cx="653724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357120" y="357120"/>
            <a:ext cx="1905120" cy="1273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493160" y="45007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ноуборд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38480" y="5000760"/>
            <a:ext cx="509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Экстремальны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ид 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заключающийся в спус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 заснеженных склонов и г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а специальном снаряде 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сноуборде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send_ph.jpg"/>
          <p:cNvPicPr/>
          <p:nvPr/>
        </p:nvPicPr>
        <p:blipFill>
          <a:blip r:embed="rId1"/>
          <a:stretch/>
        </p:blipFill>
        <p:spPr>
          <a:xfrm>
            <a:off x="3332160" y="0"/>
            <a:ext cx="5811840" cy="3909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223520" y="4357800"/>
            <a:ext cx="36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бег на конь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3659040" y="4857840"/>
            <a:ext cx="517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ид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в котором необходи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как можно быстре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определённую дистанцию на лед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0.jpg"/>
          <p:cNvPicPr/>
          <p:nvPr/>
        </p:nvPicPr>
        <p:blipFill>
          <a:blip r:embed="rId1"/>
          <a:stretch/>
        </p:blipFill>
        <p:spPr>
          <a:xfrm>
            <a:off x="0" y="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imgp4513.jpg"/>
          <p:cNvPicPr/>
          <p:nvPr/>
        </p:nvPicPr>
        <p:blipFill>
          <a:blip r:embed="rId2"/>
          <a:stretch/>
        </p:blipFill>
        <p:spPr>
          <a:xfrm>
            <a:off x="4154400" y="0"/>
            <a:ext cx="4989600" cy="33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2009-03-24T235127Z_01_LAS220_RTRIDSP_3_FIGURE-SKATING-WORLD.jpg"/>
          <p:cNvPicPr/>
          <p:nvPr/>
        </p:nvPicPr>
        <p:blipFill>
          <a:blip r:embed="rId3"/>
          <a:stretch/>
        </p:blipFill>
        <p:spPr>
          <a:xfrm>
            <a:off x="4572000" y="3524400"/>
            <a:ext cx="2502000" cy="3333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442080" y="407196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Фигурное ка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800890.jpg"/>
          <p:cNvPicPr/>
          <p:nvPr/>
        </p:nvPicPr>
        <p:blipFill>
          <a:blip r:embed="rId1"/>
          <a:stretch/>
        </p:blipFill>
        <p:spPr>
          <a:xfrm>
            <a:off x="5500800" y="1928880"/>
            <a:ext cx="3484440" cy="3660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1607_free.jpg"/>
          <p:cNvPicPr/>
          <p:nvPr/>
        </p:nvPicPr>
        <p:blipFill>
          <a:blip r:embed="rId2"/>
          <a:stretch/>
        </p:blipFill>
        <p:spPr>
          <a:xfrm>
            <a:off x="571680" y="142920"/>
            <a:ext cx="4876560" cy="325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005560" y="3714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ристай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20080" y="4500720"/>
            <a:ext cx="449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ид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лыжного 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сноубординг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 состав фристайла вход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лыжная акробатик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ски-кросс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могул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ньюскул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ски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fin01828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357280" y="485784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428760" y="328608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Шор-т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short_trek.jpg"/>
          <p:cNvPicPr/>
          <p:nvPr/>
        </p:nvPicPr>
        <p:blipFill>
          <a:blip r:embed="rId1"/>
          <a:stretch/>
        </p:blipFill>
        <p:spPr>
          <a:xfrm>
            <a:off x="4929120" y="3643200"/>
            <a:ext cx="400068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1235460450_sh.jpg"/>
          <p:cNvPicPr/>
          <p:nvPr/>
        </p:nvPicPr>
        <p:blipFill>
          <a:blip r:embed="rId2"/>
          <a:stretch/>
        </p:blipFill>
        <p:spPr>
          <a:xfrm>
            <a:off x="3071880" y="214200"/>
            <a:ext cx="2643120" cy="32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250px-Olympic_flag_svg.png"/>
          <p:cNvPicPr/>
          <p:nvPr/>
        </p:nvPicPr>
        <p:blipFill>
          <a:blip r:embed="rId3"/>
          <a:stretch/>
        </p:blipFill>
        <p:spPr>
          <a:xfrm>
            <a:off x="428760" y="57168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00040" y="414324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бег на конь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а короткой дорожке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орма конькобежного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ие медал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чи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631280" cy="376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&amp;Lcy;&amp;iecy;&amp;ocy;&amp;pcy;&amp;acy;&amp;rcy;&amp;dcy;"/>
          <p:cNvPicPr/>
          <p:nvPr/>
        </p:nvPicPr>
        <p:blipFill>
          <a:blip r:embed="rId2"/>
          <a:stretch/>
        </p:blipFill>
        <p:spPr>
          <a:xfrm rot="440400">
            <a:off x="2362320" y="3170160"/>
            <a:ext cx="2400120" cy="3895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Логотип-Олимпиады-2014-в-Сочи.jpg"/>
          <p:cNvPicPr/>
          <p:nvPr/>
        </p:nvPicPr>
        <p:blipFill>
          <a:blip r:embed="rId3"/>
          <a:stretch/>
        </p:blipFill>
        <p:spPr>
          <a:xfrm>
            <a:off x="-181080" y="100080"/>
            <a:ext cx="154944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727200" y="214200"/>
            <a:ext cx="7459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лимпиа́да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— крупнейшие междунар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портивные соревнования, которые проводятся кажд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четыре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38840" y="1714680"/>
            <a:ext cx="79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одина Олимпийских игр – Древняя Греция, город Олим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Олимпии и произошло название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олимпия.jpg"/>
          <p:cNvPicPr/>
          <p:nvPr/>
        </p:nvPicPr>
        <p:blipFill>
          <a:blip r:embed="rId1"/>
          <a:stretch/>
        </p:blipFill>
        <p:spPr>
          <a:xfrm>
            <a:off x="714240" y="2500200"/>
            <a:ext cx="7929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579523"/>
          <p:cNvPicPr/>
          <p:nvPr/>
        </p:nvPicPr>
        <p:blipFill>
          <a:blip r:embed="rId1"/>
          <a:stretch/>
        </p:blipFill>
        <p:spPr>
          <a:xfrm>
            <a:off x="250920" y="3213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d5aef7b55e07"/>
          <p:cNvPicPr/>
          <p:nvPr/>
        </p:nvPicPr>
        <p:blipFill>
          <a:blip r:embed="rId2"/>
          <a:stretch/>
        </p:blipFill>
        <p:spPr>
          <a:xfrm>
            <a:off x="5435640" y="314172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35676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лимпийские иг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атель Паралимпийского движения, выдающийся нейрохирур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виг Гуттм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899—198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250px-Olympic_flag_svg.png"/>
          <p:cNvPicPr/>
          <p:nvPr/>
        </p:nvPicPr>
        <p:blipFill>
          <a:blip r:embed="rId1"/>
          <a:stretch/>
        </p:blipFill>
        <p:spPr>
          <a:xfrm>
            <a:off x="4643280" y="428760"/>
            <a:ext cx="416736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85880" y="3571920"/>
            <a:ext cx="72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Символ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Олимпийских игр — пять скреплё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олец, символизирующих объединение п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частей света в олимпийском дви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Цвет колец в верхнем ряду — голубо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Европы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чёрный дл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фрик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красный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Америк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в нижнем ряду — жёлты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Ази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зелёный дл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Австрали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d91c_nok.jpg"/>
          <p:cNvPicPr/>
          <p:nvPr/>
        </p:nvPicPr>
        <p:blipFill>
          <a:blip r:embed="rId8"/>
          <a:stretch/>
        </p:blipFill>
        <p:spPr>
          <a:xfrm>
            <a:off x="214200" y="42876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57120" y="357120"/>
            <a:ext cx="505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Девиз Олимпийских иг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ыстрее, выше, си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74560" y="592920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лаг – белое полотнище с олимпийскими коль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full_Pojelat.jpg"/>
          <p:cNvPicPr/>
          <p:nvPr/>
        </p:nvPicPr>
        <p:blipFill>
          <a:blip r:embed="rId1"/>
          <a:stretch/>
        </p:blipFill>
        <p:spPr>
          <a:xfrm>
            <a:off x="571680" y="1714680"/>
            <a:ext cx="8286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16231.jpg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6286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s102116A.jpg"/>
          <p:cNvPicPr/>
          <p:nvPr/>
        </p:nvPicPr>
        <p:blipFill>
          <a:blip r:embed="rId2"/>
          <a:stretch/>
        </p:blipFill>
        <p:spPr>
          <a:xfrm>
            <a:off x="214200" y="285840"/>
            <a:ext cx="3500640" cy="421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000080" y="4786200"/>
            <a:ext cx="257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Церемонию открытия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всегда заверш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зажжение Олимпийского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13560" y="285840"/>
            <a:ext cx="80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На время Олимпийских игр в Древней Грец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рекращались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и заключалось перемир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Пять дней длились игры. Атлеты соревновались в пятиборь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бег, прыжки в длину, метание диска и копья, борьб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Проводились и конные состязания – гонки колесниц, запряжённых четвёр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лоша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спортивная борьба.jpg"/>
          <p:cNvPicPr/>
          <p:nvPr/>
        </p:nvPicPr>
        <p:blipFill>
          <a:blip r:embed="rId1"/>
          <a:stretch/>
        </p:blipFill>
        <p:spPr>
          <a:xfrm>
            <a:off x="3786120" y="3143160"/>
            <a:ext cx="2143080" cy="1563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GreekChariotBig.jpg"/>
          <p:cNvPicPr/>
          <p:nvPr/>
        </p:nvPicPr>
        <p:blipFill>
          <a:blip r:embed="rId2"/>
          <a:stretch/>
        </p:blipFill>
        <p:spPr>
          <a:xfrm>
            <a:off x="6357960" y="1928880"/>
            <a:ext cx="1974960" cy="1857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23843_128959778882522382109_Original.jpg"/>
          <p:cNvPicPr/>
          <p:nvPr/>
        </p:nvPicPr>
        <p:blipFill>
          <a:blip r:embed="rId3"/>
          <a:stretch/>
        </p:blipFill>
        <p:spPr>
          <a:xfrm>
            <a:off x="785880" y="2143080"/>
            <a:ext cx="2609640" cy="1724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2vwifszduacv9w7t2o_1.jpg"/>
          <p:cNvPicPr/>
          <p:nvPr/>
        </p:nvPicPr>
        <p:blipFill>
          <a:blip r:embed="rId4"/>
          <a:stretch/>
        </p:blipFill>
        <p:spPr>
          <a:xfrm>
            <a:off x="1928880" y="4143240"/>
            <a:ext cx="1285920" cy="2301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artgreece14.jpg"/>
          <p:cNvPicPr/>
          <p:nvPr/>
        </p:nvPicPr>
        <p:blipFill>
          <a:blip r:embed="rId5"/>
          <a:stretch/>
        </p:blipFill>
        <p:spPr>
          <a:xfrm>
            <a:off x="6429240" y="3857760"/>
            <a:ext cx="1522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214720" y="1357200"/>
            <a:ext cx="48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 2014 году Зимние Олимпийск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ройдут в России, в городе С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250px-Olympic_flag_svg.png"/>
          <p:cNvPicPr/>
          <p:nvPr/>
        </p:nvPicPr>
        <p:blipFill>
          <a:blip r:embed="rId1"/>
          <a:stretch/>
        </p:blipFill>
        <p:spPr>
          <a:xfrm>
            <a:off x="214200" y="571680"/>
            <a:ext cx="1905120" cy="1272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16231.jpg"/>
          <p:cNvPicPr/>
          <p:nvPr/>
        </p:nvPicPr>
        <p:blipFill>
          <a:blip r:embed="rId2"/>
          <a:stretch/>
        </p:blipFill>
        <p:spPr>
          <a:xfrm>
            <a:off x="7072200" y="21420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2286000" y="214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1924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года проводятс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зимние Олимпийские игры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родолжительность Игр в среднем 16-18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_o_49445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200" y="2000160"/>
            <a:ext cx="4357800" cy="4714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4"/>
          <p:cNvSpPr/>
          <p:nvPr/>
        </p:nvSpPr>
        <p:spPr>
          <a:xfrm>
            <a:off x="4929120" y="278604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тличие от московской Олимпиады сочинский Медведь, во-первых, будет белым, а во-вторых, будет трудиться в компании Леопарда и Зайки — у Игр 2014 года будет сразу три симв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7288.jpg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9800" y="1928880"/>
            <a:ext cx="44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Это биат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Лыжная гонка со стрел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из вин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19047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5_1234544442.jpg"/>
          <p:cNvPicPr/>
          <p:nvPr/>
        </p:nvPicPr>
        <p:blipFill>
          <a:blip r:embed="rId1"/>
          <a:stretch/>
        </p:blipFill>
        <p:spPr>
          <a:xfrm>
            <a:off x="2928960" y="2357280"/>
            <a:ext cx="5491080" cy="402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389320" y="285840"/>
            <a:ext cx="655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Это бобс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спуск с гор по специ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ледовым трассам на управляемых санях – бо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250px-Olympic_flag_svg.png"/>
          <p:cNvPicPr/>
          <p:nvPr/>
        </p:nvPicPr>
        <p:blipFill>
          <a:blip r:embed="rId2"/>
          <a:stretch/>
        </p:blipFill>
        <p:spPr>
          <a:xfrm>
            <a:off x="285840" y="357120"/>
            <a:ext cx="19047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23:14Z</dcterms:created>
  <dc:creator>Admin</dc:creator>
  <dc:description/>
  <dc:language>en-US</dc:language>
  <cp:lastModifiedBy>Twilight Angel</cp:lastModifiedBy>
  <dcterms:modified xsi:type="dcterms:W3CDTF">2014-01-30T08:44:47Z</dcterms:modified>
  <cp:revision>50</cp:revision>
  <dc:subject/>
  <dc:title>ОЛИМПИЙСКИЕ ИГРЫ (классный час)</dc:title>
</cp:coreProperties>
</file>