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4.gif" ContentType="image/gif"/>
  <Override PartName="/ppt/media/image32.jpeg" ContentType="image/jpeg"/>
  <Override PartName="/ppt/media/image4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26.jpeg" ContentType="image/jpeg"/>
  <Override PartName="/ppt/media/image35.png" ContentType="image/png"/>
  <Override PartName="/ppt/media/image12.gif" ContentType="image/gif"/>
  <Override PartName="/ppt/media/image30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34.jpeg" ContentType="image/jpeg"/>
  <Override PartName="/ppt/media/image15.gif" ContentType="image/gif"/>
  <Override PartName="/ppt/media/image28.jpeg" ContentType="image/jpeg"/>
  <Override PartName="/ppt/media/image33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5.gif" ContentType="image/gif"/>
  <Override PartName="/ppt/media/image1.wmf" ContentType="image/x-wmf"/>
  <Override PartName="/ppt/media/image22.gif" ContentType="image/gif"/>
  <Override PartName="/ppt/media/image25.jpeg" ContentType="image/jpeg"/>
  <Override PartName="/ppt/media/image31.jpeg" ContentType="image/jpeg"/>
  <Override PartName="/ppt/media/image14.gif" ContentType="image/gif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D3A5-93C2-44ED-86BD-E8366E824E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какие сказки изображены на картинках. Какая картинка лищня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6BA2-6451-4D62-8AB4-E50BC18DA5F8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5288-48F0-4F01-845F-313FD3F4DD98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784-F380-4F81-9C0A-ABFC2AC8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E42-42C7-426D-9A51-F1FEE56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C65-3D9B-4D0B-A4A4-C70A9101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29B-1139-4B16-9B32-70C2EA82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A6E-68E6-4637-8364-FE7257A4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95EF-11F3-485F-8604-7BEA59D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258-2F5A-447B-832F-3151F41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3EA-795E-44C8-BFF0-6B39F77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B025-966D-4B7F-8015-5B5ED9A7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4C9-FAD7-42F2-8A27-0BBFF4B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2D1-2797-4E78-A5A6-C40C073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859-E870-4D59-B2F3-1A899BF7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D8E-A732-41B8-B137-87C73C8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98D0-10B8-4224-B987-591EDF9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AECD-99EA-4286-B882-154829D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4A0-EC85-437F-A598-8517AC9F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6A46-F535-4895-B7EE-A827539A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85E-3413-4E47-87D8-DEBEE54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EF1-FD34-4F61-A7B2-E59FC233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0B6-3AD2-4D37-8CCE-5A492436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710-11DF-40CF-86A3-1A4A569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712-A0AC-42EF-AB85-B6D2652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72A-3E6E-4701-9166-9BBC91F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EE8-7483-46EE-A3A9-3A37A46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11DB-3859-485D-92EF-7DDA99CD95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8769-1AB2-436B-8947-D1B82661B72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ff3300"/>
                </a:solidFill>
                <a:latin typeface="Verdana"/>
              </a:rPr>
              <a:t>День</a:t>
            </a:r>
            <a:br>
              <a:rPr sz="10600"/>
            </a:br>
            <a:r>
              <a:rPr b="1" lang="ru-RU" sz="10600" spc="-1" strike="noStrike">
                <a:solidFill>
                  <a:srgbClr val="ff3300"/>
                </a:solidFill>
                <a:latin typeface="Verdana"/>
              </a:rPr>
              <a:t>Знаний</a:t>
            </a:r>
            <a:endParaRPr b="0" lang="en-US" sz="10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с) Борисова Наталья Николаевна, 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АОУ «СОШ№43» г.Перм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76720" y="188640"/>
            <a:ext cx="1811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лю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4" descr="096b"/>
          <p:cNvPicPr/>
          <p:nvPr/>
        </p:nvPicPr>
        <p:blipFill>
          <a:blip r:embed="rId1"/>
          <a:stretch/>
        </p:blipFill>
        <p:spPr>
          <a:xfrm>
            <a:off x="3492360" y="1628640"/>
            <a:ext cx="1405080" cy="1873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fish0"/>
          <p:cNvPicPr/>
          <p:nvPr/>
        </p:nvPicPr>
        <p:blipFill>
          <a:blip r:embed="rId2"/>
          <a:stretch/>
        </p:blipFill>
        <p:spPr>
          <a:xfrm>
            <a:off x="250920" y="1628640"/>
            <a:ext cx="2008080" cy="223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fish1-2"/>
          <p:cNvPicPr/>
          <p:nvPr/>
        </p:nvPicPr>
        <p:blipFill>
          <a:blip r:embed="rId3"/>
          <a:stretch/>
        </p:blipFill>
        <p:spPr>
          <a:xfrm>
            <a:off x="6300720" y="836640"/>
            <a:ext cx="2592360" cy="1111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fish1-3"/>
          <p:cNvPicPr/>
          <p:nvPr/>
        </p:nvPicPr>
        <p:blipFill>
          <a:blip r:embed="rId4"/>
          <a:stretch/>
        </p:blipFill>
        <p:spPr>
          <a:xfrm>
            <a:off x="5219640" y="4437000"/>
            <a:ext cx="1595520" cy="117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fish1-7"/>
          <p:cNvPicPr/>
          <p:nvPr/>
        </p:nvPicPr>
        <p:blipFill>
          <a:blip r:embed="rId5"/>
          <a:stretch/>
        </p:blipFill>
        <p:spPr>
          <a:xfrm>
            <a:off x="3564000" y="476280"/>
            <a:ext cx="1512720" cy="998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fish1-8"/>
          <p:cNvPicPr/>
          <p:nvPr/>
        </p:nvPicPr>
        <p:blipFill>
          <a:blip r:embed="rId6"/>
          <a:stretch/>
        </p:blipFill>
        <p:spPr>
          <a:xfrm>
            <a:off x="395280" y="260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fish3-10"/>
          <p:cNvPicPr/>
          <p:nvPr/>
        </p:nvPicPr>
        <p:blipFill>
          <a:blip r:embed="rId7"/>
          <a:stretch/>
        </p:blipFill>
        <p:spPr>
          <a:xfrm>
            <a:off x="324000" y="4292640"/>
            <a:ext cx="2160360" cy="1843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fish3-12"/>
          <p:cNvPicPr/>
          <p:nvPr/>
        </p:nvPicPr>
        <p:blipFill>
          <a:blip r:embed="rId8"/>
          <a:stretch/>
        </p:blipFill>
        <p:spPr>
          <a:xfrm>
            <a:off x="7451640" y="5300640"/>
            <a:ext cx="1362240" cy="1362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fish5-2"/>
          <p:cNvPicPr/>
          <p:nvPr/>
        </p:nvPicPr>
        <p:blipFill>
          <a:blip r:embed="rId9"/>
          <a:stretch/>
        </p:blipFill>
        <p:spPr>
          <a:xfrm>
            <a:off x="2843280" y="501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fish6-14"/>
          <p:cNvPicPr/>
          <p:nvPr/>
        </p:nvPicPr>
        <p:blipFill>
          <a:blip r:embed="rId10"/>
          <a:stretch/>
        </p:blipFill>
        <p:spPr>
          <a:xfrm>
            <a:off x="5867280" y="3141720"/>
            <a:ext cx="2305080" cy="9396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"/>
          <p:cNvSpPr/>
          <p:nvPr/>
        </p:nvSpPr>
        <p:spPr>
          <a:xfrm>
            <a:off x="324000" y="5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линей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3747960" y="90792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но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0" y="2276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Руч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арандаш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3418920" y="22766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букв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5126040" y="3068640"/>
            <a:ext cx="38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Вопросите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зна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139320" y="4724280"/>
            <a:ext cx="363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Восклицате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зна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3157200" y="558972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ти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09360" y="57340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5158080" y="450864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запят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Verdana"/>
              </a:rPr>
              <a:t>Чтение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усть книги друзьями заходят в дом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итайте всю жизнь, набирайтесь у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5003640" y="1557360"/>
            <a:ext cx="3630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Verdana"/>
              </a:rPr>
              <a:t>Не бойся сказок. Бойся лж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Verdana"/>
              </a:rPr>
              <a:t>А сказка? Сказка не обман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" descr="2"/>
          <p:cNvPicPr/>
          <p:nvPr/>
        </p:nvPicPr>
        <p:blipFill>
          <a:blip r:embed="rId1"/>
          <a:stretch/>
        </p:blipFill>
        <p:spPr>
          <a:xfrm>
            <a:off x="2484360" y="1916280"/>
            <a:ext cx="32180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Verdana"/>
              </a:rPr>
              <a:t>Здравствуй, сказка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2" name="Вовка.wmv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5543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4" descr="5"/>
          <p:cNvPicPr/>
          <p:nvPr/>
        </p:nvPicPr>
        <p:blipFill>
          <a:blip r:embed="rId1"/>
          <a:stretch/>
        </p:blipFill>
        <p:spPr>
          <a:xfrm>
            <a:off x="0" y="620640"/>
            <a:ext cx="3936960" cy="5248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3"/>
          <p:cNvPicPr/>
          <p:nvPr/>
        </p:nvPicPr>
        <p:blipFill>
          <a:blip r:embed="rId2"/>
          <a:stretch/>
        </p:blipFill>
        <p:spPr>
          <a:xfrm>
            <a:off x="6195960" y="0"/>
            <a:ext cx="2948040" cy="3887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0"/>
            <a:ext cx="3384720" cy="325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294420"/>
          <p:cNvPicPr/>
          <p:nvPr/>
        </p:nvPicPr>
        <p:blipFill>
          <a:blip r:embed="rId5"/>
          <a:stretch/>
        </p:blipFill>
        <p:spPr>
          <a:xfrm>
            <a:off x="4932360" y="3451320"/>
            <a:ext cx="42116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Окружающий мир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0" name="Picture 5" descr="PRAV30"/>
          <p:cNvPicPr/>
          <p:nvPr/>
        </p:nvPicPr>
        <p:blipFill>
          <a:blip r:embed="rId1"/>
          <a:stretch/>
        </p:blipFill>
        <p:spPr>
          <a:xfrm>
            <a:off x="2411280" y="1628640"/>
            <a:ext cx="389916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то же это за девиц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и швея, ни мастериц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ичего сама не шьё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А в иголках круглый г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880560" y="6033960"/>
            <a:ext cx="130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ель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7" descr="ель"/>
          <p:cNvPicPr/>
          <p:nvPr/>
        </p:nvPicPr>
        <p:blipFill>
          <a:blip r:embed="rId1"/>
          <a:stretch/>
        </p:blipFill>
        <p:spPr>
          <a:xfrm>
            <a:off x="4551480" y="1125360"/>
            <a:ext cx="3987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лиственница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09920" cy="4000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357120" y="1714680"/>
            <a:ext cx="596448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Есть у родственницы ели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Неколючие иголки,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Но, в отличии от ёлки,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Опадают те иголки.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9" name="Picture 4" descr="betula"/>
          <p:cNvPicPr/>
          <p:nvPr/>
        </p:nvPicPr>
        <p:blipFill>
          <a:blip r:embed="rId1"/>
          <a:stretch/>
        </p:blipFill>
        <p:spPr>
          <a:xfrm>
            <a:off x="5651640" y="189000"/>
            <a:ext cx="3082680" cy="4456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6112800" y="4797360"/>
            <a:ext cx="20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57120" y="1714680"/>
            <a:ext cx="5248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Стоит Алён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Платок зелёный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Тонкий стан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Белый сарафан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ОСИНА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4857840" y="1484280"/>
            <a:ext cx="4286160" cy="40006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250920" y="1916280"/>
            <a:ext cx="475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Что за дерево стои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Ветра нет, а а лист дрожит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42960" y="1000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Дней в году немало славных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о один у нас тако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огда в школу даже ма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оспешают с детвор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И звенит звонок весёлы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Созывая всех вокруг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Этот день у нас особый 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«Знаний День» его зову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J0215853"/>
          <p:cNvPicPr/>
          <p:nvPr/>
        </p:nvPicPr>
        <p:blipFill>
          <a:blip r:embed="rId1"/>
          <a:stretch/>
        </p:blipFill>
        <p:spPr>
          <a:xfrm>
            <a:off x="395280" y="487440"/>
            <a:ext cx="8569440" cy="63500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4140360" y="4869000"/>
            <a:ext cx="273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95280" y="487440"/>
            <a:ext cx="856944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714240" y="333360"/>
            <a:ext cx="3930840" cy="4681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Хоть не шляп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 с полям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цвето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 с корешком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говарива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 нами вс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нятным языком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5"/>
          <p:cNvPicPr/>
          <p:nvPr/>
        </p:nvPicPr>
        <p:blipFill>
          <a:blip r:embed="rId1"/>
          <a:stretch/>
        </p:blipFill>
        <p:spPr>
          <a:xfrm>
            <a:off x="5419800" y="313380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тение – вот лучше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94836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у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3068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Кто много читает, тот много 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4437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Хорошая книга  - лучший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24000" y="566100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зна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132000" y="56610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дру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9" descr="PRAV30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4.9711E-006 L -0.12778 -0.5771 E">
                                      <p:cBhvr>
                                        <p:cTn id="8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4624E-007 L 0.65364 -0.37757 E">
                                      <p:cBhvr>
                                        <p:cTn id="9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0.24809 -0.18312 E">
                                      <p:cBhvr>
                                        <p:cTn id="9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7080" y="756720"/>
            <a:ext cx="7630200" cy="454248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round/>
          </a:ln>
          <a:effectLst>
            <a:outerShdw dist="107932" dir="2700000" blurRad="0" rotWithShape="0">
              <a:srgbClr val="ffffc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Школьные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науки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AG00020_"/>
          <p:cNvPicPr/>
          <p:nvPr/>
        </p:nvPicPr>
        <p:blipFill>
          <a:blip r:embed="rId1"/>
          <a:stretch/>
        </p:blipFill>
        <p:spPr>
          <a:xfrm>
            <a:off x="6877080" y="3446640"/>
            <a:ext cx="2266920" cy="1511280"/>
          </a:xfrm>
          <a:prstGeom prst="rect">
            <a:avLst/>
          </a:prstGeom>
          <a:ln w="0">
            <a:noFill/>
          </a:ln>
        </p:spPr>
      </p:pic>
      <p:cxnSp>
        <p:nvCxnSpPr>
          <p:cNvPr id="195" name="AutoShape 7"/>
          <p:cNvCxnSpPr/>
          <p:nvPr/>
        </p:nvCxnSpPr>
        <p:spPr>
          <a:xfrm flipV="1">
            <a:off x="1834920" y="6453000"/>
            <a:ext cx="1080" cy="2160"/>
          </a:xfrm>
          <a:prstGeom prst="straightConnector1">
            <a:avLst/>
          </a:prstGeom>
          <a:ln w="9360">
            <a:solidFill>
              <a:srgbClr val="006699"/>
            </a:solidFill>
            <a:miter/>
          </a:ln>
        </p:spPr>
      </p:cxnSp>
      <p:pic>
        <p:nvPicPr>
          <p:cNvPr id="196" name="Picture 8" descr="J0215853"/>
          <p:cNvPicPr/>
          <p:nvPr/>
        </p:nvPicPr>
        <p:blipFill>
          <a:blip r:embed="rId2"/>
          <a:stretch/>
        </p:blipFill>
        <p:spPr>
          <a:xfrm>
            <a:off x="0" y="3335400"/>
            <a:ext cx="4753080" cy="35226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08000" y="5734080"/>
            <a:ext cx="172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Первое – предлог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Второе – летний дом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 целое, порой, решается с тру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763640" y="407664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за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99564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Verdana"/>
              </a:rPr>
              <a:t>дач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6" descr="PRAV30"/>
          <p:cNvPicPr/>
          <p:nvPr/>
        </p:nvPicPr>
        <p:blipFill>
          <a:blip r:embed="rId1"/>
          <a:stretch/>
        </p:blipFill>
        <p:spPr>
          <a:xfrm>
            <a:off x="6681960" y="0"/>
            <a:ext cx="24620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Verdana"/>
              </a:rPr>
              <a:t>Задача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4643280" y="285264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25" descr="AG00373_"/>
          <p:cNvPicPr/>
          <p:nvPr/>
        </p:nvPicPr>
        <p:blipFill>
          <a:blip r:embed="rId1"/>
          <a:stretch/>
        </p:blipFill>
        <p:spPr>
          <a:xfrm>
            <a:off x="7740720" y="508464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4"/>
          <p:cNvSpPr/>
          <p:nvPr/>
        </p:nvSpPr>
        <p:spPr>
          <a:xfrm>
            <a:off x="1547640" y="2133720"/>
            <a:ext cx="2737080" cy="1942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1547640" y="4076640"/>
            <a:ext cx="2737080" cy="2016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37"/>
          <p:cNvSpPr/>
          <p:nvPr/>
        </p:nvSpPr>
        <p:spPr>
          <a:xfrm>
            <a:off x="2916360" y="2133720"/>
            <a:ext cx="0" cy="19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8"/>
          <p:cNvSpPr/>
          <p:nvPr/>
        </p:nvSpPr>
        <p:spPr>
          <a:xfrm>
            <a:off x="2916360" y="4076640"/>
            <a:ext cx="0" cy="2016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1547640" y="2133720"/>
            <a:ext cx="1368720" cy="19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2916360" y="2133720"/>
            <a:ext cx="1368360" cy="1942920"/>
          </a:xfrm>
          <a:prstGeom prst="rect">
            <a:avLst/>
          </a:prstGeom>
          <a:solidFill>
            <a:srgbClr val="0000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1547640" y="4076640"/>
            <a:ext cx="1368720" cy="201636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2916360" y="4076640"/>
            <a:ext cx="1368360" cy="20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1547640" y="2133720"/>
            <a:ext cx="27370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1547640" y="4076640"/>
            <a:ext cx="2737080" cy="201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1547640" y="2133720"/>
            <a:ext cx="1440000" cy="395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2987640" y="2133720"/>
            <a:ext cx="1368360" cy="395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1547640" y="2133720"/>
            <a:ext cx="2808360" cy="3959280"/>
          </a:xfrm>
          <a:prstGeom prst="rect">
            <a:avLst/>
          </a:prstGeom>
          <a:solidFill>
            <a:srgbClr val="fa3c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49" descr="J0178305"/>
          <p:cNvPicPr/>
          <p:nvPr/>
        </p:nvPicPr>
        <p:blipFill>
          <a:blip r:embed="rId2"/>
          <a:stretch/>
        </p:blipFill>
        <p:spPr>
          <a:xfrm>
            <a:off x="5508720" y="1484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Verdana"/>
              </a:rPr>
              <a:t>Грамматика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Picture 4" descr="fish1-1"/>
          <p:cNvPicPr/>
          <p:nvPr/>
        </p:nvPicPr>
        <p:blipFill>
          <a:blip r:embed="rId1"/>
          <a:stretch/>
        </p:blipFill>
        <p:spPr>
          <a:xfrm>
            <a:off x="324000" y="333360"/>
            <a:ext cx="1428480" cy="2414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fish4-8"/>
          <p:cNvPicPr/>
          <p:nvPr/>
        </p:nvPicPr>
        <p:blipFill>
          <a:blip r:embed="rId2"/>
          <a:stretch/>
        </p:blipFill>
        <p:spPr>
          <a:xfrm>
            <a:off x="4572000" y="2492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ish4-1"/>
          <p:cNvPicPr/>
          <p:nvPr/>
        </p:nvPicPr>
        <p:blipFill>
          <a:blip r:embed="rId3"/>
          <a:stretch/>
        </p:blipFill>
        <p:spPr>
          <a:xfrm>
            <a:off x="3059280" y="148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fish4-2"/>
          <p:cNvPicPr/>
          <p:nvPr/>
        </p:nvPicPr>
        <p:blipFill>
          <a:blip r:embed="rId4"/>
          <a:stretch/>
        </p:blipFill>
        <p:spPr>
          <a:xfrm>
            <a:off x="6877080" y="141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fish4-4"/>
          <p:cNvPicPr/>
          <p:nvPr/>
        </p:nvPicPr>
        <p:blipFill>
          <a:blip r:embed="rId5"/>
          <a:stretch/>
        </p:blipFill>
        <p:spPr>
          <a:xfrm>
            <a:off x="7812000" y="47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ish4-5"/>
          <p:cNvPicPr/>
          <p:nvPr/>
        </p:nvPicPr>
        <p:blipFill>
          <a:blip r:embed="rId6"/>
          <a:stretch/>
        </p:blipFill>
        <p:spPr>
          <a:xfrm>
            <a:off x="3059280" y="47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fish4-6"/>
          <p:cNvPicPr/>
          <p:nvPr/>
        </p:nvPicPr>
        <p:blipFill>
          <a:blip r:embed="rId7"/>
          <a:stretch/>
        </p:blipFill>
        <p:spPr>
          <a:xfrm>
            <a:off x="6443640" y="3573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fish4-7"/>
          <p:cNvPicPr/>
          <p:nvPr/>
        </p:nvPicPr>
        <p:blipFill>
          <a:blip r:embed="rId8"/>
          <a:stretch/>
        </p:blipFill>
        <p:spPr>
          <a:xfrm>
            <a:off x="1332000" y="37162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2"/>
          <p:cNvSpPr/>
          <p:nvPr/>
        </p:nvSpPr>
        <p:spPr>
          <a:xfrm>
            <a:off x="32400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хл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54480" y="285264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л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411280" y="227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у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2745360" y="227664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644364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тол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6489720" y="21337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ст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0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ук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1230120" y="479736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к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4284720" y="3213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зуб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4328280" y="3213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зу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227640" y="450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кос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6567480" y="450864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ос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627280" y="558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ра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25"/>
          <p:cNvSpPr/>
          <p:nvPr/>
        </p:nvSpPr>
        <p:spPr>
          <a:xfrm flipV="1" rot="10736400">
            <a:off x="2987280" y="558936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ра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7380360" y="573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пол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7426440" y="5734080"/>
            <a:ext cx="1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п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7:44Z</dcterms:created>
  <dc:creator>Наташа</dc:creator>
  <dc:description/>
  <dc:language>en-US</dc:language>
  <cp:lastModifiedBy>Наташа</cp:lastModifiedBy>
  <dcterms:modified xsi:type="dcterms:W3CDTF">2014-01-30T19:43:50Z</dcterms:modified>
  <cp:revision>17</cp:revision>
  <dc:subject/>
  <dc:title>День Знаний</dc:title>
</cp:coreProperties>
</file>