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jpeg" ContentType="image/jpeg"/>
  <Override PartName="/ppt/media/image9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F36-2E9F-4E48-BCC6-CA57D339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462-D4C1-4EEF-B7EB-B9F5134B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EB1-D4A8-4948-ADB7-E952CEB6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47E-1CA7-4BE9-9D3C-98E77214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7AC-C89C-4769-9ED6-A18B7BCA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DF6-DA96-462C-976D-9D17AE5D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CAC-9223-4BF9-8C36-973C83E9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983-DD2F-409C-96E0-F7F959A3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B4D-81C5-4FF8-A0DF-D11E9125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603-F97A-4B99-918C-E038A40E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1A4-4764-48D9-B1A9-CF6174C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515-645C-4302-9255-5C396AD8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F2B9-3ECA-4858-A3F2-8E23162AC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299440" cy="492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РОБЛЕМЫ ЭКОЛОГИ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МОЕЙ МАЛОЙ РОД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299440" cy="492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РОБЛЕМЫ ЭКОЛОГИ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МОЕЙ МАЛОЙ РОД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"/>
          <p:cNvPicPr/>
          <p:nvPr/>
        </p:nvPicPr>
        <p:blipFill>
          <a:blip r:embed="rId1"/>
          <a:srcRect l="40490" t="24841" r="29323" b="49023"/>
          <a:stretch/>
        </p:blipFill>
        <p:spPr>
          <a:xfrm>
            <a:off x="500040" y="928800"/>
            <a:ext cx="8143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"/>
          <p:cNvPicPr/>
          <p:nvPr/>
        </p:nvPicPr>
        <p:blipFill>
          <a:blip r:embed="rId1"/>
          <a:srcRect l="40891" t="53961" r="29717" b="20557"/>
          <a:stretch/>
        </p:blipFill>
        <p:spPr>
          <a:xfrm>
            <a:off x="500040" y="1000080"/>
            <a:ext cx="8143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"/>
          <p:cNvPicPr/>
          <p:nvPr/>
        </p:nvPicPr>
        <p:blipFill>
          <a:blip r:embed="rId1"/>
          <a:srcRect l="40891" t="54822" r="29582" b="19272"/>
          <a:stretch/>
        </p:blipFill>
        <p:spPr>
          <a:xfrm>
            <a:off x="571680" y="785880"/>
            <a:ext cx="81435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rcRect l="40625" t="50322" r="29276" b="23984"/>
          <a:stretch/>
        </p:blipFill>
        <p:spPr>
          <a:xfrm>
            <a:off x="571680" y="1071720"/>
            <a:ext cx="8143560" cy="51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"/>
          <p:cNvPicPr/>
          <p:nvPr/>
        </p:nvPicPr>
        <p:blipFill>
          <a:blip r:embed="rId1"/>
          <a:srcRect l="40625" t="23984" r="29447" b="50538"/>
          <a:stretch/>
        </p:blipFill>
        <p:spPr>
          <a:xfrm>
            <a:off x="500040" y="928800"/>
            <a:ext cx="8143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"/>
          <p:cNvPicPr/>
          <p:nvPr/>
        </p:nvPicPr>
        <p:blipFill>
          <a:blip r:embed="rId1"/>
          <a:srcRect l="40758" t="52464" r="29296" b="22055"/>
          <a:stretch/>
        </p:blipFill>
        <p:spPr>
          <a:xfrm>
            <a:off x="500040" y="928800"/>
            <a:ext cx="8143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299440" cy="492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РОБЛЕМЫ ЭКОЛОГИ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eorgia"/>
                <a:ea typeface="Arial"/>
              </a:rPr>
              <a:t>МОЕЙ МАЛОЙ РОД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DSimmersblog.jp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500040" y="1428840"/>
            <a:ext cx="8286840" cy="4714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атмосферного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по таблиц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ой процент выбросов вредных загрязняющих веществ от общего количества выбросов загрязняющих веществ приходится на долю трех главных предприятий - загрязнителей атмосферы Тульской обл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00040" y="333360"/>
          <a:ext cx="8229600" cy="6192720"/>
        </p:xfrm>
        <a:graphic>
          <a:graphicData uri="http://schemas.openxmlformats.org/drawingml/2006/table">
            <a:tbl>
              <a:tblPr/>
              <a:tblGrid>
                <a:gridCol w="6232680"/>
                <a:gridCol w="1996920"/>
              </a:tblGrid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предприятий – основных источников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 от общего выб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Тулачермет», г. Т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 Тульский оружейный завод», г. Ту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Косогорский металлургический завод», г. Т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Евраз Ванадий Тула», г.Т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Тульский патронный завод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Щекиноазо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Черепетская ГРЭС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,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АО «НАК «Азо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атмосферного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428480"/>
            <a:ext cx="8472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дин легковой автомобиль поглощает ежегодно из атмосферы в среднем 4 т кислорода, а одн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ерево выделяе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 год около 73 кг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ислорода. Скольк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еревьев необходим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ля обеспеч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ислородом одн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я в год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6" descr="Рисунок3.png"/>
          <p:cNvPicPr/>
          <p:nvPr/>
        </p:nvPicPr>
        <p:blipFill>
          <a:blip r:embed="rId1"/>
          <a:srcRect l="0" t="18130" r="0" b="0"/>
          <a:stretch/>
        </p:blipFill>
        <p:spPr>
          <a:xfrm>
            <a:off x="5214960" y="2357280"/>
            <a:ext cx="3665520" cy="225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Рисунок 4" descr="i.jpeg"/>
          <p:cNvPicPr/>
          <p:nvPr/>
        </p:nvPicPr>
        <p:blipFill>
          <a:blip r:embed="rId2"/>
          <a:srcRect l="0" t="0" r="0" b="11464"/>
          <a:stretch/>
        </p:blipFill>
        <p:spPr>
          <a:xfrm>
            <a:off x="4500720" y="3429000"/>
            <a:ext cx="311940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123.gif"/>
          <p:cNvPicPr/>
          <p:nvPr/>
        </p:nvPicPr>
        <p:blipFill>
          <a:blip r:embed="rId3"/>
          <a:stretch/>
        </p:blipFill>
        <p:spPr>
          <a:xfrm>
            <a:off x="6357960" y="5256360"/>
            <a:ext cx="248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Узловой приблизительно 56 900 человек. Все они проживают в 5 районах нашего города, в три из которых поступает плохо очищенная вода. Сколько узловчан ежедневно теряют свое здоровье из-за грязной воды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врач.jpeg"/>
          <p:cNvPicPr/>
          <p:nvPr/>
        </p:nvPicPr>
        <p:blipFill>
          <a:blip r:embed="rId1"/>
          <a:stretch/>
        </p:blipFill>
        <p:spPr>
          <a:xfrm>
            <a:off x="5857920" y="4500720"/>
            <a:ext cx="2714760" cy="2011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6HLq4FR5UBfcik3I3p24_g_m.jpg"/>
          <p:cNvPicPr/>
          <p:nvPr/>
        </p:nvPicPr>
        <p:blipFill>
          <a:blip r:embed="rId2"/>
          <a:stretch/>
        </p:blipFill>
        <p:spPr>
          <a:xfrm>
            <a:off x="500040" y="4500720"/>
            <a:ext cx="257184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больной.gif"/>
          <p:cNvPicPr/>
          <p:nvPr/>
        </p:nvPicPr>
        <p:blipFill>
          <a:blip r:embed="rId3"/>
          <a:stretch/>
        </p:blipFill>
        <p:spPr>
          <a:xfrm>
            <a:off x="3500280" y="4500720"/>
            <a:ext cx="18576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 течение суток из крана в обычной семье в среднем расходуется 125 литров воды. Из неисправного крана за сутки тоненькой струйкой вытекло 4% от всей воды. Сколько воды  в одной семье за сутки потеряли, пока не починили кран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0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капает вода.gif"/>
          <p:cNvPicPr/>
          <p:nvPr/>
        </p:nvPicPr>
        <p:blipFill>
          <a:blip r:embed="rId1"/>
          <a:stretch/>
        </p:blipFill>
        <p:spPr>
          <a:xfrm>
            <a:off x="5357880" y="171468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поч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28720" y="1428840"/>
            <a:ext cx="4257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 среднем на одного человека в сутки приходится 2,5 кг мусор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 в нашем городе проживает 56 900 человек. Сколько мусора выбрасывают жители Узловой за сутки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 месяц, например, за ноябр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колько КАМАЗов грузоподъемностью 10 т потребуется для вывоза этого мусор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4089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роверьте реш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2,5 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56 900 = 142 250 (кг) – мусора за одни су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142 250  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30 = 4 267 500 (кг) – мусора за нояб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4 267 500 : 10 000 = 426,75 (шт.) – КАМАЗов в нояб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639960" y="1357200"/>
            <a:ext cx="5262840" cy="394344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Загрязненность поч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ранный зим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ег нуж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зи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) за город на пол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) за горо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пустош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) на лед прудов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зе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) на специальный полиго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22:18:48Z</dcterms:created>
  <dc:creator>user</dc:creator>
  <dc:description/>
  <dc:language>en-US</dc:language>
  <cp:lastModifiedBy>user</cp:lastModifiedBy>
  <dcterms:modified xsi:type="dcterms:W3CDTF">2013-11-26T03:15:32Z</dcterms:modified>
  <cp:revision>103</cp:revision>
  <dc:subject/>
  <dc:title>Слайд 1</dc:title>
</cp:coreProperties>
</file>