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E7B-1040-4977-BB10-4D6E1A26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50D-1B0C-4773-BF63-FB7A571D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829-49B2-47F0-8124-61424E09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B81-85E9-4ED4-A472-E21A8EBB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EA3-6408-4E1F-90BD-36D1C718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CA2-57A9-493B-B4D8-9D83AEE7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164-96A1-4F25-B860-B1D06751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B10-6E2A-4B6A-B51A-023EBD65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2A0-95AA-4391-8C9A-D891FB2E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D5C-E3C6-41BE-84B2-472FC12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13E-4D66-42B4-8CDF-6A43AC5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869-3341-4D71-BD9D-4C257FB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A475-63E9-4206-8CD6-426435709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im2-tub.yandex.net/i?id=120539438-12" TargetMode="External"/><Relationship Id="rId3" Type="http://schemas.openxmlformats.org/officeDocument/2006/relationships/hyperlink" Target="http://kino-hit.net/storage/1643/scrns/2.jpg" TargetMode="External"/><Relationship Id="rId4" Type="http://schemas.openxmlformats.org/officeDocument/2006/relationships/hyperlink" Target="http://forum.materinstvo.ru/uploads/1236385780/post-70101-1236449698_thumb.png" TargetMode="External"/><Relationship Id="rId5" Type="http://schemas.openxmlformats.org/officeDocument/2006/relationships/hyperlink" Target="http://www.bit2bit.org/torrents/images/50362.jpg" TargetMode="External"/><Relationship Id="rId6" Type="http://schemas.openxmlformats.org/officeDocument/2006/relationships/hyperlink" Target="http://besplatnovse.3dn.ru/1/38.popugaev.0-01-52.jpg" TargetMode="External"/><Relationship Id="rId7" Type="http://schemas.openxmlformats.org/officeDocument/2006/relationships/hyperlink" Target="http://sovetskiymultik.at.ua/_ph/16/2/517946444.jpg" TargetMode="External"/><Relationship Id="rId8" Type="http://schemas.openxmlformats.org/officeDocument/2006/relationships/hyperlink" Target="http://net23.ru/uploads/posts/2010-07/net23.ru_1279985273_02e827ee8a8e.png" TargetMode="External"/><Relationship Id="rId9" Type="http://schemas.openxmlformats.org/officeDocument/2006/relationships/hyperlink" Target="http://s09.radikal.ru/i182/1008/01/8fbafee0b054.jpg" TargetMode="External"/><Relationship Id="rId10" Type="http://schemas.openxmlformats.org/officeDocument/2006/relationships/hyperlink" Target="http://s.afisha.ru/Afisha7Files/UGPhotos/090318213859/090319134556/p_f.jpg" TargetMode="External"/><Relationship Id="rId11" Type="http://schemas.openxmlformats.org/officeDocument/2006/relationships/hyperlink" Target="http://www.afisha.ru/Afisha7Files/UGPhotos/081010223744/081216234202/p_f.jpg" TargetMode="External"/><Relationship Id="rId12" Type="http://schemas.openxmlformats.org/officeDocument/2006/relationships/hyperlink" Target="http://f4.vcp.digitalaccess.ru/contents/d/4/fee17e28bcb8657e7b4e27ce3fd1c7.jpg" TargetMode="External"/><Relationship Id="rId13" Type="http://schemas.openxmlformats.org/officeDocument/2006/relationships/hyperlink" Target="http://sovetskiy.3dn.ru/2/38.a.vdrug.poluchitsya.0-04-12.jpg" TargetMode="External"/><Relationship Id="rId14" Type="http://schemas.openxmlformats.org/officeDocument/2006/relationships/hyperlink" Target="http://mul.3dn.ru/pop/38.popugaev.0-02-00.jpg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13 из 699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067120" y="5732640"/>
            <a:ext cx="44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 : Гох Дар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дентка педагогического коллед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Картинка 100 из 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76360" y="1125360"/>
            <a:ext cx="338292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47640" y="2708280"/>
            <a:ext cx="2303640" cy="64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093080" y="2781360"/>
            <a:ext cx="1152360" cy="64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6734880" y="170028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765800" y="170028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00"/>
                </a:solidFill>
                <a:latin typeface="Arial"/>
              </a:rPr>
              <a:t>4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2126160" y="11592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252360" y="5516640"/>
            <a:ext cx="18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1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900000" y="3716280"/>
            <a:ext cx="57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1912680" y="580536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диница измерения д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8"/>
          <p:cNvGrpSpPr/>
          <p:nvPr/>
        </p:nvGrpSpPr>
        <p:grpSpPr>
          <a:xfrm>
            <a:off x="684360" y="4160520"/>
            <a:ext cx="6947640" cy="1184040"/>
            <a:chOff x="684360" y="4160520"/>
            <a:chExt cx="6947640" cy="1184040"/>
          </a:xfrm>
        </p:grpSpPr>
        <p:sp>
          <p:nvSpPr>
            <p:cNvPr id="166" name="Freeform 49"/>
            <p:cNvSpPr/>
            <p:nvPr/>
          </p:nvSpPr>
          <p:spPr>
            <a:xfrm>
              <a:off x="768960" y="4473720"/>
              <a:ext cx="6829920" cy="870840"/>
            </a:xfrm>
            <a:custGeom>
              <a:avLst/>
              <a:gdLst>
                <a:gd name="textAreaLeft" fmla="*/ 0 w 6829920"/>
                <a:gd name="textAreaRight" fmla="*/ 6830280 w 682992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0"/>
            <p:cNvSpPr/>
            <p:nvPr/>
          </p:nvSpPr>
          <p:spPr>
            <a:xfrm rot="17576400">
              <a:off x="1047600" y="483408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 rot="10800000">
              <a:off x="757800" y="4160160"/>
              <a:ext cx="6874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2"/>
            <p:cNvSpPr/>
            <p:nvPr/>
          </p:nvSpPr>
          <p:spPr>
            <a:xfrm>
              <a:off x="684360" y="4700520"/>
              <a:ext cx="687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fee17e28bcb8657e7b4e27ce3fd1c7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6"/>
          <p:cNvGrpSpPr/>
          <p:nvPr/>
        </p:nvGrpSpPr>
        <p:grpSpPr>
          <a:xfrm>
            <a:off x="250920" y="4939560"/>
            <a:ext cx="3960720" cy="909720"/>
            <a:chOff x="250920" y="4939560"/>
            <a:chExt cx="3960720" cy="909720"/>
          </a:xfrm>
        </p:grpSpPr>
        <p:sp>
          <p:nvSpPr>
            <p:cNvPr id="174" name="Freeform 7"/>
            <p:cNvSpPr/>
            <p:nvPr/>
          </p:nvSpPr>
          <p:spPr>
            <a:xfrm>
              <a:off x="299160" y="4978440"/>
              <a:ext cx="3893400" cy="870840"/>
            </a:xfrm>
            <a:custGeom>
              <a:avLst/>
              <a:gdLst>
                <a:gd name="textAreaLeft" fmla="*/ 0 w 3893400"/>
                <a:gd name="textAreaRight" fmla="*/ 3893760 w 389340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 rot="17576400">
              <a:off x="407880" y="5372280"/>
              <a:ext cx="2322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 rot="10800000">
              <a:off x="294120" y="4939560"/>
              <a:ext cx="39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250920" y="5205240"/>
              <a:ext cx="39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1"/>
          <p:cNvGrpSpPr/>
          <p:nvPr/>
        </p:nvGrpSpPr>
        <p:grpSpPr>
          <a:xfrm>
            <a:off x="4932360" y="4939560"/>
            <a:ext cx="3960720" cy="909720"/>
            <a:chOff x="4932360" y="4939560"/>
            <a:chExt cx="3960720" cy="909720"/>
          </a:xfrm>
        </p:grpSpPr>
        <p:sp>
          <p:nvSpPr>
            <p:cNvPr id="179" name="Freeform 12"/>
            <p:cNvSpPr/>
            <p:nvPr/>
          </p:nvSpPr>
          <p:spPr>
            <a:xfrm>
              <a:off x="4980600" y="4978440"/>
              <a:ext cx="3893400" cy="870840"/>
            </a:xfrm>
            <a:custGeom>
              <a:avLst/>
              <a:gdLst>
                <a:gd name="textAreaLeft" fmla="*/ 0 w 3893400"/>
                <a:gd name="textAreaRight" fmla="*/ 3893760 w 389340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 rot="17576400">
              <a:off x="5089320" y="5372280"/>
              <a:ext cx="2322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 rot="10800000">
              <a:off x="4975560" y="4939560"/>
              <a:ext cx="39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4932360" y="5205240"/>
              <a:ext cx="39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WordArt 16"/>
          <p:cNvSpPr txBox="1"/>
          <p:nvPr/>
        </p:nvSpPr>
        <p:spPr>
          <a:xfrm>
            <a:off x="1187280" y="549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ему разная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539640" y="4869000"/>
            <a:ext cx="216072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724360" y="4869000"/>
            <a:ext cx="223236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 rot="21322200">
            <a:off x="6407280" y="3212640"/>
            <a:ext cx="2736720" cy="709560"/>
          </a:xfrm>
          <a:prstGeom prst="wedgeEllipseCallout">
            <a:avLst>
              <a:gd name="adj1" fmla="val -59384"/>
              <a:gd name="adj2" fmla="val 14568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 rot="21322200">
            <a:off x="2484360" y="4005000"/>
            <a:ext cx="2737080" cy="709560"/>
          </a:xfrm>
          <a:prstGeom prst="wedgeEllipseCallout">
            <a:avLst>
              <a:gd name="adj1" fmla="val -76268"/>
              <a:gd name="adj2" fmla="val -7877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21"/>
          <p:cNvSpPr txBox="1"/>
          <p:nvPr/>
        </p:nvSpPr>
        <p:spPr>
          <a:xfrm>
            <a:off x="2987640" y="414972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сантиметр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WordArt 22"/>
          <p:cNvSpPr txBox="1"/>
          <p:nvPr/>
        </p:nvSpPr>
        <p:spPr>
          <a:xfrm>
            <a:off x="6804000" y="342900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сантиметр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obezyan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5"/>
          <p:cNvSpPr/>
          <p:nvPr/>
        </p:nvSpPr>
        <p:spPr>
          <a:xfrm>
            <a:off x="1311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6"/>
          <p:cNvSpPr txBox="1"/>
          <p:nvPr/>
        </p:nvSpPr>
        <p:spPr>
          <a:xfrm>
            <a:off x="1476360" y="4581360"/>
            <a:ext cx="69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а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95" name="Group 18"/>
          <p:cNvGrpSpPr/>
          <p:nvPr/>
        </p:nvGrpSpPr>
        <p:grpSpPr>
          <a:xfrm>
            <a:off x="1187280" y="776160"/>
            <a:ext cx="6948360" cy="1183680"/>
            <a:chOff x="1187280" y="776160"/>
            <a:chExt cx="6948360" cy="1183680"/>
          </a:xfrm>
        </p:grpSpPr>
        <p:sp>
          <p:nvSpPr>
            <p:cNvPr id="196" name="Freeform 19"/>
            <p:cNvSpPr/>
            <p:nvPr/>
          </p:nvSpPr>
          <p:spPr>
            <a:xfrm>
              <a:off x="1271880" y="1089360"/>
              <a:ext cx="6830280" cy="870480"/>
            </a:xfrm>
            <a:custGeom>
              <a:avLst/>
              <a:gdLst>
                <a:gd name="textAreaLeft" fmla="*/ 0 w 6830280"/>
                <a:gd name="textAreaRight" fmla="*/ 6830640 w 6830280"/>
                <a:gd name="textAreaTop" fmla="*/ 0 h 870480"/>
                <a:gd name="textAreaBottom" fmla="*/ 870840 h 87048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0"/>
            <p:cNvSpPr/>
            <p:nvPr/>
          </p:nvSpPr>
          <p:spPr>
            <a:xfrm rot="17576400">
              <a:off x="1550520" y="144972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 rot="10800000">
              <a:off x="1261080" y="775800"/>
              <a:ext cx="6874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187280" y="1316160"/>
              <a:ext cx="68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24"/>
          <p:cNvSpPr/>
          <p:nvPr/>
        </p:nvSpPr>
        <p:spPr>
          <a:xfrm>
            <a:off x="1403280" y="836640"/>
            <a:ext cx="439272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1403280" y="836640"/>
            <a:ext cx="216072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1403280" y="836640"/>
            <a:ext cx="540072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1403280" y="836640"/>
            <a:ext cx="3313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fa1bcbeb57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/>
          <p:cNvSpPr/>
          <p:nvPr/>
        </p:nvSpPr>
        <p:spPr>
          <a:xfrm rot="21315000">
            <a:off x="5553000" y="1728720"/>
            <a:ext cx="3283200" cy="1687680"/>
          </a:xfrm>
          <a:prstGeom prst="wedgeEllipseCallout">
            <a:avLst>
              <a:gd name="adj1" fmla="val -91981"/>
              <a:gd name="adj2" fmla="val 5943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5724360" y="220500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цени свою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у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348000" y="3789360"/>
            <a:ext cx="792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3348000" y="472428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3348000" y="5734080"/>
            <a:ext cx="7923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3"/>
          <p:cNvSpPr txBox="1"/>
          <p:nvPr/>
        </p:nvSpPr>
        <p:spPr>
          <a:xfrm>
            <a:off x="4356000" y="386064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о интересно.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14"/>
          <p:cNvSpPr txBox="1"/>
          <p:nvPr/>
        </p:nvSpPr>
        <p:spPr>
          <a:xfrm>
            <a:off x="4356000" y="479736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и трудности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5"/>
          <p:cNvSpPr txBox="1"/>
          <p:nvPr/>
        </p:nvSpPr>
        <p:spPr>
          <a:xfrm>
            <a:off x="4356000" y="573408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о не интересно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393233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6"/>
          <p:cNvSpPr/>
          <p:nvPr/>
        </p:nvSpPr>
        <p:spPr>
          <a:xfrm rot="21407400">
            <a:off x="1612440" y="4797000"/>
            <a:ext cx="6415200" cy="1511280"/>
          </a:xfrm>
          <a:prstGeom prst="wedgeEllipseCallout">
            <a:avLst>
              <a:gd name="adj1" fmla="val -6648"/>
              <a:gd name="adj2" fmla="val -9726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7"/>
          <p:cNvSpPr txBox="1"/>
          <p:nvPr/>
        </p:nvSpPr>
        <p:spPr>
          <a:xfrm rot="21220800">
            <a:off x="2700360" y="5157360"/>
            <a:ext cx="410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им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урок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95076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50920" y="836640"/>
            <a:ext cx="921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2-tub.yandex.net/i?id=120539438-1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ino-hit.net/storage/1643/scrns/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orum.materinstvo.ru/uploads/1236385780/post-70101-1236449698_thumb.pn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че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it2bit.org/torrents/images/5036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besplatnovse.3dn.ru/1/38.popugaev.0-01-5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ovetskiymultik.at.ua/_ph/16/2/517946444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net23.ru/uploads/posts/2010-07/net23.ru_1279985273_02e827ee8a8e.pn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09.radikal.ru/i182/1008/01/8fbafee0b054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s.afisha.ru/Afisha7Files/UGPhotos/090318213859/090319134556/p_f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слайд 10,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afisha.ru/Afisha7Files/UGPhotos/081010223744/081216234202/p_f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4.vcp.digitalaccess.ru/contents/d/4/fee17e28bcb8657e7b4e27ce3fd1c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ovetskiy.3dn.ru/2/38.a.vdrug.poluchitsya.0-04-1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mul.3dn.ru/pop/38.popugaev.0-02-0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multiki.arjlover.net/ap/38.a.vdrug.poluchitsya.avi/38.a.vdrug.poluchitsya.avi.image4.jpg -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fast-torrent.ru/media/photologue/photos/38-popugaev_scene2.jpg -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videoblock.info/images/albums/38_popugaev_4_1/ph8.jpeg -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mulplys.at.ua/38.popugaev.0-02-42.jpg -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1692360" y="40464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нет ресурсы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артинка 172 из 719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6"/>
          <p:cNvSpPr/>
          <p:nvPr/>
        </p:nvSpPr>
        <p:spPr>
          <a:xfrm>
            <a:off x="324000" y="1052640"/>
            <a:ext cx="6769080" cy="56610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 – ум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- друж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- вниматель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 – старатель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первом классе уч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ё у нас получится.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post-70101-1236449698_thumb"/>
          <p:cNvPicPr/>
          <p:nvPr/>
        </p:nvPicPr>
        <p:blipFill>
          <a:blip r:embed="rId3"/>
          <a:stretch/>
        </p:blipFill>
        <p:spPr>
          <a:xfrm>
            <a:off x="5867280" y="1700280"/>
            <a:ext cx="26528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43aaf03f7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411280" y="189000"/>
            <a:ext cx="4492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изменилось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Oval 7"/>
          <p:cNvSpPr/>
          <p:nvPr/>
        </p:nvSpPr>
        <p:spPr>
          <a:xfrm>
            <a:off x="4284720" y="4437000"/>
            <a:ext cx="2520720" cy="230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284720" y="4437000"/>
            <a:ext cx="2519280" cy="2303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4211640" y="4076640"/>
            <a:ext cx="2665440" cy="2665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4643280" y="4941720"/>
            <a:ext cx="1872000" cy="1730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4716360" y="5013360"/>
            <a:ext cx="1730520" cy="15843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2843280" y="2565360"/>
            <a:ext cx="4392720" cy="1297080"/>
          </a:xfrm>
          <a:prstGeom prst="wedgeEllipseCallout">
            <a:avLst>
              <a:gd name="adj1" fmla="val -52564"/>
              <a:gd name="adj2" fmla="val -5477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4"/>
          <p:cNvSpPr txBox="1"/>
          <p:nvPr/>
        </p:nvSpPr>
        <p:spPr>
          <a:xfrm>
            <a:off x="3276720" y="2997360"/>
            <a:ext cx="31669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3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97964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 следующее число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39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2124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3780000" y="4076640"/>
            <a:ext cx="136656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5"/>
          <p:cNvSpPr/>
          <p:nvPr/>
        </p:nvSpPr>
        <p:spPr>
          <a:xfrm>
            <a:off x="7020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6"/>
          <p:cNvSpPr/>
          <p:nvPr/>
        </p:nvSpPr>
        <p:spPr>
          <a:xfrm>
            <a:off x="5435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572544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738144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2"/>
          <p:cNvSpPr/>
          <p:nvPr/>
        </p:nvSpPr>
        <p:spPr>
          <a:xfrm rot="10800000">
            <a:off x="178920" y="2349000"/>
            <a:ext cx="3024360" cy="1150920"/>
          </a:xfrm>
          <a:prstGeom prst="wedgeEllipseCallout">
            <a:avLst>
              <a:gd name="adj1" fmla="val -87064"/>
              <a:gd name="adj2" fmla="val -618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3"/>
          <p:cNvSpPr txBox="1"/>
          <p:nvPr/>
        </p:nvSpPr>
        <p:spPr>
          <a:xfrm>
            <a:off x="468360" y="2637000"/>
            <a:ext cx="2449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ечательно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51794644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WordArt 6"/>
          <p:cNvSpPr txBox="1"/>
          <p:nvPr/>
        </p:nvSpPr>
        <p:spPr>
          <a:xfrm>
            <a:off x="39528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что здесь получится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468360" y="1700280"/>
            <a:ext cx="100944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1476360" y="2205000"/>
            <a:ext cx="20160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1909440" y="1268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 flipH="1">
            <a:off x="2842920" y="2637000"/>
            <a:ext cx="865080" cy="863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 flipH="1">
            <a:off x="1258560" y="4221000"/>
            <a:ext cx="865080" cy="863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1547640" y="5516640"/>
            <a:ext cx="2016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4572000" y="5516640"/>
            <a:ext cx="1800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8"/>
          <p:cNvSpPr/>
          <p:nvPr/>
        </p:nvSpPr>
        <p:spPr>
          <a:xfrm>
            <a:off x="3133440" y="2781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/>
          <p:cNvSpPr/>
          <p:nvPr/>
        </p:nvSpPr>
        <p:spPr>
          <a:xfrm>
            <a:off x="901440" y="3716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1909440" y="537372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4"/>
          <p:cNvSpPr/>
          <p:nvPr/>
        </p:nvSpPr>
        <p:spPr>
          <a:xfrm>
            <a:off x="4717800" y="537372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5"/>
          <p:cNvSpPr/>
          <p:nvPr/>
        </p:nvSpPr>
        <p:spPr>
          <a:xfrm rot="10800000">
            <a:off x="3132000" y="3715920"/>
            <a:ext cx="3168720" cy="1297080"/>
          </a:xfrm>
          <a:prstGeom prst="wedgeEllipseCallout">
            <a:avLst>
              <a:gd name="adj1" fmla="val -69240"/>
              <a:gd name="adj2" fmla="val 4461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36"/>
          <p:cNvSpPr txBox="1"/>
          <p:nvPr/>
        </p:nvSpPr>
        <p:spPr>
          <a:xfrm>
            <a:off x="3492360" y="3933720"/>
            <a:ext cx="25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ята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6518520" y="4724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8"/>
          <p:cNvSpPr/>
          <p:nvPr/>
        </p:nvSpPr>
        <p:spPr>
          <a:xfrm>
            <a:off x="6443640" y="494172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1"/>
          <p:cNvSpPr/>
          <p:nvPr/>
        </p:nvSpPr>
        <p:spPr>
          <a:xfrm>
            <a:off x="3636360" y="15559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2"/>
          <p:cNvSpPr/>
          <p:nvPr/>
        </p:nvSpPr>
        <p:spPr>
          <a:xfrm>
            <a:off x="3492360" y="170028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4"/>
          <p:cNvSpPr/>
          <p:nvPr/>
        </p:nvSpPr>
        <p:spPr>
          <a:xfrm>
            <a:off x="2125080" y="3213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5"/>
          <p:cNvSpPr/>
          <p:nvPr/>
        </p:nvSpPr>
        <p:spPr>
          <a:xfrm>
            <a:off x="1979640" y="335772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7"/>
          <p:cNvSpPr/>
          <p:nvPr/>
        </p:nvSpPr>
        <p:spPr>
          <a:xfrm>
            <a:off x="75672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363636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0"/>
          <p:cNvSpPr/>
          <p:nvPr/>
        </p:nvSpPr>
        <p:spPr>
          <a:xfrm>
            <a:off x="539640" y="508464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3564000" y="5084640"/>
            <a:ext cx="100944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Картинка 4 из 695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1116000" y="189000"/>
            <a:ext cx="67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еперь мы дружно встанем,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минутку проведём!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38 попугаев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7008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db2cd94f6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 rot="10800000">
            <a:off x="4571640" y="2781000"/>
            <a:ext cx="3600360" cy="1511280"/>
          </a:xfrm>
          <a:prstGeom prst="wedgeEllipseCallout">
            <a:avLst>
              <a:gd name="adj1" fmla="val 72129"/>
              <a:gd name="adj2" fmla="val -283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4859280" y="321300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 длинный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10800000">
            <a:off x="1258560" y="188280"/>
            <a:ext cx="3600360" cy="1368360"/>
          </a:xfrm>
          <a:prstGeom prst="wedgeEllipseCallout">
            <a:avLst>
              <a:gd name="adj1" fmla="val -53662"/>
              <a:gd name="adj2" fmla="val -14049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9"/>
          <p:cNvSpPr txBox="1"/>
          <p:nvPr/>
        </p:nvSpPr>
        <p:spPr>
          <a:xfrm>
            <a:off x="1547640" y="620640"/>
            <a:ext cx="295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это такое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AutoShape 10"/>
          <p:cNvSpPr/>
          <p:nvPr/>
        </p:nvSpPr>
        <p:spPr>
          <a:xfrm rot="10800000">
            <a:off x="755280" y="5300640"/>
            <a:ext cx="7489800" cy="1557360"/>
          </a:xfrm>
          <a:prstGeom prst="wedgeEllipseCallout">
            <a:avLst>
              <a:gd name="adj1" fmla="val 12333"/>
              <a:gd name="adj2" fmla="val 135828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1"/>
          <p:cNvSpPr txBox="1"/>
          <p:nvPr/>
        </p:nvSpPr>
        <p:spPr>
          <a:xfrm>
            <a:off x="1476360" y="5373720"/>
            <a:ext cx="597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-это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тяженность линии или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тояние между её концами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8fbafee0b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116000" y="18900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 длинн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116000" y="580536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коротк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AutoShape 8"/>
          <p:cNvSpPr/>
          <p:nvPr/>
        </p:nvSpPr>
        <p:spPr>
          <a:xfrm rot="21322200">
            <a:off x="250560" y="907920"/>
            <a:ext cx="3674880" cy="1225800"/>
          </a:xfrm>
          <a:prstGeom prst="wedgeEllipseCallout">
            <a:avLst>
              <a:gd name="adj1" fmla="val 93662"/>
              <a:gd name="adj2" fmla="val -1062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826920" y="1197000"/>
            <a:ext cx="266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ая у них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 rot="21322200">
            <a:off x="4067280" y="4005000"/>
            <a:ext cx="4249800" cy="1225440"/>
          </a:xfrm>
          <a:prstGeom prst="wedgeEllipseCallout">
            <a:avLst>
              <a:gd name="adj1" fmla="val 40990"/>
              <a:gd name="adj2" fmla="val -7986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>
            <a:off x="4788000" y="4221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до позв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угая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 rot="16422000">
            <a:off x="-1403640" y="4364640"/>
            <a:ext cx="3600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 rot="16826400">
            <a:off x="1079640" y="3393720"/>
            <a:ext cx="2808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050920" y="5373720"/>
            <a:ext cx="5329440" cy="28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 rot="8263200">
            <a:off x="900000" y="2565360"/>
            <a:ext cx="93672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 rot="17566200">
            <a:off x="507240" y="4182120"/>
            <a:ext cx="2017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Картинка 100 из 725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611280" y="765000"/>
            <a:ext cx="604836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39640" y="1773360"/>
            <a:ext cx="40323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39640" y="2781360"/>
            <a:ext cx="2016360" cy="64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292720" y="407664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1619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2627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635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643280" y="76500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565164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3964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547640" y="1773360"/>
            <a:ext cx="100836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255600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356400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539640" y="2781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1547640" y="2781360"/>
            <a:ext cx="100836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7453800" y="4762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6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7452360" y="155592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4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526880" y="278136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2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3"/>
          <p:cNvSpPr/>
          <p:nvPr/>
        </p:nvSpPr>
        <p:spPr>
          <a:xfrm rot="21322200">
            <a:off x="-7920" y="4941720"/>
            <a:ext cx="7020000" cy="1727280"/>
          </a:xfrm>
          <a:prstGeom prst="wedgeEllipseCallout">
            <a:avLst>
              <a:gd name="adj1" fmla="val 25833"/>
              <a:gd name="adj2" fmla="val -12535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34"/>
          <p:cNvSpPr txBox="1"/>
          <p:nvPr/>
        </p:nvSpPr>
        <p:spPr>
          <a:xfrm rot="21220800">
            <a:off x="755280" y="4941720"/>
            <a:ext cx="561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рка-это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ичный отрезок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 единица измерения длины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611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16:34Z</dcterms:created>
  <dc:creator>User</dc:creator>
  <dc:description/>
  <dc:language>en-US</dc:language>
  <cp:lastModifiedBy>komp</cp:lastModifiedBy>
  <dcterms:modified xsi:type="dcterms:W3CDTF">2014-01-30T09:31:48Z</dcterms:modified>
  <cp:revision>57</cp:revision>
  <dc:subject/>
  <dc:title>Слайд 1</dc:title>
</cp:coreProperties>
</file>