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71E-30FB-4F3B-9DCE-7926121B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41D-64F0-457F-9BC2-58D6EC6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DC7-608A-492F-BA7C-07FC29EE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262-7E88-4445-850C-6763D681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E64-83A9-44C9-A8DA-A8D140E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A4B-5B4D-4EE8-B4E4-D47DB9E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F1C-EB6A-4E72-9252-360866E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226-8564-4C4C-89BB-79D82EEA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394-C160-45C7-956B-257A0B7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D83-0A94-4F82-83E0-9E23B83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23E-4760-4C81-A008-C590D7B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419-C706-496F-ADF3-B6D4583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81F-9BEB-41AC-84BC-892623E7D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3933720"/>
            <a:ext cx="71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 -  ВИКТОРИНА    "ЭТО ИНТЕРЕСНО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1480" y="5767560"/>
            <a:ext cx="8426520" cy="870480"/>
          </a:xfrm>
          <a:prstGeom prst="roundRect">
            <a:avLst>
              <a:gd name="adj" fmla="val 16667"/>
            </a:avLst>
          </a:prstGeom>
          <a:solidFill>
            <a:srgbClr val="669900">
              <a:alpha val="46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ЯСОВА ШАФИКА ШИКУРОВНА,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 Тат-Пишленской СОШ» Рузаевского района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1480" y="553716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5600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564000" y="333360"/>
            <a:ext cx="460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стительный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471240" y="249228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растение называют символом ми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43578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растение самое толст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58768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05360" y="1989000"/>
            <a:ext cx="279900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333360"/>
            <a:ext cx="3598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ивотный 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4400" y="327816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быстрее всех бег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3360" y="2565360"/>
            <a:ext cx="2798640" cy="210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720" y="539280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быстрее всех пла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43600" y="4637160"/>
            <a:ext cx="2697120" cy="174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70440" y="260280"/>
            <a:ext cx="35892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292720" y="692280"/>
            <a:ext cx="292896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ЛАН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5400" y="333360"/>
            <a:ext cx="280188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1800" y="287352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ая планета самая 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01760" y="5222880"/>
            <a:ext cx="43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ая планета самая близкая к Зем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6920" y="4379760"/>
            <a:ext cx="2305080" cy="200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42880" y="476280"/>
            <a:ext cx="384984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еса св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028960" cy="297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01400" y="386064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это из чудес с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3179880"/>
            <a:ext cx="4832280" cy="1761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21440" y="566100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это какое чудо с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32440" y="5016600"/>
            <a:ext cx="27432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060800" y="765000"/>
            <a:ext cx="45435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и когда изобрел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1440" y="301608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ВТОМОБИ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8920" y="385452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юнье, Франция, 17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90880" y="500688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АР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9040" y="594216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.Фултон, 1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19640" y="2276640"/>
            <a:ext cx="2154240" cy="1616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71640" y="4197240"/>
            <a:ext cx="23763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57800" y="306864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йфелева башн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3160" y="2205000"/>
            <a:ext cx="1536840" cy="2309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4760" y="4502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иж, 1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720" y="53928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адающая боги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99520" y="62308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за, Италия, 1174-1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299280" y="3355920"/>
            <a:ext cx="1728720" cy="28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94520" y="333360"/>
            <a:ext cx="226512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8360" y="343080"/>
            <a:ext cx="5143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 и когда сооружены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30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75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38240" y="4869000"/>
            <a:ext cx="5658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умники и умницы !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00480" y="231840"/>
            <a:ext cx="25430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5:34:43Z</dcterms:created>
  <dc:creator>User</dc:creator>
  <dc:description/>
  <dc:language>en-US</dc:language>
  <cp:lastModifiedBy>Admin</cp:lastModifiedBy>
  <dcterms:modified xsi:type="dcterms:W3CDTF">2014-01-30T09:12:24Z</dcterms:modified>
  <cp:revision>11</cp:revision>
  <dc:subject/>
  <dc:title>Слайд 1</dc:title>
</cp:coreProperties>
</file>