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C2ED-6547-4384-8F53-30E5390C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50D-78A8-46B0-8F4E-000064A6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F75D-5571-4ED4-A953-F330EF38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032-C0A9-4D05-A20A-BD6B674C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8726-564F-48C9-BD33-B98B8134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F6CC-D0CC-4FE7-9542-8E676814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A7CA-A69C-4B8C-8A63-5A223ACB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9E03-ED63-4024-90F1-090FC4D5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A5D3-6ABF-4C75-8CAD-EF15FA12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922A-DD56-4AAA-8C56-86570586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3949-1DF6-4DB6-AF1E-FA7DB46F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D73E-01D4-4E23-97C5-AE43E916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777C-CDB0-45C8-9610-990D1527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36B2-2020-4533-B8A6-F044A00A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B0DF-7368-499F-894B-1A63297D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3AAF-867C-4481-82A9-99211CFF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FFDA-1269-4034-BED9-E113B7E1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B9D-64FC-4F9B-878A-58C7301A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985-0F1E-4CB8-8472-5F799C4D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28ED-6372-4DFA-9983-78B1B0F0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591-F862-4722-8665-1F47F496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6DBF-E3DE-48C6-88BA-B27CBF9A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9FD3-4DE4-4B51-A876-E612E402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649-53F4-480F-9DA8-B310BE50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4499-2D4D-4182-B268-F03B841EB9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F770-A7EF-4714-BA58-98D0FA7ECC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07696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Гидролиз солей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: Шарипова Альбина ученица 9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ООШ ст. Миннибаев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ьметьевского района Р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, образованные слабой  кислотой и слабым основа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  <a:ea typeface="Arial"/>
              </a:rPr>
              <a:t>Ионное уравнение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рн = 7, среда нейтральная, гидролиз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катиону и по ани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, образованные слабой  кислотой и слабым основа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74229"/>
                </a:solidFill>
                <a:uFillTx/>
                <a:latin typeface="Arial"/>
              </a:rPr>
              <a:t>Гидролиз  по катиону и по анио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ое равновесие смещено впра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Реакция среды или нейтральная, или слабокислая, или слабощелочная, что зависит от констант диссоциации кислоты и ос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дролиз может быть необратимым, если хотя бы один из продуктов реакции гидролиза уходит из сферы реа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, образованные сильной  кислотой и  сильным основанием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К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 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се ионы остаются в растворе – </a:t>
            </a:r>
            <a:r>
              <a:rPr b="0" lang="ru-RU" sz="2800" spc="-1" strike="noStrike">
                <a:solidFill>
                  <a:srgbClr val="d74229"/>
                </a:solidFill>
                <a:latin typeface="Arial"/>
                <a:ea typeface="Arial"/>
              </a:rPr>
              <a:t>гидролиз не происход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Среда нейтральная, рН =7, т.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и катионов водорода и гидроксид - анионов в растворе равны, как в чистой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дролиз со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74229"/>
                </a:solidFill>
                <a:latin typeface="Arial"/>
              </a:rPr>
              <a:t>Гидролиз можно усилить</a:t>
            </a:r>
            <a:r>
              <a:rPr b="0" lang="ru-RU" sz="2800" spc="-1" strike="noStrike">
                <a:solidFill>
                  <a:srgbClr val="d7422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авить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агреть раствор (увеличится диссоциация вод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ать один из продуктов гидролиза в труднорастворимое соединение или удалить один из продуктов в газовую фа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дролиз со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74229"/>
                </a:solidFill>
                <a:latin typeface="Arial"/>
              </a:rPr>
              <a:t>Гидролиз можно подав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ить концентрацию растворённого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хладить раств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в раствор один из продуктов гидролиза: подкислять (если р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или подщелачивать (если р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дролиз со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дролиз – это реакция обменного разложения веществ вод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идролиз неорганических вещест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олизу подвергаются растворы солей. Следовательно, водные растворы солей имеют разные значения рН и различные типы сре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74229"/>
                </a:solidFill>
                <a:latin typeface="Arial"/>
              </a:rPr>
              <a:t>Кислотную (рН</a:t>
            </a:r>
            <a:r>
              <a:rPr b="0" lang="en-US" sz="3200" spc="-1" strike="noStrike">
                <a:solidFill>
                  <a:srgbClr val="d74229"/>
                </a:solidFill>
                <a:latin typeface="Arial"/>
              </a:rPr>
              <a:t>&lt;7)</a:t>
            </a:r>
            <a:r>
              <a:rPr b="0" lang="ru-RU" sz="3200" spc="-1" strike="noStrike">
                <a:solidFill>
                  <a:srgbClr val="d742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74229"/>
                </a:solidFill>
                <a:latin typeface="Arial"/>
              </a:rPr>
              <a:t>Щелочную (рН</a:t>
            </a:r>
            <a:r>
              <a:rPr b="0" lang="en-US" sz="3200" spc="-1" strike="noStrike">
                <a:solidFill>
                  <a:srgbClr val="d74229"/>
                </a:solidFill>
                <a:latin typeface="Arial"/>
              </a:rPr>
              <a:t>&gt;7)</a:t>
            </a:r>
            <a:r>
              <a:rPr b="0" lang="ru-RU" sz="3200" spc="-1" strike="noStrike">
                <a:solidFill>
                  <a:srgbClr val="d742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74229"/>
                </a:solidFill>
                <a:latin typeface="Arial"/>
              </a:rPr>
              <a:t>Нейтральную (рН=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лассификация со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ую соль можно представить как продукт взаимодействия основания с кисл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зависимости от силы основания и кислоты можно выделить </a:t>
            </a:r>
            <a:r>
              <a:rPr b="1" lang="ru-RU" sz="2800" spc="-1" strike="noStrike" u="sng">
                <a:solidFill>
                  <a:srgbClr val="d74229"/>
                </a:solidFill>
                <a:uFillTx/>
                <a:latin typeface="Arial"/>
              </a:rPr>
              <a:t>4 типа сол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Соли, образованные сильным основанием и слабой кислотой (КС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N, NaCH</a:t>
            </a:r>
            <a:r>
              <a:rPr b="1" lang="en-US" sz="2000" spc="-1" strike="noStrike">
                <a:solidFill>
                  <a:srgbClr val="7939f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CO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Соли, образованные сильной кислотой и слабым основанием (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C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FeS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Mn(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лассификация со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3. Соли, образованные слабой  кислот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слабым основанием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NH</a:t>
            </a:r>
            <a:r>
              <a:rPr b="1" lang="en-US" sz="2000" spc="-1" strike="noStrike">
                <a:solidFill>
                  <a:srgbClr val="7939f9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CN,</a:t>
            </a: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Cu(CH</a:t>
            </a:r>
            <a:r>
              <a:rPr b="1" lang="en-US" sz="2000" spc="-1" strike="noStrike">
                <a:solidFill>
                  <a:srgbClr val="7939f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COO)</a:t>
            </a:r>
            <a:r>
              <a:rPr b="1" lang="en-US" sz="2000" spc="-1" strike="noStrike">
                <a:solidFill>
                  <a:srgbClr val="7939f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Соли, образованные сильной  кислотой и  сильным осн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Cl, 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a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Соли, образованные сильным основанием и слабой кислотой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N 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 + H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  <a:ea typeface="Arial"/>
              </a:rPr>
              <a:t>Полное ионное уравнение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C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</a:rPr>
              <a:t>Сокращённое уравнение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рн </a:t>
            </a:r>
            <a:r>
              <a:rPr b="1" lang="en-US" sz="2800" spc="-1" strike="noStrike">
                <a:solidFill>
                  <a:srgbClr val="d74229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7, среда щелочная, гидролиз по ани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Соли, образованные сильным основанием и слабой кислотой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74229"/>
                </a:solidFill>
                <a:uFillTx/>
                <a:latin typeface="Arial"/>
              </a:rPr>
              <a:t>Гидролиз по анио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тимый проце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ое равновесие смещено вле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кция среды - щелочная, р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гидролизе солей, образованных слабыми многоосновными кислотами образуются кислые с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Соли, образованные сильной кислотой и слабым основанием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+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Н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 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  <a:ea typeface="Arial"/>
              </a:rPr>
              <a:t>Полное ионное уравнение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C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C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</a:rPr>
              <a:t>Сокращённое уравнение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рн </a:t>
            </a:r>
            <a:r>
              <a:rPr b="1" lang="en-US" sz="2800" spc="-1" strike="noStrike">
                <a:solidFill>
                  <a:srgbClr val="d74229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7, среда кислотная, гидролиз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кати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Соли, образованные сильной кислотой и слабым основанием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74229"/>
                </a:solidFill>
                <a:uFillTx/>
                <a:latin typeface="Arial"/>
              </a:rPr>
              <a:t>Гидролиз по катио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тимый проце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ое равновесие смещено вле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а кислотная, р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6T00:43:49Z</dcterms:created>
  <dc:creator>User</dc:creator>
  <dc:description/>
  <dc:language>en-US</dc:language>
  <cp:lastModifiedBy>root</cp:lastModifiedBy>
  <dcterms:modified xsi:type="dcterms:W3CDTF">2014-01-30T04:46:11Z</dcterms:modified>
  <cp:revision>10</cp:revision>
  <dc:subject/>
  <dc:title>Гидролиз солей.</dc:title>
</cp:coreProperties>
</file>