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94E5-2722-4E55-B749-5E177CE07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BE94-C3AE-4105-ABA5-7F8F1A77F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771B-7ABC-4217-AC20-7D1658478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6C6B-6833-4448-A5B7-04C2BE820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08370-326F-43D5-A1B8-2699A7009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A5A98-2C76-44FE-AFA7-6939AFE07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E5C3E-2E61-4CDF-B24B-B5591066A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1544D-D9E0-4425-9391-8764FA5EA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95B4B-EF89-40C6-8660-F794CE7CA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A072A-1F59-43AC-9A67-07F4B4555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67073-C36B-488B-8824-EA9B581C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5A9D-0F04-4467-9EAD-BB132E4EF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8199F-9744-4939-8FA1-CE3DE21D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3CEB7-3B60-455E-ADEB-18F62BF7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1F0D0-742E-464C-A45E-D4DCA7180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B00B6-FAA9-42CE-9DA7-35D97F19D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CCE76-59C6-4DBC-AD21-FD6A79E6E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4C48-5CA3-4422-8FD4-5728DB5E7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1951-6671-46ED-A7D7-FBBFCBF76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5A78-D33B-4C1D-978D-344CCB883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83F6-1948-4BFF-8036-8325B1F42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1AD4-BC60-44B9-9A22-330E0712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337D-D825-4A95-AD9C-C95E63AB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7177-0708-4D10-B791-1A42660F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A9CC0-88E4-48EF-9ECE-36D70776709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4201A-CF8A-4775-80C9-7CEFBDD4788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920" y="1412640"/>
            <a:ext cx="8076960" cy="16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Гидролиз солей.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ила: Шарипова Альбина ученица 9 клас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«ООШ ст. Миннибаев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ьметьевского района РТ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ли, образованные слабой  кислотой и слабым основани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↔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О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H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·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↔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↔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¯ 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74229"/>
                </a:solidFill>
                <a:latin typeface="Arial"/>
                <a:ea typeface="Arial"/>
              </a:rPr>
              <a:t>Ионное уравнение гидролиз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↔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H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·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74229"/>
                </a:solidFill>
                <a:latin typeface="Arial"/>
              </a:rPr>
              <a:t>рн = 7, среда нейтральная, гидролиз п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74229"/>
                </a:solidFill>
                <a:latin typeface="Arial"/>
              </a:rPr>
              <a:t>            </a:t>
            </a:r>
            <a:r>
              <a:rPr b="1" lang="ru-RU" sz="2800" spc="-1" strike="noStrike">
                <a:solidFill>
                  <a:srgbClr val="d74229"/>
                </a:solidFill>
                <a:latin typeface="Arial"/>
              </a:rPr>
              <a:t>катиону и по анио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8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8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ли, образованные слабой  кислотой и слабым основани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d74229"/>
                </a:solidFill>
                <a:uFillTx/>
                <a:latin typeface="Arial"/>
              </a:rPr>
              <a:t>Гидролиз  по катиону и по анио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имическое равновесие смещено впра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Реакция среды или нейтральная, или слабокислая, или слабощелочная, что зависит от констант диссоциации кислоты и осн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идролиз может быть необратимым, если хотя бы один из продуктов реакции гидролиза уходит из сферы реак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ли, образованные сильной  кислотой и  сильным основанием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↔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↔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К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+ 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↔ O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се ионы остаются в растворе – </a:t>
            </a:r>
            <a:r>
              <a:rPr b="0" lang="ru-RU" sz="2800" spc="-1" strike="noStrike">
                <a:solidFill>
                  <a:srgbClr val="d74229"/>
                </a:solidFill>
                <a:latin typeface="Arial"/>
                <a:ea typeface="Arial"/>
              </a:rPr>
              <a:t>гидролиз не происходи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. Среда нейтральная, рН =7, т.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онцентрации катионов водорода и гидроксид - анионов в растворе равны, как в чистой во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4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7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Гидролиз солей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74229"/>
                </a:solidFill>
                <a:latin typeface="Arial"/>
              </a:rPr>
              <a:t>Гидролиз можно усилить</a:t>
            </a:r>
            <a:r>
              <a:rPr b="0" lang="ru-RU" sz="2800" spc="-1" strike="noStrike">
                <a:solidFill>
                  <a:srgbClr val="d7422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бавить в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Нагреть раствор (увеличится диссоциация вод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язать один из продуктов гидролиза в труднорастворимое соединение или удалить один из продуктов в газовую фаз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9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Гидролиз солей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74229"/>
                </a:solidFill>
                <a:latin typeface="Arial"/>
              </a:rPr>
              <a:t>Гидролиз можно подав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величить концентрацию растворённого вещ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Охладить раство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вести в раствор один из продуктов гидролиза: подкислять (если рН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) или подщелачивать (если р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1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Гидролиз солей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идролиз – это реакция обменного разложения веществ водо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идролиз неорганических вещест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идролизу подвергаются растворы солей. Следовательно, водные растворы солей имеют разные значения рН и различные типы сре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74229"/>
                </a:solidFill>
                <a:latin typeface="Arial"/>
              </a:rPr>
              <a:t>Кислотную (рН</a:t>
            </a:r>
            <a:r>
              <a:rPr b="0" lang="en-US" sz="3200" spc="-1" strike="noStrike">
                <a:solidFill>
                  <a:srgbClr val="d74229"/>
                </a:solidFill>
                <a:latin typeface="Arial"/>
              </a:rPr>
              <a:t>&lt;7)</a:t>
            </a:r>
            <a:r>
              <a:rPr b="0" lang="ru-RU" sz="3200" spc="-1" strike="noStrike">
                <a:solidFill>
                  <a:srgbClr val="d7422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74229"/>
                </a:solidFill>
                <a:latin typeface="Arial"/>
              </a:rPr>
              <a:t>Щелочную (рН</a:t>
            </a:r>
            <a:r>
              <a:rPr b="0" lang="en-US" sz="3200" spc="-1" strike="noStrike">
                <a:solidFill>
                  <a:srgbClr val="d74229"/>
                </a:solidFill>
                <a:latin typeface="Arial"/>
              </a:rPr>
              <a:t>&gt;7)</a:t>
            </a:r>
            <a:r>
              <a:rPr b="0" lang="ru-RU" sz="3200" spc="-1" strike="noStrike">
                <a:solidFill>
                  <a:srgbClr val="d7422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74229"/>
                </a:solidFill>
                <a:latin typeface="Arial"/>
              </a:rPr>
              <a:t>Нейтральную (рН=7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Классификация солей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юбую соль можно представить как продукт взаимодействия основания с кислот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зависимости от силы основания и кислоты можно выделить </a:t>
            </a:r>
            <a:r>
              <a:rPr b="1" lang="ru-RU" sz="2800" spc="-1" strike="noStrike" u="sng">
                <a:solidFill>
                  <a:srgbClr val="d74229"/>
                </a:solidFill>
                <a:uFillTx/>
                <a:latin typeface="Arial"/>
              </a:rPr>
              <a:t>4 типа соле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39f9"/>
                </a:solidFill>
                <a:latin typeface="Arial"/>
              </a:rPr>
              <a:t>1. </a:t>
            </a:r>
            <a:r>
              <a:rPr b="1" lang="ru-RU" sz="2800" spc="-1" strike="noStrike">
                <a:solidFill>
                  <a:srgbClr val="7939f9"/>
                </a:solidFill>
                <a:latin typeface="Arial"/>
              </a:rPr>
              <a:t>Соли, образованные сильным основанием и слабой кислотой (КС</a:t>
            </a:r>
            <a:r>
              <a:rPr b="1" lang="en-US" sz="2800" spc="-1" strike="noStrike">
                <a:solidFill>
                  <a:srgbClr val="7939f9"/>
                </a:solidFill>
                <a:latin typeface="Arial"/>
              </a:rPr>
              <a:t>N, NaCH</a:t>
            </a:r>
            <a:r>
              <a:rPr b="1" lang="en-US" sz="2000" spc="-1" strike="noStrike">
                <a:solidFill>
                  <a:srgbClr val="7939f9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7939f9"/>
                </a:solidFill>
                <a:latin typeface="Arial"/>
              </a:rPr>
              <a:t>CO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Соли, образованные сильной кислотой и слабым основанием (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C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FeS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Mn(N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Классификация солей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939f9"/>
                </a:solidFill>
                <a:latin typeface="Arial"/>
              </a:rPr>
              <a:t>3. Соли, образованные слабой  кислотой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39f9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7939f9"/>
                </a:solidFill>
                <a:latin typeface="Arial"/>
              </a:rPr>
              <a:t>слабым основанием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939f9"/>
                </a:solidFill>
                <a:latin typeface="Arial"/>
              </a:rPr>
              <a:t>                </a:t>
            </a:r>
            <a:r>
              <a:rPr b="1" lang="ru-RU" sz="2800" spc="-1" strike="noStrike">
                <a:solidFill>
                  <a:srgbClr val="7939f9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7939f9"/>
                </a:solidFill>
                <a:latin typeface="Arial"/>
              </a:rPr>
              <a:t>NH</a:t>
            </a:r>
            <a:r>
              <a:rPr b="1" lang="en-US" sz="2000" spc="-1" strike="noStrike">
                <a:solidFill>
                  <a:srgbClr val="7939f9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7939f9"/>
                </a:solidFill>
                <a:latin typeface="Arial"/>
              </a:rPr>
              <a:t>CN,</a:t>
            </a:r>
            <a:r>
              <a:rPr b="1" lang="ru-RU" sz="2800" spc="-1" strike="noStrike">
                <a:solidFill>
                  <a:srgbClr val="7939f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7939f9"/>
                </a:solidFill>
                <a:latin typeface="Arial"/>
              </a:rPr>
              <a:t>Cu(CH</a:t>
            </a:r>
            <a:r>
              <a:rPr b="1" lang="en-US" sz="2000" spc="-1" strike="noStrike">
                <a:solidFill>
                  <a:srgbClr val="7939f9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7939f9"/>
                </a:solidFill>
                <a:latin typeface="Arial"/>
              </a:rPr>
              <a:t>COO)</a:t>
            </a:r>
            <a:r>
              <a:rPr b="1" lang="en-US" sz="2000" spc="-1" strike="noStrike">
                <a:solidFill>
                  <a:srgbClr val="7939f9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7939f9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Соли, образованные сильной  кислотой и  сильным основа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Cl, 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Ba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Соли, образованные сильным основанием и слабой кислотой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CN 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↔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OH + HC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C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↔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C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↔ 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74229"/>
                </a:solidFill>
                <a:latin typeface="Arial"/>
                <a:ea typeface="Arial"/>
              </a:rPr>
              <a:t>Полное ионное уравнение гидролиз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C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↔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O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¯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C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74229"/>
                </a:solidFill>
                <a:latin typeface="Arial"/>
              </a:rPr>
              <a:t>Сокращённое уравнение гидролиз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↔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C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74229"/>
                </a:solidFill>
                <a:latin typeface="Arial"/>
              </a:rPr>
              <a:t>рн </a:t>
            </a:r>
            <a:r>
              <a:rPr b="1" lang="en-US" sz="2800" spc="-1" strike="noStrike">
                <a:solidFill>
                  <a:srgbClr val="d74229"/>
                </a:solidFill>
                <a:latin typeface="Arial"/>
              </a:rPr>
              <a:t>&gt;</a:t>
            </a:r>
            <a:r>
              <a:rPr b="1" lang="ru-RU" sz="2800" spc="-1" strike="noStrike">
                <a:solidFill>
                  <a:srgbClr val="d74229"/>
                </a:solidFill>
                <a:latin typeface="Arial"/>
              </a:rPr>
              <a:t>7, среда щелочная, гидролиз по анио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Соли, образованные сильным основанием и слабой кислотой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d74229"/>
                </a:solidFill>
                <a:uFillTx/>
                <a:latin typeface="Arial"/>
              </a:rPr>
              <a:t>Гидролиз по анион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тимый проце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имическое равновесие смещено вле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акция среды - щелочная, р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гидролизе солей, образованных слабыми многоосновными кислотами образуются кислые со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Соли, образованные сильной кислотой и слабым основанием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 + 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↔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+ Н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↔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↔ O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¯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+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74229"/>
                </a:solidFill>
                <a:latin typeface="Arial"/>
                <a:ea typeface="Arial"/>
              </a:rPr>
              <a:t>Полное ионное уравнение гидролиз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C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↔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 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+ C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74229"/>
                </a:solidFill>
                <a:latin typeface="Arial"/>
              </a:rPr>
              <a:t>Сокращённое уравнение гидролиз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↔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 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74229"/>
                </a:solidFill>
                <a:latin typeface="Arial"/>
              </a:rPr>
              <a:t>рн </a:t>
            </a:r>
            <a:r>
              <a:rPr b="1" lang="en-US" sz="2800" spc="-1" strike="noStrike">
                <a:solidFill>
                  <a:srgbClr val="d74229"/>
                </a:solidFill>
                <a:latin typeface="Arial"/>
              </a:rPr>
              <a:t>&lt;</a:t>
            </a:r>
            <a:r>
              <a:rPr b="1" lang="ru-RU" sz="2800" spc="-1" strike="noStrike">
                <a:solidFill>
                  <a:srgbClr val="d74229"/>
                </a:solidFill>
                <a:latin typeface="Arial"/>
              </a:rPr>
              <a:t>7, среда кислотная, гидролиз п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74229"/>
                </a:solidFill>
                <a:latin typeface="Arial"/>
              </a:rPr>
              <a:t>            </a:t>
            </a:r>
            <a:r>
              <a:rPr b="1" lang="ru-RU" sz="2800" spc="-1" strike="noStrike">
                <a:solidFill>
                  <a:srgbClr val="d74229"/>
                </a:solidFill>
                <a:latin typeface="Arial"/>
              </a:rPr>
              <a:t>катио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Соли, образованные сильной кислотой и слабым основанием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d74229"/>
                </a:solidFill>
                <a:uFillTx/>
                <a:latin typeface="Arial"/>
              </a:rPr>
              <a:t>Гидролиз по катион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тимый проце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имическое равновесие смещено вле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а кислотная, р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8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6T00:43:49Z</dcterms:created>
  <dc:creator>User</dc:creator>
  <dc:description/>
  <dc:language>en-US</dc:language>
  <cp:lastModifiedBy>root</cp:lastModifiedBy>
  <dcterms:modified xsi:type="dcterms:W3CDTF">2014-01-30T04:46:11Z</dcterms:modified>
  <cp:revision>10</cp:revision>
  <dc:subject/>
  <dc:title>Гидролиз солей.</dc:title>
</cp:coreProperties>
</file>