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BC5-D5FB-4384-AA65-6B436F59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39D-2AD7-4B8B-AC38-50B3D1BE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DDB-F626-44E5-9AB4-857221AB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AC4-F1FE-4298-A6FA-8FEB61D4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7D6-81FE-4361-A110-CB39750A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97B-7524-4329-8A65-CD946713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E3D-5A17-44F7-BCD2-ED6784C3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5B2-8B9C-472F-B924-61111843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D524-F011-44C8-871B-1F130CB4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0BA7-B771-4DDC-9FBF-67BB752A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A4F-D962-4759-AC42-1C0EAD04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C29-1E38-4BE0-9F72-BE978010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28CF-B881-4846-BFEB-6491582DF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0665200">
            <a:off x="610920" y="1267920"/>
            <a:ext cx="7607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74b89"/>
                </a:solidFill>
                <a:latin typeface="Bookman Old Style"/>
              </a:rPr>
              <a:t>Имя существительное как часть реч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74b89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856560" cy="52405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116000" y="18900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ookman Old Style"/>
              </a:rPr>
              <a:t>ВС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Человека окружают предметы. Их очень много, и они разные. Для названия предметов в языке есть специальные слова. </a:t>
            </a:r>
            <a:br>
              <a:rPr sz="2000"/>
            </a:br>
            <a:r>
              <a:rPr b="1" lang="en-US" sz="2400" spc="-1" strike="noStrike">
                <a:solidFill>
                  <a:srgbClr val="990000"/>
                </a:solidFill>
                <a:latin typeface="Bookman Old Style"/>
              </a:rPr>
              <a:t>Это существительные.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Bookman Old Style"/>
              </a:rPr>
              <a:t>            </a:t>
            </a: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Сделайте вывод о частоте употребления существительных    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            в нашей речи, если известно, что на каждые 100 слов в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           среднем приходится 40 существительных (глаголов 2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223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Bookman Old Style"/>
              </a:rPr>
              <a:t>Имя существительное</a:t>
            </a: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 – самостоятельная часть реч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которая обозначает предмет и отвечает на вопросы кт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что? (кого? чего? кому? чему?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6360" y="3789360"/>
            <a:ext cx="766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Каково общее грамматическое значение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существительн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640" y="5229360"/>
            <a:ext cx="7729200" cy="7038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Bookman Old Style"/>
              </a:rPr>
              <a:t>Общее грамматическое значение существительного</a:t>
            </a: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это значение предмета.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76500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3573360"/>
            <a:ext cx="86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Предметом в грамматике называется всё то,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о чём можно спросить: </a:t>
            </a:r>
            <a:r>
              <a:rPr b="1" lang="en-US" sz="2000" spc="-1" strike="noStrike">
                <a:solidFill>
                  <a:srgbClr val="990000"/>
                </a:solidFill>
                <a:latin typeface="Bookman Old Style"/>
              </a:rPr>
              <a:t>это кто? </a:t>
            </a: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или</a:t>
            </a:r>
            <a:r>
              <a:rPr b="1" lang="en-US" sz="2000" spc="-1" strike="noStrike">
                <a:solidFill>
                  <a:srgbClr val="990000"/>
                </a:solidFill>
                <a:latin typeface="Bookman Old Style"/>
              </a:rPr>
              <a:t> это что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По значению существительные делятся на групп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1) конкретные — называют конкретные предметы живой или неживой природ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2) вещественные — называют различные веществ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3) отвлечённые — называют явления, воспринимаемые мыслен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4) собирательные — называют множество одинаковых предметов как одно цел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Пользуясь картинками, приведите при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688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5157720"/>
            <a:ext cx="576000" cy="792360"/>
          </a:xfrm>
          <a:custGeom>
            <a:avLst/>
            <a:gdLst>
              <a:gd name="textAreaLeft" fmla="*/ 0 w 576000"/>
              <a:gd name="textAreaRight" fmla="*/ 576000 w 57600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21216600">
            <a:off x="4787640" y="1052640"/>
            <a:ext cx="1181160" cy="1423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16360" y="3141720"/>
            <a:ext cx="1228680" cy="1106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236000" y="3357720"/>
            <a:ext cx="1577880" cy="1255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 rot="815400">
            <a:off x="6012000" y="2276640"/>
            <a:ext cx="1512720" cy="1112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 rot="402000">
            <a:off x="4788000" y="5373360"/>
            <a:ext cx="1411200" cy="1058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084720" y="3645000"/>
            <a:ext cx="1013040" cy="1689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 rot="21069600">
            <a:off x="7092720" y="5084280"/>
            <a:ext cx="1649160" cy="123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 rot="1507800">
            <a:off x="7019640" y="980640"/>
            <a:ext cx="12826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47160" cy="1125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ookman Old Style"/>
              </a:rPr>
              <a:t>Морфологические признаки существительных</a:t>
            </a:r>
            <a:r>
              <a:rPr b="0" lang="en-US" sz="2400" spc="-1" strike="noStrike">
                <a:solidFill>
                  <a:srgbClr val="990000"/>
                </a:solidFill>
                <a:latin typeface="Bookman Old Style"/>
              </a:rPr>
              <a:t> — род, число, падеж, склонение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71391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Изменяются ли существительные по родам? Свой ответ обоснуй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Что называется склонением существитель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1081080" cy="144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308720" y="3141720"/>
            <a:ext cx="1503360" cy="286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64000" y="3429000"/>
            <a:ext cx="1602000" cy="2409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1800000" cy="177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 rot="20775600">
            <a:off x="2484360" y="4868640"/>
            <a:ext cx="2033640" cy="1641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1547640" y="328464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3564000" y="2997360"/>
            <a:ext cx="1649520" cy="16491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Bookman Old Style"/>
              </a:rPr>
              <a:t>Проанализируйте предложения и скажите, какова синтаксическая роль имен существитель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В доме у дороги зажглись ог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Грачи вьют гнезда на старых берез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Bookman Old Style"/>
              </a:rPr>
              <a:t>Нерехта – небольшая р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081080" cy="1441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3141720"/>
            <a:ext cx="7343640" cy="1191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Bookman Old Style"/>
              </a:rPr>
              <a:t>Синтаксические признаки имён существительных</a:t>
            </a:r>
            <a:r>
              <a:rPr b="0" lang="en-US" sz="1800" spc="-1" strike="noStrike">
                <a:solidFill>
                  <a:srgbClr val="99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Bookman Old Style"/>
              </a:rPr>
              <a:t>— в предложении существительное может быть всеми членами предложения, но чаще всего является подлежащим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Bookman Old Style"/>
              </a:rPr>
              <a:t>дополн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53:40Z</dcterms:created>
  <dc:creator>Admin</dc:creator>
  <dc:description/>
  <dc:language>en-US</dc:language>
  <cp:lastModifiedBy>Admin</cp:lastModifiedBy>
  <dcterms:modified xsi:type="dcterms:W3CDTF">2011-10-06T13:30:44Z</dcterms:modified>
  <cp:revision>20</cp:revision>
  <dc:subject/>
  <dc:title>Слайд 1</dc:title>
</cp:coreProperties>
</file>