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884760" y="0"/>
            <a:ext cx="2966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293760"/>
            <a:ext cx="4564080" cy="420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move the slide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98638-1241-4BC6-AD45-975301056F8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2B088-0831-4E37-B56A-E3C663866F9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F2407-5244-4F8C-A1E1-4602817CEE6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3171B-A37B-44C5-84B5-94AA4CAD42B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622440" y="293760"/>
            <a:ext cx="5608440" cy="4208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71319-F8C5-425E-B75B-A5E2D957769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625B0-E1B1-4C6C-BA37-5FC99A5DA3F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18344-B220-4228-AEBD-295A0F3892F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F8CC5-10E0-4914-9CA2-7606F2ECFE5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44070-DD93-46AD-BEA9-B5CC8E9A427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46E6E-3C4E-4972-A903-7F351F76384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CE621-6C7E-4FC8-B3D7-E4F0D753B7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0C217-6086-4F76-B5A6-7AA2C7E441E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ED408-423E-4D73-8E4C-B9CB04D33D8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F5A87-EBA8-4EA2-A6C3-C6B5291CDE6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A0FE6-7091-4BAB-ABA5-9B2EC85FD51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405B1-15D7-483D-A252-BC1DC2D7926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5B120-C0AB-44C9-9A02-4A017474874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AD9A3-A71B-4FE1-A99C-192B65172CA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2C167-C189-4731-A39A-62191AED167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B00F5-490B-4CE6-AFB9-71FDBF3E700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CE9A-23FB-43DD-A27C-1EB8A7092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3588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1160"/>
            <a:ext cx="753588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8DD14-02DE-4251-A79B-8DCB6B9A0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116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3480" y="271116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BD87-A80A-4029-AF19-99C8A6569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9840" y="68544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7920" y="68544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116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9840" y="271116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7920" y="271116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27F4-9BD9-4FCA-8525-991DAAB10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E1931-6675-4AFF-B2B0-CE056BB7CE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3588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24C0C-78C6-45DB-9532-C41A30478C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358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7B371-08FB-4DE1-AA06-900DC6F1BA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B94E-9710-4E7D-AEF9-E42D0FB278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E86C1-8D0E-4411-9809-445A3A5F74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3595320"/>
            <a:ext cx="6773760" cy="1187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D052-3D3E-4162-BF56-6B70E1F108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116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5361-8F0D-42A6-991C-C826D1E597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3588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B86D-2268-4756-9B38-6BB2BACC2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3480" y="271116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C785-CC5F-476A-B5E1-F47BB27AF9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1160"/>
            <a:ext cx="753588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A3B7-8023-4872-9BFB-F63CBBC057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3588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1160"/>
            <a:ext cx="753588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9482-C002-4F03-B662-CDED30C4EC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116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3480" y="271116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944A-83C9-4233-BE78-A16DD576D3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9840" y="68544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57920" y="68544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116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9840" y="271116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57920" y="271116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B20D6-70FC-4CFA-80BD-CA445623E6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358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A995-E166-4F5F-B3F5-1BCE16D92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C2A6-6746-45D9-84A3-4D83C29AB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FFEA-E280-4E3C-B59A-69F6D26C1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595320"/>
            <a:ext cx="6773760" cy="1187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47CB-1097-4D24-9B61-A168A90F8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116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B589-094A-4C26-98AA-E9AA2CBD2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3480" y="271116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0D1D-BFF7-48D8-83A3-0EFCE3638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1160"/>
            <a:ext cx="753588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0F38-801B-4194-96F9-793D91297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358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248520" y="620568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762120" y="6207120"/>
            <a:ext cx="487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5686560"/>
            <a:ext cx="753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9925A8-6947-4CBB-A7E7-E995DEB9070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358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248520" y="6207120"/>
            <a:ext cx="2128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62120" y="6207120"/>
            <a:ext cx="4873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7620120" y="5637240"/>
            <a:ext cx="7538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262626"/>
                </a:solidFill>
                <a:latin typeface="Impact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057DAB-7E3C-4DD8-A78C-D181026A90B9}" type="slidenum">
              <a:rPr b="0" lang="ru-RU" sz="2400" spc="-1" strike="noStrike">
                <a:solidFill>
                  <a:srgbClr val="262626"/>
                </a:solidFill>
                <a:latin typeface="Impact"/>
                <a:ea typeface="DejaVu Sans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udygerman.r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900000" y="3182760"/>
            <a:ext cx="754380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262626"/>
                </a:solidFill>
                <a:latin typeface="Times New Roman"/>
              </a:rPr>
              <a:t>Исследовательская работа по русскому язык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187280" y="515772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а тему: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оотношение существительных женского, мужского и среднего рода в   русском, английском и немецком языках.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762120" y="4572000"/>
            <a:ext cx="678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Times New Roman"/>
              </a:rPr>
              <a:t>Введение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762120" y="68580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303030"/>
                </a:solidFill>
                <a:latin typeface="Times New Roman"/>
              </a:rPr>
              <a:t>Цель исследовательской работы</a:t>
            </a: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: изучить соотношение категории рода в русском, английском и немецком языках и выявить сходства и различ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303030"/>
                </a:solidFill>
                <a:latin typeface="Times New Roman"/>
              </a:rPr>
              <a:t>Задачи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- изучить литературу по данному вопросу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- рассмотреть определение категории рода в языке;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- выявить сходства и различ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- собрать языковой материал для анализа;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- определить род анализируемых слов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- получить результаты исследования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62120" y="4068720"/>
            <a:ext cx="678168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Impact"/>
              </a:rPr>
              <a:t>Определение категории рода в языкознан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762120" y="68580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од в грамматике — грамматическая категория, свойственная различным частям речи и состоящая в распределении слов и форм по классам, традиционно соотносимым с признаками пола или их отсутствием. Род является классифицирующей категорией для существитель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762120" y="4572000"/>
            <a:ext cx="678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520560" y="431640"/>
            <a:ext cx="79041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144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3071880" y="1214280"/>
            <a:ext cx="242892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214800" y="1071720"/>
            <a:ext cx="214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род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8" name="AutoShape 5"/>
          <p:cNvCxnSpPr/>
          <p:nvPr/>
        </p:nvCxnSpPr>
        <p:spPr>
          <a:xfrm>
            <a:off x="4857840" y="2143080"/>
            <a:ext cx="1643760" cy="150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6"/>
          <p:cNvCxnSpPr>
            <a:stCxn id="106" idx="4"/>
            <a:endCxn id="110" idx="0"/>
          </p:cNvCxnSpPr>
          <p:nvPr/>
        </p:nvCxnSpPr>
        <p:spPr>
          <a:xfrm>
            <a:off x="4286160" y="2356920"/>
            <a:ext cx="286560" cy="24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7"/>
          <p:cNvCxnSpPr/>
          <p:nvPr/>
        </p:nvCxnSpPr>
        <p:spPr>
          <a:xfrm flipH="1">
            <a:off x="2142360" y="2285640"/>
            <a:ext cx="17866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Oval 8"/>
          <p:cNvSpPr/>
          <p:nvPr/>
        </p:nvSpPr>
        <p:spPr>
          <a:xfrm>
            <a:off x="5072040" y="3214800"/>
            <a:ext cx="3857760" cy="1643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яется по полу и выражается артикл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цкий язык         язы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2643120" y="4786200"/>
            <a:ext cx="3857760" cy="128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висит от пола и одушевлён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ийский язы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214200" y="3214800"/>
            <a:ext cx="3786480" cy="178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ая грамматическая категор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сск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зы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762120" y="4572000"/>
            <a:ext cx="678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762120" y="685800"/>
            <a:ext cx="56102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Соотношение существительных женского рода в русском, английском и немецком язык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1116000" y="1795320"/>
            <a:ext cx="66200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762120" y="4572000"/>
            <a:ext cx="678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762120" y="685800"/>
            <a:ext cx="56102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Соотношение существительных мужского рода в русском, английском и немецком язык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913440" cy="41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803160" y="4940280"/>
            <a:ext cx="6782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262626"/>
                </a:solidFill>
                <a:latin typeface="Impact"/>
              </a:rPr>
              <a:t>ПРИЛОЖЕНИЕ 1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826920" y="620640"/>
            <a:ext cx="554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Соотношение существительных среднего рода в русском, английском и немецком языках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69138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762120" y="4572000"/>
            <a:ext cx="678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Group 2"/>
          <p:cNvGrpSpPr/>
          <p:nvPr/>
        </p:nvGrpSpPr>
        <p:grpSpPr>
          <a:xfrm>
            <a:off x="755640" y="1197000"/>
            <a:ext cx="7710480" cy="4527360"/>
            <a:chOff x="755640" y="1197000"/>
            <a:chExt cx="7710480" cy="4527360"/>
          </a:xfrm>
        </p:grpSpPr>
        <p:pic>
          <p:nvPicPr>
            <p:cNvPr id="125" name="Picture 3" descr=""/>
            <p:cNvPicPr/>
            <p:nvPr/>
          </p:nvPicPr>
          <p:blipFill>
            <a:blip r:embed="rId2"/>
            <a:stretch/>
          </p:blipFill>
          <p:spPr>
            <a:xfrm>
              <a:off x="755640" y="1197000"/>
              <a:ext cx="7710480" cy="45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4"/>
            <p:cNvSpPr/>
            <p:nvPr/>
          </p:nvSpPr>
          <p:spPr>
            <a:xfrm>
              <a:off x="755640" y="1197000"/>
              <a:ext cx="7710480" cy="45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762120" y="4572000"/>
            <a:ext cx="678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ПИСОК ЛИТЕРАТУР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26920" y="620640"/>
          <a:ext cx="7564680" cy="4321080"/>
        </p:xfrm>
        <a:graphic>
          <a:graphicData uri="http://schemas.openxmlformats.org/drawingml/2006/table">
            <a:tbl>
              <a:tblPr/>
              <a:tblGrid>
                <a:gridCol w="7564680"/>
              </a:tblGrid>
              <a:tr h="479520">
                <a:tc>
                  <a:txBody>
                    <a:bodyPr lIns="68760" rIns="68760" tIns="138960" bIns="0" anchor="b">
                      <a:noAutofit/>
                    </a:bodyPr>
                    <a:p>
                      <a:pPr marL="334800" indent="-334800" algn="just">
                        <a:lnSpc>
                          <a:spcPct val="68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334800"/>
                          <a:tab algn="l" pos="782640"/>
                          <a:tab algn="l" pos="1231920"/>
                          <a:tab algn="l" pos="1681200"/>
                          <a:tab algn="l" pos="2130480"/>
                          <a:tab algn="l" pos="2579760"/>
                          <a:tab algn="l" pos="3029040"/>
                          <a:tab algn="l" pos="3478320"/>
                          <a:tab algn="l" pos="3927600"/>
                          <a:tab algn="l" pos="4376880"/>
                          <a:tab algn="l" pos="4826160"/>
                          <a:tab algn="l" pos="5275440"/>
                          <a:tab algn="l" pos="5724360"/>
                          <a:tab algn="l" pos="6173640"/>
                          <a:tab algn="l" pos="6622920"/>
                          <a:tab algn="l" pos="7072200"/>
                          <a:tab algn="l" pos="7521480"/>
                          <a:tab algn="l" pos="7970760"/>
                          <a:tab algn="l" pos="8420040"/>
                          <a:tab algn="l" pos="8869320"/>
                          <a:tab algn="l" pos="9318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tp://www.correctenglish.ru/theory/grammar/noun-gender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e7e7"/>
                    </a:solidFill>
                  </a:tcPr>
                </a:tc>
              </a:tr>
              <a:tr h="480960">
                <a:tc>
                  <a:txBody>
                    <a:bodyPr lIns="68760" rIns="68760" tIns="138960" bIns="0" anchor="b">
                      <a:noAutofit/>
                    </a:bodyPr>
                    <a:p>
                      <a:pPr marL="334800" indent="-334800" algn="just">
                        <a:lnSpc>
                          <a:spcPct val="68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334800"/>
                          <a:tab algn="l" pos="782640"/>
                          <a:tab algn="l" pos="1231920"/>
                          <a:tab algn="l" pos="1681200"/>
                          <a:tab algn="l" pos="2130480"/>
                          <a:tab algn="l" pos="2579760"/>
                          <a:tab algn="l" pos="3029040"/>
                          <a:tab algn="l" pos="3478320"/>
                          <a:tab algn="l" pos="3927600"/>
                          <a:tab algn="l" pos="4376880"/>
                          <a:tab algn="l" pos="4826160"/>
                          <a:tab algn="l" pos="5275440"/>
                          <a:tab algn="l" pos="5724360"/>
                          <a:tab algn="l" pos="6173640"/>
                          <a:tab algn="l" pos="6622920"/>
                          <a:tab algn="l" pos="7072200"/>
                          <a:tab algn="l" pos="7521480"/>
                          <a:tab algn="l" pos="7970760"/>
                          <a:tab algn="l" pos="8420040"/>
                          <a:tab algn="l" pos="8869320"/>
                          <a:tab algn="l" pos="9318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tp://www.lingvotech.com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e7e7"/>
                    </a:solidFill>
                  </a:tcPr>
                </a:tc>
              </a:tr>
              <a:tr h="479520">
                <a:tc>
                  <a:txBody>
                    <a:bodyPr lIns="68760" rIns="68760" tIns="138960" bIns="0" anchor="b">
                      <a:noAutofit/>
                    </a:bodyPr>
                    <a:p>
                      <a:pPr marL="334800" indent="-334800" algn="just">
                        <a:lnSpc>
                          <a:spcPct val="68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334800"/>
                          <a:tab algn="l" pos="782640"/>
                          <a:tab algn="l" pos="1231920"/>
                          <a:tab algn="l" pos="1681200"/>
                          <a:tab algn="l" pos="2130480"/>
                          <a:tab algn="l" pos="2579760"/>
                          <a:tab algn="l" pos="3029040"/>
                          <a:tab algn="l" pos="3478320"/>
                          <a:tab algn="l" pos="3927600"/>
                          <a:tab algn="l" pos="4376880"/>
                          <a:tab algn="l" pos="4826160"/>
                          <a:tab algn="l" pos="5275440"/>
                          <a:tab algn="l" pos="5724360"/>
                          <a:tab algn="l" pos="6173640"/>
                          <a:tab algn="l" pos="6622920"/>
                          <a:tab algn="l" pos="7072200"/>
                          <a:tab algn="l" pos="7521480"/>
                          <a:tab algn="l" pos="7970760"/>
                          <a:tab algn="l" pos="8420040"/>
                          <a:tab algn="l" pos="8869320"/>
                          <a:tab algn="l" pos="9318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ый русско- немецкий словарь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e7e7"/>
                    </a:solidFill>
                  </a:tcPr>
                </a:tc>
              </a:tr>
              <a:tr h="480960">
                <a:tc>
                  <a:txBody>
                    <a:bodyPr lIns="68760" rIns="68760" tIns="138960" bIns="0" anchor="b">
                      <a:noAutofit/>
                    </a:bodyPr>
                    <a:p>
                      <a:pPr marL="334800" indent="-334800" algn="just">
                        <a:lnSpc>
                          <a:spcPct val="68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334800"/>
                          <a:tab algn="l" pos="782640"/>
                          <a:tab algn="l" pos="1231920"/>
                          <a:tab algn="l" pos="1681200"/>
                          <a:tab algn="l" pos="2130480"/>
                          <a:tab algn="l" pos="2579760"/>
                          <a:tab algn="l" pos="3029040"/>
                          <a:tab algn="l" pos="3478320"/>
                          <a:tab algn="l" pos="3927600"/>
                          <a:tab algn="l" pos="4376880"/>
                          <a:tab algn="l" pos="4826160"/>
                          <a:tab algn="l" pos="5275440"/>
                          <a:tab algn="l" pos="5724360"/>
                          <a:tab algn="l" pos="6173640"/>
                          <a:tab algn="l" pos="6622920"/>
                          <a:tab algn="l" pos="7072200"/>
                          <a:tab algn="l" pos="7521480"/>
                          <a:tab algn="l" pos="7970760"/>
                          <a:tab algn="l" pos="8420040"/>
                          <a:tab algn="l" pos="8869320"/>
                          <a:tab algn="l" pos="9318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tp://ru.wikiped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e7e7"/>
                    </a:solidFill>
                  </a:tcPr>
                </a:tc>
              </a:tr>
              <a:tr h="479520">
                <a:tc>
                  <a:txBody>
                    <a:bodyPr lIns="68760" rIns="68760" tIns="138960" bIns="0" anchor="b">
                      <a:noAutofit/>
                    </a:bodyPr>
                    <a:p>
                      <a:pPr marL="334800" indent="-334800" algn="just">
                        <a:lnSpc>
                          <a:spcPct val="68000"/>
                        </a:lnSpc>
                        <a:buClr>
                          <a:srgbClr val="d26900"/>
                        </a:buClr>
                        <a:buFont typeface="Times New Roman"/>
                        <a:buChar char="•"/>
                        <a:tabLst>
                          <a:tab algn="l" pos="334800"/>
                          <a:tab algn="l" pos="782640"/>
                          <a:tab algn="l" pos="1231920"/>
                          <a:tab algn="l" pos="1681200"/>
                          <a:tab algn="l" pos="2130480"/>
                          <a:tab algn="l" pos="2579760"/>
                          <a:tab algn="l" pos="3029040"/>
                          <a:tab algn="l" pos="3478320"/>
                          <a:tab algn="l" pos="3927600"/>
                          <a:tab algn="l" pos="4376880"/>
                          <a:tab algn="l" pos="4826160"/>
                          <a:tab algn="l" pos="5275440"/>
                          <a:tab algn="l" pos="5724360"/>
                          <a:tab algn="l" pos="6173640"/>
                          <a:tab algn="l" pos="6622920"/>
                          <a:tab algn="l" pos="7072200"/>
                          <a:tab algn="l" pos="7521480"/>
                          <a:tab algn="l" pos="7970760"/>
                          <a:tab algn="l" pos="8420040"/>
                          <a:tab algn="l" pos="8869320"/>
                          <a:tab algn="l" pos="9318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http://www.studygerman.ru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e7e7"/>
                    </a:solidFill>
                  </a:tcPr>
                </a:tc>
              </a:tr>
              <a:tr h="479160">
                <a:tc>
                  <a:txBody>
                    <a:bodyPr lIns="68760" rIns="68760" tIns="138960" bIns="0" anchor="b">
                      <a:noAutofit/>
                    </a:bodyPr>
                    <a:p>
                      <a:pPr marL="334800" indent="-334800" algn="just">
                        <a:lnSpc>
                          <a:spcPct val="68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334800"/>
                          <a:tab algn="l" pos="782640"/>
                          <a:tab algn="l" pos="1231920"/>
                          <a:tab algn="l" pos="1681200"/>
                          <a:tab algn="l" pos="2130480"/>
                          <a:tab algn="l" pos="2579760"/>
                          <a:tab algn="l" pos="3029040"/>
                          <a:tab algn="l" pos="3478320"/>
                          <a:tab algn="l" pos="3927600"/>
                          <a:tab algn="l" pos="4376880"/>
                          <a:tab algn="l" pos="4826160"/>
                          <a:tab algn="l" pos="5275440"/>
                          <a:tab algn="l" pos="5724360"/>
                          <a:tab algn="l" pos="6173640"/>
                          <a:tab algn="l" pos="6622920"/>
                          <a:tab algn="l" pos="7072200"/>
                          <a:tab algn="l" pos="7521480"/>
                          <a:tab algn="l" pos="7970760"/>
                          <a:tab algn="l" pos="8420040"/>
                          <a:tab algn="l" pos="8869320"/>
                          <a:tab algn="l" pos="9318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неев Р.Н. «Русский язык » 5 класс. Москва. «Баласс» 2012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e7e7"/>
                    </a:solidFill>
                  </a:tcPr>
                </a:tc>
              </a:tr>
              <a:tr h="960480">
                <a:tc>
                  <a:txBody>
                    <a:bodyPr lIns="68760" rIns="68760" tIns="138960" bIns="0" anchor="b">
                      <a:noAutofit/>
                    </a:bodyPr>
                    <a:p>
                      <a:pPr marL="334800" indent="-334800" algn="just">
                        <a:lnSpc>
                          <a:spcPct val="68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334800"/>
                          <a:tab algn="l" pos="782640"/>
                          <a:tab algn="l" pos="1231920"/>
                          <a:tab algn="l" pos="1681200"/>
                          <a:tab algn="l" pos="2130480"/>
                          <a:tab algn="l" pos="2579760"/>
                          <a:tab algn="l" pos="3029040"/>
                          <a:tab algn="l" pos="3478320"/>
                          <a:tab algn="l" pos="3927600"/>
                          <a:tab algn="l" pos="4376880"/>
                          <a:tab algn="l" pos="4826160"/>
                          <a:tab algn="l" pos="5275440"/>
                          <a:tab algn="l" pos="5724360"/>
                          <a:tab algn="l" pos="6173640"/>
                          <a:tab algn="l" pos="6622920"/>
                          <a:tab algn="l" pos="7072200"/>
                          <a:tab algn="l" pos="7521480"/>
                          <a:tab algn="l" pos="7970760"/>
                          <a:tab algn="l" pos="8420040"/>
                          <a:tab algn="l" pos="8869320"/>
                          <a:tab algn="l" pos="9318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нидзе Н.К., Барташова О.А.Грамматические категории имени существительного: Учебное пособие.– СПб.: Изд-во СПбГУЭФ, 2010.– 92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e7e7"/>
                    </a:solidFill>
                  </a:tcPr>
                </a:tc>
              </a:tr>
              <a:tr h="480960">
                <a:tc>
                  <a:txBody>
                    <a:bodyPr lIns="68760" rIns="68760" tIns="138960" bIns="0" anchor="b">
                      <a:noAutofit/>
                    </a:bodyPr>
                    <a:p>
                      <a:pPr marL="334800" indent="-334800" algn="just">
                        <a:lnSpc>
                          <a:spcPct val="68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334800"/>
                          <a:tab algn="l" pos="782640"/>
                          <a:tab algn="l" pos="1231920"/>
                          <a:tab algn="l" pos="1681200"/>
                          <a:tab algn="l" pos="2130480"/>
                          <a:tab algn="l" pos="2579760"/>
                          <a:tab algn="l" pos="3029040"/>
                          <a:tab algn="l" pos="3478320"/>
                          <a:tab algn="l" pos="3927600"/>
                          <a:tab algn="l" pos="4376880"/>
                          <a:tab algn="l" pos="4826160"/>
                          <a:tab algn="l" pos="5275440"/>
                          <a:tab algn="l" pos="5724360"/>
                          <a:tab algn="l" pos="6173640"/>
                          <a:tab algn="l" pos="6622920"/>
                          <a:tab algn="l" pos="7072200"/>
                          <a:tab algn="l" pos="7521480"/>
                          <a:tab algn="l" pos="7970760"/>
                          <a:tab algn="l" pos="8420040"/>
                          <a:tab algn="l" pos="8869320"/>
                          <a:tab algn="l" pos="9318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ый русско- английский словарь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3:16:05Z</dcterms:created>
  <dc:creator>jeNNtos</dc:creator>
  <dc:description/>
  <dc:language>en-US</dc:language>
  <cp:lastModifiedBy>user</cp:lastModifiedBy>
  <dcterms:modified xsi:type="dcterms:W3CDTF">2014-01-30T16:35:17Z</dcterms:modified>
  <cp:revision>6</cp:revision>
  <dc:subject/>
  <dc:title>Исследовательская работа по русскому языку</dc:title>
</cp:coreProperties>
</file>