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3884760" y="0"/>
            <a:ext cx="29667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293760"/>
            <a:ext cx="4564080" cy="4206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move the slide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  <a:ea typeface="DejaVu Sans Condense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177073-6FFF-419A-8EA5-71A4265869C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85CB78-F7A3-4025-B22D-DE3C59A2506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FD76A6-FA93-4280-9EF2-18FE8BEFB2D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623880" y="295200"/>
            <a:ext cx="5610240" cy="42084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598B5F-7955-4093-BA18-371048EF2F68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622440" y="293760"/>
            <a:ext cx="5608440" cy="4208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8ADB7A-7790-4334-AEDC-20C4070D8186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EB844F-24FF-49FF-B914-32EB30FA18C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623880" y="295200"/>
            <a:ext cx="5610240" cy="42084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98CEA4-B0FC-4790-9CBF-31AA7DB08322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F3AD8E-FE82-4906-9FA1-48BF687DBCF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623880" y="295200"/>
            <a:ext cx="5610240" cy="42084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2E6A6D-9E66-41CD-8CF9-C089D17ACA40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B859C1-3CCD-4CF9-B508-3840D1A64F0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623880" y="295200"/>
            <a:ext cx="5610240" cy="42084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5F0C0A-3E46-447F-80E8-171EC4D9673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014711-4066-460B-A53E-D6C214943E2E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623880" y="295200"/>
            <a:ext cx="5610240" cy="42084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20DA8C-E03A-40F2-B650-2BC83ADEB64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ECA578-B81C-4144-8673-208F65AC710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623880" y="295200"/>
            <a:ext cx="5610240" cy="42084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902524-0729-4FC8-B357-E885380E419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6A0875-2AAC-48C3-BE87-CB8DC439F61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623880" y="295200"/>
            <a:ext cx="5610240" cy="42084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031F10-04C5-4CC0-8638-15D798DEDA16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A8325B-C566-450A-82CB-19FDDA70201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623880" y="295200"/>
            <a:ext cx="5610240" cy="42084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088477-AD84-4873-B76C-A7E0BCDF444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507E55-6D1F-4659-8E11-719C506A52F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623880" y="295200"/>
            <a:ext cx="5610240" cy="42084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CB1C8-2570-4C75-9B8B-26D1E75B57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3595320"/>
            <a:ext cx="6773760" cy="25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3588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1760" y="2711160"/>
            <a:ext cx="753588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53BA2-C463-4D0C-9077-47779FF3FE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3595320"/>
            <a:ext cx="6773760" cy="25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774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3480" y="685440"/>
            <a:ext cx="36774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1760" y="2711160"/>
            <a:ext cx="36774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3480" y="2711160"/>
            <a:ext cx="36774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7CFD9-35FB-43BA-87C8-01470EF7CE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3595320"/>
            <a:ext cx="6773760" cy="25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64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9840" y="685440"/>
            <a:ext cx="24264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57920" y="685440"/>
            <a:ext cx="24264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1760" y="2711160"/>
            <a:ext cx="24264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9840" y="2711160"/>
            <a:ext cx="24264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57920" y="2711160"/>
            <a:ext cx="24264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A9083-CF22-4DAB-954F-3EDB48D065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05F41-C3C8-4060-902C-C87EDF5ADA8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595320"/>
            <a:ext cx="6773760" cy="25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3588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845AF-85B9-4269-9242-A808646936C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3595320"/>
            <a:ext cx="6773760" cy="25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3588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3E954-BEFF-4626-9E81-7907B63A1B0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3595320"/>
            <a:ext cx="6773760" cy="25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774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23480" y="685440"/>
            <a:ext cx="36774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ACA1F-A51D-4439-96DC-A9E707D6A36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3595320"/>
            <a:ext cx="6773760" cy="25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3AF71-D566-4877-B260-25E22DB29C7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2120" y="3595320"/>
            <a:ext cx="6773760" cy="1187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50D3D-4F44-4317-8428-4F158DE765C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595320"/>
            <a:ext cx="6773760" cy="25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774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3480" y="685440"/>
            <a:ext cx="36774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1760" y="2711160"/>
            <a:ext cx="36774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63DFC-39AA-42D7-BCB1-073BCFAB7D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595320"/>
            <a:ext cx="6773760" cy="25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3588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3BAE2-7DF6-45E8-AC62-8462330CFD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595320"/>
            <a:ext cx="6773760" cy="25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774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3480" y="685440"/>
            <a:ext cx="36774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23480" y="2711160"/>
            <a:ext cx="36774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005DE-814D-4414-B87E-E306FD3B158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595320"/>
            <a:ext cx="6773760" cy="25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774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23480" y="685440"/>
            <a:ext cx="36774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1760" y="2711160"/>
            <a:ext cx="753588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B194A-B665-41A8-93B6-BE5858004B2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3595320"/>
            <a:ext cx="6773760" cy="25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3588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61760" y="2711160"/>
            <a:ext cx="753588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1E4C9-08C0-4906-9184-5518B6E0E7B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3595320"/>
            <a:ext cx="6773760" cy="25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774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23480" y="685440"/>
            <a:ext cx="36774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1760" y="2711160"/>
            <a:ext cx="36774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23480" y="2711160"/>
            <a:ext cx="36774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67281-162C-4880-882A-022943A6912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3595320"/>
            <a:ext cx="6773760" cy="25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64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09840" y="685440"/>
            <a:ext cx="24264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57920" y="685440"/>
            <a:ext cx="24264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1760" y="2711160"/>
            <a:ext cx="24264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09840" y="2711160"/>
            <a:ext cx="24264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57920" y="2711160"/>
            <a:ext cx="24264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AAAF0-8135-47C1-870D-45074383A0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3595320"/>
            <a:ext cx="6773760" cy="25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3588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89DFF-F33B-4E97-95AC-0EE10BA47D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3595320"/>
            <a:ext cx="6773760" cy="25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774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3480" y="685440"/>
            <a:ext cx="36774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BCB8B-C3F8-4A2C-A78A-47C63B82BF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595320"/>
            <a:ext cx="6773760" cy="25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C6D67-8F50-487C-936E-D9D591FB28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3595320"/>
            <a:ext cx="6773760" cy="1187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CC5A4-5D39-481B-ABFA-172FA32A43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3595320"/>
            <a:ext cx="6773760" cy="25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774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3480" y="685440"/>
            <a:ext cx="36774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1760" y="2711160"/>
            <a:ext cx="36774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C3D5E-9A6E-4064-9890-35006A5DE1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3595320"/>
            <a:ext cx="6773760" cy="25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774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3480" y="685440"/>
            <a:ext cx="36774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3480" y="2711160"/>
            <a:ext cx="36774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22FA0-6195-4EEF-8A55-C8DDC955B5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3595320"/>
            <a:ext cx="6773760" cy="25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774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3480" y="685440"/>
            <a:ext cx="36774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1760" y="2711160"/>
            <a:ext cx="753588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0839B-FD18-4A52-9D2E-971B7EF1AB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3595320"/>
            <a:ext cx="6773760" cy="25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3588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6248520" y="6205680"/>
            <a:ext cx="21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762120" y="6207120"/>
            <a:ext cx="487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620120" y="5686560"/>
            <a:ext cx="753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14ED8C2-33F3-45B5-B1F1-C5FC3F3A6EA0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"/>
          <p:cNvSpPr/>
          <p:nvPr/>
        </p:nvSpPr>
        <p:spPr>
          <a:xfrm>
            <a:off x="777960" y="0"/>
            <a:ext cx="7543800" cy="30481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3595320"/>
            <a:ext cx="6773760" cy="25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3588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6248520" y="6207120"/>
            <a:ext cx="21286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762120" y="6207120"/>
            <a:ext cx="4873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7620120" y="5637240"/>
            <a:ext cx="7538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262626"/>
                </a:solidFill>
                <a:latin typeface="Impact"/>
                <a:ea typeface="DejaVu Sans Condense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C7835B9-81F2-42D3-A1B4-9A2F4364E5C9}" type="slidenum">
              <a:rPr b="0" lang="ru-RU" sz="2400" spc="-1" strike="noStrike">
                <a:solidFill>
                  <a:srgbClr val="262626"/>
                </a:solidFill>
                <a:latin typeface="Impact"/>
                <a:ea typeface="DejaVu Sans Condensed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tudygerman.ru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"/>
          <p:cNvSpPr/>
          <p:nvPr/>
        </p:nvSpPr>
        <p:spPr>
          <a:xfrm>
            <a:off x="900000" y="3182760"/>
            <a:ext cx="7543800" cy="15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262626"/>
                </a:solidFill>
                <a:latin typeface="Times New Roman"/>
              </a:rPr>
              <a:t>Исследовательская работа по русскому языку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1187280" y="5157720"/>
            <a:ext cx="6858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На тему: </a:t>
            </a: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“</a:t>
            </a: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Соотношение существительных женского, мужского и среднего рода в   русском, английском и немецком языках.</a:t>
            </a: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262626"/>
                </a:solidFill>
                <a:latin typeface="Impact"/>
              </a:rPr>
              <a:t>Спасибо за внимание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762120" y="4572000"/>
            <a:ext cx="67816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262626"/>
                </a:solidFill>
                <a:latin typeface="Times New Roman"/>
              </a:rPr>
              <a:t>Введение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762120" y="685800"/>
            <a:ext cx="7543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64960" indent="-264960">
              <a:lnSpc>
                <a:spcPct val="90000"/>
              </a:lnSpc>
              <a:spcBef>
                <a:spcPts val="550"/>
              </a:spcBef>
              <a:buClr>
                <a:srgbClr val="ad0101"/>
              </a:buClr>
              <a:buFont typeface="Arial"/>
              <a:buChar char="•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303030"/>
                </a:solidFill>
                <a:latin typeface="Times New Roman"/>
              </a:rPr>
              <a:t>Цель исследовательской работы</a:t>
            </a:r>
            <a:r>
              <a:rPr b="0" lang="ru-RU" sz="2200" spc="-1" strike="noStrike">
                <a:solidFill>
                  <a:srgbClr val="303030"/>
                </a:solidFill>
                <a:latin typeface="Times New Roman"/>
              </a:rPr>
              <a:t>: изучить соотношение категории рода в русском, английском и немецком языках и выявить сходства и различия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550"/>
              </a:spcBef>
              <a:buClr>
                <a:srgbClr val="ad0101"/>
              </a:buClr>
              <a:buFont typeface="Arial"/>
              <a:buChar char="•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303030"/>
                </a:solidFill>
                <a:latin typeface="Times New Roman"/>
              </a:rPr>
              <a:t>Задачи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550"/>
              </a:spcBef>
              <a:buClr>
                <a:srgbClr val="ad0101"/>
              </a:buClr>
              <a:buFont typeface="Arial"/>
              <a:buChar char="•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Times New Roman"/>
              </a:rPr>
              <a:t>- изучить литературу по данному вопросу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550"/>
              </a:spcBef>
              <a:buClr>
                <a:srgbClr val="ad0101"/>
              </a:buClr>
              <a:buFont typeface="Arial"/>
              <a:buChar char="•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Times New Roman"/>
              </a:rPr>
              <a:t>- рассмотреть определение категории рода в языке;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550"/>
              </a:spcBef>
              <a:buClr>
                <a:srgbClr val="ad0101"/>
              </a:buClr>
              <a:buFont typeface="Arial"/>
              <a:buChar char="•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Times New Roman"/>
              </a:rPr>
              <a:t>- выявить сходства и различия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550"/>
              </a:spcBef>
              <a:buClr>
                <a:srgbClr val="ad0101"/>
              </a:buClr>
              <a:buFont typeface="Arial"/>
              <a:buChar char="•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Times New Roman"/>
              </a:rPr>
              <a:t>- собрать языковой материал для анализа;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550"/>
              </a:spcBef>
              <a:buClr>
                <a:srgbClr val="ad0101"/>
              </a:buClr>
              <a:buFont typeface="Arial"/>
              <a:buChar char="•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303030"/>
                </a:solidFill>
                <a:latin typeface="Times New Roman"/>
              </a:rPr>
              <a:t>- определить род анализируемых слов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550"/>
              </a:spcBef>
              <a:buClr>
                <a:srgbClr val="ad0101"/>
              </a:buClr>
              <a:buFont typeface="Arial"/>
              <a:buChar char="•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303030"/>
                </a:solidFill>
                <a:latin typeface="Times New Roman"/>
              </a:rPr>
              <a:t>- получить результаты исследования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762120" y="4068720"/>
            <a:ext cx="6781680" cy="21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62626"/>
                </a:solidFill>
                <a:latin typeface="Impact"/>
              </a:rPr>
              <a:t>Определение категории рода в языкознани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762120" y="685800"/>
            <a:ext cx="7543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64960" indent="-26496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Род в грамматике — грамматическая категория, свойственная различным частям речи и состоящая в распределении слов и форм по классам, традиционно соотносимым с признаками пола или их отсутствием. Род является классифицирующей категорией для существительных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spcBef>
                <a:spcPts val="601"/>
              </a:spcBef>
              <a:tabLst>
                <a:tab algn="l" pos="0"/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"/>
          <p:cNvSpPr/>
          <p:nvPr/>
        </p:nvSpPr>
        <p:spPr>
          <a:xfrm>
            <a:off x="762120" y="4572000"/>
            <a:ext cx="67816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520560" y="431640"/>
            <a:ext cx="790416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1440" indent="-26496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71440" indent="-26496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Oval 3"/>
          <p:cNvSpPr/>
          <p:nvPr/>
        </p:nvSpPr>
        <p:spPr>
          <a:xfrm>
            <a:off x="3071880" y="1214280"/>
            <a:ext cx="2428920" cy="1143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3214800" y="1071720"/>
            <a:ext cx="214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Times New Roman"/>
              </a:rPr>
              <a:t>род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8" name="AutoShape 5"/>
          <p:cNvCxnSpPr/>
          <p:nvPr/>
        </p:nvCxnSpPr>
        <p:spPr>
          <a:xfrm>
            <a:off x="4857840" y="2143080"/>
            <a:ext cx="1643760" cy="150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AutoShape 6"/>
          <p:cNvCxnSpPr>
            <a:stCxn id="106" idx="4"/>
            <a:endCxn id="110" idx="0"/>
          </p:cNvCxnSpPr>
          <p:nvPr/>
        </p:nvCxnSpPr>
        <p:spPr>
          <a:xfrm>
            <a:off x="4286160" y="2356920"/>
            <a:ext cx="286560" cy="2429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AutoShape 7"/>
          <p:cNvCxnSpPr/>
          <p:nvPr/>
        </p:nvCxnSpPr>
        <p:spPr>
          <a:xfrm flipH="1">
            <a:off x="2142360" y="2285640"/>
            <a:ext cx="178668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Oval 8"/>
          <p:cNvSpPr/>
          <p:nvPr/>
        </p:nvSpPr>
        <p:spPr>
          <a:xfrm>
            <a:off x="5072040" y="3214800"/>
            <a:ext cx="3857760" cy="1643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пределяется по полу и выражается артикле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мецкий язык         язы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Oval 9"/>
          <p:cNvSpPr/>
          <p:nvPr/>
        </p:nvSpPr>
        <p:spPr>
          <a:xfrm>
            <a:off x="2643120" y="4786200"/>
            <a:ext cx="3857760" cy="1285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висит от пола и одушевлённост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глийский язы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Oval 10"/>
          <p:cNvSpPr/>
          <p:nvPr/>
        </p:nvSpPr>
        <p:spPr>
          <a:xfrm>
            <a:off x="214200" y="3214800"/>
            <a:ext cx="3786480" cy="178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сновная грамматическая категор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усский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зы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1"/>
          <p:cNvSpPr/>
          <p:nvPr/>
        </p:nvSpPr>
        <p:spPr>
          <a:xfrm>
            <a:off x="762120" y="4572000"/>
            <a:ext cx="67816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762120" y="685800"/>
            <a:ext cx="561024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64960" indent="-264960">
              <a:lnSpc>
                <a:spcPct val="90000"/>
              </a:lnSpc>
              <a:spcBef>
                <a:spcPts val="499"/>
              </a:spcBef>
              <a:buClr>
                <a:srgbClr val="ad0101"/>
              </a:buClr>
              <a:buFont typeface="Arial"/>
              <a:buChar char="•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Соотношение существительных женского рода в русском, английском и немецком языка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2"/>
          <a:stretch/>
        </p:blipFill>
        <p:spPr>
          <a:xfrm>
            <a:off x="1116000" y="1795320"/>
            <a:ext cx="6620040" cy="410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762120" y="4572000"/>
            <a:ext cx="67816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2"/>
          <p:cNvSpPr/>
          <p:nvPr/>
        </p:nvSpPr>
        <p:spPr>
          <a:xfrm>
            <a:off x="762120" y="685800"/>
            <a:ext cx="561024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64960" indent="-264960">
              <a:lnSpc>
                <a:spcPct val="90000"/>
              </a:lnSpc>
              <a:spcBef>
                <a:spcPts val="499"/>
              </a:spcBef>
              <a:buClr>
                <a:srgbClr val="ad0101"/>
              </a:buClr>
              <a:buFont typeface="Arial"/>
              <a:buChar char="•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Соотношение существительных мужского рода в русском, английском и немецком языка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2"/>
          <a:stretch/>
        </p:blipFill>
        <p:spPr>
          <a:xfrm>
            <a:off x="1258920" y="1700280"/>
            <a:ext cx="6913440" cy="41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1"/>
          <p:cNvSpPr/>
          <p:nvPr/>
        </p:nvSpPr>
        <p:spPr>
          <a:xfrm>
            <a:off x="803160" y="4940280"/>
            <a:ext cx="67820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900" spc="-1" strike="noStrike">
                <a:solidFill>
                  <a:srgbClr val="262626"/>
                </a:solidFill>
                <a:latin typeface="Impact"/>
              </a:rPr>
              <a:t>ПРИЛОЖЕНИЕ 1</a:t>
            </a:r>
            <a:br>
              <a:rPr sz="4900"/>
            </a:br>
            <a:endParaRPr b="0" lang="en-US" sz="4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826920" y="620640"/>
            <a:ext cx="5545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303030"/>
                </a:solidFill>
                <a:latin typeface="Times New Roman"/>
              </a:rPr>
              <a:t>Соотношение существительных среднего рода в русском, английском и немецком языках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2"/>
          <a:stretch/>
        </p:blipFill>
        <p:spPr>
          <a:xfrm>
            <a:off x="826920" y="1268280"/>
            <a:ext cx="6913800" cy="35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1"/>
          <p:cNvSpPr/>
          <p:nvPr/>
        </p:nvSpPr>
        <p:spPr>
          <a:xfrm>
            <a:off x="762120" y="4572000"/>
            <a:ext cx="67816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4" name="Group 2"/>
          <p:cNvGrpSpPr/>
          <p:nvPr/>
        </p:nvGrpSpPr>
        <p:grpSpPr>
          <a:xfrm>
            <a:off x="755640" y="1197000"/>
            <a:ext cx="7710480" cy="4527360"/>
            <a:chOff x="755640" y="1197000"/>
            <a:chExt cx="7710480" cy="4527360"/>
          </a:xfrm>
        </p:grpSpPr>
        <p:pic>
          <p:nvPicPr>
            <p:cNvPr id="125" name="Picture 3" descr=""/>
            <p:cNvPicPr/>
            <p:nvPr/>
          </p:nvPicPr>
          <p:blipFill>
            <a:blip r:embed="rId2"/>
            <a:stretch/>
          </p:blipFill>
          <p:spPr>
            <a:xfrm>
              <a:off x="755640" y="1197000"/>
              <a:ext cx="7710480" cy="452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4"/>
            <p:cNvSpPr/>
            <p:nvPr/>
          </p:nvSpPr>
          <p:spPr>
            <a:xfrm>
              <a:off x="755640" y="1197000"/>
              <a:ext cx="7710480" cy="452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1"/>
          <p:cNvSpPr/>
          <p:nvPr/>
        </p:nvSpPr>
        <p:spPr>
          <a:xfrm>
            <a:off x="762120" y="4572000"/>
            <a:ext cx="67816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262626"/>
                </a:solidFill>
                <a:latin typeface="Impact"/>
              </a:rPr>
              <a:t>СПИСОК ЛИТЕРАТУРЫ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826920" y="620640"/>
          <a:ext cx="7564680" cy="4321080"/>
        </p:xfrm>
        <a:graphic>
          <a:graphicData uri="http://schemas.openxmlformats.org/drawingml/2006/table">
            <a:tbl>
              <a:tblPr/>
              <a:tblGrid>
                <a:gridCol w="7564680"/>
              </a:tblGrid>
              <a:tr h="479520">
                <a:tc>
                  <a:txBody>
                    <a:bodyPr lIns="68760" rIns="68760" tIns="138960" bIns="0" anchor="b">
                      <a:noAutofit/>
                    </a:bodyPr>
                    <a:p>
                      <a:pPr marL="334800" indent="-334800" algn="just">
                        <a:lnSpc>
                          <a:spcPct val="68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334800"/>
                          <a:tab algn="l" pos="782640"/>
                          <a:tab algn="l" pos="1231920"/>
                          <a:tab algn="l" pos="1681200"/>
                          <a:tab algn="l" pos="2130480"/>
                          <a:tab algn="l" pos="2579760"/>
                          <a:tab algn="l" pos="3029040"/>
                          <a:tab algn="l" pos="3478320"/>
                          <a:tab algn="l" pos="3927600"/>
                          <a:tab algn="l" pos="4376880"/>
                          <a:tab algn="l" pos="4826160"/>
                          <a:tab algn="l" pos="5275440"/>
                          <a:tab algn="l" pos="5724360"/>
                          <a:tab algn="l" pos="6173640"/>
                          <a:tab algn="l" pos="6622920"/>
                          <a:tab algn="l" pos="7072200"/>
                          <a:tab algn="l" pos="7521480"/>
                          <a:tab algn="l" pos="7970760"/>
                          <a:tab algn="l" pos="8420040"/>
                          <a:tab algn="l" pos="8869320"/>
                          <a:tab algn="l" pos="931860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ttp://www.correctenglish.ru/theory/grammar/noun-gender/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1e7e7"/>
                    </a:solidFill>
                  </a:tcPr>
                </a:tc>
              </a:tr>
              <a:tr h="480960">
                <a:tc>
                  <a:txBody>
                    <a:bodyPr lIns="68760" rIns="68760" tIns="138960" bIns="0" anchor="b">
                      <a:noAutofit/>
                    </a:bodyPr>
                    <a:p>
                      <a:pPr marL="334800" indent="-334800" algn="just">
                        <a:lnSpc>
                          <a:spcPct val="68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334800"/>
                          <a:tab algn="l" pos="782640"/>
                          <a:tab algn="l" pos="1231920"/>
                          <a:tab algn="l" pos="1681200"/>
                          <a:tab algn="l" pos="2130480"/>
                          <a:tab algn="l" pos="2579760"/>
                          <a:tab algn="l" pos="3029040"/>
                          <a:tab algn="l" pos="3478320"/>
                          <a:tab algn="l" pos="3927600"/>
                          <a:tab algn="l" pos="4376880"/>
                          <a:tab algn="l" pos="4826160"/>
                          <a:tab algn="l" pos="5275440"/>
                          <a:tab algn="l" pos="5724360"/>
                          <a:tab algn="l" pos="6173640"/>
                          <a:tab algn="l" pos="6622920"/>
                          <a:tab algn="l" pos="7072200"/>
                          <a:tab algn="l" pos="7521480"/>
                          <a:tab algn="l" pos="7970760"/>
                          <a:tab algn="l" pos="8420040"/>
                          <a:tab algn="l" pos="8869320"/>
                          <a:tab algn="l" pos="931860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ttp://www.lingvotech.com/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1e7e7"/>
                    </a:solidFill>
                  </a:tcPr>
                </a:tc>
              </a:tr>
              <a:tr h="479520">
                <a:tc>
                  <a:txBody>
                    <a:bodyPr lIns="68760" rIns="68760" tIns="138960" bIns="0" anchor="b">
                      <a:noAutofit/>
                    </a:bodyPr>
                    <a:p>
                      <a:pPr marL="334800" indent="-334800" algn="just">
                        <a:lnSpc>
                          <a:spcPct val="68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334800"/>
                          <a:tab algn="l" pos="782640"/>
                          <a:tab algn="l" pos="1231920"/>
                          <a:tab algn="l" pos="1681200"/>
                          <a:tab algn="l" pos="2130480"/>
                          <a:tab algn="l" pos="2579760"/>
                          <a:tab algn="l" pos="3029040"/>
                          <a:tab algn="l" pos="3478320"/>
                          <a:tab algn="l" pos="3927600"/>
                          <a:tab algn="l" pos="4376880"/>
                          <a:tab algn="l" pos="4826160"/>
                          <a:tab algn="l" pos="5275440"/>
                          <a:tab algn="l" pos="5724360"/>
                          <a:tab algn="l" pos="6173640"/>
                          <a:tab algn="l" pos="6622920"/>
                          <a:tab algn="l" pos="7072200"/>
                          <a:tab algn="l" pos="7521480"/>
                          <a:tab algn="l" pos="7970760"/>
                          <a:tab algn="l" pos="8420040"/>
                          <a:tab algn="l" pos="8869320"/>
                          <a:tab algn="l" pos="931860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кольный русско- немецкий словарь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1e7e7"/>
                    </a:solidFill>
                  </a:tcPr>
                </a:tc>
              </a:tr>
              <a:tr h="480960">
                <a:tc>
                  <a:txBody>
                    <a:bodyPr lIns="68760" rIns="68760" tIns="138960" bIns="0" anchor="b">
                      <a:noAutofit/>
                    </a:bodyPr>
                    <a:p>
                      <a:pPr marL="334800" indent="-334800" algn="just">
                        <a:lnSpc>
                          <a:spcPct val="68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334800"/>
                          <a:tab algn="l" pos="782640"/>
                          <a:tab algn="l" pos="1231920"/>
                          <a:tab algn="l" pos="1681200"/>
                          <a:tab algn="l" pos="2130480"/>
                          <a:tab algn="l" pos="2579760"/>
                          <a:tab algn="l" pos="3029040"/>
                          <a:tab algn="l" pos="3478320"/>
                          <a:tab algn="l" pos="3927600"/>
                          <a:tab algn="l" pos="4376880"/>
                          <a:tab algn="l" pos="4826160"/>
                          <a:tab algn="l" pos="5275440"/>
                          <a:tab algn="l" pos="5724360"/>
                          <a:tab algn="l" pos="6173640"/>
                          <a:tab algn="l" pos="6622920"/>
                          <a:tab algn="l" pos="7072200"/>
                          <a:tab algn="l" pos="7521480"/>
                          <a:tab algn="l" pos="7970760"/>
                          <a:tab algn="l" pos="8420040"/>
                          <a:tab algn="l" pos="8869320"/>
                          <a:tab algn="l" pos="931860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ttp://ru.wikipedi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1e7e7"/>
                    </a:solidFill>
                  </a:tcPr>
                </a:tc>
              </a:tr>
              <a:tr h="479520">
                <a:tc>
                  <a:txBody>
                    <a:bodyPr lIns="68760" rIns="68760" tIns="138960" bIns="0" anchor="b">
                      <a:noAutofit/>
                    </a:bodyPr>
                    <a:p>
                      <a:pPr marL="334800" indent="-334800" algn="just">
                        <a:lnSpc>
                          <a:spcPct val="68000"/>
                        </a:lnSpc>
                        <a:buClr>
                          <a:srgbClr val="d26900"/>
                        </a:buClr>
                        <a:buFont typeface="Times New Roman"/>
                        <a:buChar char="•"/>
                        <a:tabLst>
                          <a:tab algn="l" pos="334800"/>
                          <a:tab algn="l" pos="782640"/>
                          <a:tab algn="l" pos="1231920"/>
                          <a:tab algn="l" pos="1681200"/>
                          <a:tab algn="l" pos="2130480"/>
                          <a:tab algn="l" pos="2579760"/>
                          <a:tab algn="l" pos="3029040"/>
                          <a:tab algn="l" pos="3478320"/>
                          <a:tab algn="l" pos="3927600"/>
                          <a:tab algn="l" pos="4376880"/>
                          <a:tab algn="l" pos="4826160"/>
                          <a:tab algn="l" pos="5275440"/>
                          <a:tab algn="l" pos="5724360"/>
                          <a:tab algn="l" pos="6173640"/>
                          <a:tab algn="l" pos="6622920"/>
                          <a:tab algn="l" pos="7072200"/>
                          <a:tab algn="l" pos="7521480"/>
                          <a:tab algn="l" pos="7970760"/>
                          <a:tab algn="l" pos="8420040"/>
                          <a:tab algn="l" pos="8869320"/>
                          <a:tab algn="l" pos="931860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2"/>
                        </a:rPr>
                        <a:t>http://www.studygerman.ru/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1e7e7"/>
                    </a:solidFill>
                  </a:tcPr>
                </a:tc>
              </a:tr>
              <a:tr h="479160">
                <a:tc>
                  <a:txBody>
                    <a:bodyPr lIns="68760" rIns="68760" tIns="138960" bIns="0" anchor="b">
                      <a:noAutofit/>
                    </a:bodyPr>
                    <a:p>
                      <a:pPr marL="334800" indent="-334800" algn="just">
                        <a:lnSpc>
                          <a:spcPct val="68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334800"/>
                          <a:tab algn="l" pos="782640"/>
                          <a:tab algn="l" pos="1231920"/>
                          <a:tab algn="l" pos="1681200"/>
                          <a:tab algn="l" pos="2130480"/>
                          <a:tab algn="l" pos="2579760"/>
                          <a:tab algn="l" pos="3029040"/>
                          <a:tab algn="l" pos="3478320"/>
                          <a:tab algn="l" pos="3927600"/>
                          <a:tab algn="l" pos="4376880"/>
                          <a:tab algn="l" pos="4826160"/>
                          <a:tab algn="l" pos="5275440"/>
                          <a:tab algn="l" pos="5724360"/>
                          <a:tab algn="l" pos="6173640"/>
                          <a:tab algn="l" pos="6622920"/>
                          <a:tab algn="l" pos="7072200"/>
                          <a:tab algn="l" pos="7521480"/>
                          <a:tab algn="l" pos="7970760"/>
                          <a:tab algn="l" pos="8420040"/>
                          <a:tab algn="l" pos="8869320"/>
                          <a:tab algn="l" pos="931860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унеев Р.Н. «Русский язык » 5 класс. Москва. «Баласс» 2012г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1e7e7"/>
                    </a:solidFill>
                  </a:tcPr>
                </a:tc>
              </a:tr>
              <a:tr h="960480">
                <a:tc>
                  <a:txBody>
                    <a:bodyPr lIns="68760" rIns="68760" tIns="138960" bIns="0" anchor="b">
                      <a:noAutofit/>
                    </a:bodyPr>
                    <a:p>
                      <a:pPr marL="334800" indent="-334800" algn="just">
                        <a:lnSpc>
                          <a:spcPct val="68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334800"/>
                          <a:tab algn="l" pos="782640"/>
                          <a:tab algn="l" pos="1231920"/>
                          <a:tab algn="l" pos="1681200"/>
                          <a:tab algn="l" pos="2130480"/>
                          <a:tab algn="l" pos="2579760"/>
                          <a:tab algn="l" pos="3029040"/>
                          <a:tab algn="l" pos="3478320"/>
                          <a:tab algn="l" pos="3927600"/>
                          <a:tab algn="l" pos="4376880"/>
                          <a:tab algn="l" pos="4826160"/>
                          <a:tab algn="l" pos="5275440"/>
                          <a:tab algn="l" pos="5724360"/>
                          <a:tab algn="l" pos="6173640"/>
                          <a:tab algn="l" pos="6622920"/>
                          <a:tab algn="l" pos="7072200"/>
                          <a:tab algn="l" pos="7521480"/>
                          <a:tab algn="l" pos="7970760"/>
                          <a:tab algn="l" pos="8420040"/>
                          <a:tab algn="l" pos="8869320"/>
                          <a:tab algn="l" pos="931860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енидзе Н.К., Барташова О.А.Грамматические категории имени существительного: Учебное пособие.– СПб.: Изд-во СПбГУЭФ, 2010.– 92 с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1e7e7"/>
                    </a:solidFill>
                  </a:tcPr>
                </a:tc>
              </a:tr>
              <a:tr h="480960">
                <a:tc>
                  <a:txBody>
                    <a:bodyPr lIns="68760" rIns="68760" tIns="138960" bIns="0" anchor="b">
                      <a:noAutofit/>
                    </a:bodyPr>
                    <a:p>
                      <a:pPr marL="334800" indent="-334800" algn="just">
                        <a:lnSpc>
                          <a:spcPct val="68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334800"/>
                          <a:tab algn="l" pos="782640"/>
                          <a:tab algn="l" pos="1231920"/>
                          <a:tab algn="l" pos="1681200"/>
                          <a:tab algn="l" pos="2130480"/>
                          <a:tab algn="l" pos="2579760"/>
                          <a:tab algn="l" pos="3029040"/>
                          <a:tab algn="l" pos="3478320"/>
                          <a:tab algn="l" pos="3927600"/>
                          <a:tab algn="l" pos="4376880"/>
                          <a:tab algn="l" pos="4826160"/>
                          <a:tab algn="l" pos="5275440"/>
                          <a:tab algn="l" pos="5724360"/>
                          <a:tab algn="l" pos="6173640"/>
                          <a:tab algn="l" pos="6622920"/>
                          <a:tab algn="l" pos="7072200"/>
                          <a:tab algn="l" pos="7521480"/>
                          <a:tab algn="l" pos="7970760"/>
                          <a:tab algn="l" pos="8420040"/>
                          <a:tab algn="l" pos="8869320"/>
                          <a:tab algn="l" pos="931860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кольный русско- английский словарь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1e7e7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0T13:16:05Z</dcterms:created>
  <dc:creator>jeNNtos</dc:creator>
  <dc:description/>
  <dc:language>en-US</dc:language>
  <cp:lastModifiedBy>user</cp:lastModifiedBy>
  <dcterms:modified xsi:type="dcterms:W3CDTF">2014-01-30T16:35:17Z</dcterms:modified>
  <cp:revision>6</cp:revision>
  <dc:subject/>
  <dc:title>Исследовательская работа по русскому языку</dc:title>
</cp:coreProperties>
</file>