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85B-FC1C-46D4-90D4-CDF42D3F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FB4-FFA0-42C6-B4B1-7E90EA4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95A-4E36-4C73-9971-923AF0C0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C31-B155-43D2-9B14-E482C608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E13D-F169-45E4-81AA-DA5BB0B5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E452-A7B0-4487-B7CB-E14E700E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DD49-A8C3-4ABC-BFA3-463144F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71B-B47F-4795-8B0A-8729A61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C6A2-43AE-48BC-BB93-F2C84F7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75DF-B94A-4D39-BD11-03B3A950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A03A-3D1F-45D2-A72B-6418035C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13C-04B5-4F01-A103-9395C091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C1DD-BE1B-4579-8FFE-5B863A1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0AD4-16FF-4D09-A231-926996B0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7CA-20B0-413D-97FF-C4A4CFC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D5C8-1A02-4DEA-82D7-AFB286CD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0F5F-C293-44E8-A24B-50C069A4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A1C-7F8A-446B-96F0-1B208EE7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A53-199D-4A61-869E-0ED58C8A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9E6-B363-4B6F-9EF5-1142639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9E9-E1E9-4A1C-BF82-0BBA7A1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4E8-9D0E-4CB1-BB7B-1BEC5177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55B-7F40-4ED9-9DB9-0891B96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7CD-DCF4-41FE-ADBC-1134C4F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E0E-752C-4680-A341-391CC347FE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D544-02D4-4154-8F02-A3A5710C6F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1484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История чувашского народа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олиц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ей Чувашии является город – Чебокса́ры. Чебокса́ры (чуваш. Шупашка́р) — город в России, столица Чувашской Республики, архитектурный памятник России; административный, научный, промышленный и культурный центр Чувашской Республики. Население — 453 645 чел. (2010). День города отмечается в третье воскресенье августа. Победитель конкурса «Самый благоустроенный город России» в 2001 году. Расположен в верхнем бьефе Чебоксарской ГЭС, на правом (высоком) берегу Чебоксарского водохран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heb-water"/>
          <p:cNvPicPr/>
          <p:nvPr/>
        </p:nvPicPr>
        <p:blipFill>
          <a:blip r:embed="rId1"/>
          <a:stretch/>
        </p:blipFill>
        <p:spPr>
          <a:xfrm>
            <a:off x="1116000" y="4292640"/>
            <a:ext cx="746460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волика: герб респуб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92000" y="1628280"/>
            <a:ext cx="54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й герб Чувашской Республики представляет собой окаймлённый вырезной геральдический щит, поделённый на жёлтое (вверху) и красное (внизу) поля. В гербовом поле расположена только одна гербовая фигура — красный символ мирового дерева, являющийся одним из элементов чувашского орна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Щит увенчан другим элементом чувашского орнамента — золотой, окаймлённой красным эмблемой «Три солнца», состоящей из трёх восьмиконечных звезд. Снизу щит обрамлён красной лентой с надписью золотыми буквами «Чăваш Республики — Чувашская Республика», завершающейся стилизованным изображением золотых листьев и шишек хмеля, символизирующих традиционный чувашский обрядовый и праздничный напиток — пиво, которое чуваши издревле варят в домашни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589px-Coat_of_Arms_of_Chuvashia"/>
          <p:cNvPicPr/>
          <p:nvPr/>
        </p:nvPicPr>
        <p:blipFill>
          <a:blip r:embed="rId1"/>
          <a:stretch/>
        </p:blipFill>
        <p:spPr>
          <a:xfrm>
            <a:off x="539640" y="1844640"/>
            <a:ext cx="3240360" cy="3649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волика: флаг респуб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360" y="1773000"/>
            <a:ext cx="44607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 Чува́шии является официальным символом Чувашской Республики Российской Федерации. Флаг утверждён 29 апреля 1992 года и внесён в Государственный геральдический регистр Российской Федерации под номером 208. «Государственный флаг Чувашской Республики представляет собой прямоугольное полотнище с отношением сторон 5:8, пересеченное на жёлтое (вверху) и пурпуровое (внизу) поля, с находящимися в центре флага пурпуровыми древнечувашскими эмблемами — „Древо Жизни“ и „Три Солнца“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0008-006-Prinjatie-sootvetstvujuschego-reshenija-osuschestvljaetsja-v-prostranstve"/>
          <p:cNvPicPr/>
          <p:nvPr/>
        </p:nvPicPr>
        <p:blipFill>
          <a:blip r:embed="rId1"/>
          <a:stretch/>
        </p:blipFill>
        <p:spPr>
          <a:xfrm>
            <a:off x="755640" y="234936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щий вывод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в историю чувашского народа и чувашской республики я узнала многое о своем родном языке, традициях, обычаях и образе жизни. Чувашский народ не стоит на месте со дня своего создания он продвигается все выше и выше показывая пример другим республикам, что очень нравиться чувашскому народу. Не стоит на месте и чувашский язык его изучают не только настоящие чуваши, но и иностранцы и не которые из них, знают его лучше чем коренные чуваши. Это показывает, что чувашский язык совершенствуется с каждым годом и и не теряет интереса люд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273800" cy="37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Родина! Она всегда прекрасна. И в осеннем пламени лесов, и в снежном январском раздолье, и в первых весенних цветах, и в золотом разливе хлебных полей!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         (В.Дворянсков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те свой народ и гордитесь 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боту выполнила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тьякова Ирина Иванов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исленность нар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40892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а́ши (чуваш. чăвашсем) — тюркский  народ,основное население Чувашской Республики (Рос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ультатам переписи 2002 года в Российской Федерации насчитывается 1 637 200 чувашей; 889 268 из них живут в самой Чувашской Республ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0_33d11_ac0ea75_L"/>
          <p:cNvPicPr/>
          <p:nvPr/>
        </p:nvPicPr>
        <p:blipFill>
          <a:blip r:embed="rId1"/>
          <a:stretch/>
        </p:blipFill>
        <p:spPr>
          <a:xfrm>
            <a:off x="5292720" y="1700280"/>
            <a:ext cx="28814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а нар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88000" y="3141720"/>
            <a:ext cx="4162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— чувашский. Является единственным живым представителем булгарской группы языков. Имеет три диалекта: верховой («окающий»), средненизовой, низовой («укающий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е вероисповедание религиозной части чувашей — православное христианство, есть язычники и мусульм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9b687921"/>
          <p:cNvPicPr/>
          <p:nvPr/>
        </p:nvPicPr>
        <p:blipFill>
          <a:blip r:embed="rId1"/>
          <a:stretch/>
        </p:blipFill>
        <p:spPr>
          <a:xfrm>
            <a:off x="826920" y="1700280"/>
            <a:ext cx="370872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уховная культу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952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рисоединения к Русскому государству чуваши были язычниками. В язычестве их существовала система многобожия с верховным богом Турă. Боги делились на добрых и злых. Каждому занятию людей покровительствовал свой бог. традиционная чувашская вера представляла собой сложную систему вер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4-08"/>
          <p:cNvPicPr/>
          <p:nvPr/>
        </p:nvPicPr>
        <p:blipFill>
          <a:blip r:embed="rId1"/>
          <a:stretch/>
        </p:blipFill>
        <p:spPr>
          <a:xfrm>
            <a:off x="5940360" y="2997360"/>
            <a:ext cx="273528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льё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72000" y="1989000"/>
            <a:ext cx="3672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ой чертой чувашской избы (пÿрт) является наличие отделки луковицей вдоль конька крыши и больших въездных ворот (мăн алă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y_4f356078"/>
          <p:cNvPicPr/>
          <p:nvPr/>
        </p:nvPicPr>
        <p:blipFill>
          <a:blip r:embed="rId1"/>
          <a:stretch/>
        </p:blipFill>
        <p:spPr>
          <a:xfrm>
            <a:off x="684360" y="1989000"/>
            <a:ext cx="4824360" cy="374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родные костю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4" descr="18"/>
          <p:cNvPicPr/>
          <p:nvPr/>
        </p:nvPicPr>
        <p:blipFill>
          <a:blip r:embed="rId1"/>
          <a:stretch/>
        </p:blipFill>
        <p:spPr>
          <a:xfrm>
            <a:off x="5292720" y="1916280"/>
            <a:ext cx="2809800" cy="43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huvahsi12"/>
          <p:cNvPicPr/>
          <p:nvPr/>
        </p:nvPicPr>
        <p:blipFill>
          <a:blip r:embed="rId2"/>
          <a:stretch/>
        </p:blipFill>
        <p:spPr>
          <a:xfrm>
            <a:off x="1258920" y="1916280"/>
            <a:ext cx="3043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увашская одеж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3961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жда традиционного типа имела разнообразные формы и варианты. Кроме утилитарного назначения — защиты тела от воздействий наружной среды — она обладала символическими и ритуальными функциями. Материалом для одежды чувашей служили холст, домотканое сукно, покупные ткани, войлок, кожа. Для обуви использовались также липовое лыко, луб, дер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udmpeople"/>
          <p:cNvPicPr/>
          <p:nvPr/>
        </p:nvPicPr>
        <p:blipFill>
          <a:blip r:embed="rId1"/>
          <a:stretch/>
        </p:blipFill>
        <p:spPr>
          <a:xfrm>
            <a:off x="5076720" y="2708280"/>
            <a:ext cx="35276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рия возникновения народ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аши вместе с современными казанскими татарами являются наследниками населения и культуры Волжской Булгарии. Название чувашей в русских летописях и в сочинениях европейских авторов впервые зафиксировано в начале XVI в. Современные генетические исследования также показывают значительность ~28 % гаплогруппы N угро-финского происхождения среди чув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спублика Чуваш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74004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а́шская Респу́блика— республика в составе России. Находится в центре европейской части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_9229"/>
          <p:cNvPicPr/>
          <p:nvPr/>
        </p:nvPicPr>
        <p:blipFill>
          <a:blip r:embed="rId1"/>
          <a:stretch/>
        </p:blipFill>
        <p:spPr>
          <a:xfrm>
            <a:off x="4932360" y="1773360"/>
            <a:ext cx="349236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2:49:14Z</dcterms:created>
  <dc:creator>Маша</dc:creator>
  <dc:description/>
  <dc:language>en-US</dc:language>
  <cp:lastModifiedBy>RePack by SPecialiST</cp:lastModifiedBy>
  <dcterms:modified xsi:type="dcterms:W3CDTF">2014-01-30T11:27:24Z</dcterms:modified>
  <cp:revision>5</cp:revision>
  <dc:subject/>
  <dc:title>История чувашской народа.</dc:title>
</cp:coreProperties>
</file>