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ECC1-BD7D-44FE-AE25-F689B738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0C5-59F6-43DD-8482-EBCAFC95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A1E-9F66-4DBE-B488-A2D14979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6EA4-FBA7-4AE4-BE2D-245F5F0C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A2DC-84CC-48EE-A2DE-EFFD21FD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8550-BBDB-490F-8317-DC6C6A98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CE8C-03CE-4344-B16D-892FC3AE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83FD-A825-4D40-8009-40F6E258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34D6-3BAA-43EC-A2BD-60CC8086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F62E-AC94-4ECE-8B31-3107E035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08BF-C3AD-4C41-9E31-F1B70D33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CA6-6FCD-4FF9-9221-E6C403D9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CC8C-4C51-4FEC-92ED-DA54E581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ADBD-2A76-456A-8E45-7E670028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39B1-3C74-47ED-ADF3-514B2EAD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6956-215F-47C1-ACD4-5C2777D4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6F8C-CEBB-4109-881A-54A3129A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532-034B-46FE-BF65-221712FE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BA4-AE20-4B44-8E9A-E81D9F2E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037-642B-417D-9DAB-2B4AE9CC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62F-BF5E-4BEB-8A6E-EE935892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574-9D71-4887-BEB8-8130ACB2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100-C9E8-4409-A5EB-BE69D9E6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3E3-8FB6-483B-8CBB-7670C516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699A-4AB2-4E21-BCB0-3B98214C10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8772-E5CC-421F-8331-6BFDF691BB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4920" y="148428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История чувашского народа.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олиц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ицей Чувашии является город – Чебокса́ры. Чебокса́ры (чуваш. Шупашка́р) — город в России, столица Чувашской Республики, архитектурный памятник России; административный, научный, промышленный и культурный центр Чувашской Республики. Население — 453 645 чел. (2010). День города отмечается в третье воскресенье августа. Победитель конкурса «Самый благоустроенный город России» в 2001 году. Расположен в верхнем бьефе Чебоксарской ГЭС, на правом (высоком) берегу Чебоксарского водохранил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heb-water"/>
          <p:cNvPicPr/>
          <p:nvPr/>
        </p:nvPicPr>
        <p:blipFill>
          <a:blip r:embed="rId1"/>
          <a:stretch/>
        </p:blipFill>
        <p:spPr>
          <a:xfrm>
            <a:off x="1116000" y="4292640"/>
            <a:ext cx="7464600" cy="2173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мволика: герб республ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92000" y="1628280"/>
            <a:ext cx="547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й герб Чувашской Республики представляет собой окаймлённый вырезной геральдический щит, поделённый на жёлтое (вверху) и красное (внизу) поля. В гербовом поле расположена только одна гербовая фигура — красный символ мирового дерева, являющийся одним из элементов чувашского орнам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Щит увенчан другим элементом чувашского орнамента — золотой, окаймлённой красным эмблемой «Три солнца», состоящей из трёх восьмиконечных звезд. Снизу щит обрамлён красной лентой с надписью золотыми буквами «Чăваш Республики — Чувашская Республика», завершающейся стилизованным изображением золотых листьев и шишек хмеля, символизирующих традиционный чувашский обрядовый и праздничный напиток — пиво, которое чуваши издревле варят в домашних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589px-Coat_of_Arms_of_Chuvashia"/>
          <p:cNvPicPr/>
          <p:nvPr/>
        </p:nvPicPr>
        <p:blipFill>
          <a:blip r:embed="rId1"/>
          <a:stretch/>
        </p:blipFill>
        <p:spPr>
          <a:xfrm>
            <a:off x="539640" y="1844640"/>
            <a:ext cx="3240360" cy="3649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мволика: флаг республ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00360" y="1773000"/>
            <a:ext cx="44607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лаг Чува́шии является официальным символом Чувашской Республики Российской Федерации. Флаг утверждён 29 апреля 1992 года и внесён в Государственный геральдический регистр Российской Федерации под номером 208. «Государственный флаг Чувашской Республики представляет собой прямоугольное полотнище с отношением сторон 5:8, пересеченное на жёлтое (вверху) и пурпуровое (внизу) поля, с находящимися в центре флага пурпуровыми древнечувашскими эмблемами — „Древо Жизни“ и „Три Солнца“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0008-006-Prinjatie-sootvetstvujuschego-reshenija-osuschestvljaetsja-v-prostranstve"/>
          <p:cNvPicPr/>
          <p:nvPr/>
        </p:nvPicPr>
        <p:blipFill>
          <a:blip r:embed="rId1"/>
          <a:stretch/>
        </p:blipFill>
        <p:spPr>
          <a:xfrm>
            <a:off x="755640" y="2349360"/>
            <a:ext cx="360036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щий вывод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в историю чувашского народа и чувашской республики я узнала многое о своем родном языке, традициях, обычаях и образе жизни. Чувашский народ не стоит на месте со дня своего создания он продвигается все выше и выше показывая пример другим республикам, что очень нравиться чувашскому народу. Не стоит на месте и чувашский язык его изучают не только настоящие чуваши, но и иностранцы и не которые из них, знают его лучше чем коренные чуваши. Это показывает, что чувашский язык совершенствуется с каждым годом и и не теряет интереса люд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836640"/>
            <a:ext cx="7273800" cy="37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Родина! Она всегда прекрасна. И в осеннем пламени лесов, и в снежном январском раздолье, и в первых весенних цветах, и в золотом разливе хлебных полей! 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                                                                                                         (В.Дворянсков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364500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ите свой народ и гордитесь 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77744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боту выполнила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ретьякова Ирина Иванов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исленность наро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40892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ва́ши (чуваш. чăвашсем) — тюркский  народ,основное население Чувашской Республики (Росс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результатам переписи 2002 года в Российской Федерации насчитывается 1 637 200 чувашей; 889 268 из них живут в самой Чувашской Республ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0_33d11_ac0ea75_L"/>
          <p:cNvPicPr/>
          <p:nvPr/>
        </p:nvPicPr>
        <p:blipFill>
          <a:blip r:embed="rId1"/>
          <a:stretch/>
        </p:blipFill>
        <p:spPr>
          <a:xfrm>
            <a:off x="5292720" y="1700280"/>
            <a:ext cx="288144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а наро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88000" y="3141720"/>
            <a:ext cx="41623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— чувашский. Является единственным живым представителем булгарской группы языков. Имеет три диалекта: верховой («окающий»), средненизовой, низовой («укающий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е вероисповедание религиозной части чувашей — православное христианство, есть язычники и мусульм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9b687921"/>
          <p:cNvPicPr/>
          <p:nvPr/>
        </p:nvPicPr>
        <p:blipFill>
          <a:blip r:embed="rId1"/>
          <a:stretch/>
        </p:blipFill>
        <p:spPr>
          <a:xfrm>
            <a:off x="826920" y="1700280"/>
            <a:ext cx="3708720" cy="318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уховная культур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49528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рисоединения к Русскому государству чуваши были язычниками. В язычестве их существовала система многобожия с верховным богом Турă. Боги делились на добрых и злых. Каждому занятию людей покровительствовал свой бог. традиционная чувашская вера представляла собой сложную систему веров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4-08"/>
          <p:cNvPicPr/>
          <p:nvPr/>
        </p:nvPicPr>
        <p:blipFill>
          <a:blip r:embed="rId1"/>
          <a:stretch/>
        </p:blipFill>
        <p:spPr>
          <a:xfrm>
            <a:off x="5940360" y="2997360"/>
            <a:ext cx="2735280" cy="2522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Жильё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472000" y="1989000"/>
            <a:ext cx="3672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ной чертой чувашской избы (пÿрт) является наличие отделки луковицей вдоль конька крыши и больших въездных ворот (мăн алă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y_4f356078"/>
          <p:cNvPicPr/>
          <p:nvPr/>
        </p:nvPicPr>
        <p:blipFill>
          <a:blip r:embed="rId1"/>
          <a:stretch/>
        </p:blipFill>
        <p:spPr>
          <a:xfrm>
            <a:off x="684360" y="1989000"/>
            <a:ext cx="4824360" cy="3743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родные костюм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Picture 4" descr="18"/>
          <p:cNvPicPr/>
          <p:nvPr/>
        </p:nvPicPr>
        <p:blipFill>
          <a:blip r:embed="rId1"/>
          <a:stretch/>
        </p:blipFill>
        <p:spPr>
          <a:xfrm>
            <a:off x="5292720" y="1916280"/>
            <a:ext cx="2809800" cy="439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huvahsi12"/>
          <p:cNvPicPr/>
          <p:nvPr/>
        </p:nvPicPr>
        <p:blipFill>
          <a:blip r:embed="rId2"/>
          <a:stretch/>
        </p:blipFill>
        <p:spPr>
          <a:xfrm>
            <a:off x="1258920" y="1916280"/>
            <a:ext cx="304308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увашская одеж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2492280"/>
            <a:ext cx="3961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ежда традиционного типа имела разнообразные формы и варианты. Кроме утилитарного назначения — защиты тела от воздействий наружной среды — она обладала символическими и ритуальными функциями. Материалом для одежды чувашей служили холст, домотканое сукно, покупные ткани, войлок, кожа. Для обуви использовались также липовое лыко, луб, дер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3udmpeople"/>
          <p:cNvPicPr/>
          <p:nvPr/>
        </p:nvPicPr>
        <p:blipFill>
          <a:blip r:embed="rId1"/>
          <a:stretch/>
        </p:blipFill>
        <p:spPr>
          <a:xfrm>
            <a:off x="5076720" y="2708280"/>
            <a:ext cx="35276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124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стория возникновения народа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аши вместе с современными казанскими татарами являются наследниками населения и культуры Волжской Булгарии. Название чувашей в русских летописях и в сочинениях европейских авторов впервые зафиксировано в начале XVI в. Современные генетические исследования также показывают значительность ~28 % гаплогруппы N угро-финского происхождения среди чува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спублика Чувашия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74004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а́шская Респу́блика— республика в составе России. Находится в центре европейской части Ро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image_9229"/>
          <p:cNvPicPr/>
          <p:nvPr/>
        </p:nvPicPr>
        <p:blipFill>
          <a:blip r:embed="rId1"/>
          <a:stretch/>
        </p:blipFill>
        <p:spPr>
          <a:xfrm>
            <a:off x="4932360" y="1773360"/>
            <a:ext cx="3492360" cy="4292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2:49:14Z</dcterms:created>
  <dc:creator>Маша</dc:creator>
  <dc:description/>
  <dc:language>en-US</dc:language>
  <cp:lastModifiedBy>RePack by SPecialiST</cp:lastModifiedBy>
  <dcterms:modified xsi:type="dcterms:W3CDTF">2014-01-30T11:27:24Z</dcterms:modified>
  <cp:revision>5</cp:revision>
  <dc:subject/>
  <dc:title>История чувашской народа.</dc:title>
</cp:coreProperties>
</file>