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7F5-B909-4F31-BF69-AC946AFC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F0A-F2A1-4395-A1E6-CEDBB23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C91-32C1-4544-B002-2A03815F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7D4-675A-42D1-994A-54712551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A99-2C97-4516-B4BD-7C9C4C64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D5E-FFFA-4EBE-989E-BAECA57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F026-DED8-4FEC-9A6C-75ED3DA6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A230-CAF4-41CC-85CE-4C4B5003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740-7150-4308-9D9B-FCBC0C49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0DE-3852-4AD7-9C1B-7BD38567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92C-DEAE-4A63-A5B4-1FFF7C7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5E7-DF07-4CD7-B664-E27A318B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1FFA-397D-42B3-BEB3-E30AE88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1DAE-A855-42CE-890F-68A94F6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AF1-B9EB-428D-BECB-81083513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2843-8529-4B19-A1F6-3085AE80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FE59-0DF8-4DFF-B03E-2C4FC39C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8BE-CB84-468B-9A31-6D928E7C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F27-DC8A-445C-9727-721E5D1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C10-228D-4C07-8164-0E13451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505-AD34-42E7-82C2-0BA63499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736-4965-4BA5-8A0C-8305C57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966-6ED8-4A0E-A7DB-D5149F2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DE1-C20D-41EE-B002-4EA3D5D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B43-D59E-4BCA-97E4-2AB98D508D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B446-727B-4B48-A5A3-4A6A584F80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ile0002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zimuyush_0.tmp"/>
          <p:cNvPicPr/>
          <p:nvPr/>
        </p:nvPicPr>
        <p:blipFill>
          <a:blip r:embed="rId2"/>
          <a:stretch/>
        </p:blipFill>
        <p:spPr>
          <a:xfrm>
            <a:off x="380880" y="228600"/>
            <a:ext cx="3733920" cy="334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zimuiush_0.tmp"/>
          <p:cNvPicPr/>
          <p:nvPr/>
        </p:nvPicPr>
        <p:blipFill>
          <a:blip r:embed="rId3"/>
          <a:stretch/>
        </p:blipFill>
        <p:spPr>
          <a:xfrm>
            <a:off x="4876920" y="304920"/>
            <a:ext cx="3843360" cy="3349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zimuiush_0.tmp"/>
          <p:cNvPicPr/>
          <p:nvPr/>
        </p:nvPicPr>
        <p:blipFill>
          <a:blip r:embed="rId4"/>
          <a:stretch/>
        </p:blipFill>
        <p:spPr>
          <a:xfrm>
            <a:off x="2590920" y="3125880"/>
            <a:ext cx="39621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452520"/>
            <a:ext cx="3514680" cy="33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00400" y="4010040"/>
            <a:ext cx="2971800" cy="25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rcRect l="3208" t="8740" r="19814" b="12586"/>
          <a:stretch/>
        </p:blipFill>
        <p:spPr>
          <a:xfrm>
            <a:off x="4952880" y="3808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80880" y="3592440"/>
            <a:ext cx="3886200" cy="304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403848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cc00"/>
              </a:solidFill>
              <a:latin typeface="Monotype Corsiva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1676520" cy="1454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25560" y="259092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емечки подсолну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сыр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666880" y="838080"/>
            <a:ext cx="1714680" cy="1447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1"/>
          <p:cNvSpPr/>
          <p:nvPr/>
        </p:nvSpPr>
        <p:spPr>
          <a:xfrm>
            <a:off x="3124080" y="2590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в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4800600" y="914400"/>
            <a:ext cx="1566720" cy="1447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5005440" y="259092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ш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4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2114280" cy="1447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/>
          <p:cNvSpPr/>
          <p:nvPr/>
        </p:nvSpPr>
        <p:spPr>
          <a:xfrm>
            <a:off x="6416640" y="2590920"/>
            <a:ext cx="26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емена арбуз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ыквы, дыни, каба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3048120" cy="2941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7"/>
          <p:cNvSpPr/>
          <p:nvPr/>
        </p:nvSpPr>
        <p:spPr>
          <a:xfrm>
            <a:off x="851760" y="601992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ягоды ряб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калины,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8" descr=""/>
          <p:cNvPicPr/>
          <p:nvPr/>
        </p:nvPicPr>
        <p:blipFill>
          <a:blip r:embed="rId7"/>
          <a:stretch/>
        </p:blipFill>
        <p:spPr>
          <a:xfrm>
            <a:off x="4648320" y="35812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"/>
          <p:cNvSpPr/>
          <p:nvPr/>
        </p:nvSpPr>
        <p:spPr>
          <a:xfrm>
            <a:off x="5601600" y="6095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ало, мяс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веж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72000" cy="313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47676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54356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3332" t="8888" r="3335" b="11112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3-11-13T14:45:4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